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E60B-564F-44A9-AEF6-EB221931BA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66F-DB94-46B5-8DC2-7D688DA37EE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716-1E3D-4C61-A87B-99603309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659-D611-469C-9C09-F6A4E53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C7A-756B-48C2-86F9-1E6BD84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155-BD95-4034-A754-3EBB43A9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923-0424-42F8-8BD9-4B98490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266-EEE3-4D36-B407-1D14A753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FCA-5B9A-4A57-9DC3-67C762D2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7DA-0D74-4D8B-A803-0ABF229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650-7215-47B1-9FC2-8FAECE8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E5D-03A1-43AD-9261-24645C8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72B-EA0E-4BF7-8AF5-C8D627F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3F7-639E-477E-AF4B-53BBAF6D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69D-7959-4BDA-A07F-FCE3570079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蜘蛛与网通用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opic Goes He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52480" y="2130480"/>
            <a:ext cx="556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52480" y="3886200"/>
            <a:ext cx="556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opic Goes He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9:07:13Z</dcterms:created>
  <dc:creator>Animation Factory</dc:creator>
  <dc:description/>
  <cp:keywords/>
  <dc:language>en-US</dc:language>
  <cp:lastModifiedBy>王玉清</cp:lastModifiedBy>
  <cp:lastPrinted>1899-12-30T00:00:00Z</cp:lastPrinted>
  <dcterms:modified xsi:type="dcterms:W3CDTF">2016-03-02T07:20:49Z</dcterms:modified>
  <cp:revision>7</cp:revision>
  <dc:subject/>
  <dc:title>Itsy Bits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