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54D-330C-4995-83E3-614B8F36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535-3741-46FF-A573-489CDFBD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108A-02E2-41F1-A31F-295E851E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DF9-549F-4AE5-AE53-95BAFA01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845-A287-407B-AA5B-F1DDC431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764-AE58-4CDE-A8E9-6EC668CA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E91-4797-4395-80B1-5508A815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521-8878-4E1F-B4D6-02D67574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AE0-342C-4653-8171-6C785C79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752-EBBD-4DA7-92C2-D1342A6B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74D-928A-4AFA-BB72-3C6E6672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C26-CBF3-432A-BB5D-768D7796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8E6DD0-072C-4408-BACA-BFA97D829D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幻灯片1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幻灯片2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幻灯片4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幻灯片5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幻灯片6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幻灯片7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12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14:10:13Z</dcterms:created>
  <dc:creator>张卫东</dc:creator>
  <dc:description/>
  <dc:language>en-US</dc:language>
  <cp:lastModifiedBy>王玉清</cp:lastModifiedBy>
  <dcterms:modified xsi:type="dcterms:W3CDTF">2016-02-24T02:40:57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7</vt:r8>
  </property>
</Properties>
</file>