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40538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BF7-35C9-4FF2-9539-B05FF2BB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9AE-3B0D-4FF0-8A57-61C0215B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AA3-FF51-4A7E-91E7-0F678314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9CA-1D56-4CA3-ACA0-5BA3D3A8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0FF-0AD5-491A-B5E1-70BCE348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A30-68F9-42EB-97BF-0A8616C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C54-14E0-46D0-AF5E-826C34B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99B-9FD8-47F1-9E64-E9F7270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397-A307-46BB-86AC-FBBFC130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39C-AF22-4BCD-8CFD-7D6BBF54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0D2-3658-4B08-A6B4-0260A60C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9940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30960" y="76824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784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9940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30960" y="2512800"/>
            <a:ext cx="20296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DA2-937C-4B9F-999F-D2E9E44C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000" y="186480"/>
            <a:ext cx="6155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8120" y="251280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000" y="186480"/>
            <a:ext cx="6155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784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98120" y="768240"/>
            <a:ext cx="3076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7840" y="2512800"/>
            <a:ext cx="630396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67840" y="768240"/>
            <a:ext cx="630396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65160" y="4108320"/>
            <a:ext cx="1482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</a:rPr>
              <a:t>不是你的天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Dec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2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宋体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080" y="187200"/>
            <a:ext cx="615456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43080" y="1091880"/>
            <a:ext cx="615456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342720" y="4262400"/>
            <a:ext cx="159516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2336400" y="4262400"/>
            <a:ext cx="216684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4902120" y="4262400"/>
            <a:ext cx="1595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D27061D7-8FC0-488C-A36C-A24516C32A97}" type="slidenum"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684036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5" descr="1303277390596ae1vno905d2"/>
          <p:cNvPicPr/>
          <p:nvPr/>
        </p:nvPicPr>
        <p:blipFill>
          <a:blip r:embed="rId1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6" descr="1303277390596ae1vno905d1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1"/>
          <p:cNvSpPr/>
          <p:nvPr/>
        </p:nvSpPr>
        <p:spPr>
          <a:xfrm>
            <a:off x="1052640" y="303516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の 思 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如果爱忘了(伴奏).mp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1339920" y="108000"/>
            <a:ext cx="41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的思索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画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1303277390596bhumydaz19副本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1303277390596bhumydaz19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06560" y="3418920"/>
            <a:ext cx="193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花 的 芳 香，爱 是 深 蓝 的 海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1303277390595pidxturogj副本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303277390595pidxturogj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955880" y="320292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花 的 芳 香 沐 浴 着 你 的 情 感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276720" y="2194920"/>
            <a:ext cx="32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深 蓝 的 海 容 不 下 你 的 心 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24520" cy="471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3032773905967lkewnrojp副本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3032773905967lkewnrojp"/>
          <p:cNvPicPr/>
          <p:nvPr/>
        </p:nvPicPr>
        <p:blipFill>
          <a:blip r:embed="rId3"/>
          <a:stretch/>
        </p:blipFill>
        <p:spPr>
          <a:xfrm>
            <a:off x="0" y="0"/>
            <a:ext cx="6840360" cy="478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1011960" y="2626560"/>
            <a:ext cx="173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情 到 底 是 虚 幻 还 是 飘 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1303277390596mqdgjsu4fv"/>
          <p:cNvPicPr/>
          <p:nvPr/>
        </p:nvPicPr>
        <p:blipFill>
          <a:blip r:embed="rId2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4034520" y="2267640"/>
            <a:ext cx="1697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到 底 是 浪 漫 还 是 梦 幻！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1303277390596tmd4pb24cs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不是你的天使"/>
          <p:cNvPicPr/>
          <p:nvPr/>
        </p:nvPicPr>
        <p:blipFill>
          <a:blip r:embed="rId3"/>
          <a:stretch/>
        </p:blipFill>
        <p:spPr>
          <a:xfrm>
            <a:off x="611280" y="1547640"/>
            <a:ext cx="5670360" cy="127800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4" descr="13032773905964i1p17g9o"/>
          <p:cNvPicPr/>
          <p:nvPr/>
        </p:nvPicPr>
        <p:blipFill>
          <a:blip r:embed="rId1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13032773905964i1p17g9oh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5"/>
          <p:cNvSpPr/>
          <p:nvPr/>
        </p:nvSpPr>
        <p:spPr>
          <a:xfrm>
            <a:off x="1153440" y="765000"/>
            <a:ext cx="136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Arial"/>
                <a:ea typeface="迷你简汉真广标"/>
              </a:rPr>
              <a:t>爱の思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，怎能够一语道破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有些时候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痛，也在快乐着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青春的容颜渐渐地消褪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成熟的情感就会变得深刻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当忙碌的生活慢慢的安逸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稳重的爱恋就成了无言的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人啊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真的应该追忆一下往昔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在那漂白的岁月里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谁说没有新的收获</a:t>
            </a:r>
            <a:br>
              <a:rPr sz="1300"/>
            </a:b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怎说没有新的思索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0" descr="1303277390596nt88uhxtb2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1" descr="1303277390596nt88uhxtbq"/>
          <p:cNvPicPr/>
          <p:nvPr/>
        </p:nvPicPr>
        <p:blipFill>
          <a:blip r:embed="rId2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2"/>
          <p:cNvSpPr/>
          <p:nvPr/>
        </p:nvSpPr>
        <p:spPr>
          <a:xfrm>
            <a:off x="839880" y="1774800"/>
            <a:ext cx="164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甜 美 的 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303277390596vpnthj5a9n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83240" y="3129120"/>
            <a:ext cx="103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忧 伤 的 痛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1303277390595jta9lvi6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1303277390595jta9lvigx6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926640" y="3419640"/>
            <a:ext cx="1598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甜 美 的 梦 就 像 一 杯 牛 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169920" y="4361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13032773905965lufsu4zkc"/>
          <p:cNvPicPr/>
          <p:nvPr/>
        </p:nvPicPr>
        <p:blipFill>
          <a:blip r:embed="rId2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995640" y="3134520"/>
            <a:ext cx="264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忧 伤 的 痛 就 如 苦 涩 的 茶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303277390596kq8hy1meg3"/>
          <p:cNvPicPr/>
          <p:nvPr/>
        </p:nvPicPr>
        <p:blipFill>
          <a:blip r:embed="rId1"/>
          <a:stretch/>
        </p:blipFill>
        <p:spPr>
          <a:xfrm>
            <a:off x="-17640" y="0"/>
            <a:ext cx="6858000" cy="47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1303277390596kq8hy1meg2"/>
          <p:cNvPicPr/>
          <p:nvPr/>
        </p:nvPicPr>
        <p:blipFill>
          <a:blip r:embed="rId2"/>
          <a:stretch/>
        </p:blipFill>
        <p:spPr>
          <a:xfrm>
            <a:off x="0" y="0"/>
            <a:ext cx="6858000" cy="4716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492360" y="306000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爱 是 自 由 的 风，爱 是 寂 寞 的 泪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303277390596gx81nyptfe"/>
          <p:cNvPicPr/>
          <p:nvPr/>
        </p:nvPicPr>
        <p:blipFill>
          <a:blip r:embed="rId2"/>
          <a:stretch/>
        </p:blipFill>
        <p:spPr>
          <a:xfrm>
            <a:off x="0" y="0"/>
            <a:ext cx="6858000" cy="468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1303277390596lt19pop6cy副本"/>
          <p:cNvPicPr/>
          <p:nvPr/>
        </p:nvPicPr>
        <p:blipFill>
          <a:blip r:embed="rId3"/>
          <a:stretch/>
        </p:blipFill>
        <p:spPr>
          <a:xfrm>
            <a:off x="0" y="0"/>
            <a:ext cx="6877080" cy="47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303277390596lt19pop6cy"/>
          <p:cNvPicPr/>
          <p:nvPr/>
        </p:nvPicPr>
        <p:blipFill>
          <a:blip r:embed="rId4"/>
          <a:stretch/>
        </p:blipFill>
        <p:spPr>
          <a:xfrm>
            <a:off x="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941760" y="2483640"/>
            <a:ext cx="202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自 由 的 风 可 以 载 你 到 天 涯 海 角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40360" cy="47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303277390596eh12j6i5g2"/>
          <p:cNvPicPr/>
          <p:nvPr/>
        </p:nvPicPr>
        <p:blipFill>
          <a:blip r:embed="rId2"/>
          <a:stretch/>
        </p:blipFill>
        <p:spPr>
          <a:xfrm>
            <a:off x="-17640" y="0"/>
            <a:ext cx="6858000" cy="478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3132000" y="3276000"/>
            <a:ext cx="367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cc"/>
                </a:solidFill>
                <a:latin typeface="微软雅黑"/>
                <a:ea typeface="微软雅黑"/>
              </a:rPr>
              <a:t>寂 寞 的 泪 可 以 把 你 淹 没 在 黑 夜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2:43Z</dcterms:modified>
  <cp:revision>126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