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0EC-0ACB-43B1-AD21-A3012E3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9A1-399C-46FF-9559-D21C6B97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CDA-33A7-4AA9-B25C-E04BEEB6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FE3-C548-4465-8FEE-68E9CD44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3C49-050C-49C1-AB66-5723BC26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046-88AB-4BDD-BA2B-20EB249C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069B-F0AC-47BC-A91F-18E40F07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D853-3FC2-45A1-815B-22085B3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05A-F743-4527-8222-4405022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BE0-A07B-4EF1-BACB-03AF9FB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384-3518-49D5-894A-9D7BBD1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D59-CEAC-4F2D-BC33-017E291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FE40-6EEF-494C-B3F9-8577485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B1EC-9B60-49D9-BE7D-D4BD155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793-1B99-4ACD-8FAE-26DCB418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4FC-9A5A-4A9F-B6BE-7F9FF81F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6BC-6549-4572-A715-271B3A23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6B3-025E-4104-B09F-004F088D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3BA-5FAE-4C1C-9A90-B5E12CF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723-6C8D-4CF7-95E2-537A5F33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C7B-2CF0-480D-BC4F-8364705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9D8-7645-452A-9D00-DA6D6F9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DDE-2ACB-47B2-838C-CAD8DE2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F2C-3039-43F6-BABC-281586B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9BCA-D9BF-4F1D-A2AE-C60126017E3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DC6-11F9-4B40-A22C-02B02DBCFDA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1873800" y="4809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爱岗敬业之人民好公仆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61756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99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4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5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6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7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8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19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29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9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4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00336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2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3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4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4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6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4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5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6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7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0066ff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0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1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2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3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4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5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6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1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6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7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2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6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7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8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39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4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49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0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5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59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066cc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2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3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6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4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8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4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5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6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7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7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8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299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4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09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0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0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1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2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7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7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8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39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49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9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0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1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2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2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3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7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3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4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5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5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6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066cc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2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228600" y="863640"/>
            <a:ext cx="369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4"/>
          <p:cNvSpPr txBox="1"/>
          <p:nvPr/>
        </p:nvSpPr>
        <p:spPr>
          <a:xfrm>
            <a:off x="5651640" y="17780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6129360" y="24922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3:24Z</dcterms:created>
  <dc:creator>北京锐得幻演广告有限公司</dc:creator>
  <dc:description/>
  <cp:keywords/>
  <dc:language>en-US</dc:language>
  <cp:lastModifiedBy>王玉清</cp:lastModifiedBy>
  <dcterms:modified xsi:type="dcterms:W3CDTF">2016-02-21T04:03:16Z</dcterms:modified>
  <cp:revision>35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