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ACF-A4D1-4919-922B-C30D77CD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697-0A24-426A-9EEF-0D0205E2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AB5-E62B-45B8-BD33-3B7575C7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AC65-5D4C-46D7-B479-9F7E4BB2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BD10-E502-4432-BD9B-C9757245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8DAC-3611-46F1-8AFE-B7DFC65B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E9F-AA14-408C-915C-B10F6BE8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317-1105-423A-BDD3-5D5584E4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3DA-E948-42AF-8529-522C044C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30D-00EC-4A60-A57E-57D18313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5D9A-5A31-490F-B1D3-11756F85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FEF2-D656-45C1-8202-5BDAE7AC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1C4C-E091-4A7A-B974-1A1885B5D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104920" y="530064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封面底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411280" y="206064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方正黑体简体"/>
              </a:rPr>
              <a:t>追忆。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484360" y="2844720"/>
            <a:ext cx="4321080" cy="6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b0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mories... 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 Box 8" descr=""/>
          <p:cNvPicPr/>
          <p:nvPr/>
        </p:nvPicPr>
        <p:blipFill>
          <a:blip r:embed="rId3"/>
          <a:stretch/>
        </p:blipFill>
        <p:spPr>
          <a:xfrm>
            <a:off x="1328760" y="3498840"/>
            <a:ext cx="6986520" cy="1322280"/>
          </a:xfrm>
          <a:prstGeom prst="rect">
            <a:avLst/>
          </a:prstGeom>
          <a:ln w="0">
            <a:noFill/>
          </a:ln>
        </p:spPr>
      </p:pic>
      <p:sp>
        <p:nvSpPr>
          <p:cNvPr id="46" name="矩形 1"/>
          <p:cNvSpPr/>
          <p:nvPr/>
        </p:nvSpPr>
        <p:spPr>
          <a:xfrm>
            <a:off x="2037960" y="6494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爱情天空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内页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95280" y="252360"/>
            <a:ext cx="4321080" cy="6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mories... 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116000" y="2421000"/>
            <a:ext cx="6985080" cy="21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会让你了解爱情，时间能够证明爱情，也能够把爱推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75284"/>
                </a:solidFill>
                <a:latin typeface="微软雅黑"/>
                <a:ea typeface="微软雅黑"/>
              </a:rPr>
              <a:t>没有一种悲伤是不能被时间减轻的。如果时间不可以令你忘记那些不该记住的人，我们失去的岁月又有什么意义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所有的悲哀、痛苦、失败都是假的，那该多好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75284"/>
                </a:solidFill>
                <a:latin typeface="微软雅黑"/>
                <a:ea typeface="微软雅黑"/>
              </a:rPr>
              <a:t>可惜，世上有很多假情假义，自己的痛苦、失败、悲哀，却偏偏总是真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38040" y="638172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6:55:43Z</dcterms:created>
  <dc:creator>微软中国</dc:creator>
  <dc:description/>
  <dc:language>en-US</dc:language>
  <cp:lastModifiedBy>王玉清</cp:lastModifiedBy>
  <dcterms:modified xsi:type="dcterms:W3CDTF">2016-02-20T03:52:18Z</dcterms:modified>
  <cp:revision>9</cp:revision>
  <dc:subject/>
  <dc:title>幻灯片 1</dc:title>
</cp:coreProperties>
</file>