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880-58DD-4819-9803-1891C49E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D56-67C3-4C22-8EEF-083D72A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16A-CD1D-48BC-8616-1AE5028F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EEF-51C6-481B-8658-EE888FD1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7A0-CF11-4D05-BFFD-D491D42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002-4D65-4854-A019-6533C2D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3B06-D733-4E91-ADAD-F9AC304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17F1-E128-44E2-BEB1-C819683B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8789-41E7-42E8-BE63-F8BF064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096-9848-43A6-8BF6-D4FF4F3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F80-2045-40DA-A6DE-D1194A3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B7A-4D17-4D15-8E10-A33C5F3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E558-F1DD-4434-A5D4-5BC65B9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A01B-EC81-40F6-A463-D517F10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2F8-0837-4749-97F1-1F676188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3A1-B762-4041-904C-7B89ECB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FCB-8CF0-4B16-8BE1-57EFCCE6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CC7-7FAE-449E-ACF7-AC9CDAE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2A6-FDD4-4ECF-986B-0122CFCC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F12-72B2-4885-8657-234055D9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0CD-7A81-46C7-BD51-737FCC1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74A-E9A8-4E89-B25D-50F92EE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636-22FF-4618-A275-8E14F08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6AD-CCB6-4DD4-A822-58EE492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406D62-73B2-4DB6-83AD-6BBD7C6E4F6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BCFE87-0677-412F-96FA-43A2934ECE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81520" y="52848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cxnSp>
        <p:nvCxnSpPr>
          <p:cNvPr id="84" name="直接连接符 4"/>
          <p:cNvCxnSpPr/>
          <p:nvPr/>
        </p:nvCxnSpPr>
        <p:spPr>
          <a:xfrm>
            <a:off x="3362040" y="5733000"/>
            <a:ext cx="5297760" cy="360"/>
          </a:xfrm>
          <a:prstGeom prst="straightConnector1">
            <a:avLst/>
          </a:prstGeom>
          <a:ln w="38100">
            <a:solidFill>
              <a:srgbClr val="c00000"/>
            </a:solidFill>
            <a:round/>
          </a:ln>
        </p:spPr>
      </p:cxnSp>
      <p:sp>
        <p:nvSpPr>
          <p:cNvPr id="85" name="矩形 1"/>
          <p:cNvSpPr/>
          <p:nvPr/>
        </p:nvSpPr>
        <p:spPr>
          <a:xfrm>
            <a:off x="2247840" y="306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爱心齿轮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95640" y="6309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0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9:09:20Z</dcterms:created>
  <dc:creator>lenovo</dc:creator>
  <dc:description/>
  <dc:language>en-US</dc:language>
  <cp:lastModifiedBy>王玉清</cp:lastModifiedBy>
  <dcterms:modified xsi:type="dcterms:W3CDTF">2016-02-20T03:23:3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