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51B1-F62F-45B2-B0FB-925F28DF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76A-27EB-4D22-9D89-DADA1832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0B5-E949-4052-B765-1DCDC05D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C15-5DF5-44CF-8FD6-E63ED6BA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E72-B6CA-4D27-9B4A-B7C92EB5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CDBE-1C41-414A-BA4E-2FE889BF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77FA-78CE-43C1-818F-18E80943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098-C6C4-4251-8A95-1A6EF545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BCD-D471-4716-A2AA-1B8E2644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992-EAAF-4ED2-B207-D3C7A510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46EF-614F-42F3-8863-521070C0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76C3-D86E-44B5-B2B0-5C7F9E5B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01EF-0E9A-461F-88A2-E72CBD9B5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2"/>
          <p:cNvSpPr/>
          <p:nvPr/>
        </p:nvSpPr>
        <p:spPr>
          <a:xfrm>
            <a:off x="2402280" y="907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之花通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611280" y="5661000"/>
            <a:ext cx="69134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网，爱情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下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1ppt.com/moban/aiq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7:21:26Z</dcterms:created>
  <dc:creator>chinaz</dc:creator>
  <dc:description/>
  <dc:language>en-US</dc:language>
  <cp:lastModifiedBy>王玉清</cp:lastModifiedBy>
  <dcterms:modified xsi:type="dcterms:W3CDTF">2016-02-20T04:08:26Z</dcterms:modified>
  <cp:revision>4</cp:revision>
  <dc:subject/>
  <dc:title>幻灯片 1</dc:title>
</cp:coreProperties>
</file>