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F32-A5C5-4B16-ABD1-58697152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36E-3160-44B6-8E03-CCA6100E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A69-6A9D-4A90-B22D-AF1CAB39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EB1-E644-4C6A-BECE-D7AA31D7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94B-E690-4E78-824D-1869D449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6F3-0EB6-43B7-95A6-FD336692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B64-7A34-44B8-B858-4B97264F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143-A37A-492D-9E86-3A0B3309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83A-28FF-4B7B-B351-6CF64FAF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512-4FF7-4A93-8FA8-EEBFFC54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A19-08F1-4FA7-A645-00F919C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E80-919B-4A16-B032-058E18B6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9C3B4B-5359-42C6-ADAA-FA2E6E7B09A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1.png"/>
          <p:cNvPicPr/>
          <p:nvPr/>
        </p:nvPicPr>
        <p:blipFill>
          <a:blip r:embed="rId2"/>
          <a:stretch/>
        </p:blipFill>
        <p:spPr>
          <a:xfrm>
            <a:off x="2071800" y="2643120"/>
            <a:ext cx="5127120" cy="2066400"/>
          </a:xfrm>
          <a:prstGeom prst="rect">
            <a:avLst/>
          </a:prstGeom>
          <a:ln w="9525">
            <a:noFill/>
          </a:ln>
        </p:spPr>
      </p:pic>
      <p:sp>
        <p:nvSpPr>
          <p:cNvPr id="42" name="TextBox 3"/>
          <p:cNvSpPr/>
          <p:nvPr/>
        </p:nvSpPr>
        <p:spPr>
          <a:xfrm>
            <a:off x="2857680" y="4527720"/>
            <a:ext cx="528588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357720" y="5214960"/>
            <a:ext cx="4142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832040" y="2289240"/>
            <a:ext cx="560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颁奖晚会刀通用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  <Words>23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3:40:31Z</dcterms:modified>
  <cp:revision>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