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8CF-B642-4789-AAD0-D974448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043-DBA7-4834-BC75-91C6C4B6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3E1-7BC6-44F6-A20F-030710B5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8A4-14F2-44D4-B1F0-8C9B4CE1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D62-6B77-44B1-9D91-96840B08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D52-9889-4320-A011-E03E91C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4B8-8D85-454E-9F12-1D70DD52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08D-9168-4EE4-BB3B-5404580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18C-3CE8-4DD5-8451-E66B982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2FC-6664-44AB-AED0-7E03FFF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F55-5D60-4DBA-8276-5F1759B2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85F-92E6-4914-9BED-06DF795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E82-FF8E-49B3-A3F1-42CAC3C66F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ev300-096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6" descr="949522_143908547111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2"/>
          <a:srcRect l="0" t="6362" r="0" b="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Untitled-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4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449280" y="1131840"/>
            <a:ext cx="2471760" cy="1778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9"/>
          <p:cNvSpPr/>
          <p:nvPr/>
        </p:nvSpPr>
        <p:spPr>
          <a:xfrm>
            <a:off x="1022400" y="2913120"/>
            <a:ext cx="46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NEVER SAY N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03" name="等腰三角形 11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2799720" y="444600"/>
            <a:ext cx="39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奔跑吧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2"/>
          <p:cNvSpPr/>
          <p:nvPr/>
        </p:nvSpPr>
        <p:spPr>
          <a:xfrm>
            <a:off x="655560" y="4624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1771560" y="733320"/>
            <a:ext cx="29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2"/>
          <p:cNvSpPr/>
          <p:nvPr/>
        </p:nvSpPr>
        <p:spPr>
          <a:xfrm>
            <a:off x="306360" y="1521000"/>
            <a:ext cx="426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等腰三角形 3"/>
          <p:cNvSpPr/>
          <p:nvPr/>
        </p:nvSpPr>
        <p:spPr>
          <a:xfrm rot="10800000">
            <a:off x="4271760" y="1628640"/>
            <a:ext cx="35532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179280" y="371520"/>
            <a:ext cx="1571760" cy="1130400"/>
          </a:xfrm>
          <a:prstGeom prst="rect">
            <a:avLst/>
          </a:prstGeom>
          <a:ln w="0">
            <a:noFill/>
          </a:ln>
        </p:spPr>
      </p:pic>
      <p:sp>
        <p:nvSpPr>
          <p:cNvPr id="210" name="矩形 6"/>
          <p:cNvSpPr/>
          <p:nvPr/>
        </p:nvSpPr>
        <p:spPr>
          <a:xfrm>
            <a:off x="3279600" y="1924200"/>
            <a:ext cx="323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3849840" y="4500720"/>
            <a:ext cx="14443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" descr="未标002 拷贝.png"/>
          <p:cNvPicPr/>
          <p:nvPr/>
        </p:nvPicPr>
        <p:blipFill>
          <a:blip r:embed="rId1"/>
          <a:stretch/>
        </p:blipFill>
        <p:spPr>
          <a:xfrm>
            <a:off x="0" y="1463760"/>
            <a:ext cx="11917440" cy="3681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7639200" y="298440"/>
            <a:ext cx="1442880" cy="682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-36360" y="2409840"/>
            <a:ext cx="44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等腰三角形 5"/>
          <p:cNvSpPr/>
          <p:nvPr/>
        </p:nvSpPr>
        <p:spPr>
          <a:xfrm rot="5400000">
            <a:off x="55080" y="356400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395280" y="3068640"/>
            <a:ext cx="31687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2013 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斜纹 1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右箭头 24"/>
          <p:cNvSpPr/>
          <p:nvPr/>
        </p:nvSpPr>
        <p:spPr>
          <a:xfrm>
            <a:off x="826920" y="1347840"/>
            <a:ext cx="1944720" cy="1655640"/>
          </a:xfrm>
          <a:prstGeom prst="rightArrow">
            <a:avLst>
              <a:gd name="adj1" fmla="val 63565"/>
              <a:gd name="adj2" fmla="val 50002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右箭头 25"/>
          <p:cNvSpPr/>
          <p:nvPr/>
        </p:nvSpPr>
        <p:spPr>
          <a:xfrm>
            <a:off x="3348000" y="1347840"/>
            <a:ext cx="2160720" cy="1655640"/>
          </a:xfrm>
          <a:prstGeom prst="rightArrow">
            <a:avLst>
              <a:gd name="adj1" fmla="val 63565"/>
              <a:gd name="adj2" fmla="val 50009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右箭头 26"/>
          <p:cNvSpPr/>
          <p:nvPr/>
        </p:nvSpPr>
        <p:spPr>
          <a:xfrm>
            <a:off x="5940360" y="1347840"/>
            <a:ext cx="2087640" cy="1655640"/>
          </a:xfrm>
          <a:prstGeom prst="rightArrow">
            <a:avLst>
              <a:gd name="adj1" fmla="val 63565"/>
              <a:gd name="adj2" fmla="val 50005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右箭头 27"/>
          <p:cNvSpPr/>
          <p:nvPr/>
        </p:nvSpPr>
        <p:spPr>
          <a:xfrm rot="5400000">
            <a:off x="4068000" y="1347480"/>
            <a:ext cx="719280" cy="4319640"/>
          </a:xfrm>
          <a:prstGeom prst="rightArrow">
            <a:avLst>
              <a:gd name="adj1" fmla="val 40194"/>
              <a:gd name="adj2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11280" y="1725480"/>
            <a:ext cx="208908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132000" y="1725480"/>
            <a:ext cx="20876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5759280" y="1700280"/>
            <a:ext cx="20894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2496240" y="401148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YOUR TEXT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斜纹 2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sp>
        <p:nvSpPr>
          <p:cNvPr id="231" name="对角圆角矩形 25"/>
          <p:cNvSpPr/>
          <p:nvPr/>
        </p:nvSpPr>
        <p:spPr>
          <a:xfrm>
            <a:off x="849240" y="1833480"/>
            <a:ext cx="2305080" cy="25192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15968"/>
                </a:solidFill>
                <a:latin typeface="Calibri"/>
              </a:rPr>
              <a:t>15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对角圆角矩形 26"/>
          <p:cNvSpPr/>
          <p:nvPr/>
        </p:nvSpPr>
        <p:spPr>
          <a:xfrm>
            <a:off x="3306600" y="1833480"/>
            <a:ext cx="2303640" cy="251928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对角圆角矩形 27"/>
          <p:cNvSpPr/>
          <p:nvPr/>
        </p:nvSpPr>
        <p:spPr>
          <a:xfrm>
            <a:off x="5889600" y="1833480"/>
            <a:ext cx="2305080" cy="25192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3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斜纹 1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"/>
          <p:cNvPicPr/>
          <p:nvPr/>
        </p:nvPicPr>
        <p:blipFill>
          <a:blip r:embed="rId2"/>
          <a:stretch/>
        </p:blipFill>
        <p:spPr>
          <a:xfrm>
            <a:off x="1332000" y="1738440"/>
            <a:ext cx="2665440" cy="174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图片 5" descr=""/>
          <p:cNvPicPr/>
          <p:nvPr/>
        </p:nvPicPr>
        <p:blipFill>
          <a:blip r:embed="rId3"/>
          <a:stretch/>
        </p:blipFill>
        <p:spPr>
          <a:xfrm>
            <a:off x="4545000" y="1779480"/>
            <a:ext cx="2787840" cy="175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9" name="组合 6" descr=""/>
          <p:cNvPicPr/>
          <p:nvPr/>
        </p:nvPicPr>
        <p:blipFill>
          <a:blip r:embed="rId4"/>
          <a:stretch/>
        </p:blipFill>
        <p:spPr>
          <a:xfrm>
            <a:off x="1042920" y="3462480"/>
            <a:ext cx="3505320" cy="1152360"/>
          </a:xfrm>
          <a:prstGeom prst="rect">
            <a:avLst/>
          </a:prstGeom>
          <a:ln w="0">
            <a:noFill/>
          </a:ln>
        </p:spPr>
      </p:pic>
      <p:pic>
        <p:nvPicPr>
          <p:cNvPr id="240" name="组合 9" descr=""/>
          <p:cNvPicPr/>
          <p:nvPr/>
        </p:nvPicPr>
        <p:blipFill>
          <a:blip r:embed="rId5"/>
          <a:stretch/>
        </p:blipFill>
        <p:spPr>
          <a:xfrm>
            <a:off x="4280040" y="3449520"/>
            <a:ext cx="3906720" cy="1177920"/>
          </a:xfrm>
          <a:prstGeom prst="rect">
            <a:avLst/>
          </a:prstGeom>
          <a:ln w="0">
            <a:noFill/>
          </a:ln>
        </p:spPr>
      </p:pic>
      <p:sp>
        <p:nvSpPr>
          <p:cNvPr id="241" name="矩形 12"/>
          <p:cNvSpPr/>
          <p:nvPr/>
        </p:nvSpPr>
        <p:spPr>
          <a:xfrm>
            <a:off x="53028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2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449280" y="1131840"/>
            <a:ext cx="2471760" cy="17780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16480" y="295128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47" name="等腰三角形 6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684360" y="3659040"/>
            <a:ext cx="31683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2013 BY PANGXIAOK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19:46Z</dcterms:created>
  <dc:creator>Administrator</dc:creator>
  <dc:description/>
  <dc:language>en-US</dc:language>
  <cp:lastModifiedBy>王玉清</cp:lastModifiedBy>
  <dcterms:modified xsi:type="dcterms:W3CDTF">2016-02-21T03:58:08Z</dcterms:modified>
  <cp:revision>315</cp:revision>
  <dc:subject/>
  <dc:title>PowerPoint 演示文稿</dc:title>
</cp:coreProperties>
</file>