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5.png" ContentType="image/png"/>
  <Override PartName="/ppt/media/hdphoto5.wdp" ContentType="image/vnd.ms-photo"/>
  <Override PartName="/ppt/media/image18.jpeg" ContentType="image/jpeg"/>
  <Override PartName="/ppt/media/hdphoto14.wdp" ContentType="image/vnd.ms-photo"/>
  <Override PartName="/ppt/media/image1.png" ContentType="image/png"/>
  <Override PartName="/ppt/media/hdphoto7.wdp" ContentType="image/vnd.ms-photo"/>
  <Override PartName="/ppt/media/hdphoto8.wdp" ContentType="image/vnd.ms-photo"/>
  <Override PartName="/ppt/media/image2.png" ContentType="image/png"/>
  <Override PartName="/ppt/media/hdphoto9.wdp" ContentType="image/vnd.ms-photo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hdphoto6.wdp" ContentType="image/vnd.ms-photo"/>
  <Override PartName="/ppt/media/image7.png" ContentType="image/png"/>
  <Override PartName="/ppt/media/hdphoto15.wdp" ContentType="image/vnd.ms-photo"/>
  <Override PartName="/ppt/media/image16.jpeg" ContentType="image/jpeg"/>
  <Override PartName="/ppt/media/image8.png" ContentType="image/png"/>
  <Override PartName="/ppt/media/image9.png" ContentType="image/png"/>
  <Override PartName="/ppt/media/image10.png" ContentType="image/png"/>
  <Override PartName="/ppt/media/hdphoto10.wdp" ContentType="image/vnd.ms-photo"/>
  <Override PartName="/ppt/media/hdphoto1.wdp" ContentType="image/vnd.ms-photo"/>
  <Override PartName="/ppt/media/image11.png" ContentType="image/png"/>
  <Override PartName="/ppt/media/hdphoto11.wdp" ContentType="image/vnd.ms-photo"/>
  <Override PartName="/ppt/media/hdphoto2.wdp" ContentType="image/vnd.ms-photo"/>
  <Override PartName="/ppt/media/image12.png" ContentType="image/png"/>
  <Override PartName="/ppt/media/hdphoto12.wdp" ContentType="image/vnd.ms-photo"/>
  <Override PartName="/ppt/media/hdphoto3.wdp" ContentType="image/vnd.ms-photo"/>
  <Override PartName="/ppt/media/image13.png" ContentType="image/png"/>
  <Override PartName="/ppt/media/hdphoto13.wdp" ContentType="image/vnd.ms-photo"/>
  <Override PartName="/ppt/media/hdphoto4.wdp" ContentType="image/vnd.ms-photo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椭圆 1"/>
          <p:cNvSpPr/>
          <p:nvPr/>
        </p:nvSpPr>
        <p:spPr>
          <a:xfrm rot="5400000">
            <a:off x="1791360" y="425160"/>
            <a:ext cx="2027880" cy="1177200"/>
          </a:xfrm>
          <a:custGeom>
            <a:avLst/>
            <a:gdLst>
              <a:gd name="textAreaLeft" fmla="*/ 0 w 2027880"/>
              <a:gd name="textAreaRight" fmla="*/ 2028240 w 2027880"/>
              <a:gd name="textAreaTop" fmla="*/ 0 h 1177200"/>
              <a:gd name="textAreaBottom" fmla="*/ 1177560 h 1177200"/>
            </a:gdLst>
            <a:ahLst/>
            <a:rect l="textAreaLeft" t="textAreaTop" r="textAreaRight" b="textAreaBottom"/>
            <a:pathLst>
              <a:path w="2028376" h="1177563">
                <a:moveTo>
                  <a:pt x="0" y="1177563"/>
                </a:moveTo>
                <a:lnTo>
                  <a:pt x="0" y="0"/>
                </a:lnTo>
                <a:lnTo>
                  <a:pt x="2028376" y="0"/>
                </a:lnTo>
                <a:cubicBezTo>
                  <a:pt x="1624320" y="702037"/>
                  <a:pt x="867468" y="1174384"/>
                  <a:pt x="0" y="1177563"/>
                </a:cubicBezTo>
                <a:close/>
              </a:path>
            </a:pathLst>
          </a:custGeom>
          <a:solidFill>
            <a:srgbClr val="bf34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" name="矩形 7"/>
          <p:cNvSpPr/>
          <p:nvPr/>
        </p:nvSpPr>
        <p:spPr>
          <a:xfrm rot="5400000">
            <a:off x="2810160" y="583920"/>
            <a:ext cx="2345760" cy="1177560"/>
          </a:xfrm>
          <a:custGeom>
            <a:avLst/>
            <a:gdLst>
              <a:gd name="textAreaLeft" fmla="*/ 0 w 2345760"/>
              <a:gd name="textAreaRight" fmla="*/ 2346120 w 2345760"/>
              <a:gd name="textAreaTop" fmla="*/ 0 h 1177560"/>
              <a:gd name="textAreaBottom" fmla="*/ 1177920 h 1177560"/>
            </a:gdLst>
            <a:ahLst/>
            <a:rect l="textAreaLeft" t="textAreaTop" r="textAreaRight" b="textAreaBottom"/>
            <a:pathLst>
              <a:path w="2346109" h="1177890">
                <a:moveTo>
                  <a:pt x="0" y="1177890"/>
                </a:moveTo>
                <a:lnTo>
                  <a:pt x="0" y="0"/>
                </a:lnTo>
                <a:lnTo>
                  <a:pt x="2346109" y="0"/>
                </a:lnTo>
                <a:cubicBezTo>
                  <a:pt x="2346109" y="429552"/>
                  <a:pt x="2231144" y="832251"/>
                  <a:pt x="2028377" y="1177890"/>
                </a:cubicBezTo>
                <a:close/>
              </a:path>
            </a:pathLst>
          </a:custGeom>
          <a:solidFill>
            <a:srgbClr val="fda90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" name="椭圆 12"/>
          <p:cNvSpPr/>
          <p:nvPr/>
        </p:nvSpPr>
        <p:spPr>
          <a:xfrm rot="5400000">
            <a:off x="5324400" y="425160"/>
            <a:ext cx="2027880" cy="1177200"/>
          </a:xfrm>
          <a:custGeom>
            <a:avLst/>
            <a:gdLst>
              <a:gd name="textAreaLeft" fmla="*/ 0 w 2027880"/>
              <a:gd name="textAreaRight" fmla="*/ 2028240 w 2027880"/>
              <a:gd name="textAreaTop" fmla="*/ 0 h 1177200"/>
              <a:gd name="textAreaBottom" fmla="*/ 1177560 h 1177200"/>
            </a:gdLst>
            <a:ahLst/>
            <a:rect l="textAreaLeft" t="textAreaTop" r="textAreaRight" b="textAreaBottom"/>
            <a:pathLst>
              <a:path w="2028375" h="1177562">
                <a:moveTo>
                  <a:pt x="0" y="1177562"/>
                </a:moveTo>
                <a:lnTo>
                  <a:pt x="0" y="0"/>
                </a:lnTo>
                <a:cubicBezTo>
                  <a:pt x="867468" y="3179"/>
                  <a:pt x="1624319" y="475526"/>
                  <a:pt x="2028375" y="1177562"/>
                </a:cubicBezTo>
                <a:close/>
              </a:path>
            </a:pathLst>
          </a:custGeom>
          <a:solidFill>
            <a:srgbClr val="1a7ba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" name="椭圆 13"/>
          <p:cNvSpPr/>
          <p:nvPr/>
        </p:nvSpPr>
        <p:spPr>
          <a:xfrm rot="5400000">
            <a:off x="3987360" y="584280"/>
            <a:ext cx="2346480" cy="1177560"/>
          </a:xfrm>
          <a:custGeom>
            <a:avLst/>
            <a:gdLst>
              <a:gd name="textAreaLeft" fmla="*/ 0 w 2346480"/>
              <a:gd name="textAreaRight" fmla="*/ 2346840 w 2346480"/>
              <a:gd name="textAreaTop" fmla="*/ 0 h 1177560"/>
              <a:gd name="textAreaBottom" fmla="*/ 1177920 h 1177560"/>
            </a:gdLst>
            <a:ahLst/>
            <a:rect l="textAreaLeft" t="textAreaTop" r="textAreaRight" b="textAreaBottom"/>
            <a:pathLst>
              <a:path w="2346724" h="1177890">
                <a:moveTo>
                  <a:pt x="0" y="1177890"/>
                </a:moveTo>
                <a:lnTo>
                  <a:pt x="0" y="0"/>
                </a:lnTo>
                <a:lnTo>
                  <a:pt x="2028990" y="0"/>
                </a:lnTo>
                <a:cubicBezTo>
                  <a:pt x="2231759" y="345641"/>
                  <a:pt x="2346724" y="748340"/>
                  <a:pt x="2346724" y="1177890"/>
                </a:cubicBezTo>
                <a:close/>
              </a:path>
            </a:pathLst>
          </a:custGeom>
          <a:solidFill>
            <a:srgbClr val="95bc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" name="弧形 5"/>
          <p:cNvSpPr/>
          <p:nvPr/>
        </p:nvSpPr>
        <p:spPr>
          <a:xfrm>
            <a:off x="2074680" y="-2513160"/>
            <a:ext cx="4994640" cy="4994640"/>
          </a:xfrm>
          <a:prstGeom prst="arc">
            <a:avLst>
              <a:gd name="adj1" fmla="val 3404"/>
              <a:gd name="adj2" fmla="val 10819516"/>
            </a:avLst>
          </a:prstGeom>
          <a:noFill/>
          <a:ln>
            <a:solidFill>
              <a:srgbClr val="ffffff">
                <a:lumMod val="75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5" name="椭圆 6"/>
          <p:cNvSpPr/>
          <p:nvPr/>
        </p:nvSpPr>
        <p:spPr>
          <a:xfrm>
            <a:off x="4493160" y="2414160"/>
            <a:ext cx="157320" cy="157320"/>
          </a:xfrm>
          <a:prstGeom prst="ellipse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1"/>
          <p:cNvGrpSpPr/>
          <p:nvPr/>
        </p:nvGrpSpPr>
        <p:grpSpPr>
          <a:xfrm>
            <a:off x="281520" y="0"/>
            <a:ext cx="105480" cy="721080"/>
            <a:chOff x="281520" y="0"/>
            <a:chExt cx="105480" cy="721080"/>
          </a:xfrm>
        </p:grpSpPr>
        <p:sp>
          <p:nvSpPr>
            <p:cNvPr id="45" name="矩形 4"/>
            <p:cNvSpPr/>
            <p:nvPr/>
          </p:nvSpPr>
          <p:spPr>
            <a:xfrm>
              <a:off x="281520" y="0"/>
              <a:ext cx="45360" cy="721080"/>
            </a:xfrm>
            <a:prstGeom prst="rect">
              <a:avLst/>
            </a:prstGeom>
            <a:solidFill>
              <a:srgbClr val="1a7ba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6" name="矩形 5"/>
            <p:cNvSpPr/>
            <p:nvPr/>
          </p:nvSpPr>
          <p:spPr>
            <a:xfrm>
              <a:off x="341640" y="0"/>
              <a:ext cx="45360" cy="721080"/>
            </a:xfrm>
            <a:prstGeom prst="rect">
              <a:avLst/>
            </a:prstGeom>
            <a:solidFill>
              <a:srgbClr val="1a7ba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47" name="组合 6"/>
          <p:cNvGrpSpPr/>
          <p:nvPr/>
        </p:nvGrpSpPr>
        <p:grpSpPr>
          <a:xfrm>
            <a:off x="8802000" y="4963680"/>
            <a:ext cx="105480" cy="180000"/>
            <a:chOff x="8802000" y="4963680"/>
            <a:chExt cx="105480" cy="180000"/>
          </a:xfrm>
        </p:grpSpPr>
        <p:sp>
          <p:nvSpPr>
            <p:cNvPr id="48" name="矩形 9"/>
            <p:cNvSpPr/>
            <p:nvPr/>
          </p:nvSpPr>
          <p:spPr>
            <a:xfrm rot="10800000">
              <a:off x="8862120" y="4963680"/>
              <a:ext cx="45360" cy="180000"/>
            </a:xfrm>
            <a:prstGeom prst="rect">
              <a:avLst/>
            </a:prstGeom>
            <a:solidFill>
              <a:srgbClr val="1a7ba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9" name="矩形 10"/>
            <p:cNvSpPr/>
            <p:nvPr/>
          </p:nvSpPr>
          <p:spPr>
            <a:xfrm rot="10800000">
              <a:off x="8802000" y="4963680"/>
              <a:ext cx="45360" cy="180000"/>
            </a:xfrm>
            <a:prstGeom prst="rect">
              <a:avLst/>
            </a:prstGeom>
            <a:solidFill>
              <a:srgbClr val="1a7ba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1"/>
          <p:cNvGrpSpPr/>
          <p:nvPr/>
        </p:nvGrpSpPr>
        <p:grpSpPr>
          <a:xfrm>
            <a:off x="281520" y="0"/>
            <a:ext cx="105480" cy="721080"/>
            <a:chOff x="281520" y="0"/>
            <a:chExt cx="105480" cy="721080"/>
          </a:xfrm>
        </p:grpSpPr>
        <p:sp>
          <p:nvSpPr>
            <p:cNvPr id="127" name="矩形 4"/>
            <p:cNvSpPr/>
            <p:nvPr/>
          </p:nvSpPr>
          <p:spPr>
            <a:xfrm>
              <a:off x="281520" y="0"/>
              <a:ext cx="45360" cy="721080"/>
            </a:xfrm>
            <a:prstGeom prst="rect">
              <a:avLst/>
            </a:prstGeom>
            <a:solidFill>
              <a:srgbClr val="95bc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28" name="矩形 5"/>
            <p:cNvSpPr/>
            <p:nvPr/>
          </p:nvSpPr>
          <p:spPr>
            <a:xfrm>
              <a:off x="341640" y="0"/>
              <a:ext cx="45360" cy="721080"/>
            </a:xfrm>
            <a:prstGeom prst="rect">
              <a:avLst/>
            </a:prstGeom>
            <a:solidFill>
              <a:srgbClr val="95bc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29" name="组合 6"/>
          <p:cNvGrpSpPr/>
          <p:nvPr/>
        </p:nvGrpSpPr>
        <p:grpSpPr>
          <a:xfrm>
            <a:off x="8802000" y="4963680"/>
            <a:ext cx="105480" cy="180000"/>
            <a:chOff x="8802000" y="4963680"/>
            <a:chExt cx="105480" cy="180000"/>
          </a:xfrm>
        </p:grpSpPr>
        <p:sp>
          <p:nvSpPr>
            <p:cNvPr id="130" name="矩形 9"/>
            <p:cNvSpPr/>
            <p:nvPr/>
          </p:nvSpPr>
          <p:spPr>
            <a:xfrm rot="10800000">
              <a:off x="8862120" y="4963680"/>
              <a:ext cx="45360" cy="180000"/>
            </a:xfrm>
            <a:prstGeom prst="rect">
              <a:avLst/>
            </a:prstGeom>
            <a:solidFill>
              <a:srgbClr val="95bc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31" name="矩形 10"/>
            <p:cNvSpPr/>
            <p:nvPr/>
          </p:nvSpPr>
          <p:spPr>
            <a:xfrm rot="10800000">
              <a:off x="8802000" y="4963680"/>
              <a:ext cx="45360" cy="180000"/>
            </a:xfrm>
            <a:prstGeom prst="rect">
              <a:avLst/>
            </a:prstGeom>
            <a:solidFill>
              <a:srgbClr val="95bc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组合 1"/>
          <p:cNvGrpSpPr/>
          <p:nvPr/>
        </p:nvGrpSpPr>
        <p:grpSpPr>
          <a:xfrm>
            <a:off x="281520" y="0"/>
            <a:ext cx="105480" cy="721080"/>
            <a:chOff x="281520" y="0"/>
            <a:chExt cx="105480" cy="721080"/>
          </a:xfrm>
        </p:grpSpPr>
        <p:sp>
          <p:nvSpPr>
            <p:cNvPr id="171" name="矩形 4"/>
            <p:cNvSpPr/>
            <p:nvPr/>
          </p:nvSpPr>
          <p:spPr>
            <a:xfrm>
              <a:off x="281520" y="0"/>
              <a:ext cx="45360" cy="721080"/>
            </a:xfrm>
            <a:prstGeom prst="rect">
              <a:avLst/>
            </a:prstGeom>
            <a:solidFill>
              <a:srgbClr val="fda90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72" name="矩形 5"/>
            <p:cNvSpPr/>
            <p:nvPr/>
          </p:nvSpPr>
          <p:spPr>
            <a:xfrm>
              <a:off x="341640" y="0"/>
              <a:ext cx="45360" cy="721080"/>
            </a:xfrm>
            <a:prstGeom prst="rect">
              <a:avLst/>
            </a:prstGeom>
            <a:solidFill>
              <a:srgbClr val="fda90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73" name="组合 6"/>
          <p:cNvGrpSpPr/>
          <p:nvPr/>
        </p:nvGrpSpPr>
        <p:grpSpPr>
          <a:xfrm>
            <a:off x="8802000" y="4963680"/>
            <a:ext cx="105480" cy="180000"/>
            <a:chOff x="8802000" y="4963680"/>
            <a:chExt cx="105480" cy="180000"/>
          </a:xfrm>
        </p:grpSpPr>
        <p:sp>
          <p:nvSpPr>
            <p:cNvPr id="174" name="矩形 9"/>
            <p:cNvSpPr/>
            <p:nvPr/>
          </p:nvSpPr>
          <p:spPr>
            <a:xfrm rot="10800000">
              <a:off x="8862120" y="4963680"/>
              <a:ext cx="45360" cy="180000"/>
            </a:xfrm>
            <a:prstGeom prst="rect">
              <a:avLst/>
            </a:prstGeom>
            <a:solidFill>
              <a:srgbClr val="fda90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175" name="矩形 10"/>
            <p:cNvSpPr/>
            <p:nvPr/>
          </p:nvSpPr>
          <p:spPr>
            <a:xfrm rot="10800000">
              <a:off x="8802000" y="4963680"/>
              <a:ext cx="45360" cy="180000"/>
            </a:xfrm>
            <a:prstGeom prst="rect">
              <a:avLst/>
            </a:prstGeom>
            <a:solidFill>
              <a:srgbClr val="fda90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1"/>
          <p:cNvGrpSpPr/>
          <p:nvPr/>
        </p:nvGrpSpPr>
        <p:grpSpPr>
          <a:xfrm>
            <a:off x="281520" y="0"/>
            <a:ext cx="105480" cy="721080"/>
            <a:chOff x="281520" y="0"/>
            <a:chExt cx="105480" cy="721080"/>
          </a:xfrm>
        </p:grpSpPr>
        <p:sp>
          <p:nvSpPr>
            <p:cNvPr id="215" name="矩形 4"/>
            <p:cNvSpPr/>
            <p:nvPr/>
          </p:nvSpPr>
          <p:spPr>
            <a:xfrm>
              <a:off x="281520" y="0"/>
              <a:ext cx="45360" cy="721080"/>
            </a:xfrm>
            <a:prstGeom prst="rect">
              <a:avLst/>
            </a:prstGeom>
            <a:solidFill>
              <a:srgbClr val="bf342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216" name="矩形 5"/>
            <p:cNvSpPr/>
            <p:nvPr/>
          </p:nvSpPr>
          <p:spPr>
            <a:xfrm>
              <a:off x="341640" y="0"/>
              <a:ext cx="45360" cy="721080"/>
            </a:xfrm>
            <a:prstGeom prst="rect">
              <a:avLst/>
            </a:prstGeom>
            <a:solidFill>
              <a:srgbClr val="bf342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17" name="组合 6"/>
          <p:cNvGrpSpPr/>
          <p:nvPr/>
        </p:nvGrpSpPr>
        <p:grpSpPr>
          <a:xfrm>
            <a:off x="8802000" y="4963680"/>
            <a:ext cx="105480" cy="180000"/>
            <a:chOff x="8802000" y="4963680"/>
            <a:chExt cx="105480" cy="180000"/>
          </a:xfrm>
        </p:grpSpPr>
        <p:sp>
          <p:nvSpPr>
            <p:cNvPr id="218" name="矩形 9"/>
            <p:cNvSpPr/>
            <p:nvPr/>
          </p:nvSpPr>
          <p:spPr>
            <a:xfrm rot="10800000">
              <a:off x="8862120" y="4963680"/>
              <a:ext cx="45360" cy="180000"/>
            </a:xfrm>
            <a:prstGeom prst="rect">
              <a:avLst/>
            </a:prstGeom>
            <a:solidFill>
              <a:srgbClr val="bf342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219" name="矩形 10"/>
            <p:cNvSpPr/>
            <p:nvPr/>
          </p:nvSpPr>
          <p:spPr>
            <a:xfrm rot="10800000">
              <a:off x="8802000" y="4963680"/>
              <a:ext cx="45360" cy="180000"/>
            </a:xfrm>
            <a:prstGeom prst="rect">
              <a:avLst/>
            </a:prstGeom>
            <a:solidFill>
              <a:srgbClr val="bf342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microsoft.com/office/2007/relationships/hdphoto" Target="../media/hdphoto1.wdp"/><Relationship Id="rId3" Type="http://schemas.openxmlformats.org/officeDocument/2006/relationships/image" Target="../media/image2.png"/><Relationship Id="rId4" Type="http://schemas.microsoft.com/office/2007/relationships/hdphoto" Target="../media/hdphoto2.wdp"/><Relationship Id="rId5" Type="http://schemas.openxmlformats.org/officeDocument/2006/relationships/image" Target="../media/image3.png"/><Relationship Id="rId6" Type="http://schemas.microsoft.com/office/2007/relationships/hdphoto" Target="../media/hdphoto3.wdp"/><Relationship Id="rId7" Type="http://schemas.openxmlformats.org/officeDocument/2006/relationships/image" Target="../media/image4.png"/><Relationship Id="rId8" Type="http://schemas.microsoft.com/office/2007/relationships/hdphoto" Target="../media/hdphoto4.wdp"/><Relationship Id="rId9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microsoft.com/office/2007/relationships/hdphoto" Target="../media/hdphoto5.wdp"/><Relationship Id="rId3" Type="http://schemas.openxmlformats.org/officeDocument/2006/relationships/image" Target="../media/image6.png"/><Relationship Id="rId4" Type="http://schemas.microsoft.com/office/2007/relationships/hdphoto" Target="../media/hdphoto6.wdp"/><Relationship Id="rId5" Type="http://schemas.openxmlformats.org/officeDocument/2006/relationships/image" Target="../media/image7.png"/><Relationship Id="rId6" Type="http://schemas.microsoft.com/office/2007/relationships/hdphoto" Target="../media/hdphoto7.wdp"/><Relationship Id="rId7" Type="http://schemas.openxmlformats.org/officeDocument/2006/relationships/image" Target="../media/image8.png"/><Relationship Id="rId8" Type="http://schemas.microsoft.com/office/2007/relationships/hdphoto" Target="../media/hdphoto8.wdp"/><Relationship Id="rId9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microsoft.com/office/2007/relationships/hdphoto" Target="../media/hdphoto9.wdp"/><Relationship Id="rId3" Type="http://schemas.openxmlformats.org/officeDocument/2006/relationships/image" Target="../media/image10.png"/><Relationship Id="rId4" Type="http://schemas.microsoft.com/office/2007/relationships/hdphoto" Target="../media/hdphoto10.wdp"/><Relationship Id="rId5" Type="http://schemas.openxmlformats.org/officeDocument/2006/relationships/image" Target="../media/image11.png"/><Relationship Id="rId6" Type="http://schemas.microsoft.com/office/2007/relationships/hdphoto" Target="../media/hdphoto11.wdp"/><Relationship Id="rId7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microsoft.com/office/2007/relationships/hdphoto" Target="../media/hdphoto12.wdp"/><Relationship Id="rId3" Type="http://schemas.openxmlformats.org/officeDocument/2006/relationships/image" Target="../media/image13.png"/><Relationship Id="rId4" Type="http://schemas.microsoft.com/office/2007/relationships/hdphoto" Target="../media/hdphoto13.wdp"/><Relationship Id="rId5" Type="http://schemas.openxmlformats.org/officeDocument/2006/relationships/image" Target="../media/image14.png"/><Relationship Id="rId6" Type="http://schemas.microsoft.com/office/2007/relationships/hdphoto" Target="../media/hdphoto14.wdp"/><Relationship Id="rId7" Type="http://schemas.openxmlformats.org/officeDocument/2006/relationships/image" Target="../media/image15.png"/><Relationship Id="rId8" Type="http://schemas.microsoft.com/office/2007/relationships/hdphoto" Target="../media/hdphoto15.wdp"/><Relationship Id="rId9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24"/>
          <p:cNvSpPr/>
          <p:nvPr/>
        </p:nvSpPr>
        <p:spPr>
          <a:xfrm>
            <a:off x="971640" y="2661840"/>
            <a:ext cx="8280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bf3420"/>
                </a:solidFill>
                <a:latin typeface="Arial"/>
                <a:ea typeface="微软雅黑"/>
              </a:rPr>
              <a:t>扁平多图表清新四色商务</a:t>
            </a:r>
            <a:r>
              <a:rPr b="0" lang="en-US" sz="4000" spc="-1" strike="noStrike">
                <a:solidFill>
                  <a:srgbClr val="bf3420"/>
                </a:solidFill>
                <a:latin typeface="Arial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bf3420"/>
                </a:solidFill>
                <a:latin typeface="Arial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5"/>
          <p:cNvSpPr/>
          <p:nvPr/>
        </p:nvSpPr>
        <p:spPr>
          <a:xfrm>
            <a:off x="2028960" y="3306600"/>
            <a:ext cx="5085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, Sed Do Eiusmod Tempor Incididunt Ut Labore Et Dolore Magna Aliqu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12"/>
          <p:cNvSpPr/>
          <p:nvPr/>
        </p:nvSpPr>
        <p:spPr>
          <a:xfrm>
            <a:off x="535680" y="447660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6"/>
          <p:cNvSpPr/>
          <p:nvPr/>
        </p:nvSpPr>
        <p:spPr>
          <a:xfrm>
            <a:off x="476640" y="96480"/>
            <a:ext cx="387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Impact"/>
                <a:ea typeface="微软雅黑"/>
              </a:rPr>
              <a:t>INPUT YOUR GOOD IDEA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11"/>
          <p:cNvSpPr/>
          <p:nvPr/>
        </p:nvSpPr>
        <p:spPr>
          <a:xfrm>
            <a:off x="476640" y="430560"/>
            <a:ext cx="387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Always believe that something wonderful is about to happ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直接连接符 7"/>
          <p:cNvCxnSpPr/>
          <p:nvPr/>
        </p:nvCxnSpPr>
        <p:spPr>
          <a:xfrm>
            <a:off x="521280" y="681480"/>
            <a:ext cx="3510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417" name="直接连接符 26"/>
          <p:cNvCxnSpPr/>
          <p:nvPr/>
        </p:nvCxnSpPr>
        <p:spPr>
          <a:xfrm>
            <a:off x="4517640" y="1019880"/>
            <a:ext cx="360" cy="288072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grpSp>
        <p:nvGrpSpPr>
          <p:cNvPr id="418" name="组合 27"/>
          <p:cNvGrpSpPr/>
          <p:nvPr/>
        </p:nvGrpSpPr>
        <p:grpSpPr>
          <a:xfrm>
            <a:off x="4212000" y="663480"/>
            <a:ext cx="611640" cy="611640"/>
            <a:chOff x="4212000" y="663480"/>
            <a:chExt cx="611640" cy="611640"/>
          </a:xfrm>
        </p:grpSpPr>
        <p:sp>
          <p:nvSpPr>
            <p:cNvPr id="419" name="椭圆 31"/>
            <p:cNvSpPr/>
            <p:nvPr/>
          </p:nvSpPr>
          <p:spPr>
            <a:xfrm>
              <a:off x="4212000" y="663480"/>
              <a:ext cx="611640" cy="611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0" name="TextBox 32"/>
            <p:cNvSpPr/>
            <p:nvPr/>
          </p:nvSpPr>
          <p:spPr>
            <a:xfrm>
              <a:off x="4228920" y="815760"/>
              <a:ext cx="5774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组合 33"/>
          <p:cNvGrpSpPr/>
          <p:nvPr/>
        </p:nvGrpSpPr>
        <p:grpSpPr>
          <a:xfrm>
            <a:off x="4212000" y="1623600"/>
            <a:ext cx="611640" cy="611640"/>
            <a:chOff x="4212000" y="1623600"/>
            <a:chExt cx="611640" cy="611640"/>
          </a:xfrm>
        </p:grpSpPr>
        <p:sp>
          <p:nvSpPr>
            <p:cNvPr id="422" name="椭圆 34"/>
            <p:cNvSpPr/>
            <p:nvPr/>
          </p:nvSpPr>
          <p:spPr>
            <a:xfrm>
              <a:off x="4212000" y="1623600"/>
              <a:ext cx="611640" cy="611640"/>
            </a:xfrm>
            <a:prstGeom prst="ellipse">
              <a:avLst/>
            </a:prstGeom>
            <a:solidFill>
              <a:srgbClr val="95bc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3" name="TextBox 35"/>
            <p:cNvSpPr/>
            <p:nvPr/>
          </p:nvSpPr>
          <p:spPr>
            <a:xfrm>
              <a:off x="4228920" y="1775880"/>
              <a:ext cx="5774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组合 36"/>
          <p:cNvGrpSpPr/>
          <p:nvPr/>
        </p:nvGrpSpPr>
        <p:grpSpPr>
          <a:xfrm>
            <a:off x="4212000" y="2583720"/>
            <a:ext cx="611640" cy="611640"/>
            <a:chOff x="4212000" y="2583720"/>
            <a:chExt cx="611640" cy="611640"/>
          </a:xfrm>
        </p:grpSpPr>
        <p:sp>
          <p:nvSpPr>
            <p:cNvPr id="425" name="椭圆 37"/>
            <p:cNvSpPr/>
            <p:nvPr/>
          </p:nvSpPr>
          <p:spPr>
            <a:xfrm>
              <a:off x="4212000" y="2583720"/>
              <a:ext cx="611640" cy="611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6" name="TextBox 38"/>
            <p:cNvSpPr/>
            <p:nvPr/>
          </p:nvSpPr>
          <p:spPr>
            <a:xfrm>
              <a:off x="4228920" y="2736000"/>
              <a:ext cx="5774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组合 39"/>
          <p:cNvGrpSpPr/>
          <p:nvPr/>
        </p:nvGrpSpPr>
        <p:grpSpPr>
          <a:xfrm>
            <a:off x="4212000" y="3543840"/>
            <a:ext cx="611640" cy="611640"/>
            <a:chOff x="4212000" y="3543840"/>
            <a:chExt cx="611640" cy="611640"/>
          </a:xfrm>
        </p:grpSpPr>
        <p:sp>
          <p:nvSpPr>
            <p:cNvPr id="428" name="椭圆 40"/>
            <p:cNvSpPr/>
            <p:nvPr/>
          </p:nvSpPr>
          <p:spPr>
            <a:xfrm>
              <a:off x="4212000" y="3543840"/>
              <a:ext cx="611640" cy="611640"/>
            </a:xfrm>
            <a:prstGeom prst="ellipse">
              <a:avLst/>
            </a:prstGeom>
            <a:solidFill>
              <a:srgbClr val="95bc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429" name="TextBox 41"/>
            <p:cNvSpPr/>
            <p:nvPr/>
          </p:nvSpPr>
          <p:spPr>
            <a:xfrm>
              <a:off x="4228920" y="3696120"/>
              <a:ext cx="5774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0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矩形 42"/>
          <p:cNvSpPr/>
          <p:nvPr/>
        </p:nvSpPr>
        <p:spPr>
          <a:xfrm>
            <a:off x="4968000" y="555480"/>
            <a:ext cx="291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  <a:ea typeface="微软雅黑"/>
              </a:rPr>
              <a:t>Lorem Ipsum Dolor 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43"/>
          <p:cNvSpPr/>
          <p:nvPr/>
        </p:nvSpPr>
        <p:spPr>
          <a:xfrm>
            <a:off x="4968000" y="877680"/>
            <a:ext cx="2916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44"/>
          <p:cNvSpPr/>
          <p:nvPr/>
        </p:nvSpPr>
        <p:spPr>
          <a:xfrm>
            <a:off x="4968000" y="2458440"/>
            <a:ext cx="291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  <a:ea typeface="微软雅黑"/>
              </a:rPr>
              <a:t>Lorem Ipsum Dolor 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5"/>
          <p:cNvSpPr/>
          <p:nvPr/>
        </p:nvSpPr>
        <p:spPr>
          <a:xfrm>
            <a:off x="4968000" y="2780640"/>
            <a:ext cx="2916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46"/>
          <p:cNvSpPr/>
          <p:nvPr/>
        </p:nvSpPr>
        <p:spPr>
          <a:xfrm>
            <a:off x="1115640" y="1563120"/>
            <a:ext cx="291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95bc49"/>
                </a:solidFill>
                <a:latin typeface="Arial"/>
                <a:ea typeface="微软雅黑"/>
              </a:rPr>
              <a:t>Lorem Ipsum Dolor 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47"/>
          <p:cNvSpPr/>
          <p:nvPr/>
        </p:nvSpPr>
        <p:spPr>
          <a:xfrm>
            <a:off x="1115640" y="1885680"/>
            <a:ext cx="2916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48"/>
          <p:cNvSpPr/>
          <p:nvPr/>
        </p:nvSpPr>
        <p:spPr>
          <a:xfrm>
            <a:off x="1115640" y="3466080"/>
            <a:ext cx="291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95bc49"/>
                </a:solidFill>
                <a:latin typeface="Arial"/>
                <a:ea typeface="微软雅黑"/>
              </a:rPr>
              <a:t>Lorem Ipsum Dolor 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49"/>
          <p:cNvSpPr/>
          <p:nvPr/>
        </p:nvSpPr>
        <p:spPr>
          <a:xfrm>
            <a:off x="1115640" y="3788280"/>
            <a:ext cx="2916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6"/>
          <p:cNvSpPr/>
          <p:nvPr/>
        </p:nvSpPr>
        <p:spPr>
          <a:xfrm>
            <a:off x="476640" y="96480"/>
            <a:ext cx="387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Impact"/>
                <a:ea typeface="微软雅黑"/>
              </a:rPr>
              <a:t>INPUT YOUR GOOD IDEA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1"/>
          <p:cNvSpPr/>
          <p:nvPr/>
        </p:nvSpPr>
        <p:spPr>
          <a:xfrm>
            <a:off x="476640" y="430560"/>
            <a:ext cx="387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Always believe that something wonderful is about to happ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直接连接符 7"/>
          <p:cNvCxnSpPr/>
          <p:nvPr/>
        </p:nvCxnSpPr>
        <p:spPr>
          <a:xfrm>
            <a:off x="521280" y="681480"/>
            <a:ext cx="3510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441" name="弧形 12"/>
          <p:cNvSpPr/>
          <p:nvPr/>
        </p:nvSpPr>
        <p:spPr>
          <a:xfrm>
            <a:off x="3268080" y="1245600"/>
            <a:ext cx="2484000" cy="2484000"/>
          </a:xfrm>
          <a:prstGeom prst="arc">
            <a:avLst>
              <a:gd name="adj1" fmla="val 10802728"/>
              <a:gd name="adj2" fmla="val 16203320"/>
            </a:avLst>
          </a:prstGeom>
          <a:noFill/>
          <a:ln cap="rnd" w="57150">
            <a:solidFill>
              <a:srgbClr val="95bc4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bf3420"/>
              </a:solidFill>
              <a:latin typeface="Arial"/>
              <a:ea typeface="微软雅黑"/>
            </a:endParaRPr>
          </a:p>
        </p:txBody>
      </p:sp>
      <p:cxnSp>
        <p:nvCxnSpPr>
          <p:cNvPr id="442" name="直接连接符 13"/>
          <p:cNvCxnSpPr/>
          <p:nvPr/>
        </p:nvCxnSpPr>
        <p:spPr>
          <a:xfrm>
            <a:off x="4006080" y="2251080"/>
            <a:ext cx="1008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443" name="直接连接符 14"/>
          <p:cNvCxnSpPr/>
          <p:nvPr/>
        </p:nvCxnSpPr>
        <p:spPr>
          <a:xfrm>
            <a:off x="4006080" y="2719080"/>
            <a:ext cx="1008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444" name="矩形 15"/>
          <p:cNvSpPr/>
          <p:nvPr/>
        </p:nvSpPr>
        <p:spPr>
          <a:xfrm>
            <a:off x="1028520" y="1167480"/>
            <a:ext cx="2239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95bc49"/>
                </a:solidFill>
                <a:latin typeface="Arial"/>
                <a:ea typeface="微软雅黑"/>
              </a:rPr>
              <a:t>Lorem Ipsum Dolor 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6"/>
          <p:cNvSpPr/>
          <p:nvPr/>
        </p:nvSpPr>
        <p:spPr>
          <a:xfrm>
            <a:off x="1028520" y="1490040"/>
            <a:ext cx="1892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组合 17"/>
          <p:cNvGrpSpPr/>
          <p:nvPr/>
        </p:nvGrpSpPr>
        <p:grpSpPr>
          <a:xfrm>
            <a:off x="963720" y="1475280"/>
            <a:ext cx="2880360" cy="2019600"/>
            <a:chOff x="963720" y="1475280"/>
            <a:chExt cx="2880360" cy="2019600"/>
          </a:xfrm>
        </p:grpSpPr>
        <p:grpSp>
          <p:nvGrpSpPr>
            <p:cNvPr id="447" name="组合 18"/>
            <p:cNvGrpSpPr/>
            <p:nvPr/>
          </p:nvGrpSpPr>
          <p:grpSpPr>
            <a:xfrm>
              <a:off x="963720" y="1475280"/>
              <a:ext cx="2880360" cy="775800"/>
              <a:chOff x="963720" y="1475280"/>
              <a:chExt cx="2880360" cy="775800"/>
            </a:xfrm>
          </p:grpSpPr>
          <p:cxnSp>
            <p:nvCxnSpPr>
              <p:cNvPr id="448" name="直接连接符 25"/>
              <p:cNvCxnSpPr/>
              <p:nvPr/>
            </p:nvCxnSpPr>
            <p:spPr>
              <a:xfrm>
                <a:off x="963720" y="1475280"/>
                <a:ext cx="1958040" cy="360"/>
              </a:xfrm>
              <a:prstGeom prst="straightConnector1">
                <a:avLst/>
              </a:prstGeom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  <a:headEnd len="med" type="oval" w="med"/>
              </a:ln>
            </p:spPr>
          </p:cxnSp>
          <p:cxnSp>
            <p:nvCxnSpPr>
              <p:cNvPr id="449" name="直接连接符 26"/>
              <p:cNvCxnSpPr/>
              <p:nvPr/>
            </p:nvCxnSpPr>
            <p:spPr>
              <a:xfrm>
                <a:off x="2921400" y="1475280"/>
                <a:ext cx="923040" cy="776160"/>
              </a:xfrm>
              <a:prstGeom prst="straightConnector1">
                <a:avLst/>
              </a:prstGeom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</p:cxnSp>
        </p:grpSp>
        <p:grpSp>
          <p:nvGrpSpPr>
            <p:cNvPr id="450" name="组合 22"/>
            <p:cNvGrpSpPr/>
            <p:nvPr/>
          </p:nvGrpSpPr>
          <p:grpSpPr>
            <a:xfrm>
              <a:off x="963720" y="2719080"/>
              <a:ext cx="2880360" cy="775800"/>
              <a:chOff x="963720" y="2719080"/>
              <a:chExt cx="2880360" cy="775800"/>
            </a:xfrm>
          </p:grpSpPr>
          <p:cxnSp>
            <p:nvCxnSpPr>
              <p:cNvPr id="451" name="直接连接符 23"/>
              <p:cNvCxnSpPr/>
              <p:nvPr/>
            </p:nvCxnSpPr>
            <p:spPr>
              <a:xfrm>
                <a:off x="963720" y="3494880"/>
                <a:ext cx="1958040" cy="360"/>
              </a:xfrm>
              <a:prstGeom prst="straightConnector1">
                <a:avLst/>
              </a:prstGeom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  <a:headEnd len="med" type="oval" w="med"/>
              </a:ln>
            </p:spPr>
          </p:cxnSp>
          <p:cxnSp>
            <p:nvCxnSpPr>
              <p:cNvPr id="452" name="直接连接符 24"/>
              <p:cNvCxnSpPr/>
              <p:nvPr/>
            </p:nvCxnSpPr>
            <p:spPr>
              <a:xfrm flipV="1">
                <a:off x="2921400" y="2719080"/>
                <a:ext cx="923040" cy="776160"/>
              </a:xfrm>
              <a:prstGeom prst="straightConnector1">
                <a:avLst/>
              </a:prstGeom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</p:cxnSp>
        </p:grpSp>
      </p:grpSp>
      <p:sp>
        <p:nvSpPr>
          <p:cNvPr id="453" name="矩形 27"/>
          <p:cNvSpPr/>
          <p:nvPr/>
        </p:nvSpPr>
        <p:spPr>
          <a:xfrm>
            <a:off x="1036080" y="3511440"/>
            <a:ext cx="2239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  <a:ea typeface="微软雅黑"/>
              </a:rPr>
              <a:t>Lorem Ipsum Dolor 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8"/>
          <p:cNvSpPr/>
          <p:nvPr/>
        </p:nvSpPr>
        <p:spPr>
          <a:xfrm>
            <a:off x="1036080" y="2683080"/>
            <a:ext cx="1892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组合 29"/>
          <p:cNvGrpSpPr/>
          <p:nvPr/>
        </p:nvGrpSpPr>
        <p:grpSpPr>
          <a:xfrm>
            <a:off x="5140080" y="1475280"/>
            <a:ext cx="2880360" cy="2019600"/>
            <a:chOff x="5140080" y="1475280"/>
            <a:chExt cx="2880360" cy="2019600"/>
          </a:xfrm>
        </p:grpSpPr>
        <p:grpSp>
          <p:nvGrpSpPr>
            <p:cNvPr id="456" name="组合 30"/>
            <p:cNvGrpSpPr/>
            <p:nvPr/>
          </p:nvGrpSpPr>
          <p:grpSpPr>
            <a:xfrm>
              <a:off x="5140080" y="1475280"/>
              <a:ext cx="2880360" cy="775800"/>
              <a:chOff x="5140080" y="1475280"/>
              <a:chExt cx="2880360" cy="775800"/>
            </a:xfrm>
          </p:grpSpPr>
          <p:cxnSp>
            <p:nvCxnSpPr>
              <p:cNvPr id="457" name="直接连接符 34"/>
              <p:cNvCxnSpPr/>
              <p:nvPr/>
            </p:nvCxnSpPr>
            <p:spPr>
              <a:xfrm flipH="1">
                <a:off x="6062760" y="1475280"/>
                <a:ext cx="1958040" cy="360"/>
              </a:xfrm>
              <a:prstGeom prst="straightConnector1">
                <a:avLst/>
              </a:prstGeom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  <a:headEnd len="med" type="oval" w="med"/>
              </a:ln>
            </p:spPr>
          </p:cxnSp>
          <p:cxnSp>
            <p:nvCxnSpPr>
              <p:cNvPr id="458" name="直接连接符 35"/>
              <p:cNvCxnSpPr/>
              <p:nvPr/>
            </p:nvCxnSpPr>
            <p:spPr>
              <a:xfrm flipH="1">
                <a:off x="5140080" y="1475280"/>
                <a:ext cx="923040" cy="776160"/>
              </a:xfrm>
              <a:prstGeom prst="straightConnector1">
                <a:avLst/>
              </a:prstGeom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</p:cxnSp>
        </p:grpSp>
        <p:grpSp>
          <p:nvGrpSpPr>
            <p:cNvPr id="459" name="组合 31"/>
            <p:cNvGrpSpPr/>
            <p:nvPr/>
          </p:nvGrpSpPr>
          <p:grpSpPr>
            <a:xfrm>
              <a:off x="5140080" y="2719080"/>
              <a:ext cx="2880360" cy="775800"/>
              <a:chOff x="5140080" y="2719080"/>
              <a:chExt cx="2880360" cy="775800"/>
            </a:xfrm>
          </p:grpSpPr>
          <p:cxnSp>
            <p:nvCxnSpPr>
              <p:cNvPr id="460" name="直接连接符 32"/>
              <p:cNvCxnSpPr/>
              <p:nvPr/>
            </p:nvCxnSpPr>
            <p:spPr>
              <a:xfrm flipH="1">
                <a:off x="6062760" y="3494880"/>
                <a:ext cx="1958040" cy="360"/>
              </a:xfrm>
              <a:prstGeom prst="straightConnector1">
                <a:avLst/>
              </a:prstGeom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  <a:headEnd len="med" type="oval" w="med"/>
              </a:ln>
            </p:spPr>
          </p:cxnSp>
          <p:cxnSp>
            <p:nvCxnSpPr>
              <p:cNvPr id="461" name="直接连接符 33"/>
              <p:cNvCxnSpPr/>
              <p:nvPr/>
            </p:nvCxnSpPr>
            <p:spPr>
              <a:xfrm flipH="1" flipV="1">
                <a:off x="5140080" y="2719080"/>
                <a:ext cx="923040" cy="776160"/>
              </a:xfrm>
              <a:prstGeom prst="straightConnector1">
                <a:avLst/>
              </a:prstGeom>
              <a:ln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</p:cxnSp>
        </p:grpSp>
      </p:grpSp>
      <p:sp>
        <p:nvSpPr>
          <p:cNvPr id="462" name="矩形 36"/>
          <p:cNvSpPr/>
          <p:nvPr/>
        </p:nvSpPr>
        <p:spPr>
          <a:xfrm>
            <a:off x="5788440" y="1171080"/>
            <a:ext cx="2239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  <a:ea typeface="微软雅黑"/>
              </a:rPr>
              <a:t>Lorem Ipsum Dolor 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37"/>
          <p:cNvSpPr/>
          <p:nvPr/>
        </p:nvSpPr>
        <p:spPr>
          <a:xfrm>
            <a:off x="6135120" y="1493280"/>
            <a:ext cx="1892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38"/>
          <p:cNvSpPr/>
          <p:nvPr/>
        </p:nvSpPr>
        <p:spPr>
          <a:xfrm>
            <a:off x="5788440" y="3514680"/>
            <a:ext cx="22395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95bc49"/>
                </a:solidFill>
                <a:latin typeface="Arial"/>
                <a:ea typeface="微软雅黑"/>
              </a:rPr>
              <a:t>Lorem Ipsum Dolor 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39"/>
          <p:cNvSpPr/>
          <p:nvPr/>
        </p:nvSpPr>
        <p:spPr>
          <a:xfrm>
            <a:off x="6135120" y="2686680"/>
            <a:ext cx="1892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40"/>
          <p:cNvSpPr/>
          <p:nvPr/>
        </p:nvSpPr>
        <p:spPr>
          <a:xfrm>
            <a:off x="3962520" y="2259360"/>
            <a:ext cx="1095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95bc49"/>
                </a:solidFill>
                <a:latin typeface="Arial"/>
                <a:ea typeface="微软雅黑"/>
              </a:rPr>
              <a:t>S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微软雅黑"/>
              </a:rPr>
              <a:t>W</a:t>
            </a:r>
            <a:r>
              <a:rPr b="0" lang="en-US" sz="2400" spc="-1" strike="noStrike">
                <a:solidFill>
                  <a:srgbClr val="95bc49"/>
                </a:solidFill>
                <a:latin typeface="Arial"/>
                <a:ea typeface="微软雅黑"/>
              </a:rPr>
              <a:t>T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  <a:ea typeface="微软雅黑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弧形 41"/>
          <p:cNvSpPr/>
          <p:nvPr/>
        </p:nvSpPr>
        <p:spPr>
          <a:xfrm rot="16200000">
            <a:off x="3268080" y="1245960"/>
            <a:ext cx="2484000" cy="2484000"/>
          </a:xfrm>
          <a:prstGeom prst="arc">
            <a:avLst>
              <a:gd name="adj1" fmla="val 10802728"/>
              <a:gd name="adj2" fmla="val 16203320"/>
            </a:avLst>
          </a:prstGeom>
          <a:noFill/>
          <a:ln cap="rnd" w="57150">
            <a:solidFill>
              <a:srgbClr val="00b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bf3420"/>
              </a:solidFill>
              <a:latin typeface="Arial"/>
              <a:ea typeface="微软雅黑"/>
            </a:endParaRPr>
          </a:p>
        </p:txBody>
      </p:sp>
      <p:sp>
        <p:nvSpPr>
          <p:cNvPr id="468" name="弧形 42"/>
          <p:cNvSpPr/>
          <p:nvPr/>
        </p:nvSpPr>
        <p:spPr>
          <a:xfrm rot="10800000">
            <a:off x="3268440" y="1245960"/>
            <a:ext cx="2484000" cy="2484000"/>
          </a:xfrm>
          <a:prstGeom prst="arc">
            <a:avLst>
              <a:gd name="adj1" fmla="val 10802728"/>
              <a:gd name="adj2" fmla="val 16203320"/>
            </a:avLst>
          </a:prstGeom>
          <a:noFill/>
          <a:ln cap="rnd" w="57150">
            <a:solidFill>
              <a:srgbClr val="95bc4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bf3420"/>
              </a:solidFill>
              <a:latin typeface="Arial"/>
              <a:ea typeface="微软雅黑"/>
            </a:endParaRPr>
          </a:p>
        </p:txBody>
      </p:sp>
      <p:sp>
        <p:nvSpPr>
          <p:cNvPr id="469" name="弧形 43"/>
          <p:cNvSpPr/>
          <p:nvPr/>
        </p:nvSpPr>
        <p:spPr>
          <a:xfrm rot="5400000">
            <a:off x="3268440" y="1245240"/>
            <a:ext cx="2484000" cy="2484000"/>
          </a:xfrm>
          <a:prstGeom prst="arc">
            <a:avLst>
              <a:gd name="adj1" fmla="val 10802728"/>
              <a:gd name="adj2" fmla="val 16203320"/>
            </a:avLst>
          </a:prstGeom>
          <a:noFill/>
          <a:ln cap="rnd" w="57150">
            <a:solidFill>
              <a:srgbClr val="00b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bf3420"/>
              </a:solidFill>
              <a:latin typeface="Arial"/>
              <a:ea typeface="微软雅黑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Box 6"/>
          <p:cNvSpPr/>
          <p:nvPr/>
        </p:nvSpPr>
        <p:spPr>
          <a:xfrm>
            <a:off x="476640" y="96480"/>
            <a:ext cx="387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Impact"/>
                <a:ea typeface="微软雅黑"/>
              </a:rPr>
              <a:t>INPUT YOUR GOOD IDEA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1"/>
          <p:cNvSpPr/>
          <p:nvPr/>
        </p:nvSpPr>
        <p:spPr>
          <a:xfrm>
            <a:off x="476640" y="430560"/>
            <a:ext cx="387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Always believe that something wonderful is about to happ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2" name="直接连接符 7"/>
          <p:cNvCxnSpPr/>
          <p:nvPr/>
        </p:nvCxnSpPr>
        <p:spPr>
          <a:xfrm>
            <a:off x="521280" y="681480"/>
            <a:ext cx="3510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473" name="任意多边形 44"/>
          <p:cNvSpPr/>
          <p:nvPr/>
        </p:nvSpPr>
        <p:spPr>
          <a:xfrm>
            <a:off x="3153600" y="1153440"/>
            <a:ext cx="2860920" cy="2860920"/>
          </a:xfrm>
          <a:custGeom>
            <a:avLst/>
            <a:gdLst>
              <a:gd name="textAreaLeft" fmla="*/ 0 w 2860920"/>
              <a:gd name="textAreaRight" fmla="*/ 2861280 w 2860920"/>
              <a:gd name="textAreaTop" fmla="*/ 0 h 2860920"/>
              <a:gd name="textAreaBottom" fmla="*/ 2861280 h 2860920"/>
            </a:gdLst>
            <a:ahLst/>
            <a:rect l="textAreaLeft" t="textAreaTop" r="textAreaRight" b="textAreaBottom"/>
            <a:pathLst>
              <a:path w="2946857" h="2946857">
                <a:moveTo>
                  <a:pt x="1473428" y="0"/>
                </a:moveTo>
                <a:cubicBezTo>
                  <a:pt x="2287180" y="0"/>
                  <a:pt x="2946857" y="659677"/>
                  <a:pt x="2946857" y="1473429"/>
                </a:cubicBezTo>
                <a:lnTo>
                  <a:pt x="1473429" y="1473429"/>
                </a:lnTo>
                <a:cubicBezTo>
                  <a:pt x="1473429" y="982286"/>
                  <a:pt x="1473428" y="491143"/>
                  <a:pt x="1473428" y="0"/>
                </a:cubicBezTo>
                <a:close/>
              </a:path>
            </a:pathLst>
          </a:custGeom>
          <a:solidFill>
            <a:srgbClr val="95bc49"/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607400" rIns="338040" tIns="654120" bIns="1572480" anchor="ctr">
            <a:noAutofit/>
          </a:bodyPr>
          <a:p>
            <a:pPr algn="ctr">
              <a:lnSpc>
                <a:spcPct val="90000"/>
              </a:lnSpc>
              <a:spcAft>
                <a:spcPts val="1191"/>
              </a:spcAft>
            </a:pPr>
            <a:endParaRPr b="0" lang="en-US" sz="3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74" name="任意多边形 45"/>
          <p:cNvSpPr/>
          <p:nvPr/>
        </p:nvSpPr>
        <p:spPr>
          <a:xfrm>
            <a:off x="3153600" y="1153440"/>
            <a:ext cx="2860920" cy="2860920"/>
          </a:xfrm>
          <a:custGeom>
            <a:avLst/>
            <a:gdLst>
              <a:gd name="textAreaLeft" fmla="*/ 0 w 2860920"/>
              <a:gd name="textAreaRight" fmla="*/ 2861280 w 2860920"/>
              <a:gd name="textAreaTop" fmla="*/ 0 h 2860920"/>
              <a:gd name="textAreaBottom" fmla="*/ 2861280 h 2860920"/>
            </a:gdLst>
            <a:ahLst/>
            <a:rect l="textAreaLeft" t="textAreaTop" r="textAreaRight" b="textAreaBottom"/>
            <a:pathLst>
              <a:path w="2946857" h="2946857">
                <a:moveTo>
                  <a:pt x="2946857" y="1473429"/>
                </a:moveTo>
                <a:cubicBezTo>
                  <a:pt x="2946857" y="2287181"/>
                  <a:pt x="2287180" y="2946858"/>
                  <a:pt x="1473428" y="2946858"/>
                </a:cubicBezTo>
                <a:cubicBezTo>
                  <a:pt x="1473428" y="2455715"/>
                  <a:pt x="1473429" y="1964572"/>
                  <a:pt x="1473429" y="1473429"/>
                </a:cubicBezTo>
                <a:lnTo>
                  <a:pt x="2946857" y="1473429"/>
                </a:lnTo>
                <a:close/>
              </a:path>
            </a:pathLst>
          </a:custGeom>
          <a:solidFill>
            <a:srgbClr val="00b050"/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607400" rIns="338040" tIns="1572480" bIns="654120" anchor="ctr">
            <a:noAutofit/>
          </a:bodyPr>
          <a:p>
            <a:pPr algn="ctr">
              <a:lnSpc>
                <a:spcPct val="90000"/>
              </a:lnSpc>
              <a:spcAft>
                <a:spcPts val="1191"/>
              </a:spcAft>
            </a:pPr>
            <a:endParaRPr b="0" lang="en-US" sz="3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75" name="任意多边形 46"/>
          <p:cNvSpPr/>
          <p:nvPr/>
        </p:nvSpPr>
        <p:spPr>
          <a:xfrm>
            <a:off x="3153600" y="1153440"/>
            <a:ext cx="2860920" cy="2860920"/>
          </a:xfrm>
          <a:custGeom>
            <a:avLst/>
            <a:gdLst>
              <a:gd name="textAreaLeft" fmla="*/ 0 w 2860920"/>
              <a:gd name="textAreaRight" fmla="*/ 2861280 w 2860920"/>
              <a:gd name="textAreaTop" fmla="*/ 0 h 2860920"/>
              <a:gd name="textAreaBottom" fmla="*/ 2861280 h 2860920"/>
            </a:gdLst>
            <a:ahLst/>
            <a:rect l="textAreaLeft" t="textAreaTop" r="textAreaRight" b="textAreaBottom"/>
            <a:pathLst>
              <a:path w="2946857" h="2946857">
                <a:moveTo>
                  <a:pt x="1473429" y="2946857"/>
                </a:moveTo>
                <a:cubicBezTo>
                  <a:pt x="659677" y="2946857"/>
                  <a:pt x="0" y="2287180"/>
                  <a:pt x="0" y="1473428"/>
                </a:cubicBezTo>
                <a:lnTo>
                  <a:pt x="1473429" y="1473429"/>
                </a:lnTo>
                <a:lnTo>
                  <a:pt x="1473429" y="2946857"/>
                </a:lnTo>
                <a:close/>
              </a:path>
            </a:pathLst>
          </a:custGeom>
          <a:solidFill>
            <a:srgbClr val="95bc49"/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338040" rIns="1607400" tIns="1572480" bIns="654120" anchor="ctr">
            <a:noAutofit/>
          </a:bodyPr>
          <a:p>
            <a:pPr algn="ctr">
              <a:lnSpc>
                <a:spcPct val="90000"/>
              </a:lnSpc>
              <a:spcAft>
                <a:spcPts val="1191"/>
              </a:spcAft>
            </a:pPr>
            <a:endParaRPr b="0" lang="en-US" sz="3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76" name="任意多边形 47"/>
          <p:cNvSpPr/>
          <p:nvPr/>
        </p:nvSpPr>
        <p:spPr>
          <a:xfrm>
            <a:off x="3153600" y="1153440"/>
            <a:ext cx="2860920" cy="2860920"/>
          </a:xfrm>
          <a:custGeom>
            <a:avLst/>
            <a:gdLst>
              <a:gd name="textAreaLeft" fmla="*/ 0 w 2860920"/>
              <a:gd name="textAreaRight" fmla="*/ 2861280 w 2860920"/>
              <a:gd name="textAreaTop" fmla="*/ 0 h 2860920"/>
              <a:gd name="textAreaBottom" fmla="*/ 2861280 h 2860920"/>
            </a:gdLst>
            <a:ahLst/>
            <a:rect l="textAreaLeft" t="textAreaTop" r="textAreaRight" b="textAreaBottom"/>
            <a:pathLst>
              <a:path w="2946857" h="2946857">
                <a:moveTo>
                  <a:pt x="0" y="1473429"/>
                </a:moveTo>
                <a:cubicBezTo>
                  <a:pt x="0" y="659677"/>
                  <a:pt x="659677" y="0"/>
                  <a:pt x="1473429" y="0"/>
                </a:cubicBezTo>
                <a:lnTo>
                  <a:pt x="1473429" y="1473429"/>
                </a:lnTo>
                <a:lnTo>
                  <a:pt x="0" y="1473429"/>
                </a:lnTo>
                <a:close/>
              </a:path>
            </a:pathLst>
          </a:custGeom>
          <a:solidFill>
            <a:srgbClr val="00b050"/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359640" rIns="1629000" tIns="675720" bIns="1594080" anchor="ctr">
            <a:noAutofit/>
          </a:bodyPr>
          <a:p>
            <a:pPr algn="ctr">
              <a:lnSpc>
                <a:spcPct val="90000"/>
              </a:lnSpc>
              <a:spcAft>
                <a:spcPts val="1786"/>
              </a:spcAft>
            </a:pPr>
            <a:endParaRPr b="0" lang="en-US" sz="51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77" name="环形箭头 48"/>
          <p:cNvSpPr/>
          <p:nvPr/>
        </p:nvSpPr>
        <p:spPr>
          <a:xfrm>
            <a:off x="2976480" y="976320"/>
            <a:ext cx="3215160" cy="3215160"/>
          </a:xfrm>
          <a:prstGeom prst="circularArrow">
            <a:avLst>
              <a:gd name="adj1" fmla="val 5085"/>
              <a:gd name="adj2" fmla="val 327528"/>
              <a:gd name="adj3" fmla="val 21272472"/>
              <a:gd name="adj4" fmla="val 16200000"/>
              <a:gd name="adj5" fmla="val 5932"/>
            </a:avLst>
          </a:prstGeom>
          <a:solidFill>
            <a:schemeClr val="accent3">
              <a:lumMod val="40000"/>
              <a:lumOff val="60000"/>
            </a:schemeClr>
          </a:solidFill>
          <a:ln w="0">
            <a:noFill/>
          </a:ln>
        </p:spPr>
        <p:style>
          <a:lnRef idx="0">
            <a:schemeClr val="accent1">
              <a:tint val="6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tint val="6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tint val="6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环形箭头 49"/>
          <p:cNvSpPr/>
          <p:nvPr/>
        </p:nvSpPr>
        <p:spPr>
          <a:xfrm>
            <a:off x="2976480" y="976320"/>
            <a:ext cx="3215160" cy="3215160"/>
          </a:xfrm>
          <a:prstGeom prst="circularArrow">
            <a:avLst>
              <a:gd name="adj1" fmla="val 5085"/>
              <a:gd name="adj2" fmla="val 327528"/>
              <a:gd name="adj3" fmla="val 5072472"/>
              <a:gd name="adj4" fmla="val 0"/>
              <a:gd name="adj5" fmla="val 5932"/>
            </a:avLst>
          </a:prstGeom>
          <a:solidFill>
            <a:schemeClr val="accent3">
              <a:lumMod val="60000"/>
              <a:lumOff val="40000"/>
            </a:schemeClr>
          </a:solidFill>
          <a:ln w="0">
            <a:noFill/>
          </a:ln>
        </p:spPr>
        <p:style>
          <a:lnRef idx="0">
            <a:schemeClr val="accent1">
              <a:tint val="6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tint val="6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tint val="6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环形箭头 50"/>
          <p:cNvSpPr/>
          <p:nvPr/>
        </p:nvSpPr>
        <p:spPr>
          <a:xfrm>
            <a:off x="2976480" y="976320"/>
            <a:ext cx="3215160" cy="3215160"/>
          </a:xfrm>
          <a:prstGeom prst="circularArrow">
            <a:avLst>
              <a:gd name="adj1" fmla="val 5085"/>
              <a:gd name="adj2" fmla="val 327528"/>
              <a:gd name="adj3" fmla="val 10472472"/>
              <a:gd name="adj4" fmla="val 5400000"/>
              <a:gd name="adj5" fmla="val 5932"/>
            </a:avLst>
          </a:prstGeom>
          <a:solidFill>
            <a:schemeClr val="accent3">
              <a:lumMod val="40000"/>
              <a:lumOff val="60000"/>
            </a:schemeClr>
          </a:solidFill>
          <a:ln w="0">
            <a:noFill/>
          </a:ln>
        </p:spPr>
        <p:style>
          <a:lnRef idx="0">
            <a:schemeClr val="accent1">
              <a:tint val="6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tint val="6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tint val="6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环形箭头 51"/>
          <p:cNvSpPr/>
          <p:nvPr/>
        </p:nvSpPr>
        <p:spPr>
          <a:xfrm>
            <a:off x="2976480" y="976320"/>
            <a:ext cx="3215160" cy="3215160"/>
          </a:xfrm>
          <a:prstGeom prst="circularArrow">
            <a:avLst>
              <a:gd name="adj1" fmla="val 5085"/>
              <a:gd name="adj2" fmla="val 327528"/>
              <a:gd name="adj3" fmla="val 15872472"/>
              <a:gd name="adj4" fmla="val 10800000"/>
              <a:gd name="adj5" fmla="val 5932"/>
            </a:avLst>
          </a:prstGeom>
          <a:solidFill>
            <a:schemeClr val="accent3">
              <a:lumMod val="60000"/>
              <a:lumOff val="40000"/>
            </a:schemeClr>
          </a:solidFill>
          <a:ln w="0">
            <a:noFill/>
          </a:ln>
        </p:spPr>
        <p:style>
          <a:lnRef idx="0">
            <a:schemeClr val="accent1">
              <a:tint val="6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tint val="6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tint val="6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52"/>
          <p:cNvSpPr/>
          <p:nvPr/>
        </p:nvSpPr>
        <p:spPr>
          <a:xfrm>
            <a:off x="3655080" y="1783080"/>
            <a:ext cx="833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L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ps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53"/>
          <p:cNvSpPr/>
          <p:nvPr/>
        </p:nvSpPr>
        <p:spPr>
          <a:xfrm>
            <a:off x="3655080" y="2791080"/>
            <a:ext cx="833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L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ps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54"/>
          <p:cNvSpPr/>
          <p:nvPr/>
        </p:nvSpPr>
        <p:spPr>
          <a:xfrm>
            <a:off x="4680720" y="1783080"/>
            <a:ext cx="833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L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ps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55"/>
          <p:cNvSpPr/>
          <p:nvPr/>
        </p:nvSpPr>
        <p:spPr>
          <a:xfrm>
            <a:off x="4680720" y="2791080"/>
            <a:ext cx="833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L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ps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56"/>
          <p:cNvSpPr/>
          <p:nvPr/>
        </p:nvSpPr>
        <p:spPr>
          <a:xfrm>
            <a:off x="791640" y="1101600"/>
            <a:ext cx="2268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  <a:ea typeface="微软雅黑"/>
              </a:rPr>
              <a:t>|Lorem Ipsum Dolor 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57"/>
          <p:cNvSpPr/>
          <p:nvPr/>
        </p:nvSpPr>
        <p:spPr>
          <a:xfrm>
            <a:off x="791640" y="1423800"/>
            <a:ext cx="226800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58"/>
          <p:cNvSpPr/>
          <p:nvPr/>
        </p:nvSpPr>
        <p:spPr>
          <a:xfrm>
            <a:off x="6084000" y="1101600"/>
            <a:ext cx="2268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95bc49"/>
                </a:solidFill>
                <a:latin typeface="Arial"/>
                <a:ea typeface="微软雅黑"/>
              </a:rPr>
              <a:t>|Lorem Ipsum Dolor 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59"/>
          <p:cNvSpPr/>
          <p:nvPr/>
        </p:nvSpPr>
        <p:spPr>
          <a:xfrm>
            <a:off x="6084000" y="1423800"/>
            <a:ext cx="226800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60"/>
          <p:cNvSpPr/>
          <p:nvPr/>
        </p:nvSpPr>
        <p:spPr>
          <a:xfrm>
            <a:off x="791640" y="2865960"/>
            <a:ext cx="2268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95bc49"/>
                </a:solidFill>
                <a:latin typeface="Arial"/>
                <a:ea typeface="微软雅黑"/>
              </a:rPr>
              <a:t>|Lorem Ipsum Dolor 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1"/>
          <p:cNvSpPr/>
          <p:nvPr/>
        </p:nvSpPr>
        <p:spPr>
          <a:xfrm>
            <a:off x="791640" y="3188160"/>
            <a:ext cx="226800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62"/>
          <p:cNvSpPr/>
          <p:nvPr/>
        </p:nvSpPr>
        <p:spPr>
          <a:xfrm>
            <a:off x="6084000" y="2865960"/>
            <a:ext cx="2268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  <a:ea typeface="微软雅黑"/>
              </a:rPr>
              <a:t>|Lorem Ipsum Dolor 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3"/>
          <p:cNvSpPr/>
          <p:nvPr/>
        </p:nvSpPr>
        <p:spPr>
          <a:xfrm>
            <a:off x="6084000" y="3188160"/>
            <a:ext cx="226800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a9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矩形 5"/>
          <p:cNvSpPr/>
          <p:nvPr/>
        </p:nvSpPr>
        <p:spPr>
          <a:xfrm>
            <a:off x="0" y="2166840"/>
            <a:ext cx="9143640" cy="44964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94" name="TextBox 3"/>
          <p:cNvSpPr/>
          <p:nvPr/>
        </p:nvSpPr>
        <p:spPr>
          <a:xfrm>
            <a:off x="-91080" y="-1433520"/>
            <a:ext cx="3956040" cy="8013960"/>
          </a:xfrm>
          <a:prstGeom prst="rect">
            <a:avLst/>
          </a:prstGeom>
          <a:noFill/>
          <a:ln w="0">
            <a:noFill/>
          </a:ln>
          <a:effectLst>
            <a:outerShdw algn="tl" blurRad="165240" dir="1193434" dist="76184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2000" spc="-1" strike="noStrike">
                <a:solidFill>
                  <a:srgbClr val="ffffff"/>
                </a:solidFill>
                <a:latin typeface="Impact"/>
                <a:ea typeface="微软雅黑"/>
              </a:rPr>
              <a:t>3</a:t>
            </a:r>
            <a:endParaRPr b="0" lang="en-US" sz="5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4"/>
          <p:cNvSpPr/>
          <p:nvPr/>
        </p:nvSpPr>
        <p:spPr>
          <a:xfrm>
            <a:off x="3579120" y="2154960"/>
            <a:ext cx="5177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A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2"/>
          <p:cNvSpPr/>
          <p:nvPr/>
        </p:nvSpPr>
        <p:spPr>
          <a:xfrm>
            <a:off x="5709240" y="1397160"/>
            <a:ext cx="33465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微软雅黑"/>
              </a:rPr>
              <a:t>PART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24"/>
          <p:cNvSpPr/>
          <p:nvPr/>
        </p:nvSpPr>
        <p:spPr>
          <a:xfrm>
            <a:off x="3537000" y="2691720"/>
            <a:ext cx="52203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Er Elit Lamet, Consectetaur Cillium Adipisicing Pecu, Sed Do Eiusmod Tempor Incididunt Ut Labo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6"/>
          <p:cNvSpPr/>
          <p:nvPr/>
        </p:nvSpPr>
        <p:spPr>
          <a:xfrm>
            <a:off x="476640" y="96480"/>
            <a:ext cx="387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Impact"/>
                <a:ea typeface="微软雅黑"/>
              </a:rPr>
              <a:t>INPUT YOUR GOOD IDEA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11"/>
          <p:cNvSpPr/>
          <p:nvPr/>
        </p:nvSpPr>
        <p:spPr>
          <a:xfrm>
            <a:off x="476640" y="430560"/>
            <a:ext cx="387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Always believe that something wonderful is about to happ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0" name="直接连接符 7"/>
          <p:cNvCxnSpPr/>
          <p:nvPr/>
        </p:nvCxnSpPr>
        <p:spPr>
          <a:xfrm>
            <a:off x="521280" y="681480"/>
            <a:ext cx="3510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501" name="矩形 20"/>
          <p:cNvSpPr/>
          <p:nvPr/>
        </p:nvSpPr>
        <p:spPr>
          <a:xfrm>
            <a:off x="395640" y="1023480"/>
            <a:ext cx="2016000" cy="3276000"/>
          </a:xfrm>
          <a:prstGeom prst="rect">
            <a:avLst/>
          </a:prstGeom>
          <a:solidFill>
            <a:srgbClr val="fda90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02" name="直角三角形 21"/>
          <p:cNvSpPr/>
          <p:nvPr/>
        </p:nvSpPr>
        <p:spPr>
          <a:xfrm flipH="1">
            <a:off x="395640" y="1023480"/>
            <a:ext cx="2016000" cy="3276000"/>
          </a:xfrm>
          <a:prstGeom prst="rtTriangle">
            <a:avLst/>
          </a:prstGeom>
          <a:solidFill>
            <a:schemeClr val="bg1">
              <a:alpha val="1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03" name="矩形 31"/>
          <p:cNvSpPr/>
          <p:nvPr/>
        </p:nvSpPr>
        <p:spPr>
          <a:xfrm>
            <a:off x="520200" y="2355840"/>
            <a:ext cx="1766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32"/>
          <p:cNvSpPr/>
          <p:nvPr/>
        </p:nvSpPr>
        <p:spPr>
          <a:xfrm>
            <a:off x="520200" y="2913840"/>
            <a:ext cx="17665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5" name="直接连接符 33"/>
          <p:cNvCxnSpPr/>
          <p:nvPr/>
        </p:nvCxnSpPr>
        <p:spPr>
          <a:xfrm>
            <a:off x="701280" y="2283480"/>
            <a:ext cx="1404720" cy="360"/>
          </a:xfrm>
          <a:prstGeom prst="straightConnector1">
            <a:avLst/>
          </a:prstGeom>
          <a:ln>
            <a:solidFill>
              <a:srgbClr val="ffffff">
                <a:lumMod val="95000"/>
              </a:srgbClr>
            </a:solidFill>
            <a:round/>
          </a:ln>
        </p:spPr>
      </p:cxnSp>
      <p:pic>
        <p:nvPicPr>
          <p:cNvPr id="506" name="Picture 2" descr="C:\Documents and Settings\Administrator\桌面\图标\ico\verified-user.pn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966960" y="1179000"/>
            <a:ext cx="873000" cy="87300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507" name="矩形 35"/>
          <p:cNvSpPr/>
          <p:nvPr/>
        </p:nvSpPr>
        <p:spPr>
          <a:xfrm>
            <a:off x="2519640" y="1023480"/>
            <a:ext cx="2016000" cy="327600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08" name="直角三角形 36"/>
          <p:cNvSpPr/>
          <p:nvPr/>
        </p:nvSpPr>
        <p:spPr>
          <a:xfrm flipH="1">
            <a:off x="2519640" y="1023480"/>
            <a:ext cx="2016000" cy="3276000"/>
          </a:xfrm>
          <a:prstGeom prst="rtTriangle">
            <a:avLst/>
          </a:prstGeom>
          <a:solidFill>
            <a:schemeClr val="bg1">
              <a:alpha val="1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09" name="矩形 37"/>
          <p:cNvSpPr/>
          <p:nvPr/>
        </p:nvSpPr>
        <p:spPr>
          <a:xfrm>
            <a:off x="2644560" y="2355840"/>
            <a:ext cx="1766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38"/>
          <p:cNvSpPr/>
          <p:nvPr/>
        </p:nvSpPr>
        <p:spPr>
          <a:xfrm>
            <a:off x="2644560" y="2913840"/>
            <a:ext cx="17665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直接连接符 39"/>
          <p:cNvCxnSpPr/>
          <p:nvPr/>
        </p:nvCxnSpPr>
        <p:spPr>
          <a:xfrm>
            <a:off x="2825640" y="2283480"/>
            <a:ext cx="1404360" cy="360"/>
          </a:xfrm>
          <a:prstGeom prst="straightConnector1">
            <a:avLst/>
          </a:prstGeom>
          <a:ln>
            <a:solidFill>
              <a:srgbClr val="ffffff">
                <a:lumMod val="95000"/>
              </a:srgbClr>
            </a:solidFill>
            <a:round/>
          </a:ln>
        </p:spPr>
      </p:cxnSp>
      <p:sp>
        <p:nvSpPr>
          <p:cNvPr id="512" name="矩形 40"/>
          <p:cNvSpPr/>
          <p:nvPr/>
        </p:nvSpPr>
        <p:spPr>
          <a:xfrm>
            <a:off x="4644000" y="1023480"/>
            <a:ext cx="2016000" cy="3276000"/>
          </a:xfrm>
          <a:prstGeom prst="rect">
            <a:avLst/>
          </a:prstGeom>
          <a:solidFill>
            <a:srgbClr val="fda90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13" name="直角三角形 41"/>
          <p:cNvSpPr/>
          <p:nvPr/>
        </p:nvSpPr>
        <p:spPr>
          <a:xfrm flipH="1">
            <a:off x="4644000" y="1023480"/>
            <a:ext cx="2016000" cy="3276000"/>
          </a:xfrm>
          <a:prstGeom prst="rtTriangle">
            <a:avLst/>
          </a:prstGeom>
          <a:solidFill>
            <a:schemeClr val="bg1">
              <a:alpha val="1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14" name="矩形 42"/>
          <p:cNvSpPr/>
          <p:nvPr/>
        </p:nvSpPr>
        <p:spPr>
          <a:xfrm>
            <a:off x="4768560" y="2355840"/>
            <a:ext cx="1766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3"/>
          <p:cNvSpPr/>
          <p:nvPr/>
        </p:nvSpPr>
        <p:spPr>
          <a:xfrm>
            <a:off x="4768560" y="2913840"/>
            <a:ext cx="17665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直接连接符 44"/>
          <p:cNvCxnSpPr/>
          <p:nvPr/>
        </p:nvCxnSpPr>
        <p:spPr>
          <a:xfrm>
            <a:off x="4950000" y="2283480"/>
            <a:ext cx="1404360" cy="360"/>
          </a:xfrm>
          <a:prstGeom prst="straightConnector1">
            <a:avLst/>
          </a:prstGeom>
          <a:ln>
            <a:solidFill>
              <a:srgbClr val="ffffff">
                <a:lumMod val="95000"/>
              </a:srgbClr>
            </a:solidFill>
            <a:round/>
          </a:ln>
        </p:spPr>
      </p:cxnSp>
      <p:sp>
        <p:nvSpPr>
          <p:cNvPr id="517" name="矩形 45"/>
          <p:cNvSpPr/>
          <p:nvPr/>
        </p:nvSpPr>
        <p:spPr>
          <a:xfrm>
            <a:off x="6768360" y="1023480"/>
            <a:ext cx="2016000" cy="327600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18" name="直角三角形 46"/>
          <p:cNvSpPr/>
          <p:nvPr/>
        </p:nvSpPr>
        <p:spPr>
          <a:xfrm flipH="1">
            <a:off x="6768360" y="1023480"/>
            <a:ext cx="2016000" cy="3276000"/>
          </a:xfrm>
          <a:prstGeom prst="rtTriangle">
            <a:avLst/>
          </a:prstGeom>
          <a:solidFill>
            <a:schemeClr val="bg1">
              <a:alpha val="1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19" name="矩形 47"/>
          <p:cNvSpPr/>
          <p:nvPr/>
        </p:nvSpPr>
        <p:spPr>
          <a:xfrm>
            <a:off x="6892920" y="2355840"/>
            <a:ext cx="1766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48"/>
          <p:cNvSpPr/>
          <p:nvPr/>
        </p:nvSpPr>
        <p:spPr>
          <a:xfrm>
            <a:off x="6892920" y="2913840"/>
            <a:ext cx="17665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1" name="直接连接符 49"/>
          <p:cNvCxnSpPr/>
          <p:nvPr/>
        </p:nvCxnSpPr>
        <p:spPr>
          <a:xfrm>
            <a:off x="7074000" y="2283480"/>
            <a:ext cx="1404720" cy="360"/>
          </a:xfrm>
          <a:prstGeom prst="straightConnector1">
            <a:avLst/>
          </a:prstGeom>
          <a:ln>
            <a:solidFill>
              <a:srgbClr val="ffffff">
                <a:lumMod val="95000"/>
              </a:srgbClr>
            </a:solidFill>
            <a:round/>
          </a:ln>
        </p:spPr>
      </p:cxnSp>
      <p:pic>
        <p:nvPicPr>
          <p:cNvPr id="522" name="Picture 5" descr="C:\Documents and Settings\Administrator\桌面\图标\ico\trending-up.png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091320" y="1179000"/>
            <a:ext cx="873000" cy="87300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523" name="Picture 3" descr="C:\Documents and Settings\Administrator\桌面\图标\ico\call.png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339680" y="1179000"/>
            <a:ext cx="873000" cy="87300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524" name="Picture 4" descr="C:\Documents and Settings\Administrator\桌面\图标\ico\camera-alt.png"/>
          <p:cNvPicPr/>
          <p:nvPr/>
        </p:nvPicPr>
        <p:blipFill>
          <a:blip r:embed="rId7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brightnessContrast bright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215320" y="1179000"/>
            <a:ext cx="873000" cy="87300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6"/>
          <p:cNvSpPr/>
          <p:nvPr/>
        </p:nvSpPr>
        <p:spPr>
          <a:xfrm>
            <a:off x="476640" y="96480"/>
            <a:ext cx="387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Impact"/>
                <a:ea typeface="微软雅黑"/>
              </a:rPr>
              <a:t>INPUT YOUR GOOD IDEA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1"/>
          <p:cNvSpPr/>
          <p:nvPr/>
        </p:nvSpPr>
        <p:spPr>
          <a:xfrm>
            <a:off x="476640" y="430560"/>
            <a:ext cx="387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Always believe that something wonderful is about to happ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直接连接符 7"/>
          <p:cNvCxnSpPr/>
          <p:nvPr/>
        </p:nvCxnSpPr>
        <p:spPr>
          <a:xfrm>
            <a:off x="521280" y="681480"/>
            <a:ext cx="3510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528" name="椭圆 19"/>
          <p:cNvSpPr/>
          <p:nvPr/>
        </p:nvSpPr>
        <p:spPr>
          <a:xfrm>
            <a:off x="4718160" y="940680"/>
            <a:ext cx="2745000" cy="2745000"/>
          </a:xfrm>
          <a:prstGeom prst="ellipse">
            <a:avLst/>
          </a:prstGeom>
          <a:noFill/>
          <a:ln>
            <a:solidFill>
              <a:srgbClr val="000000">
                <a:lumMod val="75000"/>
                <a:lumOff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29" name="矩形 20"/>
          <p:cNvSpPr/>
          <p:nvPr/>
        </p:nvSpPr>
        <p:spPr>
          <a:xfrm>
            <a:off x="5010840" y="1873800"/>
            <a:ext cx="215928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Lorem Ipsum Dolor Sit Er Elit Lamet, Consectetaur Cillium Adipisicing Pecu, Sed Do Eiusmod Tempor Incididunt Ut Labo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21"/>
          <p:cNvSpPr/>
          <p:nvPr/>
        </p:nvSpPr>
        <p:spPr>
          <a:xfrm>
            <a:off x="5256000" y="1480680"/>
            <a:ext cx="1668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微软雅黑"/>
              </a:rPr>
              <a:t>LOREM IPS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1" name="直接连接符 9"/>
          <p:cNvCxnSpPr>
            <a:stCxn id="528" idx="7"/>
            <a:endCxn id="532" idx="3"/>
          </p:cNvCxnSpPr>
          <p:nvPr/>
        </p:nvCxnSpPr>
        <p:spPr>
          <a:xfrm flipV="1">
            <a:off x="7061040" y="1075680"/>
            <a:ext cx="235440" cy="267120"/>
          </a:xfrm>
          <a:prstGeom prst="straightConnector1">
            <a:avLst/>
          </a:prstGeom>
          <a:ln w="12700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sp>
        <p:nvSpPr>
          <p:cNvPr id="532" name="椭圆 10"/>
          <p:cNvSpPr/>
          <p:nvPr/>
        </p:nvSpPr>
        <p:spPr>
          <a:xfrm>
            <a:off x="7182360" y="411480"/>
            <a:ext cx="777960" cy="77796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533" name="直接连接符 12"/>
          <p:cNvCxnSpPr>
            <a:stCxn id="528" idx="1"/>
            <a:endCxn id="534" idx="5"/>
          </p:cNvCxnSpPr>
          <p:nvPr/>
        </p:nvCxnSpPr>
        <p:spPr>
          <a:xfrm flipH="1" flipV="1">
            <a:off x="4994280" y="1238760"/>
            <a:ext cx="126000" cy="104040"/>
          </a:xfrm>
          <a:prstGeom prst="straightConnector1">
            <a:avLst/>
          </a:prstGeom>
          <a:ln w="12700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sp>
        <p:nvSpPr>
          <p:cNvPr id="534" name="椭圆 13"/>
          <p:cNvSpPr/>
          <p:nvPr/>
        </p:nvSpPr>
        <p:spPr>
          <a:xfrm>
            <a:off x="4572000" y="816480"/>
            <a:ext cx="494640" cy="494640"/>
          </a:xfrm>
          <a:prstGeom prst="ellipse">
            <a:avLst/>
          </a:prstGeom>
          <a:solidFill>
            <a:srgbClr val="fda90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535" name="直接连接符 22"/>
          <p:cNvCxnSpPr>
            <a:stCxn id="528" idx="2"/>
            <a:endCxn id="536" idx="6"/>
          </p:cNvCxnSpPr>
          <p:nvPr/>
        </p:nvCxnSpPr>
        <p:spPr>
          <a:xfrm flipH="1" flipV="1">
            <a:off x="4526640" y="2301480"/>
            <a:ext cx="191520" cy="11880"/>
          </a:xfrm>
          <a:prstGeom prst="straightConnector1">
            <a:avLst/>
          </a:prstGeom>
          <a:ln w="12700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sp>
        <p:nvSpPr>
          <p:cNvPr id="536" name="椭圆 24"/>
          <p:cNvSpPr/>
          <p:nvPr/>
        </p:nvSpPr>
        <p:spPr>
          <a:xfrm>
            <a:off x="3537000" y="1806840"/>
            <a:ext cx="989640" cy="98964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Arial"/>
                <a:ea typeface="微软雅黑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直接连接符 29"/>
          <p:cNvCxnSpPr>
            <a:stCxn id="528" idx="5"/>
            <a:endCxn id="538" idx="1"/>
          </p:cNvCxnSpPr>
          <p:nvPr/>
        </p:nvCxnSpPr>
        <p:spPr>
          <a:xfrm>
            <a:off x="7061040" y="3283560"/>
            <a:ext cx="311400" cy="288360"/>
          </a:xfrm>
          <a:prstGeom prst="straightConnector1">
            <a:avLst/>
          </a:prstGeom>
          <a:ln w="12700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sp>
        <p:nvSpPr>
          <p:cNvPr id="538" name="椭圆 31"/>
          <p:cNvSpPr/>
          <p:nvPr/>
        </p:nvSpPr>
        <p:spPr>
          <a:xfrm>
            <a:off x="7227360" y="3426840"/>
            <a:ext cx="989640" cy="989640"/>
          </a:xfrm>
          <a:prstGeom prst="ellipse">
            <a:avLst/>
          </a:prstGeom>
          <a:solidFill>
            <a:srgbClr val="fda90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lt1"/>
                </a:solidFill>
                <a:latin typeface="Arial"/>
                <a:ea typeface="微软雅黑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直接连接符 34"/>
          <p:cNvCxnSpPr>
            <a:stCxn id="528" idx="3"/>
            <a:endCxn id="540" idx="7"/>
          </p:cNvCxnSpPr>
          <p:nvPr/>
        </p:nvCxnSpPr>
        <p:spPr>
          <a:xfrm flipH="1">
            <a:off x="4709880" y="3283560"/>
            <a:ext cx="410400" cy="410400"/>
          </a:xfrm>
          <a:prstGeom prst="straightConnector1">
            <a:avLst/>
          </a:prstGeom>
          <a:ln w="12700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sp>
        <p:nvSpPr>
          <p:cNvPr id="540" name="椭圆 36"/>
          <p:cNvSpPr/>
          <p:nvPr/>
        </p:nvSpPr>
        <p:spPr>
          <a:xfrm>
            <a:off x="3942000" y="3561840"/>
            <a:ext cx="899640" cy="899640"/>
          </a:xfrm>
          <a:prstGeom prst="ellipse">
            <a:avLst/>
          </a:prstGeom>
          <a:solidFill>
            <a:srgbClr val="fda90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541" name="直接连接符 40"/>
          <p:cNvCxnSpPr>
            <a:stCxn id="528" idx="6"/>
            <a:endCxn id="542" idx="2"/>
          </p:cNvCxnSpPr>
          <p:nvPr/>
        </p:nvCxnSpPr>
        <p:spPr>
          <a:xfrm>
            <a:off x="7463160" y="2313000"/>
            <a:ext cx="597240" cy="360"/>
          </a:xfrm>
          <a:prstGeom prst="straightConnector1">
            <a:avLst/>
          </a:prstGeom>
          <a:ln w="12700">
            <a:solidFill>
              <a:srgbClr val="000000">
                <a:lumMod val="75000"/>
                <a:lumOff val="25000"/>
              </a:srgbClr>
            </a:solidFill>
            <a:round/>
          </a:ln>
        </p:spPr>
      </p:cxnSp>
      <p:sp>
        <p:nvSpPr>
          <p:cNvPr id="542" name="椭圆 42"/>
          <p:cNvSpPr/>
          <p:nvPr/>
        </p:nvSpPr>
        <p:spPr>
          <a:xfrm>
            <a:off x="8060040" y="1964520"/>
            <a:ext cx="696960" cy="696960"/>
          </a:xfrm>
          <a:prstGeom prst="ellipse">
            <a:avLst/>
          </a:prstGeom>
          <a:solidFill>
            <a:srgbClr val="fda90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pic>
        <p:nvPicPr>
          <p:cNvPr id="543" name="Picture 2" descr="C:\Documents and Settings\Administrator\桌面\图标\ico\verified-user.pn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097160" y="3717000"/>
            <a:ext cx="589320" cy="5893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544" name="Picture 4" descr="C:\Documents and Settings\Administrator\桌面\图标\ico\camera-alt.png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8217360" y="2135520"/>
            <a:ext cx="354960" cy="35496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545" name="Picture 3" descr="C:\Documents and Settings\Administrator\桌面\图标\ico\call.png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353360" y="582480"/>
            <a:ext cx="436320" cy="4363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546" name="Picture 5" descr="C:\Documents and Settings\Administrator\桌面\图标\ico\trending-up.png"/>
          <p:cNvPicPr/>
          <p:nvPr/>
        </p:nvPicPr>
        <p:blipFill>
          <a:blip r:embed="rId7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brightnessContrast bright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665600" y="906480"/>
            <a:ext cx="298080" cy="29808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547" name="矩形 45"/>
          <p:cNvSpPr/>
          <p:nvPr/>
        </p:nvSpPr>
        <p:spPr>
          <a:xfrm>
            <a:off x="386640" y="1015560"/>
            <a:ext cx="2880000" cy="307080"/>
          </a:xfrm>
          <a:prstGeom prst="rec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51"/>
          <p:cNvSpPr/>
          <p:nvPr/>
        </p:nvSpPr>
        <p:spPr>
          <a:xfrm>
            <a:off x="386640" y="1373760"/>
            <a:ext cx="274500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Lorem Ipsum Dolor Sit Er Elit Lamet, Consectetaur Cillium Adipisicing Pecu, Sed Do Eiusmod Tempor Incididunt Ut Labo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52"/>
          <p:cNvSpPr/>
          <p:nvPr/>
        </p:nvSpPr>
        <p:spPr>
          <a:xfrm>
            <a:off x="386640" y="2590920"/>
            <a:ext cx="2745000" cy="307080"/>
          </a:xfrm>
          <a:prstGeom prst="rect">
            <a:avLst/>
          </a:prstGeom>
          <a:solidFill>
            <a:srgbClr val="fda90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53"/>
          <p:cNvSpPr/>
          <p:nvPr/>
        </p:nvSpPr>
        <p:spPr>
          <a:xfrm>
            <a:off x="386640" y="2948760"/>
            <a:ext cx="274500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Lorem Ipsum Dolor Sit Er Elit Lamet, Consectetaur Cillium Adipisicing Pecu, Sed Do Eiusmod Tempor Incididunt Ut Labo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6"/>
          <p:cNvSpPr/>
          <p:nvPr/>
        </p:nvSpPr>
        <p:spPr>
          <a:xfrm>
            <a:off x="476640" y="96480"/>
            <a:ext cx="387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Impact"/>
                <a:ea typeface="微软雅黑"/>
              </a:rPr>
              <a:t>INPUT YOUR GOOD IDEA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11"/>
          <p:cNvSpPr/>
          <p:nvPr/>
        </p:nvSpPr>
        <p:spPr>
          <a:xfrm>
            <a:off x="476640" y="430560"/>
            <a:ext cx="387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Always believe that something wonderful is about to happ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直接连接符 7"/>
          <p:cNvCxnSpPr/>
          <p:nvPr/>
        </p:nvCxnSpPr>
        <p:spPr>
          <a:xfrm>
            <a:off x="521280" y="681480"/>
            <a:ext cx="3510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554" name="圆角矩形 27"/>
          <p:cNvSpPr/>
          <p:nvPr/>
        </p:nvSpPr>
        <p:spPr>
          <a:xfrm>
            <a:off x="853200" y="1027080"/>
            <a:ext cx="7409160" cy="959400"/>
          </a:xfrm>
          <a:prstGeom prst="roundRect">
            <a:avLst>
              <a:gd name="adj" fmla="val 9001"/>
            </a:avLst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55" name="矩形 28"/>
          <p:cNvSpPr/>
          <p:nvPr/>
        </p:nvSpPr>
        <p:spPr>
          <a:xfrm>
            <a:off x="1776240" y="1027080"/>
            <a:ext cx="6305760" cy="9594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56" name="TextBox 30"/>
          <p:cNvSpPr/>
          <p:nvPr/>
        </p:nvSpPr>
        <p:spPr>
          <a:xfrm>
            <a:off x="1826640" y="1138680"/>
            <a:ext cx="4104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微软雅黑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32"/>
          <p:cNvSpPr/>
          <p:nvPr/>
        </p:nvSpPr>
        <p:spPr>
          <a:xfrm>
            <a:off x="1826640" y="1434600"/>
            <a:ext cx="60753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en-US" sz="1000" spc="-1" strike="noStrike">
                <a:solidFill>
                  <a:srgbClr val="595959"/>
                </a:solidFill>
                <a:latin typeface="Arial"/>
                <a:ea typeface="微软雅黑"/>
              </a:rPr>
              <a:t>Lorem Ipsum Dolor Sit Er Elit Lamet, Consectetaur Cillium Adipisicing Pecu, Sed Do Eiusmod Tempor Incididunt Ut Labore Et Dolore Magna Aliqua. Ut Enim Ad Minim Veniam, Quis Nostrud Exerci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4" descr="C:\Documents and Settings\Administrator\桌面\图标\ico\verified-user.pn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988200" y="1173240"/>
            <a:ext cx="667080" cy="667080"/>
          </a:xfrm>
          <a:prstGeom prst="rect">
            <a:avLst/>
          </a:prstGeom>
          <a:ln w="0">
            <a:noFill/>
          </a:ln>
        </p:spPr>
      </p:pic>
      <p:sp>
        <p:nvSpPr>
          <p:cNvPr id="559" name="圆角矩形 35"/>
          <p:cNvSpPr/>
          <p:nvPr/>
        </p:nvSpPr>
        <p:spPr>
          <a:xfrm>
            <a:off x="853200" y="2152080"/>
            <a:ext cx="7409160" cy="959400"/>
          </a:xfrm>
          <a:prstGeom prst="roundRect">
            <a:avLst>
              <a:gd name="adj" fmla="val 9001"/>
            </a:avLst>
          </a:prstGeom>
          <a:solidFill>
            <a:srgbClr val="fda90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0" name="矩形 37"/>
          <p:cNvSpPr/>
          <p:nvPr/>
        </p:nvSpPr>
        <p:spPr>
          <a:xfrm>
            <a:off x="1776240" y="2152080"/>
            <a:ext cx="6305760" cy="9594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1" name="TextBox 38"/>
          <p:cNvSpPr/>
          <p:nvPr/>
        </p:nvSpPr>
        <p:spPr>
          <a:xfrm>
            <a:off x="1826640" y="2264040"/>
            <a:ext cx="4104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da907"/>
                </a:solidFill>
                <a:latin typeface="Arial"/>
                <a:ea typeface="微软雅黑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39"/>
          <p:cNvSpPr/>
          <p:nvPr/>
        </p:nvSpPr>
        <p:spPr>
          <a:xfrm>
            <a:off x="1826640" y="2559600"/>
            <a:ext cx="60753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en-US" sz="1000" spc="-1" strike="noStrike">
                <a:solidFill>
                  <a:srgbClr val="595959"/>
                </a:solidFill>
                <a:latin typeface="Arial"/>
                <a:ea typeface="微软雅黑"/>
              </a:rPr>
              <a:t>Lorem Ipsum Dolor Sit Er Elit Lamet, Consectetaur Cillium Adipisicing Pecu, Sed Do Eiusmod Tempor Incididunt Ut Labore Et Dolore Magna Aliqua. Ut Enim Ad Minim Veniam, Quis Nostrud Exerci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圆角矩形 41"/>
          <p:cNvSpPr/>
          <p:nvPr/>
        </p:nvSpPr>
        <p:spPr>
          <a:xfrm>
            <a:off x="853200" y="3277080"/>
            <a:ext cx="7409160" cy="959400"/>
          </a:xfrm>
          <a:prstGeom prst="roundRect">
            <a:avLst>
              <a:gd name="adj" fmla="val 9001"/>
            </a:avLst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4" name="矩形 43"/>
          <p:cNvSpPr/>
          <p:nvPr/>
        </p:nvSpPr>
        <p:spPr>
          <a:xfrm>
            <a:off x="1776240" y="3277080"/>
            <a:ext cx="6305760" cy="9594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65" name="TextBox 44"/>
          <p:cNvSpPr/>
          <p:nvPr/>
        </p:nvSpPr>
        <p:spPr>
          <a:xfrm>
            <a:off x="1826640" y="3389040"/>
            <a:ext cx="4104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微软雅黑"/>
              </a:rPr>
              <a:t>Lorem Ipsum Dolor Sit A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50"/>
          <p:cNvSpPr/>
          <p:nvPr/>
        </p:nvSpPr>
        <p:spPr>
          <a:xfrm>
            <a:off x="1826640" y="3684960"/>
            <a:ext cx="607536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en-US" sz="1000" spc="-1" strike="noStrike">
                <a:solidFill>
                  <a:srgbClr val="595959"/>
                </a:solidFill>
                <a:latin typeface="Arial"/>
                <a:ea typeface="微软雅黑"/>
              </a:rPr>
              <a:t>Lorem Ipsum Dolor Sit Er Elit Lamet, Consectetaur Cillium Adipisicing Pecu, Sed Do Eiusmod Tempor Incididunt Ut Labore Et Dolore Magna Aliqua. Ut Enim Ad Minim Veniam, Quis Nostrud Exerci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3" descr="C:\Documents and Settings\Administrator\桌面\图标\ico\cloud-queue.png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995760" y="2298240"/>
            <a:ext cx="667080" cy="6670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" descr="C:\Documents and Settings\Administrator\桌面\图标\ico\vpn-lock.png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995760" y="3423600"/>
            <a:ext cx="667080" cy="667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6"/>
          <p:cNvSpPr/>
          <p:nvPr/>
        </p:nvSpPr>
        <p:spPr>
          <a:xfrm>
            <a:off x="476640" y="96480"/>
            <a:ext cx="387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Impact"/>
                <a:ea typeface="微软雅黑"/>
              </a:rPr>
              <a:t>INPUT YOUR GOOD IDEA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11"/>
          <p:cNvSpPr/>
          <p:nvPr/>
        </p:nvSpPr>
        <p:spPr>
          <a:xfrm>
            <a:off x="476640" y="430560"/>
            <a:ext cx="387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Always believe that something wonderful is about to happ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直接连接符 7"/>
          <p:cNvCxnSpPr/>
          <p:nvPr/>
        </p:nvCxnSpPr>
        <p:spPr>
          <a:xfrm>
            <a:off x="521280" y="681480"/>
            <a:ext cx="3510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572" name="流程图: 手动输入 19"/>
          <p:cNvSpPr/>
          <p:nvPr/>
        </p:nvSpPr>
        <p:spPr>
          <a:xfrm>
            <a:off x="630000" y="1176480"/>
            <a:ext cx="1958760" cy="1495800"/>
          </a:xfrm>
          <a:prstGeom prst="flowChartManualInput">
            <a:avLst/>
          </a:prstGeom>
          <a:solidFill>
            <a:srgbClr val="fda90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73" name="流程图: 手动输入 20"/>
          <p:cNvSpPr/>
          <p:nvPr/>
        </p:nvSpPr>
        <p:spPr>
          <a:xfrm flipH="1">
            <a:off x="2588400" y="1181160"/>
            <a:ext cx="1946520" cy="1486440"/>
          </a:xfrm>
          <a:prstGeom prst="flowChartManualInpu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74" name="流程图: 手动输入 21"/>
          <p:cNvSpPr/>
          <p:nvPr/>
        </p:nvSpPr>
        <p:spPr>
          <a:xfrm>
            <a:off x="4536360" y="1176480"/>
            <a:ext cx="1958760" cy="1495800"/>
          </a:xfrm>
          <a:prstGeom prst="flowChartManualInput">
            <a:avLst/>
          </a:prstGeom>
          <a:solidFill>
            <a:srgbClr val="fda90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75" name="流程图: 手动输入 22"/>
          <p:cNvSpPr/>
          <p:nvPr/>
        </p:nvSpPr>
        <p:spPr>
          <a:xfrm flipH="1">
            <a:off x="6494760" y="1181160"/>
            <a:ext cx="1946520" cy="1486440"/>
          </a:xfrm>
          <a:prstGeom prst="flowChartManualInput">
            <a:avLst/>
          </a:prstGeom>
          <a:solidFill>
            <a:schemeClr val="accent6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pic>
        <p:nvPicPr>
          <p:cNvPr id="576" name="Picture 2" descr="C:\Documents and Settings\Administrator\桌面\图标\ico\swap-vert-circle.pn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108800" y="1491480"/>
            <a:ext cx="1001520" cy="10015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577" name="Picture 3" descr="C:\Documents and Settings\Administrator\桌面\图标\ico\verified-user.png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137400" y="1567800"/>
            <a:ext cx="848880" cy="84888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578" name="Picture 4" descr="C:\Documents and Settings\Administrator\桌面\图标\ico\vpn-lock.png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027200" y="1550880"/>
            <a:ext cx="882720" cy="8827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579" name="Picture 5" descr="C:\Documents and Settings\Administrator\桌面\图标\ico\cloud-queue.png"/>
          <p:cNvPicPr/>
          <p:nvPr/>
        </p:nvPicPr>
        <p:blipFill>
          <a:blip r:embed="rId7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brightnessContrast bright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073120" y="1549800"/>
            <a:ext cx="885240" cy="8852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580" name="矩形 29"/>
          <p:cNvSpPr/>
          <p:nvPr/>
        </p:nvSpPr>
        <p:spPr>
          <a:xfrm>
            <a:off x="630000" y="2751840"/>
            <a:ext cx="1958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da907"/>
                </a:solidFill>
                <a:latin typeface="微软雅黑"/>
                <a:ea typeface="微软雅黑"/>
              </a:rPr>
              <a:t>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1"/>
          <p:cNvSpPr/>
          <p:nvPr/>
        </p:nvSpPr>
        <p:spPr>
          <a:xfrm>
            <a:off x="630000" y="3064320"/>
            <a:ext cx="19587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微软雅黑"/>
              </a:rPr>
              <a:t>Lorem ipsum dolor sit lamet, consectetaur cillium adipisicing pe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34"/>
          <p:cNvSpPr/>
          <p:nvPr/>
        </p:nvSpPr>
        <p:spPr>
          <a:xfrm>
            <a:off x="2577240" y="2751840"/>
            <a:ext cx="1958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36"/>
          <p:cNvSpPr/>
          <p:nvPr/>
        </p:nvSpPr>
        <p:spPr>
          <a:xfrm>
            <a:off x="2577240" y="3064320"/>
            <a:ext cx="19587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微软雅黑"/>
              </a:rPr>
              <a:t>Lorem ipsum dolor sit lamet, consectetaur cillium adipisicing pe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40"/>
          <p:cNvSpPr/>
          <p:nvPr/>
        </p:nvSpPr>
        <p:spPr>
          <a:xfrm>
            <a:off x="4524120" y="2751840"/>
            <a:ext cx="1958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da907"/>
                </a:solidFill>
                <a:latin typeface="微软雅黑"/>
                <a:ea typeface="微软雅黑"/>
              </a:rPr>
              <a:t>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42"/>
          <p:cNvSpPr/>
          <p:nvPr/>
        </p:nvSpPr>
        <p:spPr>
          <a:xfrm>
            <a:off x="4524120" y="3064320"/>
            <a:ext cx="19587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微软雅黑"/>
              </a:rPr>
              <a:t>Lorem ipsum dolor sit lamet, consectetaur cillium adipisicing pe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45"/>
          <p:cNvSpPr/>
          <p:nvPr/>
        </p:nvSpPr>
        <p:spPr>
          <a:xfrm>
            <a:off x="6471000" y="2751840"/>
            <a:ext cx="1958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46"/>
          <p:cNvSpPr/>
          <p:nvPr/>
        </p:nvSpPr>
        <p:spPr>
          <a:xfrm>
            <a:off x="6471000" y="3064320"/>
            <a:ext cx="19587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微软雅黑"/>
              </a:rPr>
              <a:t>Lorem ipsum dolor sit lamet, consectetaur cillium adipisicing pe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3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矩形 5"/>
          <p:cNvSpPr/>
          <p:nvPr/>
        </p:nvSpPr>
        <p:spPr>
          <a:xfrm>
            <a:off x="0" y="2166840"/>
            <a:ext cx="9143640" cy="44964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89" name="TextBox 3"/>
          <p:cNvSpPr/>
          <p:nvPr/>
        </p:nvSpPr>
        <p:spPr>
          <a:xfrm>
            <a:off x="-193680" y="-1433520"/>
            <a:ext cx="3956040" cy="8013960"/>
          </a:xfrm>
          <a:prstGeom prst="rect">
            <a:avLst/>
          </a:prstGeom>
          <a:noFill/>
          <a:ln w="0">
            <a:noFill/>
          </a:ln>
          <a:effectLst>
            <a:outerShdw algn="tl" blurRad="165240" dir="1193434" dist="76184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2000" spc="-1" strike="noStrike">
                <a:solidFill>
                  <a:srgbClr val="ffffff"/>
                </a:solidFill>
                <a:latin typeface="Impact"/>
                <a:ea typeface="微软雅黑"/>
              </a:rPr>
              <a:t>4</a:t>
            </a:r>
            <a:endParaRPr b="0" lang="en-US" sz="5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4"/>
          <p:cNvSpPr/>
          <p:nvPr/>
        </p:nvSpPr>
        <p:spPr>
          <a:xfrm>
            <a:off x="3579120" y="2154960"/>
            <a:ext cx="5177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A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2"/>
          <p:cNvSpPr/>
          <p:nvPr/>
        </p:nvSpPr>
        <p:spPr>
          <a:xfrm>
            <a:off x="5709240" y="1397160"/>
            <a:ext cx="33465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微软雅黑"/>
              </a:rPr>
              <a:t>PART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24"/>
          <p:cNvSpPr/>
          <p:nvPr/>
        </p:nvSpPr>
        <p:spPr>
          <a:xfrm>
            <a:off x="3537000" y="2691720"/>
            <a:ext cx="52203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Er Elit Lamet, Consectetaur Cillium Adipisicing Pecu, Sed Do Eiusmod Tempor Incididunt Ut Labo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Box 6"/>
          <p:cNvSpPr/>
          <p:nvPr/>
        </p:nvSpPr>
        <p:spPr>
          <a:xfrm>
            <a:off x="476640" y="96480"/>
            <a:ext cx="387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Impact"/>
                <a:ea typeface="微软雅黑"/>
              </a:rPr>
              <a:t>INPUT YOUR GOOD IDEA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11"/>
          <p:cNvSpPr/>
          <p:nvPr/>
        </p:nvSpPr>
        <p:spPr>
          <a:xfrm>
            <a:off x="476640" y="430560"/>
            <a:ext cx="387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Always believe that something wonderful is about to happ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直接连接符 7"/>
          <p:cNvCxnSpPr/>
          <p:nvPr/>
        </p:nvCxnSpPr>
        <p:spPr>
          <a:xfrm>
            <a:off x="521280" y="681480"/>
            <a:ext cx="3510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596" name="五边形 27"/>
          <p:cNvSpPr/>
          <p:nvPr/>
        </p:nvSpPr>
        <p:spPr>
          <a:xfrm>
            <a:off x="611640" y="1131480"/>
            <a:ext cx="7893720" cy="314640"/>
          </a:xfrm>
          <a:prstGeom prst="homePlate">
            <a:avLst>
              <a:gd name="adj" fmla="val 50000"/>
            </a:avLst>
          </a:prstGeom>
          <a:solidFill>
            <a:srgbClr val="bf34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lt1"/>
                </a:solidFill>
                <a:latin typeface="Impact"/>
                <a:ea typeface="微软雅黑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五边形 28"/>
          <p:cNvSpPr/>
          <p:nvPr/>
        </p:nvSpPr>
        <p:spPr>
          <a:xfrm>
            <a:off x="2585160" y="1445760"/>
            <a:ext cx="5920200" cy="314640"/>
          </a:xfrm>
          <a:prstGeom prst="homePlate">
            <a:avLst>
              <a:gd name="adj" fmla="val 5000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lt1"/>
                </a:solidFill>
                <a:latin typeface="Impact"/>
                <a:ea typeface="微软雅黑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五边形 30"/>
          <p:cNvSpPr/>
          <p:nvPr/>
        </p:nvSpPr>
        <p:spPr>
          <a:xfrm>
            <a:off x="4558680" y="1760760"/>
            <a:ext cx="3946680" cy="314640"/>
          </a:xfrm>
          <a:prstGeom prst="homePlate">
            <a:avLst>
              <a:gd name="adj" fmla="val 50000"/>
            </a:avLst>
          </a:prstGeom>
          <a:solidFill>
            <a:srgbClr val="bf34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lt1"/>
                </a:solidFill>
                <a:latin typeface="Impact"/>
                <a:ea typeface="微软雅黑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五边形 32"/>
          <p:cNvSpPr/>
          <p:nvPr/>
        </p:nvSpPr>
        <p:spPr>
          <a:xfrm>
            <a:off x="6532200" y="2075760"/>
            <a:ext cx="1973160" cy="314640"/>
          </a:xfrm>
          <a:prstGeom prst="homePlate">
            <a:avLst>
              <a:gd name="adj" fmla="val 5000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lt1"/>
                </a:solidFill>
                <a:latin typeface="Impact"/>
                <a:ea typeface="微软雅黑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33"/>
          <p:cNvSpPr/>
          <p:nvPr/>
        </p:nvSpPr>
        <p:spPr>
          <a:xfrm>
            <a:off x="566640" y="2027880"/>
            <a:ext cx="189000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Lorem Ipsum Dolor Sit Er Elit Lamet, Consectetaur Cillium Adipisicing Pecu, Sed Do Eiusmod Tempor Incididunt Ut Cillium Adipisicing Pecu, Sed Do Eiusmod Tempo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35"/>
          <p:cNvSpPr/>
          <p:nvPr/>
        </p:nvSpPr>
        <p:spPr>
          <a:xfrm>
            <a:off x="566640" y="1634040"/>
            <a:ext cx="1890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f3420"/>
                </a:solidFill>
                <a:latin typeface="Arial"/>
                <a:ea typeface="微软雅黑"/>
              </a:rPr>
              <a:t>Lorem Ipsum 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37"/>
          <p:cNvSpPr/>
          <p:nvPr/>
        </p:nvSpPr>
        <p:spPr>
          <a:xfrm>
            <a:off x="4572000" y="2535480"/>
            <a:ext cx="189000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Lorem Ipsum Dolor Sit Er Elit Lamet, Consectetaur Cillium Adipisicing Pecu, Sed Do Eiusmod Tempor Incididunt Ut Cilliu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38"/>
          <p:cNvSpPr/>
          <p:nvPr/>
        </p:nvSpPr>
        <p:spPr>
          <a:xfrm>
            <a:off x="4572000" y="2211840"/>
            <a:ext cx="1890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bf3420"/>
                </a:solidFill>
                <a:latin typeface="Arial"/>
                <a:ea typeface="微软雅黑"/>
              </a:rPr>
              <a:t>Lorem Ipsum 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39"/>
          <p:cNvSpPr/>
          <p:nvPr/>
        </p:nvSpPr>
        <p:spPr>
          <a:xfrm>
            <a:off x="2546640" y="2281680"/>
            <a:ext cx="189000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Lorem Ipsum Dolor Sit Er Elit Lamet, Consectetaur Cillium Adipisicing Pecu, Sed Do Eiusmod Tempor Incididunt Ut Cillium Adipisicing Pecu, Sed D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41"/>
          <p:cNvSpPr/>
          <p:nvPr/>
        </p:nvSpPr>
        <p:spPr>
          <a:xfrm>
            <a:off x="2546640" y="1949040"/>
            <a:ext cx="1890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微软雅黑"/>
              </a:rPr>
              <a:t>Lorem Ipsum 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43"/>
          <p:cNvSpPr/>
          <p:nvPr/>
        </p:nvSpPr>
        <p:spPr>
          <a:xfrm>
            <a:off x="6507360" y="2789640"/>
            <a:ext cx="189000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Lorem Ipsum Dolor Sit Er Elit Lamet, Consectetaur Cillium Adipisicing Pecu, Sed Do Eiusmod Tempo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44"/>
          <p:cNvSpPr/>
          <p:nvPr/>
        </p:nvSpPr>
        <p:spPr>
          <a:xfrm>
            <a:off x="6507360" y="2489040"/>
            <a:ext cx="1890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微软雅黑"/>
              </a:rPr>
              <a:t>Lorem Ipsum Dol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直接连接符 47"/>
          <p:cNvCxnSpPr/>
          <p:nvPr/>
        </p:nvCxnSpPr>
        <p:spPr>
          <a:xfrm>
            <a:off x="2456640" y="2429280"/>
            <a:ext cx="360" cy="140292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609" name="直接连接符 48"/>
          <p:cNvCxnSpPr/>
          <p:nvPr/>
        </p:nvCxnSpPr>
        <p:spPr>
          <a:xfrm>
            <a:off x="4481640" y="2796480"/>
            <a:ext cx="360" cy="103572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610" name="直接连接符 49"/>
          <p:cNvCxnSpPr/>
          <p:nvPr/>
        </p:nvCxnSpPr>
        <p:spPr>
          <a:xfrm>
            <a:off x="6462000" y="3089520"/>
            <a:ext cx="360" cy="74268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20"/>
          <p:cNvSpPr/>
          <p:nvPr/>
        </p:nvSpPr>
        <p:spPr>
          <a:xfrm>
            <a:off x="1092600" y="1246680"/>
            <a:ext cx="3637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a7bae"/>
                </a:solidFill>
                <a:latin typeface="Arial"/>
                <a:ea typeface="微软雅黑"/>
              </a:rPr>
              <a:t>Lorem Ipsum Dolor Sit Am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8"/>
          <p:cNvSpPr/>
          <p:nvPr/>
        </p:nvSpPr>
        <p:spPr>
          <a:xfrm>
            <a:off x="597240" y="1221480"/>
            <a:ext cx="478440" cy="388440"/>
          </a:xfrm>
          <a:custGeom>
            <a:avLst/>
            <a:gdLst>
              <a:gd name="textAreaLeft" fmla="*/ 0 w 478440"/>
              <a:gd name="textAreaRight" fmla="*/ 478800 w 478440"/>
              <a:gd name="textAreaTop" fmla="*/ 0 h 388440"/>
              <a:gd name="textAreaBottom" fmla="*/ 388800 h 388440"/>
            </a:gdLst>
            <a:ahLst/>
            <a:rect l="textAreaLeft" t="textAreaTop" r="textAreaRight" b="textAreaBottom"/>
            <a:pathLst>
              <a:path w="855095" h="855095">
                <a:moveTo>
                  <a:pt x="805897" y="427546"/>
                </a:moveTo>
                <a:lnTo>
                  <a:pt x="855095" y="427546"/>
                </a:lnTo>
                <a:lnTo>
                  <a:pt x="855095" y="855095"/>
                </a:lnTo>
                <a:lnTo>
                  <a:pt x="427546" y="855095"/>
                </a:lnTo>
                <a:lnTo>
                  <a:pt x="427546" y="805897"/>
                </a:lnTo>
                <a:lnTo>
                  <a:pt x="805897" y="805897"/>
                </a:lnTo>
                <a:close/>
                <a:moveTo>
                  <a:pt x="0" y="0"/>
                </a:moveTo>
                <a:lnTo>
                  <a:pt x="427546" y="0"/>
                </a:lnTo>
                <a:lnTo>
                  <a:pt x="427546" y="49196"/>
                </a:lnTo>
                <a:lnTo>
                  <a:pt x="49196" y="49196"/>
                </a:lnTo>
                <a:lnTo>
                  <a:pt x="49196" y="427546"/>
                </a:lnTo>
                <a:lnTo>
                  <a:pt x="0" y="427546"/>
                </a:lnTo>
                <a:close/>
              </a:path>
            </a:pathLst>
          </a:custGeom>
          <a:solidFill>
            <a:srgbClr val="1a7ba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1a7bae"/>
                </a:solidFill>
                <a:latin typeface="Impact"/>
                <a:ea typeface="微软雅黑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9"/>
          <p:cNvSpPr/>
          <p:nvPr/>
        </p:nvSpPr>
        <p:spPr>
          <a:xfrm>
            <a:off x="1099440" y="1970640"/>
            <a:ext cx="3637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95bc49"/>
                </a:solidFill>
                <a:latin typeface="Arial"/>
                <a:ea typeface="微软雅黑"/>
              </a:rPr>
              <a:t>Lorem Ipsum Dolor Sit Am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8"/>
          <p:cNvSpPr/>
          <p:nvPr/>
        </p:nvSpPr>
        <p:spPr>
          <a:xfrm>
            <a:off x="604440" y="1945440"/>
            <a:ext cx="478440" cy="388440"/>
          </a:xfrm>
          <a:custGeom>
            <a:avLst/>
            <a:gdLst>
              <a:gd name="textAreaLeft" fmla="*/ 0 w 478440"/>
              <a:gd name="textAreaRight" fmla="*/ 478800 w 478440"/>
              <a:gd name="textAreaTop" fmla="*/ 0 h 388440"/>
              <a:gd name="textAreaBottom" fmla="*/ 388800 h 388440"/>
            </a:gdLst>
            <a:ahLst/>
            <a:rect l="textAreaLeft" t="textAreaTop" r="textAreaRight" b="textAreaBottom"/>
            <a:pathLst>
              <a:path w="855095" h="855095">
                <a:moveTo>
                  <a:pt x="805897" y="427546"/>
                </a:moveTo>
                <a:lnTo>
                  <a:pt x="855095" y="427546"/>
                </a:lnTo>
                <a:lnTo>
                  <a:pt x="855095" y="855095"/>
                </a:lnTo>
                <a:lnTo>
                  <a:pt x="427546" y="855095"/>
                </a:lnTo>
                <a:lnTo>
                  <a:pt x="427546" y="805897"/>
                </a:lnTo>
                <a:lnTo>
                  <a:pt x="805897" y="805897"/>
                </a:lnTo>
                <a:close/>
                <a:moveTo>
                  <a:pt x="0" y="0"/>
                </a:moveTo>
                <a:lnTo>
                  <a:pt x="427546" y="0"/>
                </a:lnTo>
                <a:lnTo>
                  <a:pt x="427546" y="49196"/>
                </a:lnTo>
                <a:lnTo>
                  <a:pt x="49196" y="49196"/>
                </a:lnTo>
                <a:lnTo>
                  <a:pt x="49196" y="427546"/>
                </a:lnTo>
                <a:lnTo>
                  <a:pt x="0" y="427546"/>
                </a:lnTo>
                <a:close/>
              </a:path>
            </a:pathLst>
          </a:custGeom>
          <a:solidFill>
            <a:srgbClr val="95bc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95bc49"/>
                </a:solidFill>
                <a:latin typeface="Impact"/>
                <a:ea typeface="微软雅黑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2"/>
          <p:cNvSpPr/>
          <p:nvPr/>
        </p:nvSpPr>
        <p:spPr>
          <a:xfrm>
            <a:off x="1106640" y="2687040"/>
            <a:ext cx="3637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da907"/>
                </a:solidFill>
                <a:latin typeface="Arial"/>
                <a:ea typeface="微软雅黑"/>
              </a:rPr>
              <a:t>Lorem Ipsum Dolor Sit Am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8"/>
          <p:cNvSpPr/>
          <p:nvPr/>
        </p:nvSpPr>
        <p:spPr>
          <a:xfrm>
            <a:off x="611640" y="2661840"/>
            <a:ext cx="478440" cy="388440"/>
          </a:xfrm>
          <a:custGeom>
            <a:avLst/>
            <a:gdLst>
              <a:gd name="textAreaLeft" fmla="*/ 0 w 478440"/>
              <a:gd name="textAreaRight" fmla="*/ 478800 w 478440"/>
              <a:gd name="textAreaTop" fmla="*/ 0 h 388440"/>
              <a:gd name="textAreaBottom" fmla="*/ 388800 h 388440"/>
            </a:gdLst>
            <a:ahLst/>
            <a:rect l="textAreaLeft" t="textAreaTop" r="textAreaRight" b="textAreaBottom"/>
            <a:pathLst>
              <a:path w="855095" h="855095">
                <a:moveTo>
                  <a:pt x="805897" y="427546"/>
                </a:moveTo>
                <a:lnTo>
                  <a:pt x="855095" y="427546"/>
                </a:lnTo>
                <a:lnTo>
                  <a:pt x="855095" y="855095"/>
                </a:lnTo>
                <a:lnTo>
                  <a:pt x="427546" y="855095"/>
                </a:lnTo>
                <a:lnTo>
                  <a:pt x="427546" y="805897"/>
                </a:lnTo>
                <a:lnTo>
                  <a:pt x="805897" y="805897"/>
                </a:lnTo>
                <a:close/>
                <a:moveTo>
                  <a:pt x="0" y="0"/>
                </a:moveTo>
                <a:lnTo>
                  <a:pt x="427546" y="0"/>
                </a:lnTo>
                <a:lnTo>
                  <a:pt x="427546" y="49196"/>
                </a:lnTo>
                <a:lnTo>
                  <a:pt x="49196" y="49196"/>
                </a:lnTo>
                <a:lnTo>
                  <a:pt x="49196" y="427546"/>
                </a:lnTo>
                <a:lnTo>
                  <a:pt x="0" y="427546"/>
                </a:lnTo>
                <a:close/>
              </a:path>
            </a:pathLst>
          </a:custGeom>
          <a:solidFill>
            <a:srgbClr val="fda90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da907"/>
                </a:solidFill>
                <a:latin typeface="Impact"/>
                <a:ea typeface="微软雅黑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5"/>
          <p:cNvSpPr/>
          <p:nvPr/>
        </p:nvSpPr>
        <p:spPr>
          <a:xfrm>
            <a:off x="1113840" y="3403440"/>
            <a:ext cx="3637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bf3420"/>
                </a:solidFill>
                <a:latin typeface="Arial"/>
                <a:ea typeface="微软雅黑"/>
              </a:rPr>
              <a:t>Lorem Ipsum Dolor Sit Am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8"/>
          <p:cNvSpPr/>
          <p:nvPr/>
        </p:nvSpPr>
        <p:spPr>
          <a:xfrm>
            <a:off x="618480" y="3378240"/>
            <a:ext cx="478440" cy="388440"/>
          </a:xfrm>
          <a:custGeom>
            <a:avLst/>
            <a:gdLst>
              <a:gd name="textAreaLeft" fmla="*/ 0 w 478440"/>
              <a:gd name="textAreaRight" fmla="*/ 478800 w 478440"/>
              <a:gd name="textAreaTop" fmla="*/ 0 h 388440"/>
              <a:gd name="textAreaBottom" fmla="*/ 388800 h 388440"/>
            </a:gdLst>
            <a:ahLst/>
            <a:rect l="textAreaLeft" t="textAreaTop" r="textAreaRight" b="textAreaBottom"/>
            <a:pathLst>
              <a:path w="855095" h="855095">
                <a:moveTo>
                  <a:pt x="805897" y="427546"/>
                </a:moveTo>
                <a:lnTo>
                  <a:pt x="855095" y="427546"/>
                </a:lnTo>
                <a:lnTo>
                  <a:pt x="855095" y="855095"/>
                </a:lnTo>
                <a:lnTo>
                  <a:pt x="427546" y="855095"/>
                </a:lnTo>
                <a:lnTo>
                  <a:pt x="427546" y="805897"/>
                </a:lnTo>
                <a:lnTo>
                  <a:pt x="805897" y="805897"/>
                </a:lnTo>
                <a:close/>
                <a:moveTo>
                  <a:pt x="0" y="0"/>
                </a:moveTo>
                <a:lnTo>
                  <a:pt x="427546" y="0"/>
                </a:lnTo>
                <a:lnTo>
                  <a:pt x="427546" y="49196"/>
                </a:lnTo>
                <a:lnTo>
                  <a:pt x="49196" y="49196"/>
                </a:lnTo>
                <a:lnTo>
                  <a:pt x="49196" y="427546"/>
                </a:lnTo>
                <a:lnTo>
                  <a:pt x="0" y="427546"/>
                </a:lnTo>
                <a:close/>
              </a:path>
            </a:pathLst>
          </a:custGeom>
          <a:solidFill>
            <a:srgbClr val="bf34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bf3420"/>
                </a:solidFill>
                <a:latin typeface="Impact"/>
                <a:ea typeface="微软雅黑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10"/>
          <p:cNvGrpSpPr/>
          <p:nvPr/>
        </p:nvGrpSpPr>
        <p:grpSpPr>
          <a:xfrm>
            <a:off x="4887000" y="0"/>
            <a:ext cx="4256640" cy="5143320"/>
            <a:chOff x="4887000" y="0"/>
            <a:chExt cx="4256640" cy="5143320"/>
          </a:xfrm>
        </p:grpSpPr>
        <p:sp>
          <p:nvSpPr>
            <p:cNvPr id="308" name="矩形 11"/>
            <p:cNvSpPr/>
            <p:nvPr/>
          </p:nvSpPr>
          <p:spPr>
            <a:xfrm>
              <a:off x="4887000" y="0"/>
              <a:ext cx="1063800" cy="5143320"/>
            </a:xfrm>
            <a:prstGeom prst="rect">
              <a:avLst/>
            </a:prstGeom>
            <a:solidFill>
              <a:srgbClr val="1a7ba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09" name="矩形 12"/>
            <p:cNvSpPr/>
            <p:nvPr/>
          </p:nvSpPr>
          <p:spPr>
            <a:xfrm>
              <a:off x="5951160" y="0"/>
              <a:ext cx="1063800" cy="5143320"/>
            </a:xfrm>
            <a:prstGeom prst="rect">
              <a:avLst/>
            </a:prstGeom>
            <a:solidFill>
              <a:srgbClr val="95bc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10" name="矩形 13"/>
            <p:cNvSpPr/>
            <p:nvPr/>
          </p:nvSpPr>
          <p:spPr>
            <a:xfrm>
              <a:off x="7015680" y="0"/>
              <a:ext cx="1063800" cy="5143320"/>
            </a:xfrm>
            <a:prstGeom prst="rect">
              <a:avLst/>
            </a:prstGeom>
            <a:solidFill>
              <a:srgbClr val="fda90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11" name="矩形 14"/>
            <p:cNvSpPr/>
            <p:nvPr/>
          </p:nvSpPr>
          <p:spPr>
            <a:xfrm>
              <a:off x="8079840" y="0"/>
              <a:ext cx="1063800" cy="5143320"/>
            </a:xfrm>
            <a:prstGeom prst="rect">
              <a:avLst/>
            </a:prstGeom>
            <a:solidFill>
              <a:srgbClr val="bf342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312" name="矩形 1"/>
          <p:cNvSpPr/>
          <p:nvPr/>
        </p:nvSpPr>
        <p:spPr>
          <a:xfrm>
            <a:off x="4887000" y="1997280"/>
            <a:ext cx="4256640" cy="926640"/>
          </a:xfrm>
          <a:prstGeom prst="rect">
            <a:avLst/>
          </a:prstGeom>
          <a:solidFill>
            <a:schemeClr val="tx1">
              <a:alpha val="34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微软雅黑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Box 6"/>
          <p:cNvSpPr/>
          <p:nvPr/>
        </p:nvSpPr>
        <p:spPr>
          <a:xfrm>
            <a:off x="476640" y="96480"/>
            <a:ext cx="387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Impact"/>
                <a:ea typeface="微软雅黑"/>
              </a:rPr>
              <a:t>INPUT YOUR GOOD IDEA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11"/>
          <p:cNvSpPr/>
          <p:nvPr/>
        </p:nvSpPr>
        <p:spPr>
          <a:xfrm>
            <a:off x="476640" y="430560"/>
            <a:ext cx="387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Always believe that something wonderful is about to happ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3" name="直接连接符 7"/>
          <p:cNvCxnSpPr/>
          <p:nvPr/>
        </p:nvCxnSpPr>
        <p:spPr>
          <a:xfrm>
            <a:off x="521280" y="681480"/>
            <a:ext cx="3510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614" name="直接连接符 19"/>
          <p:cNvCxnSpPr/>
          <p:nvPr/>
        </p:nvCxnSpPr>
        <p:spPr>
          <a:xfrm>
            <a:off x="0" y="1131480"/>
            <a:ext cx="4662360" cy="360"/>
          </a:xfrm>
          <a:prstGeom prst="straightConnector1">
            <a:avLst/>
          </a:prstGeom>
          <a:ln w="19050"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615" name="直接连接符 20"/>
          <p:cNvCxnSpPr/>
          <p:nvPr/>
        </p:nvCxnSpPr>
        <p:spPr>
          <a:xfrm>
            <a:off x="1094040" y="1885320"/>
            <a:ext cx="3568320" cy="360"/>
          </a:xfrm>
          <a:prstGeom prst="straightConnector1">
            <a:avLst/>
          </a:prstGeom>
          <a:ln w="19050"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616" name="直接连接符 21"/>
          <p:cNvCxnSpPr/>
          <p:nvPr/>
        </p:nvCxnSpPr>
        <p:spPr>
          <a:xfrm>
            <a:off x="1094040" y="4146840"/>
            <a:ext cx="8050320" cy="360"/>
          </a:xfrm>
          <a:prstGeom prst="straightConnector1">
            <a:avLst/>
          </a:prstGeom>
          <a:ln w="19050"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617" name="直接连接符 22"/>
          <p:cNvCxnSpPr/>
          <p:nvPr/>
        </p:nvCxnSpPr>
        <p:spPr>
          <a:xfrm>
            <a:off x="1094040" y="2639160"/>
            <a:ext cx="3568320" cy="360"/>
          </a:xfrm>
          <a:prstGeom prst="straightConnector1">
            <a:avLst/>
          </a:prstGeom>
          <a:ln w="19050"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618" name="直接连接符 23"/>
          <p:cNvCxnSpPr/>
          <p:nvPr/>
        </p:nvCxnSpPr>
        <p:spPr>
          <a:xfrm>
            <a:off x="1106280" y="3393000"/>
            <a:ext cx="3568320" cy="360"/>
          </a:xfrm>
          <a:prstGeom prst="straightConnector1">
            <a:avLst/>
          </a:prstGeom>
          <a:ln w="19050">
            <a:solidFill>
              <a:srgbClr val="ffffff">
                <a:lumMod val="50000"/>
              </a:srgbClr>
            </a:solidFill>
            <a:round/>
          </a:ln>
        </p:spPr>
      </p:cxnSp>
      <p:sp>
        <p:nvSpPr>
          <p:cNvPr id="619" name="椭圆 24"/>
          <p:cNvSpPr/>
          <p:nvPr/>
        </p:nvSpPr>
        <p:spPr>
          <a:xfrm>
            <a:off x="4218480" y="1047960"/>
            <a:ext cx="938520" cy="938520"/>
          </a:xfrm>
          <a:prstGeom prst="ellipse">
            <a:avLst/>
          </a:prstGeom>
          <a:solidFill>
            <a:schemeClr val="bg1"/>
          </a:solidFill>
          <a:ln w="28575">
            <a:solidFill>
              <a:srgbClr val="bf342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200" spc="-1" strike="noStrike">
              <a:solidFill>
                <a:srgbClr val="1a7bae"/>
              </a:solidFill>
              <a:latin typeface="微软雅黑"/>
              <a:ea typeface="微软雅黑"/>
            </a:endParaRPr>
          </a:p>
        </p:txBody>
      </p:sp>
      <p:sp>
        <p:nvSpPr>
          <p:cNvPr id="620" name="矩形 25"/>
          <p:cNvSpPr/>
          <p:nvPr/>
        </p:nvSpPr>
        <p:spPr>
          <a:xfrm>
            <a:off x="4329360" y="1286640"/>
            <a:ext cx="71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bf3420"/>
                </a:solidFill>
                <a:latin typeface="微软雅黑"/>
                <a:ea typeface="微软雅黑"/>
              </a:rPr>
              <a:t>L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bf3420"/>
                </a:solidFill>
                <a:latin typeface="微软雅黑"/>
                <a:ea typeface="微软雅黑"/>
              </a:rPr>
              <a:t>I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椭圆 26"/>
          <p:cNvSpPr/>
          <p:nvPr/>
        </p:nvSpPr>
        <p:spPr>
          <a:xfrm>
            <a:off x="618120" y="1801440"/>
            <a:ext cx="938520" cy="938520"/>
          </a:xfrm>
          <a:prstGeom prst="ellipse">
            <a:avLst/>
          </a:prstGeom>
          <a:solidFill>
            <a:schemeClr val="bg1"/>
          </a:solidFill>
          <a:ln w="28575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200" spc="-1" strike="noStrike">
              <a:solidFill>
                <a:srgbClr val="1a7bae"/>
              </a:solidFill>
              <a:latin typeface="微软雅黑"/>
              <a:ea typeface="微软雅黑"/>
            </a:endParaRPr>
          </a:p>
        </p:txBody>
      </p:sp>
      <p:sp>
        <p:nvSpPr>
          <p:cNvPr id="622" name="矩形 29"/>
          <p:cNvSpPr/>
          <p:nvPr/>
        </p:nvSpPr>
        <p:spPr>
          <a:xfrm>
            <a:off x="729000" y="2040120"/>
            <a:ext cx="71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L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I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椭圆 31"/>
          <p:cNvSpPr/>
          <p:nvPr/>
        </p:nvSpPr>
        <p:spPr>
          <a:xfrm>
            <a:off x="4218480" y="2571840"/>
            <a:ext cx="938520" cy="938520"/>
          </a:xfrm>
          <a:prstGeom prst="ellipse">
            <a:avLst/>
          </a:prstGeom>
          <a:solidFill>
            <a:schemeClr val="bg1"/>
          </a:solidFill>
          <a:ln w="28575">
            <a:solidFill>
              <a:srgbClr val="bf342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200" spc="-1" strike="noStrike">
              <a:solidFill>
                <a:srgbClr val="1a7bae"/>
              </a:solidFill>
              <a:latin typeface="微软雅黑"/>
              <a:ea typeface="微软雅黑"/>
            </a:endParaRPr>
          </a:p>
        </p:txBody>
      </p:sp>
      <p:sp>
        <p:nvSpPr>
          <p:cNvPr id="624" name="矩形 34"/>
          <p:cNvSpPr/>
          <p:nvPr/>
        </p:nvSpPr>
        <p:spPr>
          <a:xfrm>
            <a:off x="4329360" y="2810160"/>
            <a:ext cx="71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bf3420"/>
                </a:solidFill>
                <a:latin typeface="微软雅黑"/>
                <a:ea typeface="微软雅黑"/>
              </a:rPr>
              <a:t>L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bf3420"/>
                </a:solidFill>
                <a:latin typeface="微软雅黑"/>
                <a:ea typeface="微软雅黑"/>
              </a:rPr>
              <a:t>I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椭圆 36"/>
          <p:cNvSpPr/>
          <p:nvPr/>
        </p:nvSpPr>
        <p:spPr>
          <a:xfrm>
            <a:off x="618120" y="3325320"/>
            <a:ext cx="938520" cy="938520"/>
          </a:xfrm>
          <a:prstGeom prst="ellipse">
            <a:avLst/>
          </a:prstGeom>
          <a:solidFill>
            <a:schemeClr val="bg1"/>
          </a:solidFill>
          <a:ln w="28575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200" spc="-1" strike="noStrike">
              <a:solidFill>
                <a:srgbClr val="1a7bae"/>
              </a:solidFill>
              <a:latin typeface="微软雅黑"/>
              <a:ea typeface="微软雅黑"/>
            </a:endParaRPr>
          </a:p>
        </p:txBody>
      </p:sp>
      <p:sp>
        <p:nvSpPr>
          <p:cNvPr id="626" name="矩形 40"/>
          <p:cNvSpPr/>
          <p:nvPr/>
        </p:nvSpPr>
        <p:spPr>
          <a:xfrm>
            <a:off x="729000" y="3563640"/>
            <a:ext cx="71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L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I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42"/>
          <p:cNvSpPr/>
          <p:nvPr/>
        </p:nvSpPr>
        <p:spPr>
          <a:xfrm>
            <a:off x="1601640" y="1970640"/>
            <a:ext cx="21927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Lorem Ipsum Dolor Sit Consectetaur Cillium Pec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45"/>
          <p:cNvSpPr/>
          <p:nvPr/>
        </p:nvSpPr>
        <p:spPr>
          <a:xfrm>
            <a:off x="1601640" y="3494520"/>
            <a:ext cx="21927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Lorem Ipsum Dolor Sit Consectetaur Cillium Pec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46"/>
          <p:cNvSpPr/>
          <p:nvPr/>
        </p:nvSpPr>
        <p:spPr>
          <a:xfrm>
            <a:off x="1973880" y="2721600"/>
            <a:ext cx="21927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Lorem Ipsum Dolor Sit Consectetaur Cillium Pec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50"/>
          <p:cNvSpPr/>
          <p:nvPr/>
        </p:nvSpPr>
        <p:spPr>
          <a:xfrm>
            <a:off x="1973880" y="1232280"/>
            <a:ext cx="21927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Lorem Ipsum Dolor Sit Consectetaur Cillium Pec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Box 6"/>
          <p:cNvSpPr/>
          <p:nvPr/>
        </p:nvSpPr>
        <p:spPr>
          <a:xfrm>
            <a:off x="476640" y="96480"/>
            <a:ext cx="387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Impact"/>
                <a:ea typeface="微软雅黑"/>
              </a:rPr>
              <a:t>INPUT YOUR GOOD IDEA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1"/>
          <p:cNvSpPr/>
          <p:nvPr/>
        </p:nvSpPr>
        <p:spPr>
          <a:xfrm>
            <a:off x="476640" y="430560"/>
            <a:ext cx="387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Always believe that something wonderful is about to happ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直接连接符 7"/>
          <p:cNvCxnSpPr/>
          <p:nvPr/>
        </p:nvCxnSpPr>
        <p:spPr>
          <a:xfrm>
            <a:off x="521280" y="681480"/>
            <a:ext cx="3510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634" name="等腰三角形 27"/>
          <p:cNvSpPr/>
          <p:nvPr/>
        </p:nvSpPr>
        <p:spPr>
          <a:xfrm>
            <a:off x="425880" y="1275480"/>
            <a:ext cx="2955960" cy="2448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35" name="等腰三角形 28"/>
          <p:cNvSpPr/>
          <p:nvPr/>
        </p:nvSpPr>
        <p:spPr>
          <a:xfrm rot="10800000">
            <a:off x="2203200" y="1275480"/>
            <a:ext cx="2955960" cy="2448000"/>
          </a:xfrm>
          <a:prstGeom prst="triangle">
            <a:avLst>
              <a:gd name="adj" fmla="val 50000"/>
            </a:avLst>
          </a:prstGeom>
          <a:solidFill>
            <a:srgbClr val="bf34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36" name="等腰三角形 30"/>
          <p:cNvSpPr/>
          <p:nvPr/>
        </p:nvSpPr>
        <p:spPr>
          <a:xfrm>
            <a:off x="3979440" y="1275480"/>
            <a:ext cx="2955960" cy="2448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37" name="等腰三角形 32"/>
          <p:cNvSpPr/>
          <p:nvPr/>
        </p:nvSpPr>
        <p:spPr>
          <a:xfrm rot="10800000">
            <a:off x="5756400" y="1275480"/>
            <a:ext cx="2955960" cy="2448000"/>
          </a:xfrm>
          <a:prstGeom prst="triangle">
            <a:avLst>
              <a:gd name="adj" fmla="val 50000"/>
            </a:avLst>
          </a:prstGeom>
          <a:solidFill>
            <a:srgbClr val="bf34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38" name="矩形 33"/>
          <p:cNvSpPr/>
          <p:nvPr/>
        </p:nvSpPr>
        <p:spPr>
          <a:xfrm>
            <a:off x="1094040" y="2529000"/>
            <a:ext cx="1620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35"/>
          <p:cNvSpPr/>
          <p:nvPr/>
        </p:nvSpPr>
        <p:spPr>
          <a:xfrm>
            <a:off x="860040" y="2851200"/>
            <a:ext cx="208800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37"/>
          <p:cNvSpPr/>
          <p:nvPr/>
        </p:nvSpPr>
        <p:spPr>
          <a:xfrm>
            <a:off x="1414440" y="1815840"/>
            <a:ext cx="979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直接连接符 38"/>
          <p:cNvCxnSpPr/>
          <p:nvPr/>
        </p:nvCxnSpPr>
        <p:spPr>
          <a:xfrm>
            <a:off x="1526040" y="2461680"/>
            <a:ext cx="75636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642" name="矩形 39"/>
          <p:cNvSpPr/>
          <p:nvPr/>
        </p:nvSpPr>
        <p:spPr>
          <a:xfrm>
            <a:off x="4647600" y="2529000"/>
            <a:ext cx="1620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41"/>
          <p:cNvSpPr/>
          <p:nvPr/>
        </p:nvSpPr>
        <p:spPr>
          <a:xfrm>
            <a:off x="4413600" y="2851200"/>
            <a:ext cx="208800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43"/>
          <p:cNvSpPr/>
          <p:nvPr/>
        </p:nvSpPr>
        <p:spPr>
          <a:xfrm>
            <a:off x="4968000" y="1815840"/>
            <a:ext cx="979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直接连接符 44"/>
          <p:cNvCxnSpPr/>
          <p:nvPr/>
        </p:nvCxnSpPr>
        <p:spPr>
          <a:xfrm>
            <a:off x="5079240" y="2461680"/>
            <a:ext cx="75672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646" name="矩形 47"/>
          <p:cNvSpPr/>
          <p:nvPr/>
        </p:nvSpPr>
        <p:spPr>
          <a:xfrm>
            <a:off x="2870640" y="2193120"/>
            <a:ext cx="1620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48"/>
          <p:cNvSpPr/>
          <p:nvPr/>
        </p:nvSpPr>
        <p:spPr>
          <a:xfrm>
            <a:off x="2636640" y="1383480"/>
            <a:ext cx="208800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49"/>
          <p:cNvSpPr/>
          <p:nvPr/>
        </p:nvSpPr>
        <p:spPr>
          <a:xfrm>
            <a:off x="3191040" y="2607840"/>
            <a:ext cx="979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9" name="直接连接符 51"/>
          <p:cNvCxnSpPr/>
          <p:nvPr/>
        </p:nvCxnSpPr>
        <p:spPr>
          <a:xfrm>
            <a:off x="3302640" y="2571480"/>
            <a:ext cx="75636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650" name="矩形 52"/>
          <p:cNvSpPr/>
          <p:nvPr/>
        </p:nvSpPr>
        <p:spPr>
          <a:xfrm>
            <a:off x="6424200" y="2193120"/>
            <a:ext cx="1620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53"/>
          <p:cNvSpPr/>
          <p:nvPr/>
        </p:nvSpPr>
        <p:spPr>
          <a:xfrm>
            <a:off x="6190200" y="1383480"/>
            <a:ext cx="208800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54"/>
          <p:cNvSpPr/>
          <p:nvPr/>
        </p:nvSpPr>
        <p:spPr>
          <a:xfrm>
            <a:off x="6744600" y="2607840"/>
            <a:ext cx="979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直接连接符 55"/>
          <p:cNvCxnSpPr/>
          <p:nvPr/>
        </p:nvCxnSpPr>
        <p:spPr>
          <a:xfrm>
            <a:off x="6856200" y="2571480"/>
            <a:ext cx="75636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6"/>
          <p:cNvSpPr/>
          <p:nvPr/>
        </p:nvSpPr>
        <p:spPr>
          <a:xfrm>
            <a:off x="476640" y="96480"/>
            <a:ext cx="387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Impact"/>
                <a:ea typeface="微软雅黑"/>
              </a:rPr>
              <a:t>INPUT YOUR GOOD IDEA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11"/>
          <p:cNvSpPr/>
          <p:nvPr/>
        </p:nvSpPr>
        <p:spPr>
          <a:xfrm>
            <a:off x="476640" y="430560"/>
            <a:ext cx="387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Always believe that something wonderful is about to happ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6" name="直接连接符 7"/>
          <p:cNvCxnSpPr/>
          <p:nvPr/>
        </p:nvCxnSpPr>
        <p:spPr>
          <a:xfrm>
            <a:off x="521280" y="681480"/>
            <a:ext cx="3510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pic>
        <p:nvPicPr>
          <p:cNvPr id="657" name="Picture 2" descr="C:\Documents and Settings\Administrator\桌面\高清配图\高清图片01\21.jpg"/>
          <p:cNvPicPr/>
          <p:nvPr/>
        </p:nvPicPr>
        <p:blipFill>
          <a:blip r:embed="rId1"/>
          <a:srcRect l="12685" t="0" r="379" b="0"/>
          <a:stretch/>
        </p:blipFill>
        <p:spPr>
          <a:xfrm>
            <a:off x="3145680" y="1041480"/>
            <a:ext cx="1734120" cy="149508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3" descr="C:\Documents and Settings\Administrator\桌面\高清配图\高清图片01\20.jpg"/>
          <p:cNvPicPr/>
          <p:nvPr/>
        </p:nvPicPr>
        <p:blipFill>
          <a:blip r:embed="rId2"/>
          <a:srcRect l="0" t="0" r="13389" b="0"/>
          <a:stretch/>
        </p:blipFill>
        <p:spPr>
          <a:xfrm>
            <a:off x="5069880" y="1041480"/>
            <a:ext cx="1727640" cy="14950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6" descr="C:\Documents and Settings\Administrator\桌面\高清配图\高清图片01\22.jpg"/>
          <p:cNvPicPr/>
          <p:nvPr/>
        </p:nvPicPr>
        <p:blipFill>
          <a:blip r:embed="rId3"/>
          <a:srcRect l="4042" t="0" r="9365" b="0"/>
          <a:stretch/>
        </p:blipFill>
        <p:spPr>
          <a:xfrm>
            <a:off x="6984360" y="1041480"/>
            <a:ext cx="1727640" cy="1495080"/>
          </a:xfrm>
          <a:prstGeom prst="rect">
            <a:avLst/>
          </a:prstGeom>
          <a:ln w="0">
            <a:noFill/>
          </a:ln>
        </p:spPr>
      </p:pic>
      <p:sp>
        <p:nvSpPr>
          <p:cNvPr id="660" name="矩形 36"/>
          <p:cNvSpPr/>
          <p:nvPr/>
        </p:nvSpPr>
        <p:spPr>
          <a:xfrm>
            <a:off x="3145680" y="2796840"/>
            <a:ext cx="1734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bf3420"/>
                </a:solidFill>
                <a:latin typeface="Arial"/>
                <a:ea typeface="微软雅黑"/>
              </a:rPr>
              <a:t>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40"/>
          <p:cNvSpPr/>
          <p:nvPr/>
        </p:nvSpPr>
        <p:spPr>
          <a:xfrm>
            <a:off x="3145680" y="3156840"/>
            <a:ext cx="17341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42"/>
          <p:cNvSpPr/>
          <p:nvPr/>
        </p:nvSpPr>
        <p:spPr>
          <a:xfrm>
            <a:off x="5063400" y="2796840"/>
            <a:ext cx="1734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bf3420"/>
                </a:solidFill>
                <a:latin typeface="Arial"/>
                <a:ea typeface="微软雅黑"/>
              </a:rPr>
              <a:t>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45"/>
          <p:cNvSpPr/>
          <p:nvPr/>
        </p:nvSpPr>
        <p:spPr>
          <a:xfrm>
            <a:off x="5063400" y="3156840"/>
            <a:ext cx="17341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46"/>
          <p:cNvSpPr/>
          <p:nvPr/>
        </p:nvSpPr>
        <p:spPr>
          <a:xfrm>
            <a:off x="6977880" y="2796840"/>
            <a:ext cx="1734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bf3420"/>
                </a:solidFill>
                <a:latin typeface="Arial"/>
                <a:ea typeface="微软雅黑"/>
              </a:rPr>
              <a:t>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50"/>
          <p:cNvSpPr/>
          <p:nvPr/>
        </p:nvSpPr>
        <p:spPr>
          <a:xfrm>
            <a:off x="6977880" y="3156840"/>
            <a:ext cx="17341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56"/>
          <p:cNvSpPr/>
          <p:nvPr/>
        </p:nvSpPr>
        <p:spPr>
          <a:xfrm>
            <a:off x="431640" y="1041480"/>
            <a:ext cx="2340000" cy="307080"/>
          </a:xfrm>
          <a:prstGeom prst="rect">
            <a:avLst/>
          </a:prstGeom>
          <a:solidFill>
            <a:srgbClr val="bf34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57"/>
          <p:cNvSpPr/>
          <p:nvPr/>
        </p:nvSpPr>
        <p:spPr>
          <a:xfrm>
            <a:off x="431640" y="1399680"/>
            <a:ext cx="234000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Lorem Ipsum Dolor Sit Er Elit Lamet, Consectetaur Cillium Adipisicing Pecu, Sed Do Eiusmod Tempor Incididu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矩形 58"/>
          <p:cNvSpPr/>
          <p:nvPr/>
        </p:nvSpPr>
        <p:spPr>
          <a:xfrm>
            <a:off x="431640" y="2751840"/>
            <a:ext cx="2340000" cy="30708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59"/>
          <p:cNvSpPr/>
          <p:nvPr/>
        </p:nvSpPr>
        <p:spPr>
          <a:xfrm>
            <a:off x="431640" y="3110040"/>
            <a:ext cx="234000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Lorem Ipsum Dolor Sit Er Elit Lamet, Consectetaur Cillium Adipisicing Pecu, Sed Do Eiusmod Tempor Incididu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0" name="直接连接符 3"/>
          <p:cNvCxnSpPr/>
          <p:nvPr/>
        </p:nvCxnSpPr>
        <p:spPr>
          <a:xfrm>
            <a:off x="2951640" y="1041480"/>
            <a:ext cx="360" cy="306072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671" name="Text Box 3"/>
          <p:cNvSpPr/>
          <p:nvPr/>
        </p:nvSpPr>
        <p:spPr>
          <a:xfrm>
            <a:off x="660600" y="46980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18"/>
          <p:cNvGrpSpPr/>
          <p:nvPr/>
        </p:nvGrpSpPr>
        <p:grpSpPr>
          <a:xfrm>
            <a:off x="2443320" y="2166840"/>
            <a:ext cx="4256640" cy="68760"/>
            <a:chOff x="2443320" y="2166840"/>
            <a:chExt cx="4256640" cy="68760"/>
          </a:xfrm>
        </p:grpSpPr>
        <p:sp>
          <p:nvSpPr>
            <p:cNvPr id="673" name="矩形 19"/>
            <p:cNvSpPr/>
            <p:nvPr/>
          </p:nvSpPr>
          <p:spPr>
            <a:xfrm>
              <a:off x="2443320" y="2166840"/>
              <a:ext cx="1063800" cy="68760"/>
            </a:xfrm>
            <a:prstGeom prst="rect">
              <a:avLst/>
            </a:prstGeom>
            <a:solidFill>
              <a:srgbClr val="1a7ba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120" bIns="24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674" name="矩形 20"/>
            <p:cNvSpPr/>
            <p:nvPr/>
          </p:nvSpPr>
          <p:spPr>
            <a:xfrm>
              <a:off x="3507480" y="2166840"/>
              <a:ext cx="1063800" cy="68760"/>
            </a:xfrm>
            <a:prstGeom prst="rect">
              <a:avLst/>
            </a:prstGeom>
            <a:solidFill>
              <a:srgbClr val="95bc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120" bIns="24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675" name="矩形 21"/>
            <p:cNvSpPr/>
            <p:nvPr/>
          </p:nvSpPr>
          <p:spPr>
            <a:xfrm>
              <a:off x="4572000" y="2166840"/>
              <a:ext cx="1063800" cy="68760"/>
            </a:xfrm>
            <a:prstGeom prst="rect">
              <a:avLst/>
            </a:prstGeom>
            <a:solidFill>
              <a:srgbClr val="fda90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120" bIns="24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676" name="矩形 22"/>
            <p:cNvSpPr/>
            <p:nvPr/>
          </p:nvSpPr>
          <p:spPr>
            <a:xfrm>
              <a:off x="5636160" y="2166840"/>
              <a:ext cx="1063800" cy="68760"/>
            </a:xfrm>
            <a:prstGeom prst="rect">
              <a:avLst/>
            </a:prstGeom>
            <a:solidFill>
              <a:srgbClr val="bf342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4120" bIns="24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677" name="TextBox 27"/>
          <p:cNvSpPr/>
          <p:nvPr/>
        </p:nvSpPr>
        <p:spPr>
          <a:xfrm>
            <a:off x="1623960" y="1620360"/>
            <a:ext cx="5895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1a7bae"/>
                </a:solidFill>
                <a:latin typeface="Arial"/>
                <a:ea typeface="微软雅黑"/>
              </a:rPr>
              <a:t>THANKS</a:t>
            </a:r>
            <a:r>
              <a:rPr b="0" lang="en-US" sz="2800" spc="-1" strike="noStrike">
                <a:solidFill>
                  <a:srgbClr val="bf3420"/>
                </a:solidFill>
                <a:latin typeface="Arial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95bc49"/>
                </a:solidFill>
                <a:latin typeface="Arial"/>
                <a:ea typeface="微软雅黑"/>
              </a:rPr>
              <a:t>FOR</a:t>
            </a:r>
            <a:r>
              <a:rPr b="0" lang="en-US" sz="2800" spc="-1" strike="noStrike">
                <a:solidFill>
                  <a:srgbClr val="1a7bae"/>
                </a:solidFill>
                <a:latin typeface="Arial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da907"/>
                </a:solidFill>
                <a:latin typeface="Arial"/>
                <a:ea typeface="微软雅黑"/>
              </a:rPr>
              <a:t>YOUR</a:t>
            </a:r>
            <a:r>
              <a:rPr b="0" lang="en-US" sz="2800" spc="-1" strike="noStrike">
                <a:solidFill>
                  <a:srgbClr val="1a7bae"/>
                </a:solidFill>
                <a:latin typeface="Arial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bf3420"/>
                </a:solidFill>
                <a:latin typeface="Arial"/>
                <a:ea typeface="微软雅黑"/>
              </a:rPr>
              <a:t>W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28"/>
          <p:cNvSpPr/>
          <p:nvPr/>
        </p:nvSpPr>
        <p:spPr>
          <a:xfrm>
            <a:off x="2028960" y="2271240"/>
            <a:ext cx="5085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, Sed Do Eiusmod Tempor Incididunt Ut Labore Et Dolore Magna Aliqu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7b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5"/>
          <p:cNvSpPr/>
          <p:nvPr/>
        </p:nvSpPr>
        <p:spPr>
          <a:xfrm>
            <a:off x="0" y="2166840"/>
            <a:ext cx="9143640" cy="449640"/>
          </a:xfrm>
          <a:prstGeom prst="rect">
            <a:avLst/>
          </a:prstGeom>
          <a:solidFill>
            <a:srgbClr val="1d8ac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14" name="TextBox 3"/>
          <p:cNvSpPr/>
          <p:nvPr/>
        </p:nvSpPr>
        <p:spPr>
          <a:xfrm>
            <a:off x="-589680" y="-1433520"/>
            <a:ext cx="3956040" cy="8013960"/>
          </a:xfrm>
          <a:prstGeom prst="rect">
            <a:avLst/>
          </a:prstGeom>
          <a:noFill/>
          <a:ln w="0">
            <a:noFill/>
          </a:ln>
          <a:effectLst>
            <a:outerShdw algn="tl" blurRad="165240" dir="1193434" dist="76184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20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endParaRPr b="0" lang="en-US" sz="5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4"/>
          <p:cNvSpPr/>
          <p:nvPr/>
        </p:nvSpPr>
        <p:spPr>
          <a:xfrm>
            <a:off x="3579120" y="2154960"/>
            <a:ext cx="5177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A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2"/>
          <p:cNvSpPr/>
          <p:nvPr/>
        </p:nvSpPr>
        <p:spPr>
          <a:xfrm>
            <a:off x="6218280" y="1397160"/>
            <a:ext cx="2825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微软雅黑"/>
              </a:rPr>
              <a:t>PAR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4"/>
          <p:cNvSpPr/>
          <p:nvPr/>
        </p:nvSpPr>
        <p:spPr>
          <a:xfrm>
            <a:off x="3537000" y="2691720"/>
            <a:ext cx="52203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Er Elit Lamet, Consectetaur Cillium Adipisicing Pecu, Sed Do Eiusmod Tempor Incididunt Ut Labo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椭圆 8"/>
          <p:cNvSpPr/>
          <p:nvPr/>
        </p:nvSpPr>
        <p:spPr>
          <a:xfrm>
            <a:off x="701640" y="1131480"/>
            <a:ext cx="1710000" cy="1710000"/>
          </a:xfrm>
          <a:prstGeom prst="ellipse">
            <a:avLst/>
          </a:prstGeom>
          <a:solidFill>
            <a:srgbClr val="1a7ba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8"/>
          <p:cNvSpPr/>
          <p:nvPr/>
        </p:nvSpPr>
        <p:spPr>
          <a:xfrm>
            <a:off x="4646880" y="1131480"/>
            <a:ext cx="1710000" cy="1710000"/>
          </a:xfrm>
          <a:prstGeom prst="ellipse">
            <a:avLst/>
          </a:prstGeom>
          <a:solidFill>
            <a:srgbClr val="1a7ba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6"/>
          <p:cNvSpPr/>
          <p:nvPr/>
        </p:nvSpPr>
        <p:spPr>
          <a:xfrm>
            <a:off x="476640" y="96480"/>
            <a:ext cx="387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Impact"/>
                <a:ea typeface="微软雅黑"/>
              </a:rPr>
              <a:t>INPUT YOUR GOOD IDEA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1"/>
          <p:cNvSpPr/>
          <p:nvPr/>
        </p:nvSpPr>
        <p:spPr>
          <a:xfrm>
            <a:off x="476640" y="430560"/>
            <a:ext cx="387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Always believe that something wonderful is about to happ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直接连接符 7"/>
          <p:cNvCxnSpPr/>
          <p:nvPr/>
        </p:nvCxnSpPr>
        <p:spPr>
          <a:xfrm>
            <a:off x="521280" y="681480"/>
            <a:ext cx="3510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323" name="椭圆 17"/>
          <p:cNvSpPr/>
          <p:nvPr/>
        </p:nvSpPr>
        <p:spPr>
          <a:xfrm>
            <a:off x="2674080" y="1131480"/>
            <a:ext cx="1710000" cy="1710000"/>
          </a:xfrm>
          <a:prstGeom prst="ellipse">
            <a:avLst/>
          </a:prstGeom>
          <a:solidFill>
            <a:srgbClr val="1a7ba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 19"/>
          <p:cNvSpPr/>
          <p:nvPr/>
        </p:nvSpPr>
        <p:spPr>
          <a:xfrm>
            <a:off x="6619320" y="1131480"/>
            <a:ext cx="1710000" cy="1710000"/>
          </a:xfrm>
          <a:prstGeom prst="ellipse">
            <a:avLst/>
          </a:prstGeom>
          <a:solidFill>
            <a:srgbClr val="1a7ba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9"/>
          <p:cNvSpPr/>
          <p:nvPr/>
        </p:nvSpPr>
        <p:spPr>
          <a:xfrm>
            <a:off x="701640" y="3083760"/>
            <a:ext cx="171000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sectetaur Cillium Adipisicing Pecu, Sed Do Eiusmod Tempor Incididunt Ut Labo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0"/>
          <p:cNvSpPr/>
          <p:nvPr/>
        </p:nvSpPr>
        <p:spPr>
          <a:xfrm>
            <a:off x="2674080" y="3083760"/>
            <a:ext cx="171000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sectetaur Cillium Adipisicing Pecu, Sed Do Eiusmod Tempor Incididunt Ut Labo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2"/>
          <p:cNvSpPr/>
          <p:nvPr/>
        </p:nvSpPr>
        <p:spPr>
          <a:xfrm>
            <a:off x="4646880" y="3083760"/>
            <a:ext cx="171000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sectetaur Cillium Adipisicing Pecu, Sed Do Eiusmod Tempor Incididunt Ut Labo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3"/>
          <p:cNvSpPr/>
          <p:nvPr/>
        </p:nvSpPr>
        <p:spPr>
          <a:xfrm>
            <a:off x="6619320" y="3083760"/>
            <a:ext cx="171000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sectetaur Cillium Adipisicing Pecu, Sed Do Eiusmod Tempor Incididunt Ut Labo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6"/>
          <p:cNvSpPr/>
          <p:nvPr/>
        </p:nvSpPr>
        <p:spPr>
          <a:xfrm>
            <a:off x="476640" y="96480"/>
            <a:ext cx="387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Impact"/>
                <a:ea typeface="微软雅黑"/>
              </a:rPr>
              <a:t>INPUT YOUR GOOD IDEA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1"/>
          <p:cNvSpPr/>
          <p:nvPr/>
        </p:nvSpPr>
        <p:spPr>
          <a:xfrm>
            <a:off x="476640" y="430560"/>
            <a:ext cx="387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Always believe that something wonderful is about to happ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直接连接符 7"/>
          <p:cNvCxnSpPr/>
          <p:nvPr/>
        </p:nvCxnSpPr>
        <p:spPr>
          <a:xfrm>
            <a:off x="521280" y="681480"/>
            <a:ext cx="3510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332" name="椭圆 33"/>
          <p:cNvSpPr/>
          <p:nvPr/>
        </p:nvSpPr>
        <p:spPr>
          <a:xfrm>
            <a:off x="3199320" y="996480"/>
            <a:ext cx="2745000" cy="2745000"/>
          </a:xfrm>
          <a:prstGeom prst="ellipse">
            <a:avLst/>
          </a:prstGeom>
          <a:noFill/>
          <a:ln>
            <a:solidFill>
              <a:srgbClr val="1a7ba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33" name="椭圆 8"/>
          <p:cNvSpPr/>
          <p:nvPr/>
        </p:nvSpPr>
        <p:spPr>
          <a:xfrm>
            <a:off x="588960" y="996480"/>
            <a:ext cx="2745000" cy="2745000"/>
          </a:xfrm>
          <a:prstGeom prst="ellipse">
            <a:avLst/>
          </a:prstGeom>
          <a:noFill/>
          <a:ln>
            <a:solidFill>
              <a:srgbClr val="1a7ba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34" name="矩形 22"/>
          <p:cNvSpPr/>
          <p:nvPr/>
        </p:nvSpPr>
        <p:spPr>
          <a:xfrm>
            <a:off x="882000" y="1929960"/>
            <a:ext cx="215928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Lorem Ipsum Dolor Sit Er Elit Lamet, Consectetaur Cillium Adipisicing Pecu, Sed Do Eiusmod Tempor Incididunt Ut Labo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1127160" y="1536480"/>
            <a:ext cx="1668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1a7bae"/>
                </a:solidFill>
                <a:latin typeface="Arial"/>
                <a:ea typeface="微软雅黑"/>
              </a:rPr>
              <a:t>LOREM IPS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34"/>
          <p:cNvSpPr/>
          <p:nvPr/>
        </p:nvSpPr>
        <p:spPr>
          <a:xfrm>
            <a:off x="3492360" y="1929960"/>
            <a:ext cx="215928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Lorem Ipsum Dolor Sit Er Elit Lamet, Consectetaur Cillium Adipisicing Pecu, Sed Do Eiusmod Tempor Incididunt Ut Labo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35"/>
          <p:cNvSpPr/>
          <p:nvPr/>
        </p:nvSpPr>
        <p:spPr>
          <a:xfrm>
            <a:off x="3737520" y="1536480"/>
            <a:ext cx="1668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1a7bae"/>
                </a:solidFill>
                <a:latin typeface="Arial"/>
                <a:ea typeface="微软雅黑"/>
              </a:rPr>
              <a:t>LOREM IPS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36"/>
          <p:cNvSpPr/>
          <p:nvPr/>
        </p:nvSpPr>
        <p:spPr>
          <a:xfrm>
            <a:off x="5809680" y="996480"/>
            <a:ext cx="2745000" cy="2745000"/>
          </a:xfrm>
          <a:prstGeom prst="ellipse">
            <a:avLst/>
          </a:prstGeom>
          <a:noFill/>
          <a:ln>
            <a:solidFill>
              <a:srgbClr val="1a7ba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39" name="矩形 37"/>
          <p:cNvSpPr/>
          <p:nvPr/>
        </p:nvSpPr>
        <p:spPr>
          <a:xfrm>
            <a:off x="6102360" y="1929960"/>
            <a:ext cx="215928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Lorem Ipsum Dolor Sit Er Elit Lamet, Consectetaur Cillium Adipisicing Pecu, Sed Do Eiusmod Tempor Incididunt Ut Labo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38"/>
          <p:cNvSpPr/>
          <p:nvPr/>
        </p:nvSpPr>
        <p:spPr>
          <a:xfrm>
            <a:off x="6347520" y="1536480"/>
            <a:ext cx="1668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1a7bae"/>
                </a:solidFill>
                <a:latin typeface="Arial"/>
                <a:ea typeface="微软雅黑"/>
              </a:rPr>
              <a:t>LOREM IPS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39"/>
          <p:cNvSpPr/>
          <p:nvPr/>
        </p:nvSpPr>
        <p:spPr>
          <a:xfrm>
            <a:off x="983160" y="3980160"/>
            <a:ext cx="7177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000" spc="-1" strike="noStrike">
                <a:solidFill>
                  <a:srgbClr val="595959"/>
                </a:solidFill>
                <a:latin typeface="微软雅黑"/>
                <a:ea typeface="微软雅黑"/>
              </a:rPr>
              <a:t>Lorem Ipsum Dolor Sit Er Elit Lamet, Consectetaur Cillium Adipisicing Pecu, Sed Do Eiusmod Tempor Incididunt Ut Labo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1"/>
          <p:cNvSpPr/>
          <p:nvPr/>
        </p:nvSpPr>
        <p:spPr>
          <a:xfrm>
            <a:off x="757800" y="1232640"/>
            <a:ext cx="393480" cy="393480"/>
          </a:xfrm>
          <a:prstGeom prst="ellipse">
            <a:avLst/>
          </a:prstGeom>
          <a:solidFill>
            <a:srgbClr val="1a7ba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15"/>
          <p:cNvSpPr/>
          <p:nvPr/>
        </p:nvSpPr>
        <p:spPr>
          <a:xfrm>
            <a:off x="3367800" y="1232640"/>
            <a:ext cx="393480" cy="393480"/>
          </a:xfrm>
          <a:prstGeom prst="ellipse">
            <a:avLst/>
          </a:prstGeom>
          <a:solidFill>
            <a:srgbClr val="1a7ba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16"/>
          <p:cNvSpPr/>
          <p:nvPr/>
        </p:nvSpPr>
        <p:spPr>
          <a:xfrm>
            <a:off x="5978160" y="1232640"/>
            <a:ext cx="393480" cy="393480"/>
          </a:xfrm>
          <a:prstGeom prst="ellipse">
            <a:avLst/>
          </a:prstGeom>
          <a:solidFill>
            <a:srgbClr val="1a7ba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6"/>
          <p:cNvSpPr/>
          <p:nvPr/>
        </p:nvSpPr>
        <p:spPr>
          <a:xfrm>
            <a:off x="476640" y="96480"/>
            <a:ext cx="387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Impact"/>
                <a:ea typeface="微软雅黑"/>
              </a:rPr>
              <a:t>INPUT YOUR GOOD IDEA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1"/>
          <p:cNvSpPr/>
          <p:nvPr/>
        </p:nvSpPr>
        <p:spPr>
          <a:xfrm>
            <a:off x="476640" y="430560"/>
            <a:ext cx="387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Always believe that something wonderful is about to happ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直接连接符 7"/>
          <p:cNvCxnSpPr/>
          <p:nvPr/>
        </p:nvCxnSpPr>
        <p:spPr>
          <a:xfrm>
            <a:off x="521280" y="681480"/>
            <a:ext cx="3510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grpSp>
        <p:nvGrpSpPr>
          <p:cNvPr id="348" name="组合 17"/>
          <p:cNvGrpSpPr/>
          <p:nvPr/>
        </p:nvGrpSpPr>
        <p:grpSpPr>
          <a:xfrm>
            <a:off x="2748600" y="694080"/>
            <a:ext cx="3573000" cy="3573000"/>
            <a:chOff x="2748600" y="694080"/>
            <a:chExt cx="3573000" cy="3573000"/>
          </a:xfrm>
        </p:grpSpPr>
        <p:sp>
          <p:nvSpPr>
            <p:cNvPr id="349" name="椭圆 168"/>
            <p:cNvSpPr/>
            <p:nvPr/>
          </p:nvSpPr>
          <p:spPr>
            <a:xfrm rot="2700000">
              <a:off x="4081320" y="1078200"/>
              <a:ext cx="1855800" cy="1855800"/>
            </a:xfrm>
            <a:custGeom>
              <a:avLst/>
              <a:gdLst>
                <a:gd name="textAreaLeft" fmla="*/ 0 w 1855800"/>
                <a:gd name="textAreaRight" fmla="*/ 1856160 w 18558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207694" h="2207694">
                  <a:moveTo>
                    <a:pt x="1240201" y="2198410"/>
                  </a:moveTo>
                  <a:cubicBezTo>
                    <a:pt x="1195601" y="2204855"/>
                    <a:pt x="1150057" y="2207694"/>
                    <a:pt x="1103851" y="2207694"/>
                  </a:cubicBezTo>
                  <a:close/>
                  <a:moveTo>
                    <a:pt x="1396176" y="2167304"/>
                  </a:moveTo>
                  <a:cubicBezTo>
                    <a:pt x="1355911" y="2179613"/>
                    <a:pt x="1314389" y="2188486"/>
                    <a:pt x="1271865" y="2193577"/>
                  </a:cubicBezTo>
                  <a:close/>
                  <a:moveTo>
                    <a:pt x="7872" y="976750"/>
                  </a:moveTo>
                  <a:lnTo>
                    <a:pt x="1" y="1103847"/>
                  </a:lnTo>
                  <a:cubicBezTo>
                    <a:pt x="1" y="1713485"/>
                    <a:pt x="494210" y="2207694"/>
                    <a:pt x="1103848" y="2207694"/>
                  </a:cubicBezTo>
                  <a:cubicBezTo>
                    <a:pt x="494209" y="2207694"/>
                    <a:pt x="0" y="1713485"/>
                    <a:pt x="0" y="1103847"/>
                  </a:cubicBezTo>
                  <a:cubicBezTo>
                    <a:pt x="0" y="1060839"/>
                    <a:pt x="2460" y="1018405"/>
                    <a:pt x="7872" y="976750"/>
                  </a:cubicBezTo>
                  <a:close/>
                  <a:moveTo>
                    <a:pt x="1103847" y="0"/>
                  </a:moveTo>
                  <a:cubicBezTo>
                    <a:pt x="1713485" y="0"/>
                    <a:pt x="2207694" y="494209"/>
                    <a:pt x="2207694" y="1103847"/>
                  </a:cubicBezTo>
                  <a:cubicBezTo>
                    <a:pt x="2207694" y="1612162"/>
                    <a:pt x="1864110" y="2040229"/>
                    <a:pt x="1396188" y="2167301"/>
                  </a:cubicBezTo>
                  <a:cubicBezTo>
                    <a:pt x="1418536" y="2082435"/>
                    <a:pt x="1429716" y="1993353"/>
                    <a:pt x="1429716" y="1901660"/>
                  </a:cubicBezTo>
                  <a:cubicBezTo>
                    <a:pt x="1429716" y="1292022"/>
                    <a:pt x="935507" y="797813"/>
                    <a:pt x="325869" y="797813"/>
                  </a:cubicBezTo>
                  <a:cubicBezTo>
                    <a:pt x="224547" y="797813"/>
                    <a:pt x="126413" y="811464"/>
                    <a:pt x="33529" y="838206"/>
                  </a:cubicBezTo>
                  <a:cubicBezTo>
                    <a:pt x="23934" y="874644"/>
                    <a:pt x="16397" y="911859"/>
                    <a:pt x="11973" y="949877"/>
                  </a:cubicBezTo>
                  <a:cubicBezTo>
                    <a:pt x="85667" y="413031"/>
                    <a:pt x="546523" y="0"/>
                    <a:pt x="1103847" y="0"/>
                  </a:cubicBezTo>
                  <a:close/>
                </a:path>
              </a:pathLst>
            </a:custGeom>
            <a:solidFill>
              <a:srgbClr val="1a7ba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50" name="椭圆 161"/>
            <p:cNvSpPr/>
            <p:nvPr/>
          </p:nvSpPr>
          <p:spPr>
            <a:xfrm rot="2700000">
              <a:off x="3144240" y="1090080"/>
              <a:ext cx="1855800" cy="1855800"/>
            </a:xfrm>
            <a:custGeom>
              <a:avLst/>
              <a:gdLst>
                <a:gd name="textAreaLeft" fmla="*/ 0 w 1855800"/>
                <a:gd name="textAreaRight" fmla="*/ 1856160 w 18558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207690" h="2207691">
                  <a:moveTo>
                    <a:pt x="967503" y="2198411"/>
                  </a:moveTo>
                  <a:lnTo>
                    <a:pt x="1103795" y="2207691"/>
                  </a:lnTo>
                  <a:cubicBezTo>
                    <a:pt x="1057608" y="2207692"/>
                    <a:pt x="1012085" y="2204853"/>
                    <a:pt x="967503" y="2198411"/>
                  </a:cubicBezTo>
                  <a:close/>
                  <a:moveTo>
                    <a:pt x="811529" y="2167307"/>
                  </a:moveTo>
                  <a:lnTo>
                    <a:pt x="935821" y="2193576"/>
                  </a:lnTo>
                  <a:cubicBezTo>
                    <a:pt x="893304" y="2188486"/>
                    <a:pt x="851788" y="2179614"/>
                    <a:pt x="811529" y="2167307"/>
                  </a:cubicBezTo>
                  <a:close/>
                  <a:moveTo>
                    <a:pt x="2199826" y="976772"/>
                  </a:moveTo>
                  <a:cubicBezTo>
                    <a:pt x="2205232" y="1018393"/>
                    <a:pt x="2207691" y="1060793"/>
                    <a:pt x="2207690" y="1103766"/>
                  </a:cubicBezTo>
                  <a:close/>
                  <a:moveTo>
                    <a:pt x="2174170" y="838223"/>
                  </a:moveTo>
                  <a:cubicBezTo>
                    <a:pt x="2184491" y="874470"/>
                    <a:pt x="2191713" y="911752"/>
                    <a:pt x="2195714" y="949832"/>
                  </a:cubicBezTo>
                  <a:close/>
                  <a:moveTo>
                    <a:pt x="1103847" y="0"/>
                  </a:moveTo>
                  <a:cubicBezTo>
                    <a:pt x="1621792" y="0"/>
                    <a:pt x="2056420" y="356726"/>
                    <a:pt x="2174166" y="838207"/>
                  </a:cubicBezTo>
                  <a:cubicBezTo>
                    <a:pt x="2081282" y="811466"/>
                    <a:pt x="1983150" y="797814"/>
                    <a:pt x="1881827" y="797814"/>
                  </a:cubicBezTo>
                  <a:cubicBezTo>
                    <a:pt x="1272189" y="797814"/>
                    <a:pt x="777980" y="1292023"/>
                    <a:pt x="777980" y="1901661"/>
                  </a:cubicBezTo>
                  <a:cubicBezTo>
                    <a:pt x="777980" y="1993354"/>
                    <a:pt x="789160" y="2082435"/>
                    <a:pt x="811508" y="2167301"/>
                  </a:cubicBezTo>
                  <a:cubicBezTo>
                    <a:pt x="343585" y="2040230"/>
                    <a:pt x="0" y="1612163"/>
                    <a:pt x="0" y="1103847"/>
                  </a:cubicBezTo>
                  <a:cubicBezTo>
                    <a:pt x="0" y="494209"/>
                    <a:pt x="494209" y="0"/>
                    <a:pt x="1103847" y="0"/>
                  </a:cubicBezTo>
                  <a:close/>
                </a:path>
              </a:pathLst>
            </a:cu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51" name="椭圆 162"/>
            <p:cNvSpPr/>
            <p:nvPr/>
          </p:nvSpPr>
          <p:spPr>
            <a:xfrm rot="2700000">
              <a:off x="4071600" y="2017080"/>
              <a:ext cx="1855800" cy="1855800"/>
            </a:xfrm>
            <a:custGeom>
              <a:avLst/>
              <a:gdLst>
                <a:gd name="textAreaLeft" fmla="*/ 0 w 1855800"/>
                <a:gd name="textAreaRight" fmla="*/ 1856160 w 18558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207694" h="2207694">
                  <a:moveTo>
                    <a:pt x="1269814" y="13804"/>
                  </a:moveTo>
                  <a:cubicBezTo>
                    <a:pt x="1800820" y="92567"/>
                    <a:pt x="2207694" y="550692"/>
                    <a:pt x="2207694" y="1103847"/>
                  </a:cubicBezTo>
                  <a:cubicBezTo>
                    <a:pt x="2207694" y="1713485"/>
                    <a:pt x="1713485" y="2207694"/>
                    <a:pt x="1103847" y="2207694"/>
                  </a:cubicBezTo>
                  <a:cubicBezTo>
                    <a:pt x="546709" y="2207694"/>
                    <a:pt x="85975" y="1794939"/>
                    <a:pt x="12055" y="1258354"/>
                  </a:cubicBezTo>
                  <a:lnTo>
                    <a:pt x="33789" y="1370498"/>
                  </a:lnTo>
                  <a:cubicBezTo>
                    <a:pt x="125494" y="1396610"/>
                    <a:pt x="222299" y="1409882"/>
                    <a:pt x="322205" y="1409882"/>
                  </a:cubicBezTo>
                  <a:cubicBezTo>
                    <a:pt x="931843" y="1409882"/>
                    <a:pt x="1426052" y="915673"/>
                    <a:pt x="1426052" y="306035"/>
                  </a:cubicBezTo>
                  <a:cubicBezTo>
                    <a:pt x="1426052" y="213979"/>
                    <a:pt x="1414784" y="124554"/>
                    <a:pt x="1392265" y="39385"/>
                  </a:cubicBezTo>
                  <a:cubicBezTo>
                    <a:pt x="1352416" y="28038"/>
                    <a:pt x="1311604" y="19116"/>
                    <a:pt x="1269814" y="13804"/>
                  </a:cubicBezTo>
                  <a:close/>
                  <a:moveTo>
                    <a:pt x="1103847" y="0"/>
                  </a:moveTo>
                  <a:cubicBezTo>
                    <a:pt x="1149577" y="0"/>
                    <a:pt x="1194657" y="2781"/>
                    <a:pt x="1238818" y="9073"/>
                  </a:cubicBezTo>
                  <a:lnTo>
                    <a:pt x="1103848" y="1"/>
                  </a:lnTo>
                  <a:cubicBezTo>
                    <a:pt x="494210" y="1"/>
                    <a:pt x="1" y="494210"/>
                    <a:pt x="1" y="1103848"/>
                  </a:cubicBezTo>
                  <a:cubicBezTo>
                    <a:pt x="1" y="1146981"/>
                    <a:pt x="2475" y="1189536"/>
                    <a:pt x="7924" y="1231287"/>
                  </a:cubicBezTo>
                  <a:cubicBezTo>
                    <a:pt x="2473" y="1189523"/>
                    <a:pt x="0" y="1146974"/>
                    <a:pt x="0" y="1103847"/>
                  </a:cubicBezTo>
                  <a:cubicBezTo>
                    <a:pt x="0" y="494209"/>
                    <a:pt x="494209" y="0"/>
                    <a:pt x="1103847" y="0"/>
                  </a:cubicBezTo>
                  <a:close/>
                </a:path>
              </a:pathLst>
            </a:cu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352" name="椭圆 163"/>
            <p:cNvSpPr/>
            <p:nvPr/>
          </p:nvSpPr>
          <p:spPr>
            <a:xfrm rot="2700000">
              <a:off x="3132720" y="2026800"/>
              <a:ext cx="1855800" cy="1855800"/>
            </a:xfrm>
            <a:custGeom>
              <a:avLst/>
              <a:gdLst>
                <a:gd name="textAreaLeft" fmla="*/ 0 w 1855800"/>
                <a:gd name="textAreaRight" fmla="*/ 1856160 w 18558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207690" h="2207692">
                  <a:moveTo>
                    <a:pt x="2195631" y="1258405"/>
                  </a:moveTo>
                  <a:cubicBezTo>
                    <a:pt x="2191595" y="1296645"/>
                    <a:pt x="2184315" y="1334081"/>
                    <a:pt x="2173913" y="1370472"/>
                  </a:cubicBezTo>
                  <a:close/>
                  <a:moveTo>
                    <a:pt x="2207690" y="1103924"/>
                  </a:moveTo>
                  <a:cubicBezTo>
                    <a:pt x="2207691" y="1147015"/>
                    <a:pt x="2205219" y="1189529"/>
                    <a:pt x="2199774" y="1231259"/>
                  </a:cubicBezTo>
                  <a:close/>
                  <a:moveTo>
                    <a:pt x="815432" y="39382"/>
                  </a:moveTo>
                  <a:cubicBezTo>
                    <a:pt x="792913" y="124550"/>
                    <a:pt x="781644" y="213975"/>
                    <a:pt x="781644" y="306031"/>
                  </a:cubicBezTo>
                  <a:cubicBezTo>
                    <a:pt x="781644" y="915669"/>
                    <a:pt x="1275853" y="1409878"/>
                    <a:pt x="1885491" y="1409878"/>
                  </a:cubicBezTo>
                  <a:cubicBezTo>
                    <a:pt x="1985397" y="1409878"/>
                    <a:pt x="2082202" y="1396606"/>
                    <a:pt x="2173907" y="1370494"/>
                  </a:cubicBezTo>
                  <a:cubicBezTo>
                    <a:pt x="2055810" y="1851467"/>
                    <a:pt x="1621429" y="2207692"/>
                    <a:pt x="1103847" y="2207692"/>
                  </a:cubicBezTo>
                  <a:cubicBezTo>
                    <a:pt x="494209" y="2207692"/>
                    <a:pt x="0" y="1713483"/>
                    <a:pt x="0" y="1103845"/>
                  </a:cubicBezTo>
                  <a:cubicBezTo>
                    <a:pt x="0" y="594112"/>
                    <a:pt x="345503" y="165076"/>
                    <a:pt x="815432" y="39382"/>
                  </a:cubicBezTo>
                  <a:close/>
                  <a:moveTo>
                    <a:pt x="937859" y="13805"/>
                  </a:moveTo>
                  <a:lnTo>
                    <a:pt x="815433" y="39382"/>
                  </a:lnTo>
                  <a:cubicBezTo>
                    <a:pt x="855095" y="27337"/>
                    <a:pt x="895991" y="18718"/>
                    <a:pt x="937859" y="13805"/>
                  </a:cubicBezTo>
                  <a:close/>
                  <a:moveTo>
                    <a:pt x="1103792" y="1"/>
                  </a:moveTo>
                  <a:lnTo>
                    <a:pt x="968896" y="9068"/>
                  </a:lnTo>
                  <a:cubicBezTo>
                    <a:pt x="1013034" y="2780"/>
                    <a:pt x="1058088" y="0"/>
                    <a:pt x="1103792" y="1"/>
                  </a:cubicBezTo>
                  <a:close/>
                </a:path>
              </a:pathLst>
            </a:custGeom>
            <a:solidFill>
              <a:srgbClr val="1a7ba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353" name="椭圆 23"/>
          <p:cNvSpPr/>
          <p:nvPr/>
        </p:nvSpPr>
        <p:spPr>
          <a:xfrm>
            <a:off x="3755520" y="1707840"/>
            <a:ext cx="1547640" cy="154764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54" name="矩形 24"/>
          <p:cNvSpPr/>
          <p:nvPr/>
        </p:nvSpPr>
        <p:spPr>
          <a:xfrm>
            <a:off x="3839760" y="2134080"/>
            <a:ext cx="1379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REM I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5"/>
          <p:cNvSpPr/>
          <p:nvPr/>
        </p:nvSpPr>
        <p:spPr>
          <a:xfrm>
            <a:off x="3789720" y="2410920"/>
            <a:ext cx="1479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en-US" sz="105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.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6"/>
          <p:cNvSpPr/>
          <p:nvPr/>
        </p:nvSpPr>
        <p:spPr>
          <a:xfrm>
            <a:off x="1061640" y="1069560"/>
            <a:ext cx="1937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微软雅黑"/>
              </a:rPr>
              <a:t>01.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7"/>
          <p:cNvSpPr/>
          <p:nvPr/>
        </p:nvSpPr>
        <p:spPr>
          <a:xfrm>
            <a:off x="1061640" y="1391760"/>
            <a:ext cx="19375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8"/>
          <p:cNvSpPr/>
          <p:nvPr/>
        </p:nvSpPr>
        <p:spPr>
          <a:xfrm>
            <a:off x="1061640" y="2778840"/>
            <a:ext cx="1937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a7bae"/>
                </a:solidFill>
                <a:latin typeface="Arial"/>
                <a:ea typeface="微软雅黑"/>
              </a:rPr>
              <a:t>03.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9"/>
          <p:cNvSpPr/>
          <p:nvPr/>
        </p:nvSpPr>
        <p:spPr>
          <a:xfrm>
            <a:off x="1061640" y="3101400"/>
            <a:ext cx="19375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30"/>
          <p:cNvSpPr/>
          <p:nvPr/>
        </p:nvSpPr>
        <p:spPr>
          <a:xfrm>
            <a:off x="6030000" y="1069560"/>
            <a:ext cx="1937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1a7bae"/>
                </a:solidFill>
                <a:latin typeface="Arial"/>
                <a:ea typeface="微软雅黑"/>
              </a:rPr>
              <a:t>02.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31"/>
          <p:cNvSpPr/>
          <p:nvPr/>
        </p:nvSpPr>
        <p:spPr>
          <a:xfrm>
            <a:off x="6030000" y="1391760"/>
            <a:ext cx="19375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32"/>
          <p:cNvSpPr/>
          <p:nvPr/>
        </p:nvSpPr>
        <p:spPr>
          <a:xfrm>
            <a:off x="6030000" y="2778840"/>
            <a:ext cx="1937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微软雅黑"/>
              </a:rPr>
              <a:t>04.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0"/>
          <p:cNvSpPr/>
          <p:nvPr/>
        </p:nvSpPr>
        <p:spPr>
          <a:xfrm>
            <a:off x="6030000" y="3101400"/>
            <a:ext cx="19375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6"/>
          <p:cNvSpPr/>
          <p:nvPr/>
        </p:nvSpPr>
        <p:spPr>
          <a:xfrm>
            <a:off x="476640" y="96480"/>
            <a:ext cx="387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Impact"/>
                <a:ea typeface="微软雅黑"/>
              </a:rPr>
              <a:t>INPUT YOUR GOOD IDEA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1"/>
          <p:cNvSpPr/>
          <p:nvPr/>
        </p:nvSpPr>
        <p:spPr>
          <a:xfrm>
            <a:off x="476640" y="430560"/>
            <a:ext cx="387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Always believe that something wonderful is about to happ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直接连接符 7"/>
          <p:cNvCxnSpPr/>
          <p:nvPr/>
        </p:nvCxnSpPr>
        <p:spPr>
          <a:xfrm>
            <a:off x="521280" y="681480"/>
            <a:ext cx="3510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367" name="椭圆 68"/>
          <p:cNvSpPr/>
          <p:nvPr/>
        </p:nvSpPr>
        <p:spPr>
          <a:xfrm>
            <a:off x="4279680" y="2471400"/>
            <a:ext cx="1401480" cy="1386360"/>
          </a:xfrm>
          <a:custGeom>
            <a:avLst/>
            <a:gdLst>
              <a:gd name="textAreaLeft" fmla="*/ 0 w 1401480"/>
              <a:gd name="textAreaRight" fmla="*/ 1401840 w 1401480"/>
              <a:gd name="textAreaTop" fmla="*/ 0 h 1386360"/>
              <a:gd name="textAreaBottom" fmla="*/ 1386720 h 1386360"/>
            </a:gdLst>
            <a:ahLst/>
            <a:rect l="textAreaLeft" t="textAreaTop" r="textAreaRight" b="textAreaBottom"/>
            <a:pathLst>
              <a:path w="1401767" h="1386644">
                <a:moveTo>
                  <a:pt x="233035" y="0"/>
                </a:moveTo>
                <a:lnTo>
                  <a:pt x="640881" y="0"/>
                </a:lnTo>
                <a:cubicBezTo>
                  <a:pt x="633096" y="19935"/>
                  <a:pt x="629318" y="41634"/>
                  <a:pt x="629318" y="64216"/>
                </a:cubicBezTo>
                <a:cubicBezTo>
                  <a:pt x="629318" y="173647"/>
                  <a:pt x="718028" y="262357"/>
                  <a:pt x="827459" y="262357"/>
                </a:cubicBezTo>
                <a:cubicBezTo>
                  <a:pt x="936890" y="262357"/>
                  <a:pt x="1025600" y="173647"/>
                  <a:pt x="1025600" y="64216"/>
                </a:cubicBezTo>
                <a:cubicBezTo>
                  <a:pt x="1025600" y="41634"/>
                  <a:pt x="1021823" y="19935"/>
                  <a:pt x="1014038" y="0"/>
                </a:cubicBezTo>
                <a:lnTo>
                  <a:pt x="1401767" y="0"/>
                </a:lnTo>
                <a:lnTo>
                  <a:pt x="1401767" y="1168732"/>
                </a:lnTo>
                <a:lnTo>
                  <a:pt x="956993" y="1168732"/>
                </a:lnTo>
                <a:cubicBezTo>
                  <a:pt x="968847" y="1188427"/>
                  <a:pt x="974696" y="1211557"/>
                  <a:pt x="974696" y="1236054"/>
                </a:cubicBezTo>
                <a:cubicBezTo>
                  <a:pt x="974696" y="1319223"/>
                  <a:pt x="907275" y="1386644"/>
                  <a:pt x="824106" y="1386644"/>
                </a:cubicBezTo>
                <a:cubicBezTo>
                  <a:pt x="740937" y="1386644"/>
                  <a:pt x="673516" y="1319223"/>
                  <a:pt x="673516" y="1236054"/>
                </a:cubicBezTo>
                <a:cubicBezTo>
                  <a:pt x="673516" y="1211557"/>
                  <a:pt x="679365" y="1188427"/>
                  <a:pt x="691220" y="1168732"/>
                </a:cubicBezTo>
                <a:lnTo>
                  <a:pt x="233035" y="1168732"/>
                </a:lnTo>
                <a:lnTo>
                  <a:pt x="233035" y="733499"/>
                </a:lnTo>
                <a:cubicBezTo>
                  <a:pt x="212516" y="743855"/>
                  <a:pt x="189291" y="749187"/>
                  <a:pt x="164821" y="749187"/>
                </a:cubicBezTo>
                <a:cubicBezTo>
                  <a:pt x="73793" y="749187"/>
                  <a:pt x="0" y="675395"/>
                  <a:pt x="0" y="584366"/>
                </a:cubicBezTo>
                <a:cubicBezTo>
                  <a:pt x="0" y="493338"/>
                  <a:pt x="73793" y="419545"/>
                  <a:pt x="164821" y="419545"/>
                </a:cubicBezTo>
                <a:cubicBezTo>
                  <a:pt x="189291" y="419545"/>
                  <a:pt x="212516" y="424878"/>
                  <a:pt x="233035" y="435233"/>
                </a:cubicBezTo>
                <a:close/>
              </a:path>
            </a:pathLst>
          </a:custGeom>
          <a:solidFill>
            <a:srgbClr val="1a7ba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8" name="矩形 65"/>
          <p:cNvSpPr/>
          <p:nvPr/>
        </p:nvSpPr>
        <p:spPr>
          <a:xfrm>
            <a:off x="3096000" y="2247840"/>
            <a:ext cx="1406160" cy="1392120"/>
          </a:xfrm>
          <a:custGeom>
            <a:avLst/>
            <a:gdLst>
              <a:gd name="textAreaLeft" fmla="*/ 0 w 1406160"/>
              <a:gd name="textAreaRight" fmla="*/ 1406520 w 14061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406366" h="1392560">
                <a:moveTo>
                  <a:pt x="822000" y="0"/>
                </a:moveTo>
                <a:cubicBezTo>
                  <a:pt x="913029" y="0"/>
                  <a:pt x="986821" y="73793"/>
                  <a:pt x="986821" y="164821"/>
                </a:cubicBezTo>
                <a:cubicBezTo>
                  <a:pt x="986821" y="185675"/>
                  <a:pt x="982948" y="205623"/>
                  <a:pt x="975467" y="223828"/>
                </a:cubicBezTo>
                <a:lnTo>
                  <a:pt x="1406366" y="223828"/>
                </a:lnTo>
                <a:lnTo>
                  <a:pt x="1406366" y="633859"/>
                </a:lnTo>
                <a:cubicBezTo>
                  <a:pt x="1386081" y="625588"/>
                  <a:pt x="1363875" y="621361"/>
                  <a:pt x="1340681" y="621361"/>
                </a:cubicBezTo>
                <a:cubicBezTo>
                  <a:pt x="1237497" y="621361"/>
                  <a:pt x="1153848" y="705009"/>
                  <a:pt x="1153848" y="808194"/>
                </a:cubicBezTo>
                <a:cubicBezTo>
                  <a:pt x="1153848" y="911379"/>
                  <a:pt x="1237497" y="995027"/>
                  <a:pt x="1340681" y="995027"/>
                </a:cubicBezTo>
                <a:cubicBezTo>
                  <a:pt x="1363875" y="995027"/>
                  <a:pt x="1386081" y="990802"/>
                  <a:pt x="1406366" y="982530"/>
                </a:cubicBezTo>
                <a:lnTo>
                  <a:pt x="1406366" y="1392560"/>
                </a:lnTo>
                <a:lnTo>
                  <a:pt x="237634" y="1392560"/>
                </a:lnTo>
                <a:lnTo>
                  <a:pt x="237634" y="927784"/>
                </a:lnTo>
                <a:cubicBezTo>
                  <a:pt x="214351" y="948086"/>
                  <a:pt x="183720" y="958784"/>
                  <a:pt x="150590" y="958784"/>
                </a:cubicBezTo>
                <a:cubicBezTo>
                  <a:pt x="67421" y="958784"/>
                  <a:pt x="0" y="891363"/>
                  <a:pt x="0" y="808194"/>
                </a:cubicBezTo>
                <a:cubicBezTo>
                  <a:pt x="0" y="725025"/>
                  <a:pt x="67421" y="657604"/>
                  <a:pt x="150590" y="657604"/>
                </a:cubicBezTo>
                <a:cubicBezTo>
                  <a:pt x="183720" y="657604"/>
                  <a:pt x="214351" y="668302"/>
                  <a:pt x="237634" y="688604"/>
                </a:cubicBezTo>
                <a:lnTo>
                  <a:pt x="237634" y="223828"/>
                </a:lnTo>
                <a:lnTo>
                  <a:pt x="668533" y="223828"/>
                </a:lnTo>
                <a:cubicBezTo>
                  <a:pt x="661052" y="205623"/>
                  <a:pt x="657179" y="185675"/>
                  <a:pt x="657179" y="164821"/>
                </a:cubicBezTo>
                <a:cubicBezTo>
                  <a:pt x="657179" y="73793"/>
                  <a:pt x="730972" y="0"/>
                  <a:pt x="822000" y="0"/>
                </a:cubicBezTo>
                <a:close/>
              </a:path>
            </a:pathLst>
          </a:cu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9" name="椭圆 75"/>
          <p:cNvSpPr/>
          <p:nvPr/>
        </p:nvSpPr>
        <p:spPr>
          <a:xfrm>
            <a:off x="3333600" y="1023480"/>
            <a:ext cx="1425240" cy="1433520"/>
          </a:xfrm>
          <a:custGeom>
            <a:avLst/>
            <a:gdLst>
              <a:gd name="textAreaLeft" fmla="*/ 0 w 1425240"/>
              <a:gd name="textAreaRight" fmla="*/ 1425600 w 142524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1425662" h="1433908">
                <a:moveTo>
                  <a:pt x="584366" y="0"/>
                </a:moveTo>
                <a:cubicBezTo>
                  <a:pt x="667535" y="0"/>
                  <a:pt x="734956" y="67421"/>
                  <a:pt x="734956" y="150590"/>
                </a:cubicBezTo>
                <a:cubicBezTo>
                  <a:pt x="734956" y="197370"/>
                  <a:pt x="713626" y="239167"/>
                  <a:pt x="678832" y="265176"/>
                </a:cubicBezTo>
                <a:lnTo>
                  <a:pt x="1168733" y="265176"/>
                </a:lnTo>
                <a:lnTo>
                  <a:pt x="1168733" y="716520"/>
                </a:lnTo>
                <a:cubicBezTo>
                  <a:pt x="1193634" y="695548"/>
                  <a:pt x="1225973" y="684721"/>
                  <a:pt x="1260841" y="684721"/>
                </a:cubicBezTo>
                <a:cubicBezTo>
                  <a:pt x="1351870" y="684721"/>
                  <a:pt x="1425662" y="758513"/>
                  <a:pt x="1425662" y="849542"/>
                </a:cubicBezTo>
                <a:cubicBezTo>
                  <a:pt x="1425662" y="940571"/>
                  <a:pt x="1351870" y="1014363"/>
                  <a:pt x="1260841" y="1014363"/>
                </a:cubicBezTo>
                <a:cubicBezTo>
                  <a:pt x="1225973" y="1014363"/>
                  <a:pt x="1193634" y="1003536"/>
                  <a:pt x="1168733" y="982566"/>
                </a:cubicBezTo>
                <a:lnTo>
                  <a:pt x="1168733" y="1433908"/>
                </a:lnTo>
                <a:lnTo>
                  <a:pt x="765724" y="1433908"/>
                </a:lnTo>
                <a:cubicBezTo>
                  <a:pt x="770905" y="1418114"/>
                  <a:pt x="773249" y="1401256"/>
                  <a:pt x="773249" y="1383851"/>
                </a:cubicBezTo>
                <a:cubicBezTo>
                  <a:pt x="773249" y="1279093"/>
                  <a:pt x="688325" y="1194168"/>
                  <a:pt x="583566" y="1194168"/>
                </a:cubicBezTo>
                <a:cubicBezTo>
                  <a:pt x="478807" y="1194168"/>
                  <a:pt x="393882" y="1279093"/>
                  <a:pt x="393882" y="1383851"/>
                </a:cubicBezTo>
                <a:cubicBezTo>
                  <a:pt x="393882" y="1401256"/>
                  <a:pt x="396227" y="1418114"/>
                  <a:pt x="401408" y="1433908"/>
                </a:cubicBezTo>
                <a:lnTo>
                  <a:pt x="0" y="1433908"/>
                </a:lnTo>
                <a:lnTo>
                  <a:pt x="0" y="265176"/>
                </a:lnTo>
                <a:lnTo>
                  <a:pt x="489901" y="265176"/>
                </a:lnTo>
                <a:cubicBezTo>
                  <a:pt x="455106" y="239167"/>
                  <a:pt x="433776" y="197370"/>
                  <a:pt x="433776" y="150590"/>
                </a:cubicBezTo>
                <a:cubicBezTo>
                  <a:pt x="433776" y="67421"/>
                  <a:pt x="501197" y="0"/>
                  <a:pt x="584366" y="0"/>
                </a:cubicBezTo>
                <a:close/>
              </a:path>
            </a:pathLst>
          </a:custGeom>
          <a:solidFill>
            <a:srgbClr val="1a7ba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0" name="椭圆 76"/>
          <p:cNvSpPr/>
          <p:nvPr/>
        </p:nvSpPr>
        <p:spPr>
          <a:xfrm>
            <a:off x="4519440" y="1288800"/>
            <a:ext cx="1384560" cy="1407960"/>
          </a:xfrm>
          <a:custGeom>
            <a:avLst/>
            <a:gdLst>
              <a:gd name="textAreaLeft" fmla="*/ 0 w 1384560"/>
              <a:gd name="textAreaRight" fmla="*/ 1384920 w 1384560"/>
              <a:gd name="textAreaTop" fmla="*/ 0 h 1407960"/>
              <a:gd name="textAreaBottom" fmla="*/ 1408320 h 1407960"/>
            </a:gdLst>
            <a:ahLst/>
            <a:rect l="textAreaLeft" t="textAreaTop" r="textAreaRight" b="textAreaBottom"/>
            <a:pathLst>
              <a:path w="1384756" h="1408472">
                <a:moveTo>
                  <a:pt x="0" y="0"/>
                </a:moveTo>
                <a:lnTo>
                  <a:pt x="1168732" y="0"/>
                </a:lnTo>
                <a:lnTo>
                  <a:pt x="1168732" y="450207"/>
                </a:lnTo>
                <a:cubicBezTo>
                  <a:pt x="1188073" y="439244"/>
                  <a:pt x="1210481" y="433776"/>
                  <a:pt x="1234166" y="433776"/>
                </a:cubicBezTo>
                <a:cubicBezTo>
                  <a:pt x="1317335" y="433776"/>
                  <a:pt x="1384756" y="501197"/>
                  <a:pt x="1384756" y="584366"/>
                </a:cubicBezTo>
                <a:cubicBezTo>
                  <a:pt x="1384756" y="667535"/>
                  <a:pt x="1317335" y="734956"/>
                  <a:pt x="1234166" y="734956"/>
                </a:cubicBezTo>
                <a:cubicBezTo>
                  <a:pt x="1210481" y="734956"/>
                  <a:pt x="1188073" y="729488"/>
                  <a:pt x="1168732" y="718526"/>
                </a:cubicBezTo>
                <a:lnTo>
                  <a:pt x="1168732" y="1168732"/>
                </a:lnTo>
                <a:lnTo>
                  <a:pt x="728979" y="1168732"/>
                </a:lnTo>
                <a:cubicBezTo>
                  <a:pt x="742528" y="1190517"/>
                  <a:pt x="749187" y="1216306"/>
                  <a:pt x="749187" y="1243651"/>
                </a:cubicBezTo>
                <a:cubicBezTo>
                  <a:pt x="749187" y="1334680"/>
                  <a:pt x="675394" y="1408472"/>
                  <a:pt x="584366" y="1408472"/>
                </a:cubicBezTo>
                <a:cubicBezTo>
                  <a:pt x="493337" y="1408472"/>
                  <a:pt x="419545" y="1334680"/>
                  <a:pt x="419545" y="1243651"/>
                </a:cubicBezTo>
                <a:cubicBezTo>
                  <a:pt x="419545" y="1216306"/>
                  <a:pt x="426204" y="1190517"/>
                  <a:pt x="439754" y="1168732"/>
                </a:cubicBezTo>
                <a:lnTo>
                  <a:pt x="0" y="1168732"/>
                </a:lnTo>
                <a:lnTo>
                  <a:pt x="0" y="761099"/>
                </a:lnTo>
                <a:cubicBezTo>
                  <a:pt x="24839" y="773303"/>
                  <a:pt x="52809" y="779836"/>
                  <a:pt x="82305" y="779836"/>
                </a:cubicBezTo>
                <a:cubicBezTo>
                  <a:pt x="190260" y="779836"/>
                  <a:pt x="277774" y="692321"/>
                  <a:pt x="277774" y="584366"/>
                </a:cubicBezTo>
                <a:cubicBezTo>
                  <a:pt x="277774" y="476411"/>
                  <a:pt x="190260" y="388896"/>
                  <a:pt x="82305" y="388896"/>
                </a:cubicBezTo>
                <a:cubicBezTo>
                  <a:pt x="52809" y="388896"/>
                  <a:pt x="24839" y="395429"/>
                  <a:pt x="0" y="407633"/>
                </a:cubicBezTo>
                <a:close/>
              </a:path>
            </a:pathLst>
          </a:cu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1" name="矩形 16"/>
          <p:cNvSpPr/>
          <p:nvPr/>
        </p:nvSpPr>
        <p:spPr>
          <a:xfrm>
            <a:off x="3420000" y="1580400"/>
            <a:ext cx="1007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7"/>
          <p:cNvSpPr/>
          <p:nvPr/>
        </p:nvSpPr>
        <p:spPr>
          <a:xfrm>
            <a:off x="3420000" y="2768760"/>
            <a:ext cx="1007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18"/>
          <p:cNvSpPr/>
          <p:nvPr/>
        </p:nvSpPr>
        <p:spPr>
          <a:xfrm>
            <a:off x="4608000" y="1580400"/>
            <a:ext cx="1007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22"/>
          <p:cNvSpPr/>
          <p:nvPr/>
        </p:nvSpPr>
        <p:spPr>
          <a:xfrm>
            <a:off x="4608000" y="2768760"/>
            <a:ext cx="1007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Lo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23"/>
          <p:cNvSpPr/>
          <p:nvPr/>
        </p:nvSpPr>
        <p:spPr>
          <a:xfrm>
            <a:off x="1079640" y="1069200"/>
            <a:ext cx="1937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a7bae"/>
                </a:solidFill>
                <a:latin typeface="Arial"/>
                <a:ea typeface="微软雅黑"/>
              </a:rPr>
              <a:t>01.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4"/>
          <p:cNvSpPr/>
          <p:nvPr/>
        </p:nvSpPr>
        <p:spPr>
          <a:xfrm>
            <a:off x="1079640" y="1391760"/>
            <a:ext cx="19375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1079640" y="2778840"/>
            <a:ext cx="1937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微软雅黑"/>
              </a:rPr>
              <a:t>03.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6"/>
          <p:cNvSpPr/>
          <p:nvPr/>
        </p:nvSpPr>
        <p:spPr>
          <a:xfrm>
            <a:off x="1079640" y="3101040"/>
            <a:ext cx="19375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7"/>
          <p:cNvSpPr/>
          <p:nvPr/>
        </p:nvSpPr>
        <p:spPr>
          <a:xfrm>
            <a:off x="6048000" y="1069200"/>
            <a:ext cx="1937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b0f0"/>
                </a:solidFill>
                <a:latin typeface="Arial"/>
                <a:ea typeface="微软雅黑"/>
              </a:rPr>
              <a:t>02.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8"/>
          <p:cNvSpPr/>
          <p:nvPr/>
        </p:nvSpPr>
        <p:spPr>
          <a:xfrm>
            <a:off x="6048000" y="1391760"/>
            <a:ext cx="19375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9"/>
          <p:cNvSpPr/>
          <p:nvPr/>
        </p:nvSpPr>
        <p:spPr>
          <a:xfrm>
            <a:off x="6048000" y="2778840"/>
            <a:ext cx="1937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1a7bae"/>
                </a:solidFill>
                <a:latin typeface="Arial"/>
                <a:ea typeface="微软雅黑"/>
              </a:rPr>
              <a:t>04.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0"/>
          <p:cNvSpPr/>
          <p:nvPr/>
        </p:nvSpPr>
        <p:spPr>
          <a:xfrm>
            <a:off x="6048000" y="3101040"/>
            <a:ext cx="19375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432000" y="46555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5"/>
          <p:cNvSpPr/>
          <p:nvPr/>
        </p:nvSpPr>
        <p:spPr>
          <a:xfrm>
            <a:off x="0" y="2166840"/>
            <a:ext cx="9143640" cy="449640"/>
          </a:xfrm>
          <a:prstGeom prst="rect">
            <a:avLst/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85" name="TextBox 3"/>
          <p:cNvSpPr/>
          <p:nvPr/>
        </p:nvSpPr>
        <p:spPr>
          <a:xfrm>
            <a:off x="-185760" y="-1433520"/>
            <a:ext cx="3956040" cy="8013960"/>
          </a:xfrm>
          <a:prstGeom prst="rect">
            <a:avLst/>
          </a:prstGeom>
          <a:noFill/>
          <a:ln w="0">
            <a:noFill/>
          </a:ln>
          <a:effectLst>
            <a:outerShdw algn="tl" blurRad="165240" dir="1193434" dist="76184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20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endParaRPr b="0" lang="en-US" sz="5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"/>
          <p:cNvSpPr/>
          <p:nvPr/>
        </p:nvSpPr>
        <p:spPr>
          <a:xfrm>
            <a:off x="3579120" y="2154960"/>
            <a:ext cx="5177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LOREM IPSUM DOLOR SIT A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"/>
          <p:cNvSpPr/>
          <p:nvPr/>
        </p:nvSpPr>
        <p:spPr>
          <a:xfrm>
            <a:off x="6077160" y="1397160"/>
            <a:ext cx="2915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微软雅黑"/>
              </a:rPr>
              <a:t>PART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24"/>
          <p:cNvSpPr/>
          <p:nvPr/>
        </p:nvSpPr>
        <p:spPr>
          <a:xfrm>
            <a:off x="3537000" y="2691720"/>
            <a:ext cx="52203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Er Elit Lamet, Consectetaur Cillium Adipisicing Pecu, Sed Do Eiusmod Tempor Incididunt Ut Labo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Box 6"/>
          <p:cNvSpPr/>
          <p:nvPr/>
        </p:nvSpPr>
        <p:spPr>
          <a:xfrm>
            <a:off x="476640" y="96480"/>
            <a:ext cx="3870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Impact"/>
                <a:ea typeface="微软雅黑"/>
              </a:rPr>
              <a:t>INPUT YOUR GOOD IDEA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11"/>
          <p:cNvSpPr/>
          <p:nvPr/>
        </p:nvSpPr>
        <p:spPr>
          <a:xfrm>
            <a:off x="476640" y="430560"/>
            <a:ext cx="3870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微软雅黑"/>
              </a:rPr>
              <a:t>Always believe that something wonderful is about to happ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直接连接符 7"/>
          <p:cNvCxnSpPr/>
          <p:nvPr/>
        </p:nvCxnSpPr>
        <p:spPr>
          <a:xfrm>
            <a:off x="521280" y="681480"/>
            <a:ext cx="351072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392" name="弦形 20"/>
          <p:cNvSpPr/>
          <p:nvPr/>
        </p:nvSpPr>
        <p:spPr>
          <a:xfrm rot="4326600">
            <a:off x="3479400" y="659520"/>
            <a:ext cx="976320" cy="2179080"/>
          </a:xfrm>
          <a:custGeom>
            <a:avLst/>
            <a:gdLst>
              <a:gd name="textAreaLeft" fmla="*/ 0 w 976320"/>
              <a:gd name="textAreaRight" fmla="*/ 976680 w 976320"/>
              <a:gd name="textAreaTop" fmla="*/ 0 h 2179080"/>
              <a:gd name="textAreaBottom" fmla="*/ 2179440 h 2179080"/>
            </a:gdLst>
            <a:ahLst/>
            <a:rect l="textAreaLeft" t="textAreaTop" r="textAreaRight" b="textAreaBottom"/>
            <a:pathLst>
              <a:path w="976515" h="2179550">
                <a:moveTo>
                  <a:pt x="721" y="827023"/>
                </a:moveTo>
                <a:lnTo>
                  <a:pt x="431684" y="510647"/>
                </a:lnTo>
                <a:lnTo>
                  <a:pt x="976515" y="2179550"/>
                </a:lnTo>
                <a:cubicBezTo>
                  <a:pt x="546432" y="2038102"/>
                  <a:pt x="209395" y="1700327"/>
                  <a:pt x="68889" y="1269935"/>
                </a:cubicBezTo>
                <a:cubicBezTo>
                  <a:pt x="21613" y="1125121"/>
                  <a:pt x="-1513" y="975644"/>
                  <a:pt x="721" y="827023"/>
                </a:cubicBezTo>
                <a:close/>
                <a:moveTo>
                  <a:pt x="251160" y="21907"/>
                </a:moveTo>
                <a:cubicBezTo>
                  <a:pt x="254984" y="14076"/>
                  <a:pt x="259946" y="7019"/>
                  <a:pt x="264978" y="0"/>
                </a:cubicBezTo>
                <a:lnTo>
                  <a:pt x="265768" y="2419"/>
                </a:lnTo>
                <a:close/>
                <a:moveTo>
                  <a:pt x="5323" y="716406"/>
                </a:moveTo>
                <a:lnTo>
                  <a:pt x="203" y="802696"/>
                </a:lnTo>
                <a:cubicBezTo>
                  <a:pt x="-574" y="773801"/>
                  <a:pt x="833" y="744974"/>
                  <a:pt x="5323" y="716406"/>
                </a:cubicBezTo>
                <a:close/>
                <a:moveTo>
                  <a:pt x="164474" y="164768"/>
                </a:moveTo>
                <a:cubicBezTo>
                  <a:pt x="175948" y="140419"/>
                  <a:pt x="189215" y="116946"/>
                  <a:pt x="205085" y="94955"/>
                </a:cubicBezTo>
                <a:close/>
                <a:moveTo>
                  <a:pt x="27800" y="553402"/>
                </a:moveTo>
                <a:lnTo>
                  <a:pt x="12987" y="636081"/>
                </a:lnTo>
                <a:cubicBezTo>
                  <a:pt x="15579" y="608141"/>
                  <a:pt x="20198" y="580481"/>
                  <a:pt x="27800" y="553402"/>
                </a:cubicBezTo>
                <a:close/>
                <a:moveTo>
                  <a:pt x="95615" y="315745"/>
                </a:moveTo>
                <a:cubicBezTo>
                  <a:pt x="104369" y="289819"/>
                  <a:pt x="114984" y="264570"/>
                  <a:pt x="128372" y="240524"/>
                </a:cubicBezTo>
                <a:close/>
                <a:moveTo>
                  <a:pt x="49968" y="450037"/>
                </a:moveTo>
                <a:cubicBezTo>
                  <a:pt x="55212" y="431044"/>
                  <a:pt x="60853" y="412148"/>
                  <a:pt x="69001" y="394042"/>
                </a:cubicBezTo>
                <a:lnTo>
                  <a:pt x="44988" y="473257"/>
                </a:lnTo>
                <a:cubicBezTo>
                  <a:pt x="45822" y="465305"/>
                  <a:pt x="47863" y="457663"/>
                  <a:pt x="49968" y="450037"/>
                </a:cubicBezTo>
                <a:close/>
              </a:path>
            </a:pathLst>
          </a:custGeom>
          <a:solidFill>
            <a:schemeClr val="accent3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3" name="弦形 23"/>
          <p:cNvSpPr/>
          <p:nvPr/>
        </p:nvSpPr>
        <p:spPr>
          <a:xfrm rot="8634000">
            <a:off x="4613400" y="706320"/>
            <a:ext cx="976320" cy="2179080"/>
          </a:xfrm>
          <a:custGeom>
            <a:avLst/>
            <a:gdLst>
              <a:gd name="textAreaLeft" fmla="*/ 0 w 976320"/>
              <a:gd name="textAreaRight" fmla="*/ 976680 w 976320"/>
              <a:gd name="textAreaTop" fmla="*/ 0 h 2179080"/>
              <a:gd name="textAreaBottom" fmla="*/ 2179440 h 2179080"/>
            </a:gdLst>
            <a:ahLst/>
            <a:rect l="textAreaLeft" t="textAreaTop" r="textAreaRight" b="textAreaBottom"/>
            <a:pathLst>
              <a:path w="976536" h="2179550">
                <a:moveTo>
                  <a:pt x="249861" y="24000"/>
                </a:moveTo>
                <a:cubicBezTo>
                  <a:pt x="254056" y="15428"/>
                  <a:pt x="259486" y="7692"/>
                  <a:pt x="264999" y="0"/>
                </a:cubicBezTo>
                <a:lnTo>
                  <a:pt x="265828" y="2540"/>
                </a:lnTo>
                <a:close/>
                <a:moveTo>
                  <a:pt x="163416" y="167032"/>
                </a:moveTo>
                <a:cubicBezTo>
                  <a:pt x="174787" y="142557"/>
                  <a:pt x="188047" y="119005"/>
                  <a:pt x="203874" y="96907"/>
                </a:cubicBezTo>
                <a:close/>
                <a:moveTo>
                  <a:pt x="94823" y="318135"/>
                </a:moveTo>
                <a:cubicBezTo>
                  <a:pt x="103445" y="292133"/>
                  <a:pt x="114026" y="266843"/>
                  <a:pt x="127341" y="242733"/>
                </a:cubicBezTo>
                <a:close/>
                <a:moveTo>
                  <a:pt x="44478" y="475734"/>
                </a:moveTo>
                <a:cubicBezTo>
                  <a:pt x="50087" y="448680"/>
                  <a:pt x="57722" y="422126"/>
                  <a:pt x="68204" y="396450"/>
                </a:cubicBezTo>
                <a:close/>
                <a:moveTo>
                  <a:pt x="12765" y="638620"/>
                </a:moveTo>
                <a:cubicBezTo>
                  <a:pt x="15203" y="610692"/>
                  <a:pt x="19766" y="583054"/>
                  <a:pt x="27267" y="555983"/>
                </a:cubicBezTo>
                <a:close/>
                <a:moveTo>
                  <a:pt x="279" y="805278"/>
                </a:moveTo>
                <a:cubicBezTo>
                  <a:pt x="-651" y="776449"/>
                  <a:pt x="698" y="747685"/>
                  <a:pt x="5080" y="719171"/>
                </a:cubicBezTo>
                <a:close/>
                <a:moveTo>
                  <a:pt x="537404" y="1943065"/>
                </a:moveTo>
                <a:cubicBezTo>
                  <a:pt x="321313" y="1771747"/>
                  <a:pt x="156726" y="1538930"/>
                  <a:pt x="68910" y="1269935"/>
                </a:cubicBezTo>
                <a:cubicBezTo>
                  <a:pt x="22163" y="1126742"/>
                  <a:pt x="-971" y="978990"/>
                  <a:pt x="847" y="832007"/>
                </a:cubicBezTo>
                <a:lnTo>
                  <a:pt x="432413" y="512816"/>
                </a:lnTo>
                <a:lnTo>
                  <a:pt x="976536" y="2179550"/>
                </a:lnTo>
                <a:cubicBezTo>
                  <a:pt x="815255" y="2126507"/>
                  <a:pt x="667058" y="2045856"/>
                  <a:pt x="537404" y="1943065"/>
                </a:cubicBezTo>
                <a:close/>
              </a:path>
            </a:pathLst>
          </a:custGeom>
          <a:solidFill>
            <a:srgbClr val="92d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4" name="弦形 26"/>
          <p:cNvSpPr/>
          <p:nvPr/>
        </p:nvSpPr>
        <p:spPr>
          <a:xfrm rot="12929400">
            <a:off x="4925160" y="1795680"/>
            <a:ext cx="976680" cy="2179080"/>
          </a:xfrm>
          <a:custGeom>
            <a:avLst/>
            <a:gdLst>
              <a:gd name="textAreaLeft" fmla="*/ 0 w 976680"/>
              <a:gd name="textAreaRight" fmla="*/ 977040 w 976680"/>
              <a:gd name="textAreaTop" fmla="*/ 0 h 2179080"/>
              <a:gd name="textAreaBottom" fmla="*/ 2179440 h 2179080"/>
            </a:gdLst>
            <a:ahLst/>
            <a:rect l="textAreaLeft" t="textAreaTop" r="textAreaRight" b="textAreaBottom"/>
            <a:pathLst>
              <a:path w="976966" h="2179550">
                <a:moveTo>
                  <a:pt x="259407" y="9548"/>
                </a:moveTo>
                <a:cubicBezTo>
                  <a:pt x="261061" y="6119"/>
                  <a:pt x="263239" y="3056"/>
                  <a:pt x="265429" y="0"/>
                </a:cubicBezTo>
                <a:lnTo>
                  <a:pt x="265856" y="1307"/>
                </a:lnTo>
                <a:close/>
                <a:moveTo>
                  <a:pt x="171270" y="151452"/>
                </a:moveTo>
                <a:cubicBezTo>
                  <a:pt x="182997" y="128666"/>
                  <a:pt x="195840" y="106416"/>
                  <a:pt x="211358" y="85725"/>
                </a:cubicBezTo>
                <a:close/>
                <a:moveTo>
                  <a:pt x="100836" y="301712"/>
                </a:moveTo>
                <a:cubicBezTo>
                  <a:pt x="110271" y="276716"/>
                  <a:pt x="120885" y="252146"/>
                  <a:pt x="134381" y="228862"/>
                </a:cubicBezTo>
                <a:close/>
                <a:moveTo>
                  <a:pt x="48554" y="458734"/>
                </a:moveTo>
                <a:cubicBezTo>
                  <a:pt x="55239" y="432038"/>
                  <a:pt x="63171" y="405657"/>
                  <a:pt x="74139" y="380253"/>
                </a:cubicBezTo>
                <a:close/>
                <a:moveTo>
                  <a:pt x="14855" y="621226"/>
                </a:moveTo>
                <a:cubicBezTo>
                  <a:pt x="18484" y="592975"/>
                  <a:pt x="23483" y="564927"/>
                  <a:pt x="31654" y="537532"/>
                </a:cubicBezTo>
                <a:close/>
                <a:moveTo>
                  <a:pt x="334" y="787642"/>
                </a:moveTo>
                <a:cubicBezTo>
                  <a:pt x="569" y="757672"/>
                  <a:pt x="2380" y="727776"/>
                  <a:pt x="7511" y="698199"/>
                </a:cubicBezTo>
                <a:close/>
                <a:moveTo>
                  <a:pt x="976966" y="2179550"/>
                </a:moveTo>
                <a:cubicBezTo>
                  <a:pt x="546883" y="2038102"/>
                  <a:pt x="209846" y="1700327"/>
                  <a:pt x="69340" y="1269935"/>
                </a:cubicBezTo>
                <a:cubicBezTo>
                  <a:pt x="18998" y="1115730"/>
                  <a:pt x="-3959" y="956238"/>
                  <a:pt x="558" y="798143"/>
                </a:cubicBezTo>
                <a:lnTo>
                  <a:pt x="427961" y="497862"/>
                </a:lnTo>
                <a:close/>
              </a:path>
            </a:pathLst>
          </a:custGeom>
          <a:solidFill>
            <a:srgbClr val="95bc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5" name="弦形 30"/>
          <p:cNvSpPr/>
          <p:nvPr/>
        </p:nvSpPr>
        <p:spPr>
          <a:xfrm rot="17308800">
            <a:off x="3966120" y="2433600"/>
            <a:ext cx="976320" cy="2179080"/>
          </a:xfrm>
          <a:custGeom>
            <a:avLst/>
            <a:gdLst>
              <a:gd name="textAreaLeft" fmla="*/ 0 w 976320"/>
              <a:gd name="textAreaRight" fmla="*/ 976680 w 976320"/>
              <a:gd name="textAreaTop" fmla="*/ 0 h 2179080"/>
              <a:gd name="textAreaBottom" fmla="*/ 2179440 h 2179080"/>
            </a:gdLst>
            <a:ahLst/>
            <a:rect l="textAreaLeft" t="textAreaTop" r="textAreaRight" b="textAreaBottom"/>
            <a:pathLst>
              <a:path w="976545" h="2179550">
                <a:moveTo>
                  <a:pt x="5001" y="720091"/>
                </a:moveTo>
                <a:lnTo>
                  <a:pt x="309" y="806257"/>
                </a:lnTo>
                <a:cubicBezTo>
                  <a:pt x="-678" y="777410"/>
                  <a:pt x="653" y="748627"/>
                  <a:pt x="5001" y="720091"/>
                </a:cubicBezTo>
                <a:close/>
                <a:moveTo>
                  <a:pt x="27092" y="556842"/>
                </a:moveTo>
                <a:lnTo>
                  <a:pt x="12683" y="639580"/>
                </a:lnTo>
                <a:cubicBezTo>
                  <a:pt x="15068" y="611617"/>
                  <a:pt x="19618" y="583948"/>
                  <a:pt x="27092" y="556842"/>
                </a:cubicBezTo>
                <a:close/>
                <a:moveTo>
                  <a:pt x="67939" y="397256"/>
                </a:moveTo>
                <a:lnTo>
                  <a:pt x="44287" y="476668"/>
                </a:lnTo>
                <a:cubicBezTo>
                  <a:pt x="49850" y="449567"/>
                  <a:pt x="57477" y="422975"/>
                  <a:pt x="67939" y="397256"/>
                </a:cubicBezTo>
                <a:close/>
                <a:moveTo>
                  <a:pt x="126994" y="243479"/>
                </a:moveTo>
                <a:lnTo>
                  <a:pt x="94527" y="319034"/>
                </a:lnTo>
                <a:cubicBezTo>
                  <a:pt x="103111" y="292975"/>
                  <a:pt x="113691" y="267640"/>
                  <a:pt x="126994" y="243479"/>
                </a:cubicBezTo>
                <a:close/>
                <a:moveTo>
                  <a:pt x="203462" y="97574"/>
                </a:moveTo>
                <a:lnTo>
                  <a:pt x="163020" y="167881"/>
                </a:lnTo>
                <a:cubicBezTo>
                  <a:pt x="174366" y="143337"/>
                  <a:pt x="187636" y="119733"/>
                  <a:pt x="203462" y="97574"/>
                </a:cubicBezTo>
                <a:close/>
                <a:moveTo>
                  <a:pt x="432679" y="513603"/>
                </a:moveTo>
                <a:lnTo>
                  <a:pt x="976545" y="2179550"/>
                </a:lnTo>
                <a:cubicBezTo>
                  <a:pt x="546462" y="2038102"/>
                  <a:pt x="209425" y="1700327"/>
                  <a:pt x="68919" y="1269935"/>
                </a:cubicBezTo>
                <a:cubicBezTo>
                  <a:pt x="22365" y="1127332"/>
                  <a:pt x="-771" y="980208"/>
                  <a:pt x="895" y="833822"/>
                </a:cubicBezTo>
                <a:close/>
                <a:moveTo>
                  <a:pt x="265008" y="0"/>
                </a:moveTo>
                <a:lnTo>
                  <a:pt x="265851" y="2581"/>
                </a:lnTo>
                <a:lnTo>
                  <a:pt x="249376" y="24783"/>
                </a:lnTo>
                <a:cubicBezTo>
                  <a:pt x="253709" y="15934"/>
                  <a:pt x="259314" y="7943"/>
                  <a:pt x="265008" y="0"/>
                </a:cubicBezTo>
                <a:close/>
              </a:path>
            </a:pathLst>
          </a:cu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6" name="弦形 32"/>
          <p:cNvSpPr/>
          <p:nvPr/>
        </p:nvSpPr>
        <p:spPr>
          <a:xfrm>
            <a:off x="3081960" y="1727640"/>
            <a:ext cx="975960" cy="2179080"/>
          </a:xfrm>
          <a:custGeom>
            <a:avLst/>
            <a:gdLst>
              <a:gd name="textAreaLeft" fmla="*/ 0 w 975960"/>
              <a:gd name="textAreaRight" fmla="*/ 976320 w 975960"/>
              <a:gd name="textAreaTop" fmla="*/ 0 h 2179080"/>
              <a:gd name="textAreaBottom" fmla="*/ 2179440 h 2179080"/>
            </a:gdLst>
            <a:ahLst/>
            <a:rect l="textAreaLeft" t="textAreaTop" r="textAreaRight" b="textAreaBottom"/>
            <a:pathLst>
              <a:path w="976499" h="2179550">
                <a:moveTo>
                  <a:pt x="5707" y="712205"/>
                </a:moveTo>
                <a:lnTo>
                  <a:pt x="105" y="798818"/>
                </a:lnTo>
                <a:cubicBezTo>
                  <a:pt x="-432" y="769809"/>
                  <a:pt x="1062" y="740870"/>
                  <a:pt x="5707" y="712205"/>
                </a:cubicBezTo>
                <a:close/>
                <a:moveTo>
                  <a:pt x="28614" y="549532"/>
                </a:moveTo>
                <a:lnTo>
                  <a:pt x="13335" y="632264"/>
                </a:lnTo>
                <a:cubicBezTo>
                  <a:pt x="16169" y="604311"/>
                  <a:pt x="20870" y="576621"/>
                  <a:pt x="28614" y="549532"/>
                </a:cubicBezTo>
                <a:close/>
                <a:moveTo>
                  <a:pt x="430604" y="507387"/>
                </a:moveTo>
                <a:lnTo>
                  <a:pt x="976499" y="2179550"/>
                </a:lnTo>
                <a:cubicBezTo>
                  <a:pt x="546416" y="2038102"/>
                  <a:pt x="209379" y="1700327"/>
                  <a:pt x="68873" y="1269935"/>
                </a:cubicBezTo>
                <a:cubicBezTo>
                  <a:pt x="20807" y="1122700"/>
                  <a:pt x="-2295" y="970645"/>
                  <a:pt x="546" y="819579"/>
                </a:cubicBezTo>
                <a:close/>
                <a:moveTo>
                  <a:pt x="70200" y="390469"/>
                </a:moveTo>
                <a:lnTo>
                  <a:pt x="45771" y="469532"/>
                </a:lnTo>
                <a:cubicBezTo>
                  <a:pt x="51756" y="442576"/>
                  <a:pt x="59507" y="416061"/>
                  <a:pt x="70200" y="390469"/>
                </a:cubicBezTo>
                <a:close/>
                <a:moveTo>
                  <a:pt x="129902" y="237280"/>
                </a:moveTo>
                <a:lnTo>
                  <a:pt x="96821" y="312151"/>
                </a:lnTo>
                <a:cubicBezTo>
                  <a:pt x="105771" y="286369"/>
                  <a:pt x="116427" y="261208"/>
                  <a:pt x="129902" y="237280"/>
                </a:cubicBezTo>
                <a:close/>
                <a:moveTo>
                  <a:pt x="206847" y="92135"/>
                </a:moveTo>
                <a:lnTo>
                  <a:pt x="166080" y="161365"/>
                </a:lnTo>
                <a:cubicBezTo>
                  <a:pt x="177693" y="137249"/>
                  <a:pt x="190948" y="113935"/>
                  <a:pt x="206847" y="92135"/>
                </a:cubicBezTo>
                <a:close/>
                <a:moveTo>
                  <a:pt x="264962" y="0"/>
                </a:moveTo>
                <a:lnTo>
                  <a:pt x="265680" y="2200"/>
                </a:lnTo>
                <a:lnTo>
                  <a:pt x="253131" y="18758"/>
                </a:lnTo>
                <a:cubicBezTo>
                  <a:pt x="256399" y="12045"/>
                  <a:pt x="260655" y="6008"/>
                  <a:pt x="264962" y="0"/>
                </a:cubicBezTo>
                <a:close/>
              </a:path>
            </a:pathLst>
          </a:cu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97" name="矩形 55"/>
          <p:cNvSpPr/>
          <p:nvPr/>
        </p:nvSpPr>
        <p:spPr>
          <a:xfrm>
            <a:off x="3406320" y="1491480"/>
            <a:ext cx="697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56"/>
          <p:cNvSpPr/>
          <p:nvPr/>
        </p:nvSpPr>
        <p:spPr>
          <a:xfrm>
            <a:off x="4824000" y="1491480"/>
            <a:ext cx="697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57"/>
          <p:cNvSpPr/>
          <p:nvPr/>
        </p:nvSpPr>
        <p:spPr>
          <a:xfrm>
            <a:off x="3082320" y="2747880"/>
            <a:ext cx="697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58"/>
          <p:cNvSpPr/>
          <p:nvPr/>
        </p:nvSpPr>
        <p:spPr>
          <a:xfrm>
            <a:off x="5220000" y="2747880"/>
            <a:ext cx="697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59"/>
          <p:cNvSpPr/>
          <p:nvPr/>
        </p:nvSpPr>
        <p:spPr>
          <a:xfrm>
            <a:off x="4187160" y="3471840"/>
            <a:ext cx="697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60"/>
          <p:cNvSpPr/>
          <p:nvPr/>
        </p:nvSpPr>
        <p:spPr>
          <a:xfrm>
            <a:off x="3872880" y="2106720"/>
            <a:ext cx="1311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Arial"/>
                <a:ea typeface="微软雅黑"/>
              </a:rPr>
              <a:t>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61"/>
          <p:cNvSpPr/>
          <p:nvPr/>
        </p:nvSpPr>
        <p:spPr>
          <a:xfrm>
            <a:off x="3683160" y="2431440"/>
            <a:ext cx="16898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404040"/>
                </a:solidFill>
                <a:latin typeface="Arial"/>
                <a:ea typeface="微软雅黑"/>
              </a:rPr>
              <a:t>Lorem Ipsum Dolor Sit Er Elit Lame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62"/>
          <p:cNvSpPr/>
          <p:nvPr/>
        </p:nvSpPr>
        <p:spPr>
          <a:xfrm>
            <a:off x="1043640" y="1059480"/>
            <a:ext cx="1937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Arial"/>
                <a:ea typeface="微软雅黑"/>
              </a:rPr>
              <a:t>01.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3"/>
          <p:cNvSpPr/>
          <p:nvPr/>
        </p:nvSpPr>
        <p:spPr>
          <a:xfrm>
            <a:off x="1043640" y="1382040"/>
            <a:ext cx="19375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64"/>
          <p:cNvSpPr/>
          <p:nvPr/>
        </p:nvSpPr>
        <p:spPr>
          <a:xfrm>
            <a:off x="1043640" y="2769120"/>
            <a:ext cx="1937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50000"/>
                  </a:schemeClr>
                </a:solidFill>
                <a:latin typeface="Arial"/>
                <a:ea typeface="微软雅黑"/>
              </a:rPr>
              <a:t>05.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65"/>
          <p:cNvSpPr/>
          <p:nvPr/>
        </p:nvSpPr>
        <p:spPr>
          <a:xfrm>
            <a:off x="1043640" y="3091320"/>
            <a:ext cx="19375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66"/>
          <p:cNvSpPr/>
          <p:nvPr/>
        </p:nvSpPr>
        <p:spPr>
          <a:xfrm>
            <a:off x="6139080" y="464760"/>
            <a:ext cx="1937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92d050"/>
                </a:solidFill>
                <a:latin typeface="Arial"/>
                <a:ea typeface="微软雅黑"/>
              </a:rPr>
              <a:t>02.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67"/>
          <p:cNvSpPr/>
          <p:nvPr/>
        </p:nvSpPr>
        <p:spPr>
          <a:xfrm>
            <a:off x="6139080" y="786960"/>
            <a:ext cx="19375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68"/>
          <p:cNvSpPr/>
          <p:nvPr/>
        </p:nvSpPr>
        <p:spPr>
          <a:xfrm>
            <a:off x="6150960" y="1815840"/>
            <a:ext cx="1937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75000"/>
                  </a:schemeClr>
                </a:solidFill>
                <a:latin typeface="Arial"/>
                <a:ea typeface="微软雅黑"/>
              </a:rPr>
              <a:t>03.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69"/>
          <p:cNvSpPr/>
          <p:nvPr/>
        </p:nvSpPr>
        <p:spPr>
          <a:xfrm>
            <a:off x="6150960" y="2138040"/>
            <a:ext cx="19375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70"/>
          <p:cNvSpPr/>
          <p:nvPr/>
        </p:nvSpPr>
        <p:spPr>
          <a:xfrm>
            <a:off x="6162480" y="3201120"/>
            <a:ext cx="1937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  <a:ea typeface="微软雅黑"/>
              </a:rPr>
              <a:t>04.Lorem I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71"/>
          <p:cNvSpPr/>
          <p:nvPr/>
        </p:nvSpPr>
        <p:spPr>
          <a:xfrm>
            <a:off x="6162480" y="3523320"/>
            <a:ext cx="19375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微软雅黑"/>
              </a:rPr>
              <a:t>Lorem Ipsum Dolor Sit Er Elit Lamet, Consectetaur Cillium Adipisicing Pe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  <Words>1555</Words>
  <Paragraphs>23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5T07:38:53Z</dcterms:modified>
  <cp:revision>57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23</vt:r8>
  </property>
</Properties>
</file>