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012-9AB3-48BF-9D9D-E2FE449A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608-3585-4498-BCBD-40F6CC4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669-A660-4401-819C-A682AF15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C77-3416-4F4B-B7C5-D7DB870E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23A-5721-4B8D-8DD8-D1A686EE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8BB-7ED3-4551-AD0E-03FBC98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AA6-5C39-4A0E-958C-344A86C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757F-E21E-4B78-BC0F-B0DD064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BFAC-7306-4A5D-8971-E511CA16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273-7FAC-4497-A49F-A3775014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3D4-519D-4D8E-ABB8-86F8300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0C5-3FC1-4284-BBF4-B1AA84C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D624-38B5-4968-94DF-0970058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D28-9780-4398-A68E-88E6548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14D4-C4C9-4E9F-9284-CA7D282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AAE-FBF6-4ED0-88D0-E604AE88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FBF7-C32D-4A51-B73F-5AEDB52A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0CE-F445-46D6-A570-B4D8D646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217-F8DD-45D5-BBE8-7D8B599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835-EDCA-40B2-8434-3B859F9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9B1-1C33-4704-8C79-761C715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A46-4FD7-4E5A-958C-C24549D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2A5-E885-4125-B331-71751E5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63E-12BA-4E79-9AA3-47FD80F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 hidden="1"/>
          <p:cNvSpPr/>
          <p:nvPr/>
        </p:nvSpPr>
        <p:spPr>
          <a:xfrm>
            <a:off x="0" y="0"/>
            <a:ext cx="9143640" cy="498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35053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5f5f5f"/>
                </a:solidFill>
                <a:latin typeface="Eurosti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1CA2AE-116C-4DF2-BFF9-18942D8FEB26}" type="slidenum">
              <a:rPr b="0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3"/>
          <p:cNvSpPr/>
          <p:nvPr/>
        </p:nvSpPr>
        <p:spPr>
          <a:xfrm>
            <a:off x="0" y="0"/>
            <a:ext cx="9143640" cy="498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Eurosti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Franklin Gothic Book"/>
              </a:rPr>
              <a:t>单击此处编辑母版文本样式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Franklin Gothic Book"/>
              </a:rPr>
              <a:t>第二级</a:t>
            </a:r>
            <a:endParaRPr b="0" i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Franklin Gothic Book"/>
              </a:rPr>
              <a:t>第三级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16002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Franklin Gothic Book"/>
              </a:rPr>
              <a:t>第四级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057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Franklin Gothic Book"/>
              </a:rPr>
              <a:t>第五级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099DA-8B4A-497A-87CD-2C68C6A45D3B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5053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5f5f5f"/>
                </a:solidFill>
                <a:latin typeface="Eurostile"/>
                <a:ea typeface="宋体"/>
              </a:rPr>
              <a:t>Azur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4720" y="3962520"/>
            <a:ext cx="5675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Franklin Gothic Book"/>
                <a:ea typeface="宋体"/>
              </a:rPr>
              <a:t>Your Subtitle Goes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0440" y="260640"/>
            <a:ext cx="9435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半透明方块立体化创意蓝灰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37339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44720" y="4191120"/>
            <a:ext cx="5675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i="1" lang="en-US" sz="1400" spc="-1" strike="noStrike">
              <a:solidFill>
                <a:srgbClr val="5f5f5f"/>
              </a:solidFill>
              <a:latin typeface="Franklin Gothic Book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77000" y="551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azure_solution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zure_solution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zure_solution</Template>
  <TotalTime>11</TotalTime>
  <Application>LibreOffice/7.4.7.2$Linux_X86_64 LibreOffice_project/40$Build-2</Application>
  <AppVersion>15.0000</AppVersion>
  <Words>46</Words>
  <Paragraphs>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3:34:23Z</dcterms:created>
  <dc:creator>微软中国</dc:creator>
  <dc:description/>
  <dc:language>en-US</dc:language>
  <cp:lastModifiedBy>a</cp:lastModifiedBy>
  <dcterms:modified xsi:type="dcterms:W3CDTF">2015-07-25T07:39:37Z</dcterms:modified>
  <cp:revision>5</cp:revision>
  <dc:subject/>
  <dc:title>Azure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