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48309659"/>
        <c:axId val="61515078"/>
      </c:barChart>
      <c:catAx>
        <c:axId val="483096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1515078"/>
        <c:crosses val="autoZero"/>
        <c:auto val="1"/>
        <c:lblAlgn val="ctr"/>
        <c:lblOffset val="100"/>
        <c:noMultiLvlLbl val="0"/>
      </c:catAx>
      <c:valAx>
        <c:axId val="61515078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830965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99109159"/>
        <c:axId val="69753163"/>
      </c:barChart>
      <c:catAx>
        <c:axId val="991091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9753163"/>
        <c:crosses val="autoZero"/>
        <c:auto val="1"/>
        <c:lblAlgn val="ctr"/>
        <c:lblOffset val="100"/>
        <c:noMultiLvlLbl val="0"/>
      </c:catAx>
      <c:valAx>
        <c:axId val="69753163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910915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3985569"/>
        <c:axId val="90994686"/>
      </c:lineChart>
      <c:catAx>
        <c:axId val="39855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0994686"/>
        <c:crosses val="autoZero"/>
        <c:auto val="1"/>
        <c:lblAlgn val="ctr"/>
        <c:lblOffset val="100"/>
        <c:noMultiLvlLbl val="0"/>
      </c:catAx>
      <c:valAx>
        <c:axId val="90994686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98556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86739133"/>
        <c:axId val="174564"/>
      </c:barChart>
      <c:catAx>
        <c:axId val="867391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74564"/>
        <c:crosses val="autoZero"/>
        <c:auto val="1"/>
        <c:lblAlgn val="ctr"/>
        <c:lblOffset val="100"/>
        <c:noMultiLvlLbl val="0"/>
      </c:catAx>
      <c:valAx>
        <c:axId val="174564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6739133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317C8C-9E2D-4F59-8C9C-382957411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30873A86-5ACA-42A5-860D-9004107B55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7C2-4033-4B90-B220-1E064A8E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0E0-477D-4FBE-9A8D-56BF9FD4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CCD-A125-462C-9A94-0FC6B44F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BB6-4C6F-4483-B2E6-2F58359E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F055-BC33-41A9-BF41-90CAA399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B2C-7B5E-4341-9944-A31A413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273E-A5B0-4AFF-B6D0-F9D9486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EBF8-98C9-4893-BFFB-71E8CFA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3FE0-101C-4C1A-A075-1B72CE3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8759-5CE1-40FA-A56D-04CCA11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1B4-7FB1-4950-A159-177233C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A94-64CB-4B77-B164-78A2034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D0C9-58F8-4E1F-91A9-23DCBE0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61CC-4629-4A8C-B47A-433138A8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02C-798E-4E78-AAE0-673EA22A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D7B-83BD-4CD3-9553-52BBA3A5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4A6E-7420-42FF-B5AD-A5C2AB6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DFE8-46D5-46DA-AB83-987090F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9750-F7FD-4296-B3CB-A373600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ECE2-6015-45C8-AA75-A56CF70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4453-0CAF-4ADA-81F7-46B82903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2FB1-CB11-48EB-84B3-9A03C4E4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DAC-BF9F-472E-8CAA-306285A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6591-DC07-4633-A067-05E4F820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081E-D9E7-4BA2-B646-330501B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4D01-DB66-4CDF-B1BF-FCAB3D01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8FB7-527B-49B0-A3DE-2F0EED4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B3B0-97A5-4638-97D1-B7E64457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A11E-C54D-410A-9637-C15F7779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CBAB-249C-45A9-8746-7F22BDDD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8B68-EEF0-446F-866F-88CF4BBA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925E-6779-432F-BC37-AB1ECB86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AFFA-5A63-4823-856C-802AEA8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80F-44C1-47D3-B1F6-2639CC0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E61D-EFDA-4229-8306-A7AFD590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A514-4C6C-4DFD-918E-4D2B778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4E64-7F39-4B8F-95C4-48F62C3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0540-80A0-4E3D-ADB1-8A50B6B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E075-DD8D-458C-9279-49CDD409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74F7-F771-4DA3-9C30-0B111146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DED2-A35A-473B-9388-362C4ECE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35CC-3260-4732-B254-0A78502A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8A46-1967-428B-899C-9AA62A51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EFE1-8CB1-4A9D-87F2-AEEBF78D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C86-3F14-4E85-ABDF-584365B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91BB-9A83-4218-9404-C8D5762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C126-2E7E-44F7-8F1D-CED00BF9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711BC-60A9-4EE5-B11A-95162FC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609B8-2F52-404F-95A3-B4A550D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5693-A7DC-4F80-BECB-20AF84A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57D8-5B1B-4C7F-AC84-B90DF3B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EE7C-5386-48B8-A7CC-488E2AA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2B91-2F73-4382-A24F-FDA441B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9E00-8B8D-4E11-B3BC-D7575D9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2A0D-ABF2-47A8-BD9B-1942E13B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E91-1237-454C-A535-E30E94F2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8D031-1EB7-4084-AB52-A3AF382F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2067-1D0C-4F5C-B81F-9BC91E0B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16F0-291E-4B2B-BE67-F0E99508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C7D7F-ADA4-4F5C-BCD4-4999AF03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BF82-BC48-4EA3-91AA-2078E324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DCA0-680E-4089-97A4-1B1C13F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43A8-22B1-4E97-A0FE-F4BACCA9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F525-1E88-4B5E-AE3B-D774B9A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C8C1-7C8A-4FAD-BFAE-A74EE0C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39C2-0641-4553-9E61-C6DBD75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C58-348F-440B-9A37-1B842A5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2CB3-FEF1-4C35-99A8-91F0CAA5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4271-E024-4407-AC12-2298117B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0D2A-BC19-4B60-B2E1-44B3C648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67B6-74A4-4229-82C3-53F9484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C06F-4C2E-4C89-BE19-A5B541E2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267B-3FE1-4A21-B980-C171B8C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C5529-2FCB-4328-B1CB-9D2398FF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76703-B8F0-4B8B-804A-5284251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104B-9912-49C2-8CCB-B3BDC400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4F22-A6F3-4F48-98DD-B54A601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EF6-41D1-4676-A778-49D9478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6866-E4B9-4413-9329-447455E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E9872-1E38-4381-9B97-729C03B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C2BE1-F94D-455D-AC28-05E30DB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9D32-5D0A-4D7A-B479-944E1A7F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19C6-42FC-4D7E-8DCC-408DD8BB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D489F-96EB-4404-B15C-6DF5B0CE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5A2E-1838-4C5C-B7F8-8AEF49D8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0D65-16BD-4BE9-9CAE-BEA93770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F421-4548-4707-BA24-D1B1036D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CFE7-242F-42F0-BD65-1DA17FC0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F9A-E6C8-4224-8C7A-8350CD7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A5E1-5C6A-4E54-884A-F2BB789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537A6-AEC7-4B8D-9139-73B0216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3F18A-C037-47F4-A1AA-89443398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56D2B-A077-403D-B9C5-EBEA1B0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9AB3-D6F1-4279-A1F8-0B3DA85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5DB18-FBE1-457E-A3C6-9D54DF8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2698-1C1C-4832-8278-3575CD5D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8DF5C5-9B1E-4E4D-A429-D963450B4DCD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2C83BB-8C3E-46FB-9DD1-B8CC3AB4547A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6.jpg"/>
          <p:cNvPicPr/>
          <p:nvPr/>
        </p:nvPicPr>
        <p:blipFill>
          <a:blip r:embed="rId3"/>
          <a:srcRect l="0" t="0" r="0" b="3952"/>
          <a:stretch/>
        </p:blipFill>
        <p:spPr>
          <a:xfrm>
            <a:off x="0" y="271080"/>
            <a:ext cx="9166680" cy="6586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604B937-EA51-49B8-89BB-9E5D6748FE64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181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C0FCA-5889-4391-B6FA-8F0261F8284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F3F9479-2893-4F13-8EE7-A35AAB2F2EB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F435433-D9B1-435F-A736-074920CF366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5236B0-08DA-48C8-9DCA-13F88A9BF73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CE87498-8C5D-4FB0-8AA8-E8F528905691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城市建筑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569-3DE0-4F4D-A4B3-A89D424BD0E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B6299-53D7-4899-BC62-964335110492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952360" y="325980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>
                <a:solidFill>
                  <a:srgbClr val="0e0e0e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DD8134-1115-4F27-BA96-CC071DA0FE58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18550-0028-45C7-AA1B-56E1CAF11D0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11564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C65-E217-4DA0-A88E-79CD124D88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2106F3-AD39-4AF6-9710-212C2B3BDDF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A43F5-3117-43D5-9949-1B8FE78A49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AA3703FF-1209-4F12-8D46-A6A6EDACEDD2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4C8786-8759-45C7-88A5-2A1C80FA25AA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F912E-71E9-4B30-AEC7-BE4454EBDB1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81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CFE1-F3BB-43B4-9F05-492352224F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2795D5F4-7BE2-40C8-99A7-17530389E60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8473-31E5-4A83-B0D9-F5216249CA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46102A7F-631F-42A0-98B2-B36FFF83454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27081397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3620-6518-467F-8FAC-75C2A6BEE5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AB75DFB-11DD-4A3F-92BF-EE8848945EA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817470447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EFC8-3A9D-458E-AA44-D4AC8E68A7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27D175F-73A7-4B70-A455-BCF2DF0252BD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0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1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1564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F83C-7290-46B5-B5F3-2FA208B90D7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3E1E8CAC-095D-42AD-9D21-316FD3A0A9B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C552-2A98-4FC8-B559-BD3B5389EA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CC6856E1-3CB1-4FD6-B316-80177D418545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DB29-86E3-44D2-B421-25E957B7F1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DC55FB94-B82C-47B0-AB33-051D7AAA01E5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3</Template>
  <TotalTime>1</TotalTime>
  <Application>LibreOffice/7.4.7.2$Linux_X86_64 LibreOffice_project/40$Build-2</Application>
  <AppVersion>15.0000</AppVersion>
  <Words>532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30:15Z</dcterms:created>
  <dc:creator>lenovo</dc:creator>
  <dc:description>我爱PPT中文网</dc:description>
  <cp:keywords>XS-普屏 4：3 SC-淡蓝色 BG-浅色 DH-静态 XJ-二级</cp:keywords>
  <dc:language>en-US</dc:language>
  <cp:lastModifiedBy>王玉清</cp:lastModifiedBy>
  <dcterms:modified xsi:type="dcterms:W3CDTF">2016-02-21T04:07:48Z</dcterms:modified>
  <cp:revision>3</cp:revision>
  <dc:subject>TP-商务公关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