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1968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15840" y="205704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352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1968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15840" y="3888000"/>
            <a:ext cx="22816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3520" y="6858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4840" y="388800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4840" y="2057040"/>
            <a:ext cx="3458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520" y="3888000"/>
            <a:ext cx="7086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0844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3" marL="155196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4" marL="1995480" indent="-2214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3352680"/>
            <a:ext cx="85838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财务状况报告商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437920" y="47239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当前和未来的构想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前景陈述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前景和长期发展方向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目标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所要达到的目标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所要达到的目标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必要，则使用多个观点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当前的情况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当前情况摘要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使用简要的项目符号，以口头方式讨论详细信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如何出现了当前情况？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任何相关的历史信息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不再有效的原始假设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可用选项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备选策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列出每个策略的优点和缺点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陈述每个选项的成本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5280" y="6237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6858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推荐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荐一个或多个策略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如果事情按照建议的方式进行，则概述结果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一步的操作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确定操作项目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9:58:27Z</dcterms:created>
  <dc:creator>ppt宝藏</dc:creator>
  <dc:description/>
  <dc:language>en-US</dc:language>
  <cp:lastModifiedBy>a</cp:lastModifiedBy>
  <dcterms:modified xsi:type="dcterms:W3CDTF">2015-07-25T06:45:13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2052</vt:lpwstr>
  </property>
</Properties>
</file>