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ABF-D84D-47F1-8C38-1DB8B8DD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FDD-4C35-4824-BB18-B4108166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F75-F730-474F-ADB4-48A13AF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362-38EC-465B-8A0B-5F361EB4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20E-06AC-4E68-A96E-83EE25A2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14A-30B7-4AE2-805D-3ED3A1EA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98E-7E79-4CF7-BFB6-8CC7D4B1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456-4477-4D1F-A705-3ED8BA9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927-5E03-4B06-A3DA-AA08BED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7CF-2617-4361-A47D-8E0993C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9CF-0D57-47C1-9F63-3B0D93C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5C0-D1B4-4E2B-BBF7-79C7B7F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9239-4DE3-4E19-8885-F0BD1E011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114000" y="28036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春意盎然通用</a:t>
            </a:r>
            <a:r>
              <a:rPr b="0" lang="en-US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443600" y="32590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695920" cy="1087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30120" y="65412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Matura MT Script Capitals"/>
                <a:ea typeface="华文行楷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3"/>
          <a:stretch/>
        </p:blipFill>
        <p:spPr>
          <a:xfrm>
            <a:off x="426960" y="1865160"/>
            <a:ext cx="403560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6"/>
          <p:cNvSpPr/>
          <p:nvPr/>
        </p:nvSpPr>
        <p:spPr>
          <a:xfrm flipV="1">
            <a:off x="4859280" y="1628640"/>
            <a:ext cx="0" cy="4176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827680" y="34862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Kozuka Gothic Pro L"/>
                <a:ea typeface="Kozuka Gothic Pro L"/>
              </a:rPr>
              <a:t>Add your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799720" y="2803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7:3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春天 春意盎然 PPT 模板</cp:keywords>
  <dc:language>en-US</dc:language>
  <cp:lastModifiedBy>王玉清</cp:lastModifiedBy>
  <cp:lastPrinted>1899-12-30T00:00:00Z</cp:lastPrinted>
  <dcterms:modified xsi:type="dcterms:W3CDTF">2016-02-22T02:47:32Z</dcterms:modified>
  <cp:revision>9</cp:revision>
  <dc:subject>春天</dc:subject>
  <dc:title>春天来春意盎然PPT模板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