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282-11EE-4949-A4EF-49B55150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211-2FC9-442A-85AD-6E8FFAAB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37D-00C6-4F18-BB64-E345F82B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C75-C0A7-43EC-B14E-3B9BB973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36FC-7BA4-4C6A-A65D-6889FACB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53CE-757C-4F7E-85C3-F26B6E46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4325-B7C2-40F4-BDAE-5F696B32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1DA5-D095-4D26-B642-D14A93C2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2B9E-548F-49E6-88A5-3F5520C5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C0C7-43CD-4CF8-AFF5-216E2229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F7F9-D5CA-4E92-9DD4-6DD5CDBB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114-1BCC-4487-AB3A-1B14C65B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A993-FDF3-405F-AEDB-42378BE9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5DF8-72F2-4B2A-A347-C3E29B1C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25C3-42DB-4EEA-9C6E-A65A22B7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81D5-CB5B-43F0-8F10-F5944B28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FB0F-A5DB-470F-B3FE-6EFAD246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DB6F-F972-425F-967E-E2CBBFCF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CB9B-B069-4B31-A7D4-A17118A3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F2CB-2E42-4A32-B9E5-05784F09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E403-DE71-4A7B-A997-C4559F8B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14C9-9942-4CA1-ACBD-BB5A3F3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EC2-7A11-4BCA-BBD7-E474EFB9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23B4-3A56-4DF5-A902-7087E6E6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7556-0334-47D0-8590-E6A9A4F7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D729-5B48-4D63-93DA-6D2E3CA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65CE-7A90-487B-9A6D-C508EF80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E9698-50F2-413C-8ADA-2C6D9C26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0CAB-3BF4-4049-9BA6-89011B3C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F2ED-0528-4328-B20A-F62A3351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358-EF61-4488-83C4-4C6E85D8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120-69BF-4830-81F0-3C07FAA7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66B-E3BE-4412-BC7F-DB452E8C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D61-A874-448C-A0A7-78C3A95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953-36F8-402A-901B-5366D045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998-A853-451D-AD0F-C634C948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S_Puzzling_World_0516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8518-C3A5-4A0B-AD19-733FF7EABE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P_Puzzling_World_0516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7ECF-5D87-414B-9DDC-1F35D7F4D3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T_Puzzling_World_0516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AB4C-7A9E-4A01-B43E-B5CA9F920B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2537280" y="90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绿色拼图背景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LT_Puzzling_World_0516副本"/>
          <p:cNvPicPr/>
          <p:nvPr/>
        </p:nvPicPr>
        <p:blipFill>
          <a:blip r:embed="rId1"/>
          <a:stretch/>
        </p:blipFill>
        <p:spPr>
          <a:xfrm>
            <a:off x="666720" y="1916280"/>
            <a:ext cx="203364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pic>
        <p:nvPicPr>
          <p:cNvPr id="133" name="Picture 3" descr="LS_Puzzling_World_0516副本"/>
          <p:cNvPicPr/>
          <p:nvPr/>
        </p:nvPicPr>
        <p:blipFill>
          <a:blip r:embed="rId2"/>
          <a:stretch/>
        </p:blipFill>
        <p:spPr>
          <a:xfrm>
            <a:off x="3546360" y="1916280"/>
            <a:ext cx="203364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pic>
        <p:nvPicPr>
          <p:cNvPr id="134" name="Picture 4" descr="LP_Puzzling_World_0516副本"/>
          <p:cNvPicPr/>
          <p:nvPr/>
        </p:nvPicPr>
        <p:blipFill>
          <a:blip r:embed="rId3"/>
          <a:stretch/>
        </p:blipFill>
        <p:spPr>
          <a:xfrm>
            <a:off x="6426360" y="1916280"/>
            <a:ext cx="203328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135" name="Text Box 5"/>
          <p:cNvSpPr/>
          <p:nvPr/>
        </p:nvSpPr>
        <p:spPr>
          <a:xfrm>
            <a:off x="684360" y="3860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635280" y="3860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516720" y="386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Details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528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16:49Z</dcterms:created>
  <dc:creator>www.pptbz.com</dc:creator>
  <dc:description/>
  <cp:keywords/>
  <dc:language>en-US</dc:language>
  <cp:lastModifiedBy>a</cp:lastModifiedBy>
  <cp:lastPrinted>1899-12-30T00:00:00Z</cp:lastPrinted>
  <dcterms:modified xsi:type="dcterms:W3CDTF">2015-07-25T12:12:34Z</dcterms:modified>
  <cp:revision>6</cp:revision>
  <dc:subject/>
  <dc:title>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