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Label 1</c:v>
                </c:pt>
              </c:strCache>
            </c:strRef>
          </c:tx>
          <c:spPr>
            <a:solidFill>
              <a:srgbClr val="344246"/>
            </a:solidFill>
            <a:ln w="9360">
              <a:solidFill>
                <a:srgbClr val="252e31"/>
              </a:solidFill>
              <a:round/>
            </a:ln>
          </c:spPr>
          <c:invertIfNegative val="0"/>
          <c:dLbls>
            <c:txPr>
              <a:bodyPr wrap="square"/>
              <a:lstStyle/>
              <a:p>
                <a:pPr>
                  <a:defRPr b="0" sz="1800" spc="-1" strike="noStrike">
                    <a:solidFill>
                      <a:srgbClr val="344246"/>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Brand 1</c:v>
                </c:pt>
                <c:pt idx="1">
                  <c:v>Brand 2</c:v>
                </c:pt>
                <c:pt idx="2">
                  <c:v>Brand 3</c:v>
                </c:pt>
              </c:strCache>
            </c:strRef>
          </c:cat>
          <c:val>
            <c:numRef>
              <c:f>0</c:f>
              <c:numCache>
                <c:formatCode>General</c:formatCode>
                <c:ptCount val="3"/>
                <c:pt idx="0">
                  <c:v>5</c:v>
                </c:pt>
                <c:pt idx="1">
                  <c:v>2</c:v>
                </c:pt>
                <c:pt idx="2">
                  <c:v>4</c:v>
                </c:pt>
              </c:numCache>
            </c:numRef>
          </c:val>
        </c:ser>
        <c:ser>
          <c:idx val="1"/>
          <c:order val="1"/>
          <c:tx>
            <c:strRef>
              <c:f>label 1</c:f>
              <c:strCache>
                <c:ptCount val="1"/>
                <c:pt idx="0">
                  <c:v>Label 2</c:v>
                </c:pt>
              </c:strCache>
            </c:strRef>
          </c:tx>
          <c:spPr>
            <a:solidFill>
              <a:srgbClr val="e52c50"/>
            </a:solidFill>
            <a:ln w="9360">
              <a:solidFill>
                <a:srgbClr val="a81c37"/>
              </a:solidFill>
              <a:round/>
            </a:ln>
          </c:spPr>
          <c:invertIfNegative val="0"/>
          <c:dLbls>
            <c:txPr>
              <a:bodyPr wrap="square"/>
              <a:lstStyle/>
              <a:p>
                <a:pPr>
                  <a:defRPr b="0" sz="1800" spc="-1" strike="noStrike">
                    <a:solidFill>
                      <a:srgbClr val="344246"/>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Brand 1</c:v>
                </c:pt>
                <c:pt idx="1">
                  <c:v>Brand 2</c:v>
                </c:pt>
                <c:pt idx="2">
                  <c:v>Brand 3</c:v>
                </c:pt>
              </c:strCache>
            </c:strRef>
          </c:cat>
          <c:val>
            <c:numRef>
              <c:f>1</c:f>
              <c:numCache>
                <c:formatCode>General</c:formatCode>
                <c:ptCount val="3"/>
                <c:pt idx="0">
                  <c:v>2</c:v>
                </c:pt>
                <c:pt idx="1">
                  <c:v>5</c:v>
                </c:pt>
                <c:pt idx="2">
                  <c:v>2</c:v>
                </c:pt>
              </c:numCache>
            </c:numRef>
          </c:val>
        </c:ser>
        <c:gapWidth val="150"/>
        <c:overlap val="0"/>
        <c:axId val="2565991"/>
        <c:axId val="72306503"/>
      </c:barChart>
      <c:catAx>
        <c:axId val="2565991"/>
        <c:scaling>
          <c:orientation val="minMax"/>
        </c:scaling>
        <c:delete val="0"/>
        <c:axPos val="b"/>
        <c:numFmt formatCode="General" sourceLinked="0"/>
        <c:majorTickMark val="out"/>
        <c:minorTickMark val="none"/>
        <c:tickLblPos val="nextTo"/>
        <c:spPr>
          <a:ln w="9360">
            <a:solidFill>
              <a:srgbClr val="8c8f90"/>
            </a:solidFill>
            <a:round/>
          </a:ln>
        </c:spPr>
        <c:txPr>
          <a:bodyPr/>
          <a:lstStyle/>
          <a:p>
            <a:pPr>
              <a:defRPr b="0" sz="1100" spc="-1" strike="noStrike">
                <a:solidFill>
                  <a:srgbClr val="344246"/>
                </a:solidFill>
                <a:latin typeface="Verdana"/>
                <a:ea typeface="Verdana"/>
              </a:defRPr>
            </a:pPr>
          </a:p>
        </c:txPr>
        <c:crossAx val="72306503"/>
        <c:crosses val="autoZero"/>
        <c:auto val="1"/>
        <c:lblAlgn val="ctr"/>
        <c:lblOffset val="100"/>
        <c:noMultiLvlLbl val="0"/>
      </c:catAx>
      <c:valAx>
        <c:axId val="72306503"/>
        <c:scaling>
          <c:orientation val="minMax"/>
        </c:scaling>
        <c:delete val="1"/>
        <c:axPos val="l"/>
        <c:numFmt formatCode="General" sourceLinked="1"/>
        <c:majorTickMark val="out"/>
        <c:minorTickMark val="none"/>
        <c:tickLblPos val="nextTo"/>
        <c:spPr>
          <a:ln w="9360">
            <a:solidFill>
              <a:srgbClr val="8c8f90"/>
            </a:solidFill>
            <a:round/>
          </a:ln>
        </c:spPr>
        <c:txPr>
          <a:bodyPr/>
          <a:lstStyle/>
          <a:p>
            <a:pPr>
              <a:defRPr b="0" sz="1800" spc="-1" strike="noStrike">
                <a:solidFill>
                  <a:srgbClr val="344246"/>
                </a:solidFill>
                <a:latin typeface="Calibri"/>
              </a:defRPr>
            </a:pPr>
          </a:p>
        </c:txPr>
        <c:crossAx val="2565991"/>
        <c:crossBetween val="between"/>
      </c:valAx>
      <c:spPr>
        <a:noFill/>
        <a:ln w="0">
          <a:noFill/>
        </a:ln>
      </c:spPr>
    </c:plotArea>
    <c:legend>
      <c:legendPos val="r"/>
      <c:overlay val="0"/>
      <c:spPr>
        <a:noFill/>
        <a:ln w="0">
          <a:noFill/>
        </a:ln>
      </c:spPr>
      <c:txPr>
        <a:bodyPr/>
        <a:lstStyle/>
        <a:p>
          <a:pPr>
            <a:defRPr b="0" sz="1200" spc="-1" strike="noStrike">
              <a:solidFill>
                <a:srgbClr val="344246"/>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data</c:v>
                </c:pt>
              </c:strCache>
            </c:strRef>
          </c:tx>
          <c:spPr>
            <a:gradFill>
              <a:gsLst>
                <a:gs pos="0">
                  <a:srgbClr val="243236"/>
                </a:gs>
                <a:gs pos="100000">
                  <a:srgbClr val="2f4046"/>
                </a:gs>
              </a:gsLst>
              <a:lin ang="16200000"/>
            </a:gradFill>
            <a:ln w="0">
              <a:noFill/>
            </a:ln>
          </c:spPr>
          <c:explosion val="0"/>
          <c:dPt>
            <c:idx val="0"/>
            <c:spPr>
              <a:gradFill>
                <a:gsLst>
                  <a:gs pos="0">
                    <a:srgbClr val="243236"/>
                  </a:gs>
                  <a:gs pos="100000">
                    <a:srgbClr val="2f4046"/>
                  </a:gs>
                </a:gsLst>
                <a:lin ang="16200000"/>
              </a:gradFill>
              <a:ln w="0">
                <a:noFill/>
              </a:ln>
            </c:spPr>
          </c:dPt>
          <c:dPt>
            <c:idx val="1"/>
            <c:spPr>
              <a:gradFill>
                <a:gsLst>
                  <a:gs pos="0">
                    <a:srgbClr val="bf0b2e"/>
                  </a:gs>
                  <a:gs pos="100000">
                    <a:srgbClr val="f80f3d"/>
                  </a:gs>
                </a:gsLst>
                <a:lin ang="16200000"/>
              </a:gradFill>
              <a:ln w="0">
                <a:noFill/>
              </a:ln>
            </c:spPr>
          </c:dPt>
          <c:dPt>
            <c:idx val="2"/>
            <c:spPr>
              <a:gradFill>
                <a:gsLst>
                  <a:gs pos="0">
                    <a:srgbClr val="5199a6"/>
                  </a:gs>
                  <a:gs pos="100000">
                    <a:srgbClr val="6ac7d8"/>
                  </a:gs>
                </a:gsLst>
                <a:lin ang="16200000"/>
              </a:gradFill>
              <a:ln w="0">
                <a:noFill/>
              </a:ln>
            </c:spPr>
          </c:dPt>
          <c:dPt>
            <c:idx val="3"/>
            <c:spPr>
              <a:gradFill>
                <a:gsLst>
                  <a:gs pos="0">
                    <a:srgbClr val="bdba66"/>
                  </a:gs>
                  <a:gs pos="100000">
                    <a:srgbClr val="f5f285"/>
                  </a:gs>
                </a:gsLst>
                <a:lin ang="16200000"/>
              </a:gradFill>
              <a:ln w="0">
                <a:noFill/>
              </a:ln>
            </c:spPr>
          </c:dPt>
          <c:dLbls>
            <c:numFmt formatCode="g/&quot;通用格式&quot;" sourceLinked="0"/>
            <c:dLbl>
              <c:idx val="0"/>
              <c:numFmt formatCode="g/&quot;通用格式&quot;" sourceLinked="0"/>
              <c:txPr>
                <a:bodyPr wrap="square"/>
                <a:lstStyle/>
                <a:p>
                  <a:pPr>
                    <a:defRPr b="1" sz="1800" spc="-1" strike="noStrike">
                      <a:solidFill>
                        <a:srgbClr val="ffffff"/>
                      </a:solidFill>
                      <a:latin typeface="Calibri"/>
                    </a:defRPr>
                  </a:pPr>
                </a:p>
              </c:txPr>
              <c:dLblPos val="inEnd"/>
              <c:showLegendKey val="0"/>
              <c:showVal val="1"/>
              <c:showCatName val="0"/>
              <c:showSerName val="0"/>
              <c:showPercent val="0"/>
              <c:separator>; </c:separator>
            </c:dLbl>
            <c:dLbl>
              <c:idx val="1"/>
              <c:numFmt formatCode="g/&quot;通用格式&quot;" sourceLinked="0"/>
              <c:txPr>
                <a:bodyPr wrap="square"/>
                <a:lstStyle/>
                <a:p>
                  <a:pPr>
                    <a:defRPr b="1" sz="1800" spc="-1" strike="noStrike">
                      <a:solidFill>
                        <a:srgbClr val="ffffff"/>
                      </a:solidFill>
                      <a:latin typeface="Calibri"/>
                    </a:defRPr>
                  </a:pPr>
                </a:p>
              </c:txPr>
              <c:dLblPos val="inEnd"/>
              <c:showLegendKey val="0"/>
              <c:showVal val="1"/>
              <c:showCatName val="0"/>
              <c:showSerName val="0"/>
              <c:showPercent val="0"/>
              <c:separator>; </c:separator>
            </c:dLbl>
            <c:dLbl>
              <c:idx val="2"/>
              <c:numFmt formatCode="g/&quot;通用格式&quot;" sourceLinked="0"/>
              <c:txPr>
                <a:bodyPr wrap="square"/>
                <a:lstStyle/>
                <a:p>
                  <a:pPr>
                    <a:defRPr b="1" sz="1800" spc="-1" strike="noStrike">
                      <a:solidFill>
                        <a:srgbClr val="344246"/>
                      </a:solidFill>
                      <a:latin typeface="Calibri"/>
                    </a:defRPr>
                  </a:pPr>
                </a:p>
              </c:txPr>
              <c:dLblPos val="inEnd"/>
              <c:showLegendKey val="0"/>
              <c:showVal val="1"/>
              <c:showCatName val="0"/>
              <c:showSerName val="0"/>
              <c:showPercent val="0"/>
              <c:separator>; </c:separator>
            </c:dLbl>
            <c:dLbl>
              <c:idx val="3"/>
              <c:numFmt formatCode="g/&quot;通用格式&quot;" sourceLinked="0"/>
              <c:txPr>
                <a:bodyPr wrap="square"/>
                <a:lstStyle/>
                <a:p>
                  <a:pPr>
                    <a:defRPr b="1" sz="1800" spc="-1" strike="noStrike">
                      <a:solidFill>
                        <a:srgbClr val="344246"/>
                      </a:solidFill>
                      <a:latin typeface="Calibri"/>
                    </a:defRPr>
                  </a:pPr>
                </a:p>
              </c:txPr>
              <c:dLblPos val="inEnd"/>
              <c:showLegendKey val="0"/>
              <c:showVal val="1"/>
              <c:showCatName val="0"/>
              <c:showSerName val="0"/>
              <c:showPercent val="0"/>
              <c:separator>; </c:separator>
            </c:dLbl>
            <c:txPr>
              <a:bodyPr wrap="square"/>
              <a:lstStyle/>
              <a:p>
                <a:pPr>
                  <a:defRPr b="1" sz="1800" spc="-1" strike="noStrike">
                    <a:solidFill>
                      <a:srgbClr val="344246"/>
                    </a:solidFill>
                    <a:latin typeface="Calibri"/>
                  </a:defRPr>
                </a:pPr>
              </a:p>
            </c:txPr>
            <c:dLblPos val="inEnd"/>
            <c:showLegendKey val="0"/>
            <c:showVal val="1"/>
            <c:showCatName val="0"/>
            <c:showSerName val="0"/>
            <c:showPercent val="0"/>
            <c:separator>; </c:separator>
            <c:showLeaderLines val="1"/>
          </c:dLbls>
          <c:cat>
            <c:strRef>
              <c:f>categories</c:f>
              <c:strCache>
                <c:ptCount val="4"/>
                <c:pt idx="0">
                  <c:v>data1</c:v>
                </c:pt>
                <c:pt idx="1">
                  <c:v>data2</c:v>
                </c:pt>
                <c:pt idx="2">
                  <c:v>data3</c:v>
                </c:pt>
                <c:pt idx="3">
                  <c:v>data4</c:v>
                </c:pt>
              </c:strCache>
            </c:strRef>
          </c:cat>
          <c:val>
            <c:numRef>
              <c:f>0</c:f>
              <c:numCache>
                <c:formatCode>General</c:formatCode>
                <c:ptCount val="4"/>
                <c:pt idx="0">
                  <c:v>8.2</c:v>
                </c:pt>
                <c:pt idx="1">
                  <c:v>3.2</c:v>
                </c:pt>
                <c:pt idx="2">
                  <c:v>1.4</c:v>
                </c:pt>
                <c:pt idx="3">
                  <c:v>1.2</c:v>
                </c:pt>
              </c:numCache>
            </c:numRef>
          </c:val>
        </c:ser>
        <c:firstSliceAng val="0"/>
      </c:pieChart>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344246"/>
                </a:solidFill>
                <a:latin typeface="Calibri"/>
              </a:rPr>
              <a:t>Click to move the slide</a:t>
            </a:r>
            <a:endParaRPr b="0" lang="en-US" sz="1800" spc="-1" strike="noStrike">
              <a:solidFill>
                <a:srgbClr val="344246"/>
              </a:solidFill>
              <a:latin typeface="Calibri"/>
            </a:endParaRPr>
          </a:p>
        </p:txBody>
      </p:sp>
      <p:sp>
        <p:nvSpPr>
          <p:cNvPr id="16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0" name="PlaceHolder 4"/>
          <p:cNvSpPr>
            <a:spLocks noGrp="1"/>
          </p:cNvSpPr>
          <p:nvPr>
            <p:ph type="dt" idx="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 name="PlaceHolder 5"/>
          <p:cNvSpPr>
            <a:spLocks noGrp="1"/>
          </p:cNvSpPr>
          <p:nvPr>
            <p:ph type="ftr" idx="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6"/>
          <p:cNvSpPr>
            <a:spLocks noGrp="1"/>
          </p:cNvSpPr>
          <p:nvPr>
            <p:ph type="sldNum" idx="1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2867F70-A299-4A17-833D-4FCE35976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F819C86-2D73-4487-B34F-AA1AB91FC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2"/>
          <p:cNvSpPr>
            <a:spLocks noGrp="1"/>
          </p:cNvSpPr>
          <p:nvPr>
            <p:ph type="sldImg"/>
          </p:nvPr>
        </p:nvSpPr>
        <p:spPr>
          <a:xfrm>
            <a:off x="1143000" y="685800"/>
            <a:ext cx="4571640" cy="3428640"/>
          </a:xfrm>
          <a:prstGeom prst="rect">
            <a:avLst/>
          </a:prstGeom>
          <a:ln w="0">
            <a:noFill/>
          </a:ln>
        </p:spPr>
      </p:sp>
      <p:sp>
        <p:nvSpPr>
          <p:cNvPr id="37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99E482B-EF81-46CA-994E-4C4C93ACA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2"/>
          <p:cNvSpPr>
            <a:spLocks noGrp="1"/>
          </p:cNvSpPr>
          <p:nvPr>
            <p:ph type="sldImg"/>
          </p:nvPr>
        </p:nvSpPr>
        <p:spPr>
          <a:xfrm>
            <a:off x="1143000" y="685800"/>
            <a:ext cx="4571640" cy="3428640"/>
          </a:xfrm>
          <a:prstGeom prst="rect">
            <a:avLst/>
          </a:prstGeom>
          <a:ln w="0">
            <a:noFill/>
          </a:ln>
        </p:spPr>
      </p:sp>
      <p:sp>
        <p:nvSpPr>
          <p:cNvPr id="38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D3C4814-84D2-4266-9940-ED43B3907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2"/>
          <p:cNvSpPr>
            <a:spLocks noGrp="1"/>
          </p:cNvSpPr>
          <p:nvPr>
            <p:ph type="sldImg"/>
          </p:nvPr>
        </p:nvSpPr>
        <p:spPr>
          <a:xfrm>
            <a:off x="1143000" y="685800"/>
            <a:ext cx="4571640" cy="3428640"/>
          </a:xfrm>
          <a:prstGeom prst="rect">
            <a:avLst/>
          </a:prstGeom>
          <a:ln w="0">
            <a:noFill/>
          </a:ln>
        </p:spPr>
      </p:sp>
      <p:sp>
        <p:nvSpPr>
          <p:cNvPr id="36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78A2ABE-E76B-42EC-90F5-CAB435213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2"/>
          <p:cNvSpPr>
            <a:spLocks noGrp="1"/>
          </p:cNvSpPr>
          <p:nvPr>
            <p:ph type="sldImg"/>
          </p:nvPr>
        </p:nvSpPr>
        <p:spPr>
          <a:xfrm>
            <a:off x="1143000" y="685800"/>
            <a:ext cx="4571640" cy="3428640"/>
          </a:xfrm>
          <a:prstGeom prst="rect">
            <a:avLst/>
          </a:prstGeom>
          <a:ln w="0">
            <a:noFill/>
          </a:ln>
        </p:spPr>
      </p:sp>
      <p:sp>
        <p:nvSpPr>
          <p:cNvPr id="36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F92B5DC-4DB6-49E8-BC74-881CB61A2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2"/>
          <p:cNvSpPr>
            <a:spLocks noGrp="1"/>
          </p:cNvSpPr>
          <p:nvPr>
            <p:ph type="sldImg"/>
          </p:nvPr>
        </p:nvSpPr>
        <p:spPr>
          <a:xfrm>
            <a:off x="1143000" y="685800"/>
            <a:ext cx="4571640" cy="3428640"/>
          </a:xfrm>
          <a:prstGeom prst="rect">
            <a:avLst/>
          </a:prstGeom>
          <a:ln w="0">
            <a:noFill/>
          </a:ln>
        </p:spPr>
      </p:sp>
      <p:sp>
        <p:nvSpPr>
          <p:cNvPr id="37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0A80A3F-67B2-45EF-9CD5-DDCFE92CB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2"/>
          <p:cNvSpPr>
            <a:spLocks noGrp="1"/>
          </p:cNvSpPr>
          <p:nvPr>
            <p:ph type="sldImg"/>
          </p:nvPr>
        </p:nvSpPr>
        <p:spPr>
          <a:xfrm>
            <a:off x="1143000" y="685800"/>
            <a:ext cx="4571640" cy="3428640"/>
          </a:xfrm>
          <a:prstGeom prst="rect">
            <a:avLst/>
          </a:prstGeom>
          <a:ln w="0">
            <a:noFill/>
          </a:ln>
        </p:spPr>
      </p:sp>
      <p:sp>
        <p:nvSpPr>
          <p:cNvPr id="37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27" name="PlaceHolder 2"/>
          <p:cNvSpPr>
            <a:spLocks noGrp="1"/>
          </p:cNvSpPr>
          <p:nvPr>
            <p:ph/>
          </p:nvPr>
        </p:nvSpPr>
        <p:spPr>
          <a:xfrm>
            <a:off x="467640" y="177264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8" name="PlaceHolder 3"/>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0"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1"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2"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3" name="PlaceHolder 5"/>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5" name="PlaceHolder 2"/>
          <p:cNvSpPr>
            <a:spLocks noGrp="1"/>
          </p:cNvSpPr>
          <p:nvPr>
            <p:ph/>
          </p:nvPr>
        </p:nvSpPr>
        <p:spPr>
          <a:xfrm>
            <a:off x="4676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6" name="PlaceHolder 3"/>
          <p:cNvSpPr>
            <a:spLocks noGrp="1"/>
          </p:cNvSpPr>
          <p:nvPr>
            <p:ph/>
          </p:nvPr>
        </p:nvSpPr>
        <p:spPr>
          <a:xfrm>
            <a:off x="32432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7" name="PlaceHolder 4"/>
          <p:cNvSpPr>
            <a:spLocks noGrp="1"/>
          </p:cNvSpPr>
          <p:nvPr>
            <p:ph/>
          </p:nvPr>
        </p:nvSpPr>
        <p:spPr>
          <a:xfrm>
            <a:off x="60188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8" name="PlaceHolder 5"/>
          <p:cNvSpPr>
            <a:spLocks noGrp="1"/>
          </p:cNvSpPr>
          <p:nvPr>
            <p:ph/>
          </p:nvPr>
        </p:nvSpPr>
        <p:spPr>
          <a:xfrm>
            <a:off x="4676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39" name="PlaceHolder 6"/>
          <p:cNvSpPr>
            <a:spLocks noGrp="1"/>
          </p:cNvSpPr>
          <p:nvPr>
            <p:ph/>
          </p:nvPr>
        </p:nvSpPr>
        <p:spPr>
          <a:xfrm>
            <a:off x="32432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0" name="PlaceHolder 7"/>
          <p:cNvSpPr>
            <a:spLocks noGrp="1"/>
          </p:cNvSpPr>
          <p:nvPr>
            <p:ph/>
          </p:nvPr>
        </p:nvSpPr>
        <p:spPr>
          <a:xfrm>
            <a:off x="60188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A1509-34CE-4302-B4E5-623E4E3D43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48" name="PlaceHolder 2"/>
          <p:cNvSpPr>
            <a:spLocks noGrp="1"/>
          </p:cNvSpPr>
          <p:nvPr>
            <p:ph type="subTitle"/>
          </p:nvPr>
        </p:nvSpPr>
        <p:spPr>
          <a:xfrm>
            <a:off x="467640" y="1772640"/>
            <a:ext cx="8208720" cy="4320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968C0-942D-4E61-8824-58CB65E510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50" name="PlaceHolder 2"/>
          <p:cNvSpPr>
            <a:spLocks noGrp="1"/>
          </p:cNvSpPr>
          <p:nvPr>
            <p:ph/>
          </p:nvPr>
        </p:nvSpPr>
        <p:spPr>
          <a:xfrm>
            <a:off x="467640" y="1772640"/>
            <a:ext cx="8208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4C842-81D0-4D8E-9E03-C5FEBFFE6C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52"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3"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C8139-B5AA-4AFB-8E14-79D5280392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EB18F-E537-40B7-839E-BE9C6BA76A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649080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5AD19-993C-4D44-ADE7-B5DF4CE5A8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57"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8"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9"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67CB9-0251-4DEB-AB4F-86CD37D3F6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6" name="PlaceHolder 2"/>
          <p:cNvSpPr>
            <a:spLocks noGrp="1"/>
          </p:cNvSpPr>
          <p:nvPr>
            <p:ph type="subTitle"/>
          </p:nvPr>
        </p:nvSpPr>
        <p:spPr>
          <a:xfrm>
            <a:off x="467640" y="1772640"/>
            <a:ext cx="8208720" cy="4320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61"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2"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3" name="PlaceHolder 4"/>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62FCE-ED2C-4AE2-93AA-7CADB37775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65"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6"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7" name="PlaceHolder 4"/>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42FC4-99EC-4B4D-93CF-60D99B2EFC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69" name="PlaceHolder 2"/>
          <p:cNvSpPr>
            <a:spLocks noGrp="1"/>
          </p:cNvSpPr>
          <p:nvPr>
            <p:ph/>
          </p:nvPr>
        </p:nvSpPr>
        <p:spPr>
          <a:xfrm>
            <a:off x="467640" y="177264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0" name="PlaceHolder 3"/>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B5905-40C0-463C-86C9-F1BA096F61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72"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3"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4"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5" name="PlaceHolder 5"/>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08EC4-74DE-4B7B-9624-E53DB16C34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77" name="PlaceHolder 2"/>
          <p:cNvSpPr>
            <a:spLocks noGrp="1"/>
          </p:cNvSpPr>
          <p:nvPr>
            <p:ph/>
          </p:nvPr>
        </p:nvSpPr>
        <p:spPr>
          <a:xfrm>
            <a:off x="4676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8" name="PlaceHolder 3"/>
          <p:cNvSpPr>
            <a:spLocks noGrp="1"/>
          </p:cNvSpPr>
          <p:nvPr>
            <p:ph/>
          </p:nvPr>
        </p:nvSpPr>
        <p:spPr>
          <a:xfrm>
            <a:off x="32432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9" name="PlaceHolder 4"/>
          <p:cNvSpPr>
            <a:spLocks noGrp="1"/>
          </p:cNvSpPr>
          <p:nvPr>
            <p:ph/>
          </p:nvPr>
        </p:nvSpPr>
        <p:spPr>
          <a:xfrm>
            <a:off x="60188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80" name="PlaceHolder 5"/>
          <p:cNvSpPr>
            <a:spLocks noGrp="1"/>
          </p:cNvSpPr>
          <p:nvPr>
            <p:ph/>
          </p:nvPr>
        </p:nvSpPr>
        <p:spPr>
          <a:xfrm>
            <a:off x="4676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81" name="PlaceHolder 6"/>
          <p:cNvSpPr>
            <a:spLocks noGrp="1"/>
          </p:cNvSpPr>
          <p:nvPr>
            <p:ph/>
          </p:nvPr>
        </p:nvSpPr>
        <p:spPr>
          <a:xfrm>
            <a:off x="32432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82" name="PlaceHolder 7"/>
          <p:cNvSpPr>
            <a:spLocks noGrp="1"/>
          </p:cNvSpPr>
          <p:nvPr>
            <p:ph/>
          </p:nvPr>
        </p:nvSpPr>
        <p:spPr>
          <a:xfrm>
            <a:off x="60188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68854-5CFF-40B7-A88A-1C716B8E8CA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26684F-5F0F-40B2-95EF-147EF2B3B0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91" name="PlaceHolder 2"/>
          <p:cNvSpPr>
            <a:spLocks noGrp="1"/>
          </p:cNvSpPr>
          <p:nvPr>
            <p:ph type="subTitle"/>
          </p:nvPr>
        </p:nvSpPr>
        <p:spPr>
          <a:xfrm>
            <a:off x="467640" y="1772640"/>
            <a:ext cx="8208720" cy="4320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41B3A-D280-49F3-89FE-8C07A9AA69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93" name="PlaceHolder 2"/>
          <p:cNvSpPr>
            <a:spLocks noGrp="1"/>
          </p:cNvSpPr>
          <p:nvPr>
            <p:ph/>
          </p:nvPr>
        </p:nvSpPr>
        <p:spPr>
          <a:xfrm>
            <a:off x="467640" y="1772640"/>
            <a:ext cx="8208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BFB15-6B66-4839-9142-F2BC430525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95"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6"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56601-D3F9-44BB-A943-D2A3F1EC65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A5886-A0D3-49FD-8712-DC14B1729B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8" name="PlaceHolder 2"/>
          <p:cNvSpPr>
            <a:spLocks noGrp="1"/>
          </p:cNvSpPr>
          <p:nvPr>
            <p:ph/>
          </p:nvPr>
        </p:nvSpPr>
        <p:spPr>
          <a:xfrm>
            <a:off x="467640" y="1772640"/>
            <a:ext cx="8208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680"/>
            <a:ext cx="649080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8ACE26-AC4A-4DD7-A3A1-E6458CDEA5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00"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1"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2"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52BA1-5488-4114-B1FF-BDDC311978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04"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5"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6" name="PlaceHolder 4"/>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023F93-6023-49EC-9B22-B93C7A1616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08"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09"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0" name="PlaceHolder 4"/>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18CAA-3ECB-4D07-80AC-C9A745C39EA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12" name="PlaceHolder 2"/>
          <p:cNvSpPr>
            <a:spLocks noGrp="1"/>
          </p:cNvSpPr>
          <p:nvPr>
            <p:ph/>
          </p:nvPr>
        </p:nvSpPr>
        <p:spPr>
          <a:xfrm>
            <a:off x="467640" y="177264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3" name="PlaceHolder 3"/>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49A5C3-B15F-46EE-B51B-FAE64437A9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15"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6"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7"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8" name="PlaceHolder 5"/>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8612F7-E2E3-4B2C-8CF2-ADD04F2D46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20" name="PlaceHolder 2"/>
          <p:cNvSpPr>
            <a:spLocks noGrp="1"/>
          </p:cNvSpPr>
          <p:nvPr>
            <p:ph/>
          </p:nvPr>
        </p:nvSpPr>
        <p:spPr>
          <a:xfrm>
            <a:off x="4676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1" name="PlaceHolder 3"/>
          <p:cNvSpPr>
            <a:spLocks noGrp="1"/>
          </p:cNvSpPr>
          <p:nvPr>
            <p:ph/>
          </p:nvPr>
        </p:nvSpPr>
        <p:spPr>
          <a:xfrm>
            <a:off x="32432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2" name="PlaceHolder 4"/>
          <p:cNvSpPr>
            <a:spLocks noGrp="1"/>
          </p:cNvSpPr>
          <p:nvPr>
            <p:ph/>
          </p:nvPr>
        </p:nvSpPr>
        <p:spPr>
          <a:xfrm>
            <a:off x="60188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3" name="PlaceHolder 5"/>
          <p:cNvSpPr>
            <a:spLocks noGrp="1"/>
          </p:cNvSpPr>
          <p:nvPr>
            <p:ph/>
          </p:nvPr>
        </p:nvSpPr>
        <p:spPr>
          <a:xfrm>
            <a:off x="4676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4" name="PlaceHolder 6"/>
          <p:cNvSpPr>
            <a:spLocks noGrp="1"/>
          </p:cNvSpPr>
          <p:nvPr>
            <p:ph/>
          </p:nvPr>
        </p:nvSpPr>
        <p:spPr>
          <a:xfrm>
            <a:off x="32432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25" name="PlaceHolder 7"/>
          <p:cNvSpPr>
            <a:spLocks noGrp="1"/>
          </p:cNvSpPr>
          <p:nvPr>
            <p:ph/>
          </p:nvPr>
        </p:nvSpPr>
        <p:spPr>
          <a:xfrm>
            <a:off x="60188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F40635-0547-4BB6-A20E-D3512A04D8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84A5105-D175-420B-9330-DB5557E4CC7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32" name="PlaceHolder 2"/>
          <p:cNvSpPr>
            <a:spLocks noGrp="1"/>
          </p:cNvSpPr>
          <p:nvPr>
            <p:ph type="subTitle"/>
          </p:nvPr>
        </p:nvSpPr>
        <p:spPr>
          <a:xfrm>
            <a:off x="467640" y="1772640"/>
            <a:ext cx="8208720" cy="4320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7AD09DB-AEF8-4D28-85ED-077D29D5167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34" name="PlaceHolder 2"/>
          <p:cNvSpPr>
            <a:spLocks noGrp="1"/>
          </p:cNvSpPr>
          <p:nvPr>
            <p:ph/>
          </p:nvPr>
        </p:nvSpPr>
        <p:spPr>
          <a:xfrm>
            <a:off x="467640" y="1772640"/>
            <a:ext cx="8208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602254-5D3D-4F14-8307-085021FBA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0"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1"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36"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37"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FD6FBAC-1EB1-440F-B241-55C5B271992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6A780B9-FD37-42CC-8BAE-2BC61A81E0B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680"/>
            <a:ext cx="649080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C616F64-AB12-4575-8C23-66EA44F4BE2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41"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42"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43"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01D809-90AF-402C-91C7-14CD6F4031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45"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46"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47" name="PlaceHolder 4"/>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6D23A3-C090-436A-8861-82E166D5E5C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49"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0"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1" name="PlaceHolder 4"/>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AACCD00-2DAB-4E75-985D-DAC2B46EF2A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53" name="PlaceHolder 2"/>
          <p:cNvSpPr>
            <a:spLocks noGrp="1"/>
          </p:cNvSpPr>
          <p:nvPr>
            <p:ph/>
          </p:nvPr>
        </p:nvSpPr>
        <p:spPr>
          <a:xfrm>
            <a:off x="467640" y="177264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4" name="PlaceHolder 3"/>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B2DEFF5-D9EC-4060-A041-09F9898DE9E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56"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7"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8"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59" name="PlaceHolder 5"/>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F6FDA18-239C-4AC5-95F4-6FF55A0B2EA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61" name="PlaceHolder 2"/>
          <p:cNvSpPr>
            <a:spLocks noGrp="1"/>
          </p:cNvSpPr>
          <p:nvPr>
            <p:ph/>
          </p:nvPr>
        </p:nvSpPr>
        <p:spPr>
          <a:xfrm>
            <a:off x="4676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2" name="PlaceHolder 3"/>
          <p:cNvSpPr>
            <a:spLocks noGrp="1"/>
          </p:cNvSpPr>
          <p:nvPr>
            <p:ph/>
          </p:nvPr>
        </p:nvSpPr>
        <p:spPr>
          <a:xfrm>
            <a:off x="32432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3" name="PlaceHolder 4"/>
          <p:cNvSpPr>
            <a:spLocks noGrp="1"/>
          </p:cNvSpPr>
          <p:nvPr>
            <p:ph/>
          </p:nvPr>
        </p:nvSpPr>
        <p:spPr>
          <a:xfrm>
            <a:off x="6018840" y="177264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4" name="PlaceHolder 5"/>
          <p:cNvSpPr>
            <a:spLocks noGrp="1"/>
          </p:cNvSpPr>
          <p:nvPr>
            <p:ph/>
          </p:nvPr>
        </p:nvSpPr>
        <p:spPr>
          <a:xfrm>
            <a:off x="4676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5" name="PlaceHolder 6"/>
          <p:cNvSpPr>
            <a:spLocks noGrp="1"/>
          </p:cNvSpPr>
          <p:nvPr>
            <p:ph/>
          </p:nvPr>
        </p:nvSpPr>
        <p:spPr>
          <a:xfrm>
            <a:off x="32432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6" name="PlaceHolder 7"/>
          <p:cNvSpPr>
            <a:spLocks noGrp="1"/>
          </p:cNvSpPr>
          <p:nvPr>
            <p:ph/>
          </p:nvPr>
        </p:nvSpPr>
        <p:spPr>
          <a:xfrm>
            <a:off x="6018840" y="4029120"/>
            <a:ext cx="26431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2ADE3FE-FEE6-4DD4-A292-05129021CA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649080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5"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6" name="PlaceHolder 3"/>
          <p:cNvSpPr>
            <a:spLocks noGrp="1"/>
          </p:cNvSpPr>
          <p:nvPr>
            <p:ph/>
          </p:nvPr>
        </p:nvSpPr>
        <p:spPr>
          <a:xfrm>
            <a:off x="467388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17" name="PlaceHolder 4"/>
          <p:cNvSpPr>
            <a:spLocks noGrp="1"/>
          </p:cNvSpPr>
          <p:nvPr>
            <p:ph/>
          </p:nvPr>
        </p:nvSpPr>
        <p:spPr>
          <a:xfrm>
            <a:off x="46764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19" name="PlaceHolder 2"/>
          <p:cNvSpPr>
            <a:spLocks noGrp="1"/>
          </p:cNvSpPr>
          <p:nvPr>
            <p:ph/>
          </p:nvPr>
        </p:nvSpPr>
        <p:spPr>
          <a:xfrm>
            <a:off x="467640" y="1772640"/>
            <a:ext cx="4005720" cy="43200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0"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1" name="PlaceHolder 4"/>
          <p:cNvSpPr>
            <a:spLocks noGrp="1"/>
          </p:cNvSpPr>
          <p:nvPr>
            <p:ph/>
          </p:nvPr>
        </p:nvSpPr>
        <p:spPr>
          <a:xfrm>
            <a:off x="4673880" y="402912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6490800" cy="1142640"/>
          </a:xfrm>
          <a:prstGeom prst="rect">
            <a:avLst/>
          </a:prstGeom>
          <a:noFill/>
          <a:ln w="0">
            <a:noFill/>
          </a:ln>
        </p:spPr>
        <p:txBody>
          <a:bodyPr lIns="0" rIns="0" tIns="0" bIns="0" anchor="ctr">
            <a:noAutofit/>
          </a:bodyPr>
          <a:p>
            <a:pPr indent="0">
              <a:buNone/>
            </a:pPr>
            <a:endParaRPr b="0" lang="en-US" sz="1800" spc="-1" strike="noStrike">
              <a:solidFill>
                <a:srgbClr val="344246"/>
              </a:solidFill>
              <a:latin typeface="Calibri"/>
            </a:endParaRPr>
          </a:p>
        </p:txBody>
      </p:sp>
      <p:sp>
        <p:nvSpPr>
          <p:cNvPr id="23" name="PlaceHolder 2"/>
          <p:cNvSpPr>
            <a:spLocks noGrp="1"/>
          </p:cNvSpPr>
          <p:nvPr>
            <p:ph/>
          </p:nvPr>
        </p:nvSpPr>
        <p:spPr>
          <a:xfrm>
            <a:off x="46764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4" name="PlaceHolder 3"/>
          <p:cNvSpPr>
            <a:spLocks noGrp="1"/>
          </p:cNvSpPr>
          <p:nvPr>
            <p:ph/>
          </p:nvPr>
        </p:nvSpPr>
        <p:spPr>
          <a:xfrm>
            <a:off x="4673880" y="1772640"/>
            <a:ext cx="4005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25" name="PlaceHolder 4"/>
          <p:cNvSpPr>
            <a:spLocks noGrp="1"/>
          </p:cNvSpPr>
          <p:nvPr>
            <p:ph/>
          </p:nvPr>
        </p:nvSpPr>
        <p:spPr>
          <a:xfrm>
            <a:off x="467640" y="4029120"/>
            <a:ext cx="8208720" cy="2060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344246"/>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1" name="Picture 2" descr="C:\Users\Utilisateur\Documents\Perso\sho8\GOUTTES\fondgoutte1.jpg"/>
          <p:cNvPicPr/>
          <p:nvPr/>
        </p:nvPicPr>
        <p:blipFill>
          <a:blip r:embed="rId2"/>
          <a:stretch/>
        </p:blipFill>
        <p:spPr>
          <a:xfrm>
            <a:off x="0" y="0"/>
            <a:ext cx="9143640" cy="6857640"/>
          </a:xfrm>
          <a:prstGeom prst="rect">
            <a:avLst/>
          </a:prstGeom>
          <a:ln w="0">
            <a:noFill/>
          </a:ln>
        </p:spPr>
      </p:pic>
      <p:sp>
        <p:nvSpPr>
          <p:cNvPr id="2" name="PlaceHolder 1"/>
          <p:cNvSpPr>
            <a:spLocks noGrp="1"/>
          </p:cNvSpPr>
          <p:nvPr>
            <p:ph type="title"/>
          </p:nvPr>
        </p:nvSpPr>
        <p:spPr>
          <a:xfrm>
            <a:off x="395640" y="2925000"/>
            <a:ext cx="7605720" cy="1469520"/>
          </a:xfrm>
          <a:prstGeom prst="rect">
            <a:avLst/>
          </a:prstGeom>
          <a:noFill/>
          <a:ln w="0">
            <a:noFill/>
          </a:ln>
        </p:spPr>
        <p:txBody>
          <a:bodyPr lIns="0" rIns="0" anchor="ctr">
            <a:noAutofit/>
          </a:bodyPr>
          <a:p>
            <a:pPr indent="0" algn="r">
              <a:lnSpc>
                <a:spcPct val="100000"/>
              </a:lnSpc>
              <a:buNone/>
            </a:pPr>
            <a:r>
              <a:rPr b="0" lang="en-US" sz="4000" spc="-1" strike="noStrike">
                <a:solidFill>
                  <a:srgbClr val="343846"/>
                </a:solidFill>
                <a:latin typeface="Verdana"/>
                <a:ea typeface="Verdana"/>
              </a:rPr>
              <a:t>Click to edit Master title style</a:t>
            </a:r>
            <a:endParaRPr b="0" lang="en-US" sz="4000" spc="-1" strike="noStrike">
              <a:solidFill>
                <a:srgbClr val="344246"/>
              </a:solidFill>
              <a:latin typeface="Calibri"/>
            </a:endParaRPr>
          </a:p>
        </p:txBody>
      </p:sp>
      <p:sp>
        <p:nvSpPr>
          <p:cNvPr id="3" name="PlaceHolder 2"/>
          <p:cNvSpPr>
            <a:spLocks noGrp="1"/>
          </p:cNvSpPr>
          <p:nvPr>
            <p:ph type="dt" idx="1"/>
          </p:nvPr>
        </p:nvSpPr>
        <p:spPr>
          <a:xfrm>
            <a:off x="5598000" y="4437000"/>
            <a:ext cx="240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344246"/>
                </a:solidFill>
                <a:latin typeface="Verdana"/>
              </a:rPr>
              <a:t>Click to edit the outline text format</a:t>
            </a:r>
            <a:endParaRPr b="0" lang="en-US" sz="2400" spc="-1" strike="noStrike">
              <a:solidFill>
                <a:srgbClr val="344246"/>
              </a:solidFill>
              <a:latin typeface="Verdana"/>
            </a:endParaRPr>
          </a:p>
          <a:p>
            <a:pPr lvl="1" marL="864000" indent="-324000">
              <a:spcBef>
                <a:spcPts val="1134"/>
              </a:spcBef>
              <a:buClr>
                <a:srgbClr val="000000"/>
              </a:buClr>
              <a:buSzPct val="75000"/>
              <a:buFont typeface="Symbol" charset="2"/>
              <a:buChar char=""/>
            </a:pPr>
            <a:r>
              <a:rPr b="0" lang="en-US" sz="1800" spc="-1" strike="noStrike">
                <a:solidFill>
                  <a:srgbClr val="344246"/>
                </a:solidFill>
                <a:latin typeface="Verdana"/>
              </a:rPr>
              <a:t>Second Outline Level</a:t>
            </a:r>
            <a:endParaRPr b="0" lang="en-US" sz="1800" spc="-1" strike="noStrike">
              <a:solidFill>
                <a:srgbClr val="344246"/>
              </a:solidFill>
              <a:latin typeface="Verdana"/>
            </a:endParaRPr>
          </a:p>
          <a:p>
            <a:pPr lvl="2" marL="1296000" indent="-288000">
              <a:spcBef>
                <a:spcPts val="850"/>
              </a:spcBef>
              <a:buClr>
                <a:srgbClr val="000000"/>
              </a:buClr>
              <a:buSzPct val="45000"/>
              <a:buFont typeface="Wingdings" charset="2"/>
              <a:buChar char=""/>
            </a:pPr>
            <a:r>
              <a:rPr b="0" lang="en-US" sz="1600" spc="-1" strike="noStrike">
                <a:solidFill>
                  <a:srgbClr val="344246"/>
                </a:solidFill>
                <a:latin typeface="Verdana"/>
              </a:rPr>
              <a:t>Third Outline Level</a:t>
            </a:r>
            <a:endParaRPr b="0" lang="en-US" sz="1600" spc="-1" strike="noStrike">
              <a:solidFill>
                <a:srgbClr val="344246"/>
              </a:solidFill>
              <a:latin typeface="Verdana"/>
            </a:endParaRPr>
          </a:p>
          <a:p>
            <a:pPr lvl="3" marL="1728000" indent="-216000">
              <a:spcBef>
                <a:spcPts val="567"/>
              </a:spcBef>
              <a:buClr>
                <a:srgbClr val="000000"/>
              </a:buClr>
              <a:buSzPct val="75000"/>
              <a:buFont typeface="Symbol" charset="2"/>
              <a:buChar char=""/>
            </a:pPr>
            <a:r>
              <a:rPr b="0" lang="en-US" sz="1600" spc="-1" strike="noStrike">
                <a:solidFill>
                  <a:srgbClr val="344246"/>
                </a:solidFill>
                <a:latin typeface="Verdana"/>
              </a:rPr>
              <a:t>Fourth Outline Level</a:t>
            </a:r>
            <a:endParaRPr b="0" lang="en-US" sz="1600" spc="-1" strike="noStrike">
              <a:solidFill>
                <a:srgbClr val="344246"/>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344246"/>
                </a:solidFill>
                <a:latin typeface="Verdana"/>
              </a:rPr>
              <a:t>Fifth Outline Level</a:t>
            </a:r>
            <a:endParaRPr b="0" lang="en-US" sz="2000" spc="-1" strike="noStrike">
              <a:solidFill>
                <a:srgbClr val="344246"/>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344246"/>
                </a:solidFill>
                <a:latin typeface="Verdana"/>
              </a:rPr>
              <a:t>Sixth Outline Level</a:t>
            </a:r>
            <a:endParaRPr b="0" lang="en-US" sz="2000" spc="-1" strike="noStrike">
              <a:solidFill>
                <a:srgbClr val="344246"/>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344246"/>
                </a:solidFill>
                <a:latin typeface="Verdana"/>
              </a:rPr>
              <a:t>Seventh Outline Level</a:t>
            </a:r>
            <a:endParaRPr b="0" lang="en-US" sz="2000" spc="-1" strike="noStrike">
              <a:solidFill>
                <a:srgbClr val="344246"/>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42" name="Picture 2" descr="C:\Users\Utilisateur\Documents\Perso\sho8\GOUTTES\fondgoutte2.jpg"/>
          <p:cNvPicPr/>
          <p:nvPr/>
        </p:nvPicPr>
        <p:blipFill>
          <a:blip r:embed="rId2"/>
          <a:stretch/>
        </p:blipFill>
        <p:spPr>
          <a:xfrm>
            <a:off x="0" y="0"/>
            <a:ext cx="9143640" cy="6857640"/>
          </a:xfrm>
          <a:prstGeom prst="rect">
            <a:avLst/>
          </a:prstGeom>
          <a:ln w="0">
            <a:noFill/>
          </a:ln>
        </p:spPr>
      </p:pic>
      <p:sp>
        <p:nvSpPr>
          <p:cNvPr id="43"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Click to edit Master title style</a:t>
            </a:r>
            <a:endParaRPr b="0" lang="en-US" sz="3200" spc="-1" strike="noStrike">
              <a:solidFill>
                <a:srgbClr val="344246"/>
              </a:solidFill>
              <a:latin typeface="Calibri"/>
            </a:endParaRPr>
          </a:p>
        </p:txBody>
      </p:sp>
      <p:sp>
        <p:nvSpPr>
          <p:cNvPr id="44"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eb8e97"/>
                </a:solidFill>
                <a:latin typeface="Calibri"/>
              </a:defRPr>
            </a:lvl1pPr>
          </a:lstStyle>
          <a:p>
            <a:pPr indent="0" algn="ctr">
              <a:lnSpc>
                <a:spcPct val="100000"/>
              </a:lnSpc>
              <a:buNone/>
            </a:pPr>
            <a:r>
              <a:rPr b="0" lang="en-US" sz="1200" spc="-1" strike="noStrike">
                <a:solidFill>
                  <a:srgbClr val="eb8e97"/>
                </a:solidFill>
                <a:latin typeface="Calibri"/>
              </a:rPr>
              <a:t>&lt;footer&gt;</a:t>
            </a:r>
            <a:endParaRPr b="0" lang="en-US" sz="1200" spc="-1" strike="noStrike">
              <a:solidFill>
                <a:srgbClr val="000000"/>
              </a:solidFill>
              <a:latin typeface="Times New Roman"/>
            </a:endParaRPr>
          </a:p>
        </p:txBody>
      </p:sp>
      <p:sp>
        <p:nvSpPr>
          <p:cNvPr id="45"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eb8e97"/>
                </a:solidFill>
                <a:latin typeface="Calibri"/>
              </a:defRPr>
            </a:lvl1pPr>
          </a:lstStyle>
          <a:p>
            <a:pPr indent="0" algn="r">
              <a:lnSpc>
                <a:spcPct val="100000"/>
              </a:lnSpc>
              <a:buNone/>
            </a:pPr>
            <a:fld id="{F7F3F860-891C-4B82-B0E8-79AABFD7251F}" type="slidenum">
              <a:rPr b="0" lang="fr-FR" sz="1200" spc="-1" strike="noStrike">
                <a:solidFill>
                  <a:srgbClr val="eb8e97"/>
                </a:solidFill>
                <a:latin typeface="Calibri"/>
              </a:rPr>
              <a:t>&lt;number&gt;</a:t>
            </a:fld>
            <a:endParaRPr b="0" lang="en-US" sz="1200" spc="-1" strike="noStrike">
              <a:solidFill>
                <a:srgbClr val="000000"/>
              </a:solidFill>
              <a:latin typeface="Times New Roman"/>
            </a:endParaRPr>
          </a:p>
        </p:txBody>
      </p:sp>
      <p:sp>
        <p:nvSpPr>
          <p:cNvPr id="46" name="PlaceHolder 4"/>
          <p:cNvSpPr>
            <a:spLocks noGrp="1"/>
          </p:cNvSpPr>
          <p:nvPr>
            <p:ph type="body"/>
          </p:nvPr>
        </p:nvSpPr>
        <p:spPr>
          <a:xfrm>
            <a:off x="467640" y="1772640"/>
            <a:ext cx="8208720" cy="4320000"/>
          </a:xfrm>
          <a:prstGeom prst="rect">
            <a:avLst/>
          </a:prstGeom>
          <a:noFill/>
          <a:ln w="0">
            <a:noFill/>
          </a:ln>
        </p:spPr>
        <p:txBody>
          <a:bodyPr anchor="t">
            <a:normAutofit/>
          </a:bodyPr>
          <a:p>
            <a:pPr marL="343080" indent="-343080">
              <a:lnSpc>
                <a:spcPct val="100000"/>
              </a:lnSpc>
              <a:spcBef>
                <a:spcPts val="479"/>
              </a:spcBef>
              <a:buClr>
                <a:srgbClr val="344246"/>
              </a:buClr>
              <a:buFont typeface="Arial"/>
              <a:buChar char="•"/>
            </a:pPr>
            <a:r>
              <a:rPr b="0" lang="en-US" sz="2400" spc="-1" strike="noStrike">
                <a:solidFill>
                  <a:srgbClr val="344246"/>
                </a:solidFill>
                <a:latin typeface="Verdana"/>
                <a:ea typeface="Verdana"/>
              </a:rPr>
              <a:t>Click to edit Master text styles</a:t>
            </a:r>
            <a:endParaRPr b="0" lang="en-US" sz="2400" spc="-1" strike="noStrike">
              <a:solidFill>
                <a:srgbClr val="344246"/>
              </a:solidFill>
              <a:latin typeface="Verdana"/>
            </a:endParaRPr>
          </a:p>
          <a:p>
            <a:pPr lvl="1" marL="743040" indent="-285840">
              <a:lnSpc>
                <a:spcPct val="100000"/>
              </a:lnSpc>
              <a:spcBef>
                <a:spcPts val="400"/>
              </a:spcBef>
              <a:buClr>
                <a:srgbClr val="344246"/>
              </a:buClr>
              <a:buFont typeface="Arial"/>
              <a:buChar char="–"/>
            </a:pPr>
            <a:r>
              <a:rPr b="0" lang="en-US" sz="2000" spc="-1" strike="noStrike">
                <a:solidFill>
                  <a:srgbClr val="344246"/>
                </a:solidFill>
                <a:latin typeface="Verdana"/>
                <a:ea typeface="Verdana"/>
              </a:rPr>
              <a:t>Second level</a:t>
            </a:r>
            <a:endParaRPr b="0" lang="en-US" sz="2000" spc="-1" strike="noStrike">
              <a:solidFill>
                <a:srgbClr val="344246"/>
              </a:solidFill>
              <a:latin typeface="Verdana"/>
            </a:endParaRPr>
          </a:p>
          <a:p>
            <a:pPr lvl="2" marL="1143000" indent="-228600">
              <a:lnSpc>
                <a:spcPct val="100000"/>
              </a:lnSpc>
              <a:spcBef>
                <a:spcPts val="360"/>
              </a:spcBef>
              <a:buClr>
                <a:srgbClr val="344246"/>
              </a:buClr>
              <a:buFont typeface="Arial"/>
              <a:buChar char="•"/>
            </a:pPr>
            <a:r>
              <a:rPr b="0" lang="en-US" sz="1800" spc="-1" strike="noStrike">
                <a:solidFill>
                  <a:srgbClr val="344246"/>
                </a:solidFill>
                <a:latin typeface="Verdana"/>
                <a:ea typeface="Verdana"/>
              </a:rPr>
              <a:t>Third level</a:t>
            </a:r>
            <a:endParaRPr b="0" lang="en-US" sz="1800" spc="-1" strike="noStrike">
              <a:solidFill>
                <a:srgbClr val="344246"/>
              </a:solidFill>
              <a:latin typeface="Verdana"/>
            </a:endParaRPr>
          </a:p>
          <a:p>
            <a:pPr lvl="3" marL="16002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ourth level</a:t>
            </a:r>
            <a:endParaRPr b="0" lang="en-US" sz="1600" spc="-1" strike="noStrike">
              <a:solidFill>
                <a:srgbClr val="344246"/>
              </a:solidFill>
              <a:latin typeface="Verdana"/>
            </a:endParaRPr>
          </a:p>
          <a:p>
            <a:pPr lvl="4" marL="20574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ifth level</a:t>
            </a:r>
            <a:endParaRPr b="0" lang="en-US" sz="1600" spc="-1" strike="noStrike">
              <a:solidFill>
                <a:srgbClr val="34424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84" name="Picture 2" descr="C:\Users\Utilisateur\Documents\Perso\sho8\GOUTTES\fondgoutte2.jpg"/>
          <p:cNvPicPr/>
          <p:nvPr/>
        </p:nvPicPr>
        <p:blipFill>
          <a:blip r:embed="rId2"/>
          <a:stretch/>
        </p:blipFill>
        <p:spPr>
          <a:xfrm>
            <a:off x="0" y="0"/>
            <a:ext cx="9143640" cy="6857640"/>
          </a:xfrm>
          <a:prstGeom prst="rect">
            <a:avLst/>
          </a:prstGeom>
          <a:ln w="0">
            <a:noFill/>
          </a:ln>
        </p:spPr>
      </p:pic>
      <p:sp>
        <p:nvSpPr>
          <p:cNvPr id="85"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Click to edit Master title style</a:t>
            </a:r>
            <a:endParaRPr b="0" lang="en-US" sz="3200" spc="-1" strike="noStrike">
              <a:solidFill>
                <a:srgbClr val="344246"/>
              </a:solidFill>
              <a:latin typeface="Calibri"/>
            </a:endParaRPr>
          </a:p>
        </p:txBody>
      </p:sp>
      <p:sp>
        <p:nvSpPr>
          <p:cNvPr id="86" name="PlaceHolder 2"/>
          <p:cNvSpPr>
            <a:spLocks noGrp="1"/>
          </p:cNvSpPr>
          <p:nvPr>
            <p:ph type="ftr" idx="4"/>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eb8e97"/>
                </a:solidFill>
                <a:latin typeface="Calibri"/>
              </a:defRPr>
            </a:lvl1pPr>
          </a:lstStyle>
          <a:p>
            <a:pPr indent="0" algn="ctr">
              <a:lnSpc>
                <a:spcPct val="100000"/>
              </a:lnSpc>
              <a:buNone/>
            </a:pPr>
            <a:r>
              <a:rPr b="0" lang="en-US" sz="1200" spc="-1" strike="noStrike">
                <a:solidFill>
                  <a:srgbClr val="eb8e97"/>
                </a:solidFill>
                <a:latin typeface="Calibri"/>
              </a:rPr>
              <a:t>&lt;footer&gt;</a:t>
            </a:r>
            <a:endParaRPr b="0" lang="en-US" sz="1200" spc="-1" strike="noStrike">
              <a:solidFill>
                <a:srgbClr val="000000"/>
              </a:solidFill>
              <a:latin typeface="Times New Roman"/>
            </a:endParaRPr>
          </a:p>
        </p:txBody>
      </p:sp>
      <p:sp>
        <p:nvSpPr>
          <p:cNvPr id="87" name="PlaceHolder 3"/>
          <p:cNvSpPr>
            <a:spLocks noGrp="1"/>
          </p:cNvSpPr>
          <p:nvPr>
            <p:ph type="sldNum" idx="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eb8e97"/>
                </a:solidFill>
                <a:latin typeface="Calibri"/>
              </a:defRPr>
            </a:lvl1pPr>
          </a:lstStyle>
          <a:p>
            <a:pPr indent="0" algn="r">
              <a:lnSpc>
                <a:spcPct val="100000"/>
              </a:lnSpc>
              <a:buNone/>
            </a:pPr>
            <a:fld id="{A26B4293-2386-4ABF-A6F3-060330F8A5D6}" type="slidenum">
              <a:rPr b="0" lang="fr-FR" sz="1200" spc="-1" strike="noStrike">
                <a:solidFill>
                  <a:srgbClr val="eb8e97"/>
                </a:solidFill>
                <a:latin typeface="Calibri"/>
              </a:rPr>
              <a:t>&lt;number&gt;</a:t>
            </a:fld>
            <a:endParaRPr b="0" lang="en-US" sz="1200" spc="-1" strike="noStrike">
              <a:solidFill>
                <a:srgbClr val="000000"/>
              </a:solidFill>
              <a:latin typeface="Times New Roman"/>
            </a:endParaRPr>
          </a:p>
        </p:txBody>
      </p:sp>
      <p:sp>
        <p:nvSpPr>
          <p:cNvPr id="88" name="PlaceHolder 4"/>
          <p:cNvSpPr>
            <a:spLocks noGrp="1"/>
          </p:cNvSpPr>
          <p:nvPr>
            <p:ph type="body"/>
          </p:nvPr>
        </p:nvSpPr>
        <p:spPr>
          <a:xfrm>
            <a:off x="467640" y="1772640"/>
            <a:ext cx="3960000" cy="4320000"/>
          </a:xfrm>
          <a:prstGeom prst="rect">
            <a:avLst/>
          </a:prstGeom>
          <a:noFill/>
          <a:ln w="0">
            <a:noFill/>
          </a:ln>
        </p:spPr>
        <p:txBody>
          <a:bodyPr anchor="t">
            <a:normAutofit/>
          </a:bodyPr>
          <a:p>
            <a:pPr marL="343080" indent="-343080">
              <a:lnSpc>
                <a:spcPct val="100000"/>
              </a:lnSpc>
              <a:spcBef>
                <a:spcPts val="360"/>
              </a:spcBef>
              <a:buClr>
                <a:srgbClr val="344246"/>
              </a:buClr>
              <a:buFont typeface="Arial"/>
              <a:buChar char="•"/>
            </a:pPr>
            <a:r>
              <a:rPr b="0" lang="en-US" sz="1800" spc="-1" strike="noStrike">
                <a:solidFill>
                  <a:srgbClr val="344246"/>
                </a:solidFill>
                <a:latin typeface="Verdana"/>
                <a:ea typeface="Verdana"/>
              </a:rPr>
              <a:t>Click to edit Master text styles</a:t>
            </a:r>
            <a:endParaRPr b="0" lang="en-US" sz="1800" spc="-1" strike="noStrike">
              <a:solidFill>
                <a:srgbClr val="344246"/>
              </a:solidFill>
              <a:latin typeface="Verdana"/>
            </a:endParaRPr>
          </a:p>
          <a:p>
            <a:pPr lvl="1" marL="743040" indent="-285840">
              <a:lnSpc>
                <a:spcPct val="100000"/>
              </a:lnSpc>
              <a:spcBef>
                <a:spcPts val="320"/>
              </a:spcBef>
              <a:buClr>
                <a:srgbClr val="344246"/>
              </a:buClr>
              <a:buFont typeface="Arial"/>
              <a:buChar char="–"/>
            </a:pPr>
            <a:r>
              <a:rPr b="0" lang="en-US" sz="1600" spc="-1" strike="noStrike">
                <a:solidFill>
                  <a:srgbClr val="344246"/>
                </a:solidFill>
                <a:latin typeface="Verdana"/>
                <a:ea typeface="Verdana"/>
              </a:rPr>
              <a:t>Second level</a:t>
            </a:r>
            <a:endParaRPr b="0" lang="en-US" sz="1600" spc="-1" strike="noStrike">
              <a:solidFill>
                <a:srgbClr val="344246"/>
              </a:solidFill>
              <a:latin typeface="Verdana"/>
            </a:endParaRPr>
          </a:p>
          <a:p>
            <a:pPr lvl="2" marL="1143000" indent="-228600">
              <a:lnSpc>
                <a:spcPct val="100000"/>
              </a:lnSpc>
              <a:spcBef>
                <a:spcPts val="281"/>
              </a:spcBef>
              <a:buClr>
                <a:srgbClr val="344246"/>
              </a:buClr>
              <a:buFont typeface="Arial"/>
              <a:buChar char="•"/>
            </a:pPr>
            <a:r>
              <a:rPr b="0" lang="en-US" sz="1400" spc="-1" strike="noStrike">
                <a:solidFill>
                  <a:srgbClr val="344246"/>
                </a:solidFill>
                <a:latin typeface="Verdana"/>
                <a:ea typeface="Verdana"/>
              </a:rPr>
              <a:t>Third level</a:t>
            </a:r>
            <a:endParaRPr b="0" lang="en-US" sz="1400" spc="-1" strike="noStrike">
              <a:solidFill>
                <a:srgbClr val="344246"/>
              </a:solidFill>
              <a:latin typeface="Verdana"/>
            </a:endParaRPr>
          </a:p>
          <a:p>
            <a:pPr lvl="3" marL="1600200" indent="-228600">
              <a:lnSpc>
                <a:spcPct val="100000"/>
              </a:lnSpc>
              <a:spcBef>
                <a:spcPts val="241"/>
              </a:spcBef>
              <a:buClr>
                <a:srgbClr val="344246"/>
              </a:buClr>
              <a:buFont typeface="Arial"/>
              <a:buChar char="–"/>
            </a:pPr>
            <a:r>
              <a:rPr b="0" lang="en-US" sz="1200" spc="-1" strike="noStrike">
                <a:solidFill>
                  <a:srgbClr val="344246"/>
                </a:solidFill>
                <a:latin typeface="Verdana"/>
                <a:ea typeface="Verdana"/>
              </a:rPr>
              <a:t>Fourth level</a:t>
            </a:r>
            <a:endParaRPr b="0" lang="en-US" sz="1200" spc="-1" strike="noStrike">
              <a:solidFill>
                <a:srgbClr val="344246"/>
              </a:solidFill>
              <a:latin typeface="Verdana"/>
            </a:endParaRPr>
          </a:p>
          <a:p>
            <a:pPr lvl="4" marL="2057400" indent="-228600">
              <a:lnSpc>
                <a:spcPct val="100000"/>
              </a:lnSpc>
              <a:spcBef>
                <a:spcPts val="241"/>
              </a:spcBef>
              <a:buClr>
                <a:srgbClr val="344246"/>
              </a:buClr>
              <a:buFont typeface="Arial"/>
              <a:buChar char="»"/>
            </a:pPr>
            <a:r>
              <a:rPr b="0" lang="en-US" sz="1200" spc="-1" strike="noStrike">
                <a:solidFill>
                  <a:srgbClr val="344246"/>
                </a:solidFill>
                <a:latin typeface="Verdana"/>
                <a:ea typeface="Verdana"/>
              </a:rPr>
              <a:t>Fifth level</a:t>
            </a:r>
            <a:endParaRPr b="0" lang="en-US" sz="1200" spc="-1" strike="noStrike">
              <a:solidFill>
                <a:srgbClr val="344246"/>
              </a:solidFill>
              <a:latin typeface="Verdana"/>
            </a:endParaRPr>
          </a:p>
        </p:txBody>
      </p:sp>
      <p:sp>
        <p:nvSpPr>
          <p:cNvPr id="89" name="PlaceHolder 5"/>
          <p:cNvSpPr>
            <a:spLocks noGrp="1"/>
          </p:cNvSpPr>
          <p:nvPr>
            <p:ph type="body"/>
          </p:nvPr>
        </p:nvSpPr>
        <p:spPr>
          <a:xfrm>
            <a:off x="4726800" y="1773360"/>
            <a:ext cx="3959640" cy="4319280"/>
          </a:xfrm>
          <a:prstGeom prst="rect">
            <a:avLst/>
          </a:prstGeom>
          <a:noFill/>
          <a:ln w="0">
            <a:noFill/>
          </a:ln>
        </p:spPr>
        <p:txBody>
          <a:bodyPr anchor="t">
            <a:normAutofit/>
          </a:bodyPr>
          <a:p>
            <a:pPr marL="343080" indent="-343080">
              <a:lnSpc>
                <a:spcPct val="100000"/>
              </a:lnSpc>
              <a:spcBef>
                <a:spcPts val="360"/>
              </a:spcBef>
              <a:buClr>
                <a:srgbClr val="344246"/>
              </a:buClr>
              <a:buFont typeface="Arial"/>
              <a:buChar char="•"/>
            </a:pPr>
            <a:r>
              <a:rPr b="0" lang="en-US" sz="1800" spc="-1" strike="noStrike">
                <a:solidFill>
                  <a:srgbClr val="344246"/>
                </a:solidFill>
                <a:latin typeface="Verdana"/>
                <a:ea typeface="Verdana"/>
              </a:rPr>
              <a:t>Click to edit Master text styles</a:t>
            </a:r>
            <a:endParaRPr b="0" lang="en-US" sz="1800" spc="-1" strike="noStrike">
              <a:solidFill>
                <a:srgbClr val="344246"/>
              </a:solidFill>
              <a:latin typeface="Verdana"/>
            </a:endParaRPr>
          </a:p>
          <a:p>
            <a:pPr lvl="1" marL="743040" indent="-285840">
              <a:lnSpc>
                <a:spcPct val="100000"/>
              </a:lnSpc>
              <a:spcBef>
                <a:spcPts val="320"/>
              </a:spcBef>
              <a:buClr>
                <a:srgbClr val="344246"/>
              </a:buClr>
              <a:buFont typeface="Arial"/>
              <a:buChar char="–"/>
            </a:pPr>
            <a:r>
              <a:rPr b="0" lang="en-US" sz="1600" spc="-1" strike="noStrike">
                <a:solidFill>
                  <a:srgbClr val="344246"/>
                </a:solidFill>
                <a:latin typeface="Verdana"/>
                <a:ea typeface="Verdana"/>
              </a:rPr>
              <a:t>Second level</a:t>
            </a:r>
            <a:endParaRPr b="0" lang="en-US" sz="1600" spc="-1" strike="noStrike">
              <a:solidFill>
                <a:srgbClr val="344246"/>
              </a:solidFill>
              <a:latin typeface="Verdana"/>
            </a:endParaRPr>
          </a:p>
          <a:p>
            <a:pPr lvl="2" marL="1143000" indent="-228600">
              <a:lnSpc>
                <a:spcPct val="100000"/>
              </a:lnSpc>
              <a:spcBef>
                <a:spcPts val="281"/>
              </a:spcBef>
              <a:buClr>
                <a:srgbClr val="344246"/>
              </a:buClr>
              <a:buFont typeface="Arial"/>
              <a:buChar char="•"/>
            </a:pPr>
            <a:r>
              <a:rPr b="0" lang="en-US" sz="1400" spc="-1" strike="noStrike">
                <a:solidFill>
                  <a:srgbClr val="344246"/>
                </a:solidFill>
                <a:latin typeface="Verdana"/>
                <a:ea typeface="Verdana"/>
              </a:rPr>
              <a:t>Third level</a:t>
            </a:r>
            <a:endParaRPr b="0" lang="en-US" sz="1400" spc="-1" strike="noStrike">
              <a:solidFill>
                <a:srgbClr val="344246"/>
              </a:solidFill>
              <a:latin typeface="Verdana"/>
            </a:endParaRPr>
          </a:p>
          <a:p>
            <a:pPr lvl="3" marL="1600200" indent="-228600">
              <a:lnSpc>
                <a:spcPct val="100000"/>
              </a:lnSpc>
              <a:spcBef>
                <a:spcPts val="241"/>
              </a:spcBef>
              <a:buClr>
                <a:srgbClr val="344246"/>
              </a:buClr>
              <a:buFont typeface="Arial"/>
              <a:buChar char="–"/>
            </a:pPr>
            <a:r>
              <a:rPr b="0" lang="en-US" sz="1200" spc="-1" strike="noStrike">
                <a:solidFill>
                  <a:srgbClr val="344246"/>
                </a:solidFill>
                <a:latin typeface="Verdana"/>
                <a:ea typeface="Verdana"/>
              </a:rPr>
              <a:t>Fourth level</a:t>
            </a:r>
            <a:endParaRPr b="0" lang="en-US" sz="1200" spc="-1" strike="noStrike">
              <a:solidFill>
                <a:srgbClr val="344246"/>
              </a:solidFill>
              <a:latin typeface="Verdana"/>
            </a:endParaRPr>
          </a:p>
          <a:p>
            <a:pPr lvl="4" marL="2057400" indent="-228600">
              <a:lnSpc>
                <a:spcPct val="100000"/>
              </a:lnSpc>
              <a:spcBef>
                <a:spcPts val="241"/>
              </a:spcBef>
              <a:buClr>
                <a:srgbClr val="344246"/>
              </a:buClr>
              <a:buFont typeface="Arial"/>
              <a:buChar char="»"/>
            </a:pPr>
            <a:r>
              <a:rPr b="0" lang="en-US" sz="1200" spc="-1" strike="noStrike">
                <a:solidFill>
                  <a:srgbClr val="344246"/>
                </a:solidFill>
                <a:latin typeface="Verdana"/>
                <a:ea typeface="Verdana"/>
              </a:rPr>
              <a:t>Fifth level</a:t>
            </a:r>
            <a:endParaRPr b="0" lang="en-US" sz="1200" spc="-1" strike="noStrike">
              <a:solidFill>
                <a:srgbClr val="344246"/>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Click to edit Master title style</a:t>
            </a:r>
            <a:endParaRPr b="0" lang="en-US" sz="3200" spc="-1" strike="noStrike">
              <a:solidFill>
                <a:srgbClr val="344246"/>
              </a:solidFill>
              <a:latin typeface="Calibri"/>
            </a:endParaRPr>
          </a:p>
        </p:txBody>
      </p:sp>
      <p:sp>
        <p:nvSpPr>
          <p:cNvPr id="128" name="PlaceHolder 2"/>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eb8e97"/>
                </a:solidFill>
                <a:latin typeface="Calibri"/>
              </a:defRPr>
            </a:lvl1pPr>
          </a:lstStyle>
          <a:p>
            <a:pPr indent="0" algn="ctr">
              <a:lnSpc>
                <a:spcPct val="100000"/>
              </a:lnSpc>
              <a:buNone/>
            </a:pPr>
            <a:r>
              <a:rPr b="0" lang="en-US" sz="1200" spc="-1" strike="noStrike">
                <a:solidFill>
                  <a:srgbClr val="eb8e97"/>
                </a:solidFill>
                <a:latin typeface="Calibri"/>
              </a:rPr>
              <a:t>&lt;footer&gt;</a:t>
            </a:r>
            <a:endParaRPr b="0" lang="en-US" sz="1200" spc="-1" strike="noStrike">
              <a:solidFill>
                <a:srgbClr val="000000"/>
              </a:solidFill>
              <a:latin typeface="Times New Roman"/>
            </a:endParaRPr>
          </a:p>
        </p:txBody>
      </p:sp>
      <p:sp>
        <p:nvSpPr>
          <p:cNvPr id="129" name="PlaceHolder 3"/>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eb8e97"/>
                </a:solidFill>
                <a:latin typeface="Calibri"/>
              </a:defRPr>
            </a:lvl1pPr>
          </a:lstStyle>
          <a:p>
            <a:pPr indent="0" algn="r">
              <a:lnSpc>
                <a:spcPct val="100000"/>
              </a:lnSpc>
              <a:buNone/>
            </a:pPr>
            <a:fld id="{878F5976-C810-4387-BF2C-BC43B371BA5D}" type="slidenum">
              <a:rPr b="0" lang="fr-FR" sz="1200" spc="-1" strike="noStrike">
                <a:solidFill>
                  <a:srgbClr val="eb8e97"/>
                </a:solidFill>
                <a:latin typeface="Calibri"/>
              </a:rPr>
              <a:t>&lt;number&gt;</a:t>
            </a:fld>
            <a:endParaRPr b="0" lang="en-US" sz="1200" spc="-1" strike="noStrike">
              <a:solidFill>
                <a:srgbClr val="000000"/>
              </a:solidFill>
              <a:latin typeface="Times New Roman"/>
            </a:endParaRPr>
          </a:p>
        </p:txBody>
      </p:sp>
      <p:sp>
        <p:nvSpPr>
          <p:cNvPr id="130" name="PlaceHolder 4"/>
          <p:cNvSpPr>
            <a:spLocks noGrp="1"/>
          </p:cNvSpPr>
          <p:nvPr>
            <p:ph type="body"/>
          </p:nvPr>
        </p:nvSpPr>
        <p:spPr>
          <a:xfrm>
            <a:off x="467640" y="1772640"/>
            <a:ext cx="8208720" cy="4320000"/>
          </a:xfrm>
          <a:prstGeom prst="rect">
            <a:avLst/>
          </a:prstGeom>
          <a:noFill/>
          <a:ln w="0">
            <a:noFill/>
          </a:ln>
        </p:spPr>
        <p:txBody>
          <a:bodyPr anchor="t">
            <a:normAutofit/>
          </a:bodyPr>
          <a:p>
            <a:pPr marL="343080" indent="-343080">
              <a:lnSpc>
                <a:spcPct val="100000"/>
              </a:lnSpc>
              <a:spcBef>
                <a:spcPts val="479"/>
              </a:spcBef>
              <a:buClr>
                <a:srgbClr val="344246"/>
              </a:buClr>
              <a:buFont typeface="Arial"/>
              <a:buChar char="•"/>
            </a:pPr>
            <a:r>
              <a:rPr b="0" lang="en-US" sz="2400" spc="-1" strike="noStrike">
                <a:solidFill>
                  <a:srgbClr val="344246"/>
                </a:solidFill>
                <a:latin typeface="Verdana"/>
                <a:ea typeface="Verdana"/>
              </a:rPr>
              <a:t>Click to edit Master text styles</a:t>
            </a:r>
            <a:endParaRPr b="0" lang="en-US" sz="2400" spc="-1" strike="noStrike">
              <a:solidFill>
                <a:srgbClr val="344246"/>
              </a:solidFill>
              <a:latin typeface="Verdana"/>
            </a:endParaRPr>
          </a:p>
          <a:p>
            <a:pPr lvl="1" marL="743040" indent="-285840">
              <a:lnSpc>
                <a:spcPct val="100000"/>
              </a:lnSpc>
              <a:spcBef>
                <a:spcPts val="400"/>
              </a:spcBef>
              <a:buClr>
                <a:srgbClr val="344246"/>
              </a:buClr>
              <a:buFont typeface="Arial"/>
              <a:buChar char="–"/>
            </a:pPr>
            <a:r>
              <a:rPr b="0" lang="en-US" sz="2000" spc="-1" strike="noStrike">
                <a:solidFill>
                  <a:srgbClr val="344246"/>
                </a:solidFill>
                <a:latin typeface="Verdana"/>
                <a:ea typeface="Verdana"/>
              </a:rPr>
              <a:t>Second level</a:t>
            </a:r>
            <a:endParaRPr b="0" lang="en-US" sz="2000" spc="-1" strike="noStrike">
              <a:solidFill>
                <a:srgbClr val="344246"/>
              </a:solidFill>
              <a:latin typeface="Verdana"/>
            </a:endParaRPr>
          </a:p>
          <a:p>
            <a:pPr lvl="2" marL="1143000" indent="-228600">
              <a:lnSpc>
                <a:spcPct val="100000"/>
              </a:lnSpc>
              <a:spcBef>
                <a:spcPts val="360"/>
              </a:spcBef>
              <a:buClr>
                <a:srgbClr val="344246"/>
              </a:buClr>
              <a:buFont typeface="Arial"/>
              <a:buChar char="•"/>
            </a:pPr>
            <a:r>
              <a:rPr b="0" lang="en-US" sz="1800" spc="-1" strike="noStrike">
                <a:solidFill>
                  <a:srgbClr val="344246"/>
                </a:solidFill>
                <a:latin typeface="Verdana"/>
                <a:ea typeface="Verdana"/>
              </a:rPr>
              <a:t>Third level</a:t>
            </a:r>
            <a:endParaRPr b="0" lang="en-US" sz="1800" spc="-1" strike="noStrike">
              <a:solidFill>
                <a:srgbClr val="344246"/>
              </a:solidFill>
              <a:latin typeface="Verdana"/>
            </a:endParaRPr>
          </a:p>
          <a:p>
            <a:pPr lvl="3" marL="16002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ourth level</a:t>
            </a:r>
            <a:endParaRPr b="0" lang="en-US" sz="1600" spc="-1" strike="noStrike">
              <a:solidFill>
                <a:srgbClr val="344246"/>
              </a:solidFill>
              <a:latin typeface="Verdana"/>
            </a:endParaRPr>
          </a:p>
          <a:p>
            <a:pPr lvl="4" marL="20574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ifth level</a:t>
            </a:r>
            <a:endParaRPr b="0" lang="en-US" sz="1600" spc="-1" strike="noStrike">
              <a:solidFill>
                <a:srgbClr val="34424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image" Target="../media/image3.png"/><Relationship Id="rId3" Type="http://schemas.openxmlformats.org/officeDocument/2006/relationships/hyperlink" Target="http://www.eeppt.com/moban/" TargetMode="Externa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640" y="2925000"/>
            <a:ext cx="7605720" cy="1469520"/>
          </a:xfrm>
          <a:prstGeom prst="rect">
            <a:avLst/>
          </a:prstGeom>
          <a:noFill/>
          <a:ln w="0">
            <a:noFill/>
          </a:ln>
        </p:spPr>
        <p:txBody>
          <a:bodyPr lIns="0" rIns="0" anchor="ctr">
            <a:noAutofit/>
          </a:bodyPr>
          <a:p>
            <a:pPr indent="0" algn="r">
              <a:lnSpc>
                <a:spcPct val="100000"/>
              </a:lnSpc>
              <a:buNone/>
            </a:pPr>
            <a:r>
              <a:rPr b="0" lang="zh-CN" sz="4000" spc="-1" strike="noStrike">
                <a:solidFill>
                  <a:srgbClr val="343846"/>
                </a:solidFill>
                <a:latin typeface="Verdana"/>
                <a:ea typeface="Verdana"/>
              </a:rPr>
              <a:t>多彩水滴通用</a:t>
            </a:r>
            <a:r>
              <a:rPr b="0" lang="en-US" sz="4000" spc="-1" strike="noStrike">
                <a:solidFill>
                  <a:srgbClr val="343846"/>
                </a:solidFill>
                <a:latin typeface="Verdana"/>
                <a:ea typeface="Verdana"/>
              </a:rPr>
              <a:t>PPT</a:t>
            </a:r>
            <a:r>
              <a:rPr b="0" lang="zh-CN" sz="4000" spc="-1" strike="noStrike">
                <a:solidFill>
                  <a:srgbClr val="343846"/>
                </a:solidFill>
                <a:latin typeface="Verdana"/>
                <a:ea typeface="Verdana"/>
              </a:rPr>
              <a:t>模板免费下载</a:t>
            </a:r>
            <a:endParaRPr b="0" lang="en-US" sz="4000" spc="-1" strike="noStrike">
              <a:solidFill>
                <a:srgbClr val="344246"/>
              </a:solidFill>
              <a:latin typeface="Calibri"/>
            </a:endParaRPr>
          </a:p>
        </p:txBody>
      </p:sp>
      <p:sp>
        <p:nvSpPr>
          <p:cNvPr id="174" name="PlaceHolder 2"/>
          <p:cNvSpPr>
            <a:spLocks noGrp="1"/>
          </p:cNvSpPr>
          <p:nvPr>
            <p:ph type="dt" idx="11"/>
          </p:nvPr>
        </p:nvSpPr>
        <p:spPr>
          <a:xfrm>
            <a:off x="5598000" y="4437000"/>
            <a:ext cx="2403360" cy="364680"/>
          </a:xfrm>
          <a:prstGeom prst="rect">
            <a:avLst/>
          </a:prstGeom>
          <a:noFill/>
          <a:ln w="0">
            <a:noFill/>
          </a:ln>
        </p:spPr>
        <p:txBody>
          <a:bodyPr anchor="ctr">
            <a:noAutofit/>
          </a:bodyPr>
          <a:lstStyle>
            <a:lvl1pPr indent="0" algn="r">
              <a:lnSpc>
                <a:spcPct val="100000"/>
              </a:lnSpc>
              <a:buNone/>
              <a:defRPr b="0" lang="en-US" sz="1400" spc="-1" strike="noStrike">
                <a:solidFill>
                  <a:srgbClr val="eb8e97"/>
                </a:solidFill>
                <a:latin typeface="Verdana"/>
                <a:ea typeface="Verdana"/>
              </a:defRPr>
            </a:lvl1pPr>
          </a:lstStyle>
          <a:p>
            <a:pPr indent="0" algn="r">
              <a:lnSpc>
                <a:spcPct val="100000"/>
              </a:lnSpc>
              <a:buNone/>
            </a:pPr>
            <a:r>
              <a:rPr b="0" lang="en-US" sz="1400" spc="-1" strike="noStrike">
                <a:solidFill>
                  <a:srgbClr val="eb8e97"/>
                </a:solidFill>
                <a:latin typeface="Verdana"/>
                <a:ea typeface="Verdana"/>
              </a:rPr>
              <a:t>Your date here</a:t>
            </a:r>
            <a:endParaRPr b="0" lang="en-US" sz="1400" spc="-1" strike="noStrike">
              <a:solidFill>
                <a:srgbClr val="000000"/>
              </a:solidFill>
              <a:latin typeface="Times New Roman"/>
            </a:endParaRPr>
          </a:p>
        </p:txBody>
      </p:sp>
      <p:sp>
        <p:nvSpPr>
          <p:cNvPr id="17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344246"/>
                </a:solidFill>
                <a:latin typeface="Arial"/>
                <a:ea typeface="宋体"/>
              </a:rPr>
              <a:t>幻灯片之家</a:t>
            </a:r>
            <a:r>
              <a:rPr b="1" lang="en-US" sz="1600" spc="-1" strike="noStrike">
                <a:solidFill>
                  <a:srgbClr val="344246"/>
                </a:solidFill>
                <a:latin typeface="Arial"/>
                <a:ea typeface="宋体"/>
              </a:rPr>
              <a:t> </a:t>
            </a:r>
            <a:r>
              <a:rPr b="1" lang="en-US" sz="1600" spc="-1" strike="noStrike">
                <a:solidFill>
                  <a:srgbClr val="344246"/>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Customize your icons</a:t>
            </a:r>
            <a:endParaRPr b="0" lang="en-US" sz="3200" spc="-1" strike="noStrike">
              <a:solidFill>
                <a:srgbClr val="344246"/>
              </a:solidFill>
              <a:latin typeface="Calibri"/>
            </a:endParaRPr>
          </a:p>
        </p:txBody>
      </p:sp>
      <p:sp>
        <p:nvSpPr>
          <p:cNvPr id="275" name="Freeform 10"/>
          <p:cNvSpPr/>
          <p:nvPr/>
        </p:nvSpPr>
        <p:spPr>
          <a:xfrm>
            <a:off x="99576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76" name="Freeform 10"/>
          <p:cNvSpPr/>
          <p:nvPr/>
        </p:nvSpPr>
        <p:spPr>
          <a:xfrm>
            <a:off x="211176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77" name="Freeform 10"/>
          <p:cNvSpPr/>
          <p:nvPr/>
        </p:nvSpPr>
        <p:spPr>
          <a:xfrm>
            <a:off x="322812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78" name="Freeform 10"/>
          <p:cNvSpPr/>
          <p:nvPr/>
        </p:nvSpPr>
        <p:spPr>
          <a:xfrm>
            <a:off x="434412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79" name="Freeform 10"/>
          <p:cNvSpPr/>
          <p:nvPr/>
        </p:nvSpPr>
        <p:spPr>
          <a:xfrm>
            <a:off x="5460120" y="154656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1"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80" name="Freeform 10"/>
          <p:cNvSpPr/>
          <p:nvPr/>
        </p:nvSpPr>
        <p:spPr>
          <a:xfrm>
            <a:off x="99540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1" lang="fr-FR" sz="3600" spc="-1" strike="noStrike">
                <a:solidFill>
                  <a:schemeClr val="lt1"/>
                </a:solidFill>
                <a:latin typeface="Wingdings"/>
                <a:ea typeface="Verdana"/>
              </a:rPr>
              <a:t></a:t>
            </a:r>
            <a:endParaRPr b="0" lang="en-US" sz="3600" spc="-1" strike="noStrike">
              <a:solidFill>
                <a:srgbClr val="000000"/>
              </a:solidFill>
              <a:latin typeface="Arial"/>
            </a:endParaRPr>
          </a:p>
        </p:txBody>
      </p:sp>
      <p:sp>
        <p:nvSpPr>
          <p:cNvPr id="281" name="Freeform 10"/>
          <p:cNvSpPr/>
          <p:nvPr/>
        </p:nvSpPr>
        <p:spPr>
          <a:xfrm>
            <a:off x="211176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2" name="Freeform 10"/>
          <p:cNvSpPr/>
          <p:nvPr/>
        </p:nvSpPr>
        <p:spPr>
          <a:xfrm>
            <a:off x="322812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3" name="Freeform 10"/>
          <p:cNvSpPr/>
          <p:nvPr/>
        </p:nvSpPr>
        <p:spPr>
          <a:xfrm>
            <a:off x="434448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4" name="Freeform 10"/>
          <p:cNvSpPr/>
          <p:nvPr/>
        </p:nvSpPr>
        <p:spPr>
          <a:xfrm>
            <a:off x="5461200" y="27396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5" name="Freeform 10"/>
          <p:cNvSpPr/>
          <p:nvPr/>
        </p:nvSpPr>
        <p:spPr>
          <a:xfrm>
            <a:off x="5461200" y="393300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6" name="Freeform 10"/>
          <p:cNvSpPr/>
          <p:nvPr/>
        </p:nvSpPr>
        <p:spPr>
          <a:xfrm>
            <a:off x="4344480" y="393408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7" name="Freeform 10"/>
          <p:cNvSpPr/>
          <p:nvPr/>
        </p:nvSpPr>
        <p:spPr>
          <a:xfrm>
            <a:off x="3227760" y="393408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0"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8" name="Freeform 10"/>
          <p:cNvSpPr/>
          <p:nvPr/>
        </p:nvSpPr>
        <p:spPr>
          <a:xfrm>
            <a:off x="2111400" y="393408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1"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89" name="Freeform 10"/>
          <p:cNvSpPr/>
          <p:nvPr/>
        </p:nvSpPr>
        <p:spPr>
          <a:xfrm>
            <a:off x="994680" y="3934080"/>
            <a:ext cx="813960" cy="1036800"/>
          </a:xfrm>
          <a:custGeom>
            <a:avLst/>
            <a:gdLst>
              <a:gd name="textAreaLeft" fmla="*/ 0 w 813960"/>
              <a:gd name="textAreaRight" fmla="*/ 814320 w 813960"/>
              <a:gd name="textAreaTop" fmla="*/ 0 h 1036800"/>
              <a:gd name="textAreaBottom" fmla="*/ 1037160 h 10368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7bc5d2"/>
          </a:solidFill>
          <a:ln w="0">
            <a:noFill/>
          </a:ln>
          <a:effectLst>
            <a:outerShdw blurRad="39960" dir="5400000" dist="23040" rotWithShape="0">
              <a:srgbClr val="000000">
                <a:alpha val="35000"/>
              </a:srgbClr>
            </a:outerShdw>
          </a:effectLst>
        </p:spPr>
        <p:style>
          <a:lnRef idx="0">
            <a:schemeClr val="dk1"/>
          </a:lnRef>
          <a:fillRef idx="3">
            <a:schemeClr val="dk1"/>
          </a:fillRef>
          <a:effectRef idx="3">
            <a:schemeClr val="dk1"/>
          </a:effectRef>
          <a:fontRef idx="minor"/>
        </p:style>
        <p:txBody>
          <a:bodyPr numCol="1" spcCol="0" bIns="108000" anchor="b">
            <a:noAutofit/>
          </a:bodyPr>
          <a:p>
            <a:pPr algn="ctr">
              <a:lnSpc>
                <a:spcPct val="100000"/>
              </a:lnSpc>
            </a:pPr>
            <a:r>
              <a:rPr b="1" lang="fr-FR" sz="3600" spc="-1" strike="noStrike">
                <a:solidFill>
                  <a:schemeClr val="lt1"/>
                </a:solidFill>
                <a:latin typeface="Webdings"/>
                <a:ea typeface="Verdana"/>
              </a:rPr>
              <a:t></a:t>
            </a:r>
            <a:endParaRPr b="0" lang="en-US" sz="3600" spc="-1" strike="noStrike">
              <a:solidFill>
                <a:srgbClr val="000000"/>
              </a:solidFill>
              <a:latin typeface="Arial"/>
            </a:endParaRPr>
          </a:p>
        </p:txBody>
      </p:sp>
      <p:sp>
        <p:nvSpPr>
          <p:cNvPr id="290" name="Rectangle 24"/>
          <p:cNvSpPr/>
          <p:nvPr/>
        </p:nvSpPr>
        <p:spPr>
          <a:xfrm>
            <a:off x="2119320" y="5301360"/>
            <a:ext cx="6768360" cy="953640"/>
          </a:xfrm>
          <a:prstGeom prst="rect">
            <a:avLst/>
          </a:prstGeom>
          <a:noFill/>
          <a:ln w="0">
            <a:noFill/>
          </a:ln>
        </p:spPr>
        <p:style>
          <a:lnRef idx="0"/>
          <a:fillRef idx="0"/>
          <a:effectRef idx="0"/>
          <a:fontRef idx="minor"/>
        </p:style>
        <p:txBody>
          <a:bodyPr lIns="90000" rIns="90000" tIns="45000" bIns="45000" anchor="t">
            <a:spAutoFit/>
          </a:bodyPr>
          <a:p>
            <a:pPr algn="just">
              <a:lnSpc>
                <a:spcPts val="1701"/>
              </a:lnSpc>
            </a:pPr>
            <a:r>
              <a:rPr b="1" lang="en-US" sz="1800" spc="-1" strike="noStrike">
                <a:solidFill>
                  <a:srgbClr val="344246"/>
                </a:solidFill>
                <a:latin typeface="Calibri"/>
              </a:rPr>
              <a:t>Tip</a:t>
            </a:r>
            <a:r>
              <a:rPr b="0" lang="en-US" sz="1800" spc="-1" strike="noStrike">
                <a:solidFill>
                  <a:srgbClr val="344246"/>
                </a:solidFill>
                <a:latin typeface="Calibri"/>
              </a:rPr>
              <a:t>: to customize your icon, select the drop shape, and insert a Symbol or Special Character (Click the Insert tab, and then click the Symbol button / Click the Font list arrow, and then click a new font / Click a symbol or character. Click Inser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250ACB26-40F7-48CB-BFBC-A3D8FFC7CC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67640" y="2133000"/>
            <a:ext cx="3960000" cy="3960000"/>
          </a:xfrm>
          <a:prstGeom prst="rect">
            <a:avLst/>
          </a:prstGeom>
          <a:noFill/>
          <a:ln w="0">
            <a:noFill/>
          </a:ln>
        </p:spPr>
        <p:txBody>
          <a:bodyPr anchor="t">
            <a:normAutofit/>
          </a:bodyPr>
          <a:p>
            <a:pPr marL="360000" indent="-343080" algn="just">
              <a:lnSpc>
                <a:spcPct val="100000"/>
              </a:lnSpc>
              <a:spcBef>
                <a:spcPts val="1800"/>
              </a:spcBef>
              <a:buClr>
                <a:srgbClr val="344246"/>
              </a:buClr>
              <a:buFont typeface="Arial"/>
              <a:buChar char="•"/>
            </a:pPr>
            <a:r>
              <a:rPr b="0" lang="fr-FR" sz="1400" spc="-1" strike="noStrike">
                <a:solidFill>
                  <a:srgbClr val="344246"/>
                </a:solidFill>
                <a:latin typeface="Verdana"/>
                <a:ea typeface="Verdana"/>
              </a:rPr>
              <a:t>Lorem ipsum dolor sit amet, risus dolor nulla faucibus, elit amet duis blandit, tellus non mollis purus.</a:t>
            </a:r>
            <a:endParaRPr b="0" lang="en-US" sz="1400" spc="-1" strike="noStrike">
              <a:solidFill>
                <a:srgbClr val="344246"/>
              </a:solidFill>
              <a:latin typeface="Verdana"/>
            </a:endParaRPr>
          </a:p>
          <a:p>
            <a:pPr marL="360000" indent="-343080" algn="just">
              <a:lnSpc>
                <a:spcPct val="100000"/>
              </a:lnSpc>
              <a:spcBef>
                <a:spcPts val="1800"/>
              </a:spcBef>
              <a:buClr>
                <a:srgbClr val="344246"/>
              </a:buClr>
              <a:buFont typeface="Arial"/>
              <a:buChar char="•"/>
            </a:pPr>
            <a:r>
              <a:rPr b="0" lang="fr-FR" sz="1400" spc="-1" strike="noStrike">
                <a:solidFill>
                  <a:srgbClr val="344246"/>
                </a:solidFill>
                <a:latin typeface="Verdana"/>
                <a:ea typeface="Verdana"/>
              </a:rPr>
              <a:t>Iaculis libero et elit nec, morbi nulla velit a, arcu dictum commodo amet.</a:t>
            </a:r>
            <a:endParaRPr b="0" lang="en-US" sz="1400" spc="-1" strike="noStrike">
              <a:solidFill>
                <a:srgbClr val="344246"/>
              </a:solidFill>
              <a:latin typeface="Verdana"/>
            </a:endParaRPr>
          </a:p>
          <a:p>
            <a:pPr indent="0">
              <a:lnSpc>
                <a:spcPct val="100000"/>
              </a:lnSpc>
              <a:spcBef>
                <a:spcPts val="320"/>
              </a:spcBef>
              <a:buNone/>
            </a:pPr>
            <a:endParaRPr b="0" lang="en-US" sz="1600" spc="-1" strike="noStrike">
              <a:solidFill>
                <a:srgbClr val="344246"/>
              </a:solidFill>
              <a:latin typeface="Verdana"/>
            </a:endParaRPr>
          </a:p>
        </p:txBody>
      </p:sp>
      <p:sp>
        <p:nvSpPr>
          <p:cNvPr id="292" name="Rectangle 8"/>
          <p:cNvSpPr/>
          <p:nvPr/>
        </p:nvSpPr>
        <p:spPr>
          <a:xfrm>
            <a:off x="1042920" y="4048920"/>
            <a:ext cx="2289600" cy="271800"/>
          </a:xfrm>
          <a:prstGeom prst="rect">
            <a:avLst/>
          </a:prstGeom>
          <a:noFill/>
          <a:ln w="0">
            <a:noFill/>
          </a:ln>
        </p:spPr>
        <p:style>
          <a:lnRef idx="0"/>
          <a:fillRef idx="0"/>
          <a:effectRef idx="0"/>
          <a:fontRef idx="minor"/>
        </p:style>
        <p:txBody>
          <a:bodyPr wrap="none" lIns="90000" rIns="90000" tIns="45000" bIns="45000" anchor="ctr">
            <a:spAutoFit/>
          </a:bodyPr>
          <a:p>
            <a:pPr marL="360360">
              <a:lnSpc>
                <a:spcPct val="100000"/>
              </a:lnSpc>
              <a:spcBef>
                <a:spcPts val="241"/>
              </a:spcBef>
            </a:pPr>
            <a:r>
              <a:rPr b="0" lang="en-US" sz="1200" spc="-1" strike="noStrike">
                <a:solidFill>
                  <a:srgbClr val="344246"/>
                </a:solidFill>
                <a:latin typeface="Verdana"/>
                <a:ea typeface="Verdana"/>
              </a:rPr>
              <a:t>twitter.com/youraccount</a:t>
            </a:r>
            <a:endParaRPr b="0" lang="en-US" sz="1200" spc="-1" strike="noStrike">
              <a:solidFill>
                <a:srgbClr val="000000"/>
              </a:solidFill>
              <a:latin typeface="Arial"/>
            </a:endParaRPr>
          </a:p>
        </p:txBody>
      </p:sp>
      <p:sp>
        <p:nvSpPr>
          <p:cNvPr id="293" name="Rectangle 18"/>
          <p:cNvSpPr/>
          <p:nvPr/>
        </p:nvSpPr>
        <p:spPr>
          <a:xfrm>
            <a:off x="1041480" y="4539600"/>
            <a:ext cx="2498400" cy="271800"/>
          </a:xfrm>
          <a:prstGeom prst="rect">
            <a:avLst/>
          </a:prstGeom>
          <a:noFill/>
          <a:ln w="0">
            <a:noFill/>
          </a:ln>
        </p:spPr>
        <p:style>
          <a:lnRef idx="0"/>
          <a:fillRef idx="0"/>
          <a:effectRef idx="0"/>
          <a:fontRef idx="minor"/>
        </p:style>
        <p:txBody>
          <a:bodyPr wrap="none" lIns="90000" rIns="90000" tIns="45000" bIns="45000" anchor="ctr">
            <a:spAutoFit/>
          </a:bodyPr>
          <a:p>
            <a:pPr marL="360360">
              <a:lnSpc>
                <a:spcPct val="100000"/>
              </a:lnSpc>
              <a:spcBef>
                <a:spcPts val="241"/>
              </a:spcBef>
            </a:pPr>
            <a:r>
              <a:rPr b="0" lang="en-US" sz="1200" spc="-1" strike="noStrike">
                <a:solidFill>
                  <a:srgbClr val="344246"/>
                </a:solidFill>
                <a:latin typeface="Verdana"/>
                <a:ea typeface="Verdana"/>
              </a:rPr>
              <a:t>facebook.com/youraccount</a:t>
            </a:r>
            <a:endParaRPr b="0" lang="en-US" sz="1200" spc="-1" strike="noStrike">
              <a:solidFill>
                <a:srgbClr val="000000"/>
              </a:solidFill>
              <a:latin typeface="Arial"/>
            </a:endParaRPr>
          </a:p>
        </p:txBody>
      </p:sp>
      <p:sp>
        <p:nvSpPr>
          <p:cNvPr id="294" name="PlaceHolder 2"/>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fr-FR" sz="3200" spc="-1" strike="noStrike">
                <a:solidFill>
                  <a:srgbClr val="344246"/>
                </a:solidFill>
                <a:latin typeface="Verdana"/>
                <a:ea typeface="Verdana"/>
              </a:rPr>
              <a:t>About us</a:t>
            </a:r>
            <a:endParaRPr b="0" lang="en-US" sz="3200" spc="-1" strike="noStrike">
              <a:solidFill>
                <a:srgbClr val="344246"/>
              </a:solidFill>
              <a:latin typeface="Calibri"/>
            </a:endParaRPr>
          </a:p>
        </p:txBody>
      </p:sp>
      <p:sp>
        <p:nvSpPr>
          <p:cNvPr id="295" name="PlaceHolder 3"/>
          <p:cNvSpPr>
            <a:spLocks noGrp="1"/>
          </p:cNvSpPr>
          <p:nvPr>
            <p:ph/>
          </p:nvPr>
        </p:nvSpPr>
        <p:spPr>
          <a:xfrm>
            <a:off x="4726800" y="4249800"/>
            <a:ext cx="3959640" cy="2159280"/>
          </a:xfrm>
          <a:prstGeom prst="rect">
            <a:avLst/>
          </a:prstGeom>
          <a:noFill/>
          <a:ln w="0">
            <a:noFill/>
          </a:ln>
        </p:spPr>
        <p:txBody>
          <a:bodyPr anchor="t">
            <a:normAutofit fontScale="87000"/>
          </a:bodyPr>
          <a:p>
            <a:pPr marL="322560" indent="-322560">
              <a:lnSpc>
                <a:spcPct val="100000"/>
              </a:lnSpc>
              <a:spcBef>
                <a:spcPts val="320"/>
              </a:spcBef>
              <a:buClr>
                <a:srgbClr val="344246"/>
              </a:buClr>
              <a:buFont typeface="Arial"/>
              <a:buChar char="•"/>
            </a:pPr>
            <a:r>
              <a:rPr b="1" lang="en-US" sz="1600" spc="-1" strike="noStrike">
                <a:solidFill>
                  <a:srgbClr val="344246"/>
                </a:solidFill>
                <a:latin typeface="Verdana"/>
                <a:ea typeface="Verdana"/>
              </a:rPr>
              <a:t>Address</a:t>
            </a:r>
            <a:endParaRPr b="0" lang="en-US" sz="1600" spc="-1" strike="noStrike">
              <a:solidFill>
                <a:srgbClr val="344246"/>
              </a:solidFill>
              <a:latin typeface="Verdana"/>
            </a:endParaRPr>
          </a:p>
          <a:p>
            <a:pPr marL="338760" indent="0">
              <a:lnSpc>
                <a:spcPct val="100000"/>
              </a:lnSpc>
              <a:spcBef>
                <a:spcPts val="281"/>
              </a:spcBef>
              <a:buNone/>
              <a:tabLst>
                <a:tab algn="l" pos="0"/>
              </a:tabLst>
            </a:pPr>
            <a:r>
              <a:rPr b="0" lang="en-US" sz="1400" spc="-1" strike="noStrike">
                <a:solidFill>
                  <a:srgbClr val="344246"/>
                </a:solidFill>
                <a:latin typeface="Verdana"/>
                <a:ea typeface="Verdana"/>
              </a:rPr>
              <a:t>37, Your Street</a:t>
            </a:r>
            <a:endParaRPr b="0" lang="en-US" sz="1400" spc="-1" strike="noStrike">
              <a:solidFill>
                <a:srgbClr val="344246"/>
              </a:solidFill>
              <a:latin typeface="Verdana"/>
            </a:endParaRPr>
          </a:p>
          <a:p>
            <a:pPr marL="338760" indent="0">
              <a:lnSpc>
                <a:spcPct val="100000"/>
              </a:lnSpc>
              <a:spcBef>
                <a:spcPts val="281"/>
              </a:spcBef>
              <a:buNone/>
              <a:tabLst>
                <a:tab algn="l" pos="0"/>
              </a:tabLst>
            </a:pPr>
            <a:r>
              <a:rPr b="0" lang="en-US" sz="1400" spc="-1" strike="noStrike">
                <a:solidFill>
                  <a:srgbClr val="344246"/>
                </a:solidFill>
                <a:latin typeface="Verdana"/>
                <a:ea typeface="Verdana"/>
              </a:rPr>
              <a:t>Your State, Your Country</a:t>
            </a:r>
            <a:endParaRPr b="0" lang="en-US" sz="1400" spc="-1" strike="noStrike">
              <a:solidFill>
                <a:srgbClr val="344246"/>
              </a:solidFill>
              <a:latin typeface="Verdana"/>
            </a:endParaRPr>
          </a:p>
          <a:p>
            <a:pPr indent="0">
              <a:lnSpc>
                <a:spcPct val="100000"/>
              </a:lnSpc>
              <a:spcBef>
                <a:spcPts val="320"/>
              </a:spcBef>
              <a:buNone/>
              <a:tabLst>
                <a:tab algn="l" pos="0"/>
              </a:tabLst>
            </a:pPr>
            <a:endParaRPr b="0" lang="en-US" sz="1600" spc="-1" strike="noStrike">
              <a:solidFill>
                <a:srgbClr val="344246"/>
              </a:solidFill>
              <a:latin typeface="Verdana"/>
            </a:endParaRPr>
          </a:p>
          <a:p>
            <a:pPr marL="322560" indent="-322560">
              <a:lnSpc>
                <a:spcPct val="100000"/>
              </a:lnSpc>
              <a:spcBef>
                <a:spcPts val="320"/>
              </a:spcBef>
              <a:buClr>
                <a:srgbClr val="344246"/>
              </a:buClr>
              <a:buFont typeface="Arial"/>
              <a:buChar char="•"/>
              <a:tabLst>
                <a:tab algn="l" pos="0"/>
              </a:tabLst>
            </a:pPr>
            <a:r>
              <a:rPr b="1" lang="en-US" sz="1600" spc="-1" strike="noStrike">
                <a:solidFill>
                  <a:srgbClr val="344246"/>
                </a:solidFill>
                <a:latin typeface="Verdana"/>
                <a:ea typeface="Verdana"/>
              </a:rPr>
              <a:t>Phone</a:t>
            </a:r>
            <a:endParaRPr b="0" lang="en-US" sz="1600" spc="-1" strike="noStrike">
              <a:solidFill>
                <a:srgbClr val="344246"/>
              </a:solidFill>
              <a:latin typeface="Verdana"/>
            </a:endParaRPr>
          </a:p>
          <a:p>
            <a:pPr marL="338760" indent="0">
              <a:lnSpc>
                <a:spcPct val="100000"/>
              </a:lnSpc>
              <a:spcBef>
                <a:spcPts val="281"/>
              </a:spcBef>
              <a:buNone/>
              <a:tabLst>
                <a:tab algn="l" pos="0"/>
              </a:tabLst>
            </a:pPr>
            <a:r>
              <a:rPr b="0" lang="en-US" sz="1400" spc="-1" strike="noStrike">
                <a:solidFill>
                  <a:srgbClr val="344246"/>
                </a:solidFill>
                <a:latin typeface="Verdana"/>
                <a:ea typeface="Verdana"/>
              </a:rPr>
              <a:t>+3 (5) 7876 6753</a:t>
            </a:r>
            <a:endParaRPr b="0" lang="en-US" sz="1400" spc="-1" strike="noStrike">
              <a:solidFill>
                <a:srgbClr val="344246"/>
              </a:solidFill>
              <a:latin typeface="Verdana"/>
            </a:endParaRPr>
          </a:p>
          <a:p>
            <a:pPr indent="0">
              <a:lnSpc>
                <a:spcPct val="100000"/>
              </a:lnSpc>
              <a:spcBef>
                <a:spcPts val="320"/>
              </a:spcBef>
              <a:buNone/>
              <a:tabLst>
                <a:tab algn="l" pos="0"/>
              </a:tabLst>
            </a:pPr>
            <a:endParaRPr b="0" lang="en-US" sz="1600" spc="-1" strike="noStrike">
              <a:solidFill>
                <a:srgbClr val="344246"/>
              </a:solidFill>
              <a:latin typeface="Verdana"/>
            </a:endParaRPr>
          </a:p>
          <a:p>
            <a:pPr marL="322560" indent="-322560">
              <a:lnSpc>
                <a:spcPct val="100000"/>
              </a:lnSpc>
              <a:spcBef>
                <a:spcPts val="320"/>
              </a:spcBef>
              <a:buClr>
                <a:srgbClr val="344246"/>
              </a:buClr>
              <a:buFont typeface="Arial"/>
              <a:buChar char="•"/>
              <a:tabLst>
                <a:tab algn="l" pos="0"/>
              </a:tabLst>
            </a:pPr>
            <a:r>
              <a:rPr b="1" lang="en-US" sz="1600" spc="-1" strike="noStrike">
                <a:solidFill>
                  <a:srgbClr val="344246"/>
                </a:solidFill>
                <a:latin typeface="Verdana"/>
                <a:ea typeface="Verdana"/>
              </a:rPr>
              <a:t>Email</a:t>
            </a:r>
            <a:endParaRPr b="0" lang="en-US" sz="1600" spc="-1" strike="noStrike">
              <a:solidFill>
                <a:srgbClr val="344246"/>
              </a:solidFill>
              <a:latin typeface="Verdana"/>
            </a:endParaRPr>
          </a:p>
          <a:p>
            <a:pPr marL="338760" indent="0">
              <a:lnSpc>
                <a:spcPct val="100000"/>
              </a:lnSpc>
              <a:spcBef>
                <a:spcPts val="281"/>
              </a:spcBef>
              <a:buNone/>
              <a:tabLst>
                <a:tab algn="l" pos="0"/>
              </a:tabLst>
            </a:pPr>
            <a:r>
              <a:rPr b="0" lang="en-US" sz="1400" spc="-1" strike="noStrike">
                <a:solidFill>
                  <a:srgbClr val="344246"/>
                </a:solidFill>
                <a:latin typeface="Verdana"/>
                <a:ea typeface="Verdana"/>
              </a:rPr>
              <a:t>youremail@yourprovider.com</a:t>
            </a:r>
            <a:endParaRPr b="0" lang="en-US" sz="1400" spc="-1" strike="noStrike">
              <a:solidFill>
                <a:srgbClr val="344246"/>
              </a:solidFill>
              <a:latin typeface="Verdana"/>
            </a:endParaRPr>
          </a:p>
        </p:txBody>
      </p:sp>
      <p:cxnSp>
        <p:nvCxnSpPr>
          <p:cNvPr id="296" name="Connecteur droit 5"/>
          <p:cNvCxnSpPr/>
          <p:nvPr/>
        </p:nvCxnSpPr>
        <p:spPr>
          <a:xfrm>
            <a:off x="4572000" y="1911600"/>
            <a:ext cx="360" cy="4320720"/>
          </a:xfrm>
          <a:prstGeom prst="straightConnector1">
            <a:avLst/>
          </a:prstGeom>
          <a:ln>
            <a:solidFill>
              <a:srgbClr val="ffffff">
                <a:lumMod val="85000"/>
              </a:srgbClr>
            </a:solidFill>
            <a:round/>
          </a:ln>
        </p:spPr>
      </p:cxnSp>
      <p:pic>
        <p:nvPicPr>
          <p:cNvPr id="297" name="Picture 11" descr="http://www.mygola.com/yango/graphics/guides/guide_uploads/ca98a1b76bbb2238fcabc3fe50c17fad.png"/>
          <p:cNvPicPr/>
          <p:nvPr/>
        </p:nvPicPr>
        <p:blipFill>
          <a:blip r:embed="rId1"/>
          <a:srcRect l="45904" t="4472" r="2316" b="60155"/>
          <a:stretch/>
        </p:blipFill>
        <p:spPr>
          <a:xfrm>
            <a:off x="4860000" y="2245680"/>
            <a:ext cx="3960000" cy="1686960"/>
          </a:xfrm>
          <a:prstGeom prst="rect">
            <a:avLst/>
          </a:prstGeom>
          <a:ln w="76200">
            <a:solidFill>
              <a:srgbClr val="f0ee97"/>
            </a:solidFill>
            <a:round/>
          </a:ln>
        </p:spPr>
      </p:pic>
      <p:pic>
        <p:nvPicPr>
          <p:cNvPr id="298" name="Picture 14" descr="https://twitter.com/images/resources/twitter-bird-light-bgs.png"/>
          <p:cNvPicPr/>
          <p:nvPr/>
        </p:nvPicPr>
        <p:blipFill>
          <a:blip r:embed="rId2"/>
          <a:stretch/>
        </p:blipFill>
        <p:spPr>
          <a:xfrm>
            <a:off x="734760" y="3861000"/>
            <a:ext cx="647640" cy="647640"/>
          </a:xfrm>
          <a:prstGeom prst="rect">
            <a:avLst/>
          </a:prstGeom>
          <a:ln w="0">
            <a:noFill/>
          </a:ln>
        </p:spPr>
      </p:pic>
      <p:pic>
        <p:nvPicPr>
          <p:cNvPr id="299" name="Picture 15" descr="C:\Users\Utilisateur\Downloads\f_logo.png"/>
          <p:cNvPicPr/>
          <p:nvPr/>
        </p:nvPicPr>
        <p:blipFill>
          <a:blip r:embed="rId3"/>
          <a:stretch/>
        </p:blipFill>
        <p:spPr>
          <a:xfrm>
            <a:off x="892080" y="4509000"/>
            <a:ext cx="333000" cy="333000"/>
          </a:xfrm>
          <a:prstGeom prst="rect">
            <a:avLst/>
          </a:prstGeom>
          <a:ln w="0">
            <a:noFill/>
          </a:ln>
        </p:spPr>
      </p:pic>
      <p:pic>
        <p:nvPicPr>
          <p:cNvPr id="300" name="Picture 18" descr=""/>
          <p:cNvPicPr/>
          <p:nvPr/>
        </p:nvPicPr>
        <p:blipFill>
          <a:blip r:embed="rId4"/>
          <a:stretch/>
        </p:blipFill>
        <p:spPr>
          <a:xfrm>
            <a:off x="874080" y="5020200"/>
            <a:ext cx="349920" cy="349920"/>
          </a:xfrm>
          <a:prstGeom prst="rect">
            <a:avLst/>
          </a:prstGeom>
          <a:ln w="0">
            <a:noFill/>
          </a:ln>
        </p:spPr>
      </p:pic>
      <p:sp>
        <p:nvSpPr>
          <p:cNvPr id="301" name="Rectangle 21"/>
          <p:cNvSpPr/>
          <p:nvPr/>
        </p:nvSpPr>
        <p:spPr>
          <a:xfrm>
            <a:off x="1022760" y="5022360"/>
            <a:ext cx="1873440" cy="271800"/>
          </a:xfrm>
          <a:prstGeom prst="rect">
            <a:avLst/>
          </a:prstGeom>
          <a:noFill/>
          <a:ln w="0">
            <a:noFill/>
          </a:ln>
        </p:spPr>
        <p:style>
          <a:lnRef idx="0"/>
          <a:fillRef idx="0"/>
          <a:effectRef idx="0"/>
          <a:fontRef idx="minor"/>
        </p:style>
        <p:txBody>
          <a:bodyPr wrap="none" lIns="90000" rIns="90000" tIns="45000" bIns="45000" anchor="ctr">
            <a:spAutoFit/>
          </a:bodyPr>
          <a:p>
            <a:pPr marL="360360">
              <a:lnSpc>
                <a:spcPct val="100000"/>
              </a:lnSpc>
              <a:spcBef>
                <a:spcPts val="241"/>
              </a:spcBef>
            </a:pPr>
            <a:r>
              <a:rPr b="0" lang="en-US" sz="1200" spc="-1" strike="noStrike">
                <a:solidFill>
                  <a:srgbClr val="344246"/>
                </a:solidFill>
                <a:latin typeface="Verdana"/>
                <a:ea typeface="Verdana"/>
              </a:rPr>
              <a:t>YourSkypeAccount</a:t>
            </a:r>
            <a:endParaRPr b="0" lang="en-US" sz="1200" spc="-1" strike="noStrike">
              <a:solidFill>
                <a:srgbClr val="000000"/>
              </a:solidFill>
              <a:latin typeface="Arial"/>
            </a:endParaRPr>
          </a:p>
        </p:txBody>
      </p:sp>
      <p:sp>
        <p:nvSpPr>
          <p:cNvPr id="5" name="PlaceHolder 4"/>
          <p:cNvSpPr>
            <a:spLocks noGrp="1"/>
          </p:cNvSpPr>
          <p:nvPr>
            <p:ph type="ftr" idx="4"/>
          </p:nvPr>
        </p:nvSpPr>
        <p:spPr/>
        <p:txBody>
          <a:bodyPr/>
          <a:p>
            <a:r>
              <a:t>Your footer here</a:t>
            </a:r>
          </a:p>
        </p:txBody>
      </p:sp>
      <p:sp>
        <p:nvSpPr>
          <p:cNvPr id="6" name="PlaceHolder 5"/>
          <p:cNvSpPr>
            <a:spLocks noGrp="1"/>
          </p:cNvSpPr>
          <p:nvPr>
            <p:ph type="sldNum" idx="5"/>
          </p:nvPr>
        </p:nvSpPr>
        <p:spPr/>
        <p:txBody>
          <a:bodyPr/>
          <a:p>
            <a:fld id="{875AC759-D735-4D47-9D6F-1F2A288BA1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fr-FR" sz="3200" spc="-1" strike="noStrike">
                <a:solidFill>
                  <a:srgbClr val="344246"/>
                </a:solidFill>
                <a:latin typeface="Verdana"/>
                <a:ea typeface="Verdana"/>
              </a:rPr>
              <a:t>The team</a:t>
            </a:r>
            <a:endParaRPr b="0" lang="en-US" sz="3200" spc="-1" strike="noStrike">
              <a:solidFill>
                <a:srgbClr val="344246"/>
              </a:solidFill>
              <a:latin typeface="Calibri"/>
            </a:endParaRPr>
          </a:p>
        </p:txBody>
      </p:sp>
      <p:sp>
        <p:nvSpPr>
          <p:cNvPr id="303" name="Rectangle 6"/>
          <p:cNvSpPr/>
          <p:nvPr/>
        </p:nvSpPr>
        <p:spPr>
          <a:xfrm>
            <a:off x="611640" y="1671840"/>
            <a:ext cx="1527840" cy="1527840"/>
          </a:xfrm>
          <a:prstGeom prst="rect">
            <a:avLst/>
          </a:prstGeom>
          <a:gradFill rotWithShape="0">
            <a:gsLst>
              <a:gs pos="0">
                <a:srgbClr val="797711"/>
              </a:gs>
              <a:gs pos="100000">
                <a:srgbClr val="b5b21a"/>
              </a:gs>
            </a:gsLst>
            <a:lin ang="18900000"/>
          </a:gradFill>
          <a:ln w="152400">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here</a:t>
            </a:r>
            <a:endParaRPr b="0" lang="en-US" sz="1800" spc="-1" strike="noStrike">
              <a:solidFill>
                <a:srgbClr val="000000"/>
              </a:solidFill>
              <a:latin typeface="Arial"/>
            </a:endParaRPr>
          </a:p>
        </p:txBody>
      </p:sp>
      <p:sp>
        <p:nvSpPr>
          <p:cNvPr id="304" name="Rectangle 7"/>
          <p:cNvSpPr/>
          <p:nvPr/>
        </p:nvSpPr>
        <p:spPr>
          <a:xfrm>
            <a:off x="611640" y="3573000"/>
            <a:ext cx="1527840" cy="1527840"/>
          </a:xfrm>
          <a:prstGeom prst="rect">
            <a:avLst/>
          </a:prstGeom>
          <a:gradFill rotWithShape="0">
            <a:gsLst>
              <a:gs pos="0">
                <a:srgbClr val="797711"/>
              </a:gs>
              <a:gs pos="100000">
                <a:srgbClr val="b5b21a"/>
              </a:gs>
            </a:gsLst>
            <a:lin ang="18900000"/>
          </a:gradFill>
          <a:ln w="152400">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here</a:t>
            </a:r>
            <a:endParaRPr b="0" lang="en-US" sz="1800" spc="-1" strike="noStrike">
              <a:solidFill>
                <a:srgbClr val="000000"/>
              </a:solidFill>
              <a:latin typeface="Arial"/>
            </a:endParaRPr>
          </a:p>
        </p:txBody>
      </p:sp>
      <p:sp>
        <p:nvSpPr>
          <p:cNvPr id="305" name="Rectangle 8"/>
          <p:cNvSpPr/>
          <p:nvPr/>
        </p:nvSpPr>
        <p:spPr>
          <a:xfrm>
            <a:off x="4415040" y="1671840"/>
            <a:ext cx="1527840" cy="1527840"/>
          </a:xfrm>
          <a:prstGeom prst="rect">
            <a:avLst/>
          </a:prstGeom>
          <a:gradFill rotWithShape="0">
            <a:gsLst>
              <a:gs pos="0">
                <a:srgbClr val="797711"/>
              </a:gs>
              <a:gs pos="100000">
                <a:srgbClr val="b5b21a"/>
              </a:gs>
            </a:gsLst>
            <a:lin ang="18900000"/>
          </a:gradFill>
          <a:ln w="152400">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here</a:t>
            </a:r>
            <a:endParaRPr b="0" lang="en-US" sz="1800" spc="-1" strike="noStrike">
              <a:solidFill>
                <a:srgbClr val="000000"/>
              </a:solidFill>
              <a:latin typeface="Arial"/>
            </a:endParaRPr>
          </a:p>
        </p:txBody>
      </p:sp>
      <p:sp>
        <p:nvSpPr>
          <p:cNvPr id="306" name="Rectangle 9"/>
          <p:cNvSpPr/>
          <p:nvPr/>
        </p:nvSpPr>
        <p:spPr>
          <a:xfrm>
            <a:off x="4428000" y="3573000"/>
            <a:ext cx="1527840" cy="1527840"/>
          </a:xfrm>
          <a:prstGeom prst="rect">
            <a:avLst/>
          </a:prstGeom>
          <a:gradFill rotWithShape="0">
            <a:gsLst>
              <a:gs pos="0">
                <a:srgbClr val="797711"/>
              </a:gs>
              <a:gs pos="100000">
                <a:srgbClr val="b5b21a"/>
              </a:gs>
            </a:gsLst>
            <a:lin ang="18900000"/>
          </a:gradFill>
          <a:ln w="152400">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hoto</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here</a:t>
            </a:r>
            <a:endParaRPr b="0" lang="en-US" sz="1800" spc="-1" strike="noStrike">
              <a:solidFill>
                <a:srgbClr val="000000"/>
              </a:solidFill>
              <a:latin typeface="Arial"/>
            </a:endParaRPr>
          </a:p>
        </p:txBody>
      </p:sp>
      <p:sp>
        <p:nvSpPr>
          <p:cNvPr id="307" name="Rectangle 10"/>
          <p:cNvSpPr/>
          <p:nvPr/>
        </p:nvSpPr>
        <p:spPr>
          <a:xfrm>
            <a:off x="2139840" y="1663560"/>
            <a:ext cx="1927800" cy="12927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John Doe</a:t>
            </a:r>
            <a:endParaRPr b="0" lang="en-US" sz="1400" spc="-1" strike="noStrike">
              <a:solidFill>
                <a:srgbClr val="000000"/>
              </a:solidFill>
              <a:latin typeface="Arial"/>
            </a:endParaRPr>
          </a:p>
          <a:p>
            <a:pPr marL="92160" algn="just">
              <a:lnSpc>
                <a:spcPts val="1199"/>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08" name="Rectangle 13"/>
          <p:cNvSpPr/>
          <p:nvPr/>
        </p:nvSpPr>
        <p:spPr>
          <a:xfrm>
            <a:off x="5956200" y="1663560"/>
            <a:ext cx="1927800" cy="12927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Jane Doe</a:t>
            </a:r>
            <a:endParaRPr b="0" lang="en-US" sz="1400" spc="-1" strike="noStrike">
              <a:solidFill>
                <a:srgbClr val="000000"/>
              </a:solidFill>
              <a:latin typeface="Arial"/>
            </a:endParaRPr>
          </a:p>
          <a:p>
            <a:pPr marL="92160" algn="just">
              <a:lnSpc>
                <a:spcPts val="1199"/>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09" name="Rectangle 14"/>
          <p:cNvSpPr/>
          <p:nvPr/>
        </p:nvSpPr>
        <p:spPr>
          <a:xfrm>
            <a:off x="2141280" y="3573000"/>
            <a:ext cx="1927800" cy="13683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Richard Roe</a:t>
            </a:r>
            <a:endParaRPr b="0" lang="en-US" sz="1400" spc="-1" strike="noStrike">
              <a:solidFill>
                <a:srgbClr val="000000"/>
              </a:solidFill>
              <a:latin typeface="Arial"/>
            </a:endParaRPr>
          </a:p>
          <a:p>
            <a:pPr marL="92160" algn="just">
              <a:lnSpc>
                <a:spcPct val="100000"/>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10" name="Rectangle 15"/>
          <p:cNvSpPr/>
          <p:nvPr/>
        </p:nvSpPr>
        <p:spPr>
          <a:xfrm>
            <a:off x="5956200" y="3573000"/>
            <a:ext cx="1927800" cy="13683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Paula Poe</a:t>
            </a:r>
            <a:endParaRPr b="0" lang="en-US" sz="1400" spc="-1" strike="noStrike">
              <a:solidFill>
                <a:srgbClr val="000000"/>
              </a:solidFill>
              <a:latin typeface="Arial"/>
            </a:endParaRPr>
          </a:p>
          <a:p>
            <a:pPr marL="92160" algn="just">
              <a:lnSpc>
                <a:spcPct val="100000"/>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 name="PlaceHolder 2"/>
          <p:cNvSpPr>
            <a:spLocks noGrp="1"/>
          </p:cNvSpPr>
          <p:nvPr>
            <p:ph type="ftr" idx="4"/>
          </p:nvPr>
        </p:nvSpPr>
        <p:spPr/>
        <p:txBody>
          <a:bodyPr/>
          <a:p>
            <a:r>
              <a:t>Your footer here</a:t>
            </a:r>
          </a:p>
        </p:txBody>
      </p:sp>
      <p:sp>
        <p:nvSpPr>
          <p:cNvPr id="4" name="PlaceHolder 3"/>
          <p:cNvSpPr>
            <a:spLocks noGrp="1"/>
          </p:cNvSpPr>
          <p:nvPr>
            <p:ph type="sldNum" idx="5"/>
          </p:nvPr>
        </p:nvSpPr>
        <p:spPr/>
        <p:txBody>
          <a:bodyPr/>
          <a:p>
            <a:fld id="{095D29DD-FA81-4B44-9A44-8C7870E07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The core team</a:t>
            </a:r>
            <a:endParaRPr b="0" lang="en-US" sz="3200" spc="-1" strike="noStrike">
              <a:solidFill>
                <a:srgbClr val="344246"/>
              </a:solidFill>
              <a:latin typeface="Calibri"/>
            </a:endParaRPr>
          </a:p>
        </p:txBody>
      </p:sp>
      <p:sp>
        <p:nvSpPr>
          <p:cNvPr id="312" name="Rectangle 10"/>
          <p:cNvSpPr/>
          <p:nvPr/>
        </p:nvSpPr>
        <p:spPr>
          <a:xfrm>
            <a:off x="2898360" y="1783440"/>
            <a:ext cx="1927800" cy="12927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John Doe</a:t>
            </a:r>
            <a:endParaRPr b="0" lang="en-US" sz="1400" spc="-1" strike="noStrike">
              <a:solidFill>
                <a:srgbClr val="000000"/>
              </a:solidFill>
              <a:latin typeface="Arial"/>
            </a:endParaRPr>
          </a:p>
          <a:p>
            <a:pPr marL="92160" algn="just">
              <a:lnSpc>
                <a:spcPts val="1199"/>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sp>
        <p:nvSpPr>
          <p:cNvPr id="313" name="Rectangle 13"/>
          <p:cNvSpPr/>
          <p:nvPr/>
        </p:nvSpPr>
        <p:spPr>
          <a:xfrm>
            <a:off x="6732360" y="3463200"/>
            <a:ext cx="1927800" cy="1292760"/>
          </a:xfrm>
          <a:prstGeom prst="rect">
            <a:avLst/>
          </a:prstGeom>
          <a:noFill/>
          <a:ln w="0">
            <a:noFill/>
          </a:ln>
        </p:spPr>
        <p:style>
          <a:lnRef idx="0"/>
          <a:fillRef idx="0"/>
          <a:effectRef idx="0"/>
          <a:fontRef idx="minor"/>
        </p:style>
        <p:txBody>
          <a:bodyPr lIns="90000" rIns="90000" tIns="45000" bIns="45000" anchor="t">
            <a:spAutoFit/>
          </a:bodyPr>
          <a:p>
            <a:pPr marL="92160" algn="just">
              <a:lnSpc>
                <a:spcPct val="100000"/>
              </a:lnSpc>
              <a:spcBef>
                <a:spcPts val="1800"/>
              </a:spcBef>
            </a:pPr>
            <a:r>
              <a:rPr b="1" lang="fr-FR" sz="1400" spc="-1" strike="noStrike">
                <a:solidFill>
                  <a:srgbClr val="344246"/>
                </a:solidFill>
                <a:latin typeface="Verdana"/>
                <a:ea typeface="Verdana"/>
              </a:rPr>
              <a:t>Jane Doe</a:t>
            </a:r>
            <a:endParaRPr b="0" lang="en-US" sz="1400" spc="-1" strike="noStrike">
              <a:solidFill>
                <a:srgbClr val="000000"/>
              </a:solidFill>
              <a:latin typeface="Arial"/>
            </a:endParaRPr>
          </a:p>
          <a:p>
            <a:pPr marL="92160" algn="just">
              <a:lnSpc>
                <a:spcPts val="1199"/>
              </a:lnSpc>
              <a:spcBef>
                <a:spcPts val="1800"/>
              </a:spcBef>
            </a:pPr>
            <a:r>
              <a:rPr b="0" lang="fr-FR" sz="1100" spc="-1" strike="noStrike">
                <a:solidFill>
                  <a:srgbClr val="344246"/>
                </a:solidFill>
                <a:latin typeface="Arial"/>
                <a:ea typeface="Verdana"/>
              </a:rPr>
              <a:t>Lorem ipsum dolor sit amet, risus dolor nulla faucibus, elit amet duis blandit, tellus non mollis purus. </a:t>
            </a:r>
            <a:endParaRPr b="0" lang="en-US" sz="1100" spc="-1" strike="noStrike">
              <a:solidFill>
                <a:srgbClr val="000000"/>
              </a:solidFill>
              <a:latin typeface="Arial"/>
            </a:endParaRPr>
          </a:p>
        </p:txBody>
      </p:sp>
      <p:grpSp>
        <p:nvGrpSpPr>
          <p:cNvPr id="314" name="Groupe 22"/>
          <p:cNvGrpSpPr/>
          <p:nvPr/>
        </p:nvGrpSpPr>
        <p:grpSpPr>
          <a:xfrm>
            <a:off x="463320" y="1723320"/>
            <a:ext cx="2304000" cy="2736000"/>
            <a:chOff x="463320" y="1723320"/>
            <a:chExt cx="2304000" cy="2736000"/>
          </a:xfrm>
        </p:grpSpPr>
        <p:sp>
          <p:nvSpPr>
            <p:cNvPr id="315" name="Rectangle 24"/>
            <p:cNvSpPr/>
            <p:nvPr/>
          </p:nvSpPr>
          <p:spPr>
            <a:xfrm>
              <a:off x="463320" y="1723320"/>
              <a:ext cx="2304000" cy="2736000"/>
            </a:xfrm>
            <a:prstGeom prst="rect">
              <a:avLst/>
            </a:prstGeom>
            <a:gradFill rotWithShape="0">
              <a:gsLst>
                <a:gs pos="0">
                  <a:srgbClr val="bebebe"/>
                </a:gs>
                <a:gs pos="100000">
                  <a:srgbClr val="f7f7f7"/>
                </a:gs>
              </a:gsLst>
              <a:lin ang="16200000"/>
            </a:gradFill>
            <a:ln w="9525">
              <a:solidFill>
                <a:srgbClr val="f9f9f9"/>
              </a:solidFill>
              <a:round/>
            </a:ln>
            <a:effectLst>
              <a:outerShdw blurRad="39960" dir="5400000" dist="23040" rotWithShape="0">
                <a:srgbClr val="000000">
                  <a:alpha val="35000"/>
                </a:srgbClr>
              </a:outerShdw>
            </a:effectLst>
          </p:spPr>
          <p:style>
            <a:lnRef idx="0"/>
            <a:fillRef idx="0"/>
            <a:effectRef idx="0"/>
            <a:fontRef idx="minor"/>
          </p:style>
          <p:txBody>
            <a:bodyPr numCol="1" spcCol="0" anchor="ctr">
              <a:noAutofit/>
            </a:bodyPr>
            <a:p>
              <a:pPr algn="ctr">
                <a:lnSpc>
                  <a:spcPct val="85000"/>
                </a:lnSpc>
                <a:tabLst>
                  <a:tab algn="l" pos="0"/>
                </a:tabLst>
              </a:pPr>
              <a:endParaRPr b="0" lang="en-US" sz="1800" spc="-1" strike="noStrike">
                <a:solidFill>
                  <a:srgbClr val="ffffff"/>
                </a:solidFill>
                <a:latin typeface="Tahoma"/>
              </a:endParaRPr>
            </a:p>
          </p:txBody>
        </p:sp>
        <p:sp>
          <p:nvSpPr>
            <p:cNvPr id="316" name="Rectangle 25"/>
            <p:cNvSpPr/>
            <p:nvPr/>
          </p:nvSpPr>
          <p:spPr>
            <a:xfrm>
              <a:off x="679320" y="2011320"/>
              <a:ext cx="1872000" cy="1728000"/>
            </a:xfrm>
            <a:prstGeom prst="rect">
              <a:avLst/>
            </a:prstGeom>
            <a:solidFill>
              <a:srgbClr val="ffffff"/>
            </a:solidFill>
            <a:ln w="38100">
              <a:solidFill>
                <a:srgbClr val="ffffff"/>
              </a:solidFill>
              <a:round/>
            </a:ln>
            <a:effectLst>
              <a:outerShdw blurRad="39960" dir="5400000" dist="20160" rotWithShape="0">
                <a:srgbClr val="000000">
                  <a:alpha val="38000"/>
                </a:srgbClr>
              </a:outerShdw>
            </a:effectLst>
          </p:spPr>
          <p:style>
            <a:lnRef idx="0"/>
            <a:fillRef idx="0"/>
            <a:effectRef idx="0"/>
            <a:fontRef idx="minor"/>
          </p:style>
          <p:txBody>
            <a:bodyPr numCol="1" spcCol="0" anchor="ctr">
              <a:noAutofit/>
            </a:bodyPr>
            <a:p>
              <a:pPr algn="ctr">
                <a:lnSpc>
                  <a:spcPct val="85000"/>
                </a:lnSpc>
                <a:tabLst>
                  <a:tab algn="l" pos="0"/>
                </a:tabLst>
              </a:pPr>
              <a:r>
                <a:rPr b="0" lang="en-US" sz="1800" spc="-1" strike="noStrike">
                  <a:solidFill>
                    <a:srgbClr val="344246"/>
                  </a:solidFill>
                  <a:latin typeface="Verdana"/>
                  <a:ea typeface="Verdana"/>
                </a:rPr>
                <a:t>Photo</a:t>
              </a:r>
              <a:endParaRPr b="0" lang="en-US" sz="1800" spc="-1" strike="noStrike">
                <a:solidFill>
                  <a:srgbClr val="000000"/>
                </a:solidFill>
                <a:latin typeface="Arial"/>
              </a:endParaRPr>
            </a:p>
            <a:p>
              <a:pPr algn="ctr">
                <a:lnSpc>
                  <a:spcPct val="85000"/>
                </a:lnSpc>
                <a:tabLst>
                  <a:tab algn="l" pos="0"/>
                </a:tabLst>
              </a:pPr>
              <a:r>
                <a:rPr b="0" lang="en-US" sz="1800" spc="-1" strike="noStrike">
                  <a:solidFill>
                    <a:srgbClr val="344246"/>
                  </a:solidFill>
                  <a:latin typeface="Verdana"/>
                  <a:ea typeface="Verdana"/>
                </a:rPr>
                <a:t>here</a:t>
              </a:r>
              <a:endParaRPr b="0" lang="en-US" sz="1800" spc="-1" strike="noStrike">
                <a:solidFill>
                  <a:srgbClr val="000000"/>
                </a:solidFill>
                <a:latin typeface="Arial"/>
              </a:endParaRPr>
            </a:p>
          </p:txBody>
        </p:sp>
      </p:grpSp>
      <p:grpSp>
        <p:nvGrpSpPr>
          <p:cNvPr id="317" name="Groupe 32"/>
          <p:cNvGrpSpPr/>
          <p:nvPr/>
        </p:nvGrpSpPr>
        <p:grpSpPr>
          <a:xfrm>
            <a:off x="4356000" y="3435120"/>
            <a:ext cx="2304000" cy="2736000"/>
            <a:chOff x="4356000" y="3435120"/>
            <a:chExt cx="2304000" cy="2736000"/>
          </a:xfrm>
        </p:grpSpPr>
        <p:sp>
          <p:nvSpPr>
            <p:cNvPr id="318" name="Rectangle 33"/>
            <p:cNvSpPr/>
            <p:nvPr/>
          </p:nvSpPr>
          <p:spPr>
            <a:xfrm>
              <a:off x="4356000" y="3435120"/>
              <a:ext cx="2304000" cy="2736000"/>
            </a:xfrm>
            <a:prstGeom prst="rect">
              <a:avLst/>
            </a:prstGeom>
            <a:gradFill rotWithShape="0">
              <a:gsLst>
                <a:gs pos="0">
                  <a:srgbClr val="bebebe"/>
                </a:gs>
                <a:gs pos="100000">
                  <a:srgbClr val="f7f7f7"/>
                </a:gs>
              </a:gsLst>
              <a:lin ang="16200000"/>
            </a:gradFill>
            <a:ln w="9525">
              <a:solidFill>
                <a:srgbClr val="f9f9f9"/>
              </a:solidFill>
              <a:round/>
            </a:ln>
            <a:effectLst>
              <a:outerShdw blurRad="39960" dir="5400000" dist="23040" rotWithShape="0">
                <a:srgbClr val="000000">
                  <a:alpha val="35000"/>
                </a:srgbClr>
              </a:outerShdw>
            </a:effectLst>
          </p:spPr>
          <p:style>
            <a:lnRef idx="0"/>
            <a:fillRef idx="0"/>
            <a:effectRef idx="0"/>
            <a:fontRef idx="minor"/>
          </p:style>
          <p:txBody>
            <a:bodyPr numCol="1" spcCol="0" anchor="ctr">
              <a:noAutofit/>
            </a:bodyPr>
            <a:p>
              <a:pPr algn="ctr">
                <a:lnSpc>
                  <a:spcPct val="85000"/>
                </a:lnSpc>
                <a:tabLst>
                  <a:tab algn="l" pos="0"/>
                </a:tabLst>
              </a:pPr>
              <a:endParaRPr b="0" lang="en-US" sz="1800" spc="-1" strike="noStrike">
                <a:solidFill>
                  <a:srgbClr val="ffffff"/>
                </a:solidFill>
                <a:latin typeface="Tahoma"/>
              </a:endParaRPr>
            </a:p>
          </p:txBody>
        </p:sp>
        <p:sp>
          <p:nvSpPr>
            <p:cNvPr id="319" name="Rectangle 34"/>
            <p:cNvSpPr/>
            <p:nvPr/>
          </p:nvSpPr>
          <p:spPr>
            <a:xfrm>
              <a:off x="4572000" y="3723120"/>
              <a:ext cx="1872000" cy="1728000"/>
            </a:xfrm>
            <a:prstGeom prst="rect">
              <a:avLst/>
            </a:prstGeom>
            <a:solidFill>
              <a:srgbClr val="ffffff"/>
            </a:solidFill>
            <a:ln w="38100">
              <a:solidFill>
                <a:srgbClr val="ffffff"/>
              </a:solidFill>
              <a:round/>
            </a:ln>
            <a:effectLst>
              <a:outerShdw blurRad="39960" dir="5400000" dist="20160" rotWithShape="0">
                <a:srgbClr val="000000">
                  <a:alpha val="38000"/>
                </a:srgbClr>
              </a:outerShdw>
            </a:effectLst>
          </p:spPr>
          <p:style>
            <a:lnRef idx="0"/>
            <a:fillRef idx="0"/>
            <a:effectRef idx="0"/>
            <a:fontRef idx="minor"/>
          </p:style>
          <p:txBody>
            <a:bodyPr numCol="1" spcCol="0" anchor="ctr">
              <a:noAutofit/>
            </a:bodyPr>
            <a:p>
              <a:pPr algn="ctr">
                <a:lnSpc>
                  <a:spcPct val="85000"/>
                </a:lnSpc>
                <a:tabLst>
                  <a:tab algn="l" pos="0"/>
                </a:tabLst>
              </a:pPr>
              <a:r>
                <a:rPr b="0" lang="en-US" sz="1800" spc="-1" strike="noStrike">
                  <a:solidFill>
                    <a:srgbClr val="344246"/>
                  </a:solidFill>
                  <a:latin typeface="Verdana"/>
                  <a:ea typeface="Verdana"/>
                </a:rPr>
                <a:t>Photo</a:t>
              </a:r>
              <a:endParaRPr b="0" lang="en-US" sz="1800" spc="-1" strike="noStrike">
                <a:solidFill>
                  <a:srgbClr val="000000"/>
                </a:solidFill>
                <a:latin typeface="Arial"/>
              </a:endParaRPr>
            </a:p>
            <a:p>
              <a:pPr algn="ctr">
                <a:lnSpc>
                  <a:spcPct val="85000"/>
                </a:lnSpc>
                <a:tabLst>
                  <a:tab algn="l" pos="0"/>
                </a:tabLst>
              </a:pPr>
              <a:r>
                <a:rPr b="0" lang="en-US" sz="1800" spc="-1" strike="noStrike">
                  <a:solidFill>
                    <a:srgbClr val="344246"/>
                  </a:solidFill>
                  <a:latin typeface="Verdana"/>
                  <a:ea typeface="Verdana"/>
                </a:rPr>
                <a:t>here</a:t>
              </a:r>
              <a:endParaRPr b="0" lang="en-US" sz="1800" spc="-1" strike="noStrike">
                <a:solidFill>
                  <a:srgbClr val="000000"/>
                </a:solidFill>
                <a:latin typeface="Arial"/>
              </a:endParaRPr>
            </a:p>
          </p:txBody>
        </p:sp>
      </p:grpSp>
      <p:sp>
        <p:nvSpPr>
          <p:cNvPr id="320" name="Text Box 4"/>
          <p:cNvSpPr/>
          <p:nvPr/>
        </p:nvSpPr>
        <p:spPr>
          <a:xfrm>
            <a:off x="126720" y="650520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344246"/>
                </a:solidFill>
                <a:latin typeface="Arial"/>
                <a:ea typeface="宋体"/>
              </a:rPr>
              <a:t>powerpoint</a:t>
            </a:r>
            <a:r>
              <a:rPr b="0" lang="zh-CN" sz="1600" spc="-1" strike="noStrike">
                <a:solidFill>
                  <a:srgbClr val="344246"/>
                </a:solidFill>
                <a:latin typeface="Arial"/>
                <a:ea typeface="宋体"/>
              </a:rPr>
              <a:t>模板下载</a:t>
            </a:r>
            <a:r>
              <a:rPr b="0" lang="en-US" sz="1600" spc="-1" strike="noStrike" u="sng">
                <a:solidFill>
                  <a:srgbClr val="00b0f0"/>
                </a:solidFill>
                <a:uFillTx/>
                <a:latin typeface="Arial"/>
                <a:ea typeface="宋体"/>
                <a:hlinkClick r:id="rId1"/>
              </a:rPr>
              <a:t>http://www.eeppt.com/moban/</a:t>
            </a: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Your footer here</a:t>
            </a:r>
          </a:p>
        </p:txBody>
      </p:sp>
      <p:sp>
        <p:nvSpPr>
          <p:cNvPr id="4" name="PlaceHolder 3"/>
          <p:cNvSpPr>
            <a:spLocks noGrp="1"/>
          </p:cNvSpPr>
          <p:nvPr>
            <p:ph type="sldNum" idx="5"/>
          </p:nvPr>
        </p:nvSpPr>
        <p:spPr/>
        <p:txBody>
          <a:bodyPr/>
          <a:p>
            <a:fld id="{83A47552-7F4C-4852-925E-77A7EF8B5C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95640" y="2925000"/>
            <a:ext cx="7605720" cy="1469520"/>
          </a:xfrm>
          <a:prstGeom prst="rect">
            <a:avLst/>
          </a:prstGeom>
          <a:noFill/>
          <a:ln w="0">
            <a:noFill/>
          </a:ln>
        </p:spPr>
        <p:txBody>
          <a:bodyPr lIns="0" rIns="0" anchor="ctr">
            <a:noAutofit/>
          </a:bodyPr>
          <a:p>
            <a:pPr indent="0" algn="r">
              <a:lnSpc>
                <a:spcPct val="100000"/>
              </a:lnSpc>
              <a:buNone/>
            </a:pPr>
            <a:r>
              <a:rPr b="1" lang="en-US" sz="3600" spc="-1" strike="noStrike">
                <a:solidFill>
                  <a:srgbClr val="343846"/>
                </a:solidFill>
                <a:latin typeface="Verdana"/>
                <a:ea typeface="Verdana"/>
              </a:rPr>
              <a:t>Thank you for your attention!</a:t>
            </a:r>
            <a:br>
              <a:rPr sz="3600"/>
            </a:br>
            <a:br>
              <a:rPr sz="4000"/>
            </a:br>
            <a:r>
              <a:rPr b="0" lang="en-US" sz="2800" spc="-1" strike="noStrike">
                <a:solidFill>
                  <a:srgbClr val="343846"/>
                </a:solidFill>
                <a:latin typeface="Verdana"/>
                <a:ea typeface="Verdana"/>
              </a:rPr>
              <a:t>Do you have any questions ;-)</a:t>
            </a:r>
            <a:endParaRPr b="0" lang="en-US" sz="2800" spc="-1" strike="noStrike">
              <a:solidFill>
                <a:srgbClr val="34424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Template color scheme</a:t>
            </a:r>
            <a:endParaRPr b="0" lang="en-US" sz="3200" spc="-1" strike="noStrike">
              <a:solidFill>
                <a:srgbClr val="344246"/>
              </a:solidFill>
              <a:latin typeface="Calibri"/>
            </a:endParaRPr>
          </a:p>
        </p:txBody>
      </p:sp>
      <p:grpSp>
        <p:nvGrpSpPr>
          <p:cNvPr id="323" name="Groupe 1"/>
          <p:cNvGrpSpPr/>
          <p:nvPr/>
        </p:nvGrpSpPr>
        <p:grpSpPr>
          <a:xfrm>
            <a:off x="339840" y="2854080"/>
            <a:ext cx="2935800" cy="2182680"/>
            <a:chOff x="339840" y="2854080"/>
            <a:chExt cx="2935800" cy="2182680"/>
          </a:xfrm>
        </p:grpSpPr>
        <p:sp>
          <p:nvSpPr>
            <p:cNvPr id="324" name="Text Box 2"/>
            <p:cNvSpPr/>
            <p:nvPr/>
          </p:nvSpPr>
          <p:spPr>
            <a:xfrm>
              <a:off x="343440" y="2941920"/>
              <a:ext cx="1872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Text/background – Dark 1</a:t>
              </a:r>
              <a:endParaRPr b="0" lang="en-US" sz="1100" spc="-1" strike="noStrike">
                <a:solidFill>
                  <a:srgbClr val="000000"/>
                </a:solidFill>
                <a:latin typeface="Arial"/>
              </a:endParaRPr>
            </a:p>
          </p:txBody>
        </p:sp>
        <p:sp>
          <p:nvSpPr>
            <p:cNvPr id="325" name="Rectangle 10"/>
            <p:cNvSpPr/>
            <p:nvPr/>
          </p:nvSpPr>
          <p:spPr>
            <a:xfrm>
              <a:off x="2843280" y="28540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52</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6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70</a:t>
              </a:r>
              <a:endParaRPr b="0" lang="en-US" sz="900" spc="-1" strike="noStrike">
                <a:solidFill>
                  <a:srgbClr val="000000"/>
                </a:solidFill>
                <a:latin typeface="Arial"/>
              </a:endParaRPr>
            </a:p>
          </p:txBody>
        </p:sp>
        <p:sp>
          <p:nvSpPr>
            <p:cNvPr id="326" name="Text Box 2"/>
            <p:cNvSpPr/>
            <p:nvPr/>
          </p:nvSpPr>
          <p:spPr>
            <a:xfrm>
              <a:off x="339840" y="3525120"/>
              <a:ext cx="18925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Text/background – Light 1</a:t>
              </a:r>
              <a:endParaRPr b="0" lang="en-US" sz="1100" spc="-1" strike="noStrike">
                <a:solidFill>
                  <a:srgbClr val="000000"/>
                </a:solidFill>
                <a:latin typeface="Arial"/>
              </a:endParaRPr>
            </a:p>
          </p:txBody>
        </p:sp>
        <p:sp>
          <p:nvSpPr>
            <p:cNvPr id="327" name="Text Box 2"/>
            <p:cNvSpPr/>
            <p:nvPr/>
          </p:nvSpPr>
          <p:spPr>
            <a:xfrm>
              <a:off x="343440" y="4108680"/>
              <a:ext cx="1872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Text/background – Dark 2</a:t>
              </a:r>
              <a:endParaRPr b="0" lang="en-US" sz="1100" spc="-1" strike="noStrike">
                <a:solidFill>
                  <a:srgbClr val="000000"/>
                </a:solidFill>
                <a:latin typeface="Arial"/>
              </a:endParaRPr>
            </a:p>
          </p:txBody>
        </p:sp>
        <p:sp>
          <p:nvSpPr>
            <p:cNvPr id="328" name="Text Box 2"/>
            <p:cNvSpPr/>
            <p:nvPr/>
          </p:nvSpPr>
          <p:spPr>
            <a:xfrm>
              <a:off x="339840" y="4691880"/>
              <a:ext cx="18925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Text/background – Light 2</a:t>
              </a:r>
              <a:endParaRPr b="0" lang="en-US" sz="1100" spc="-1" strike="noStrike">
                <a:solidFill>
                  <a:srgbClr val="000000"/>
                </a:solidFill>
                <a:latin typeface="Arial"/>
              </a:endParaRPr>
            </a:p>
          </p:txBody>
        </p:sp>
        <p:sp>
          <p:nvSpPr>
            <p:cNvPr id="329" name="Rectangle 10"/>
            <p:cNvSpPr/>
            <p:nvPr/>
          </p:nvSpPr>
          <p:spPr>
            <a:xfrm>
              <a:off x="2843280" y="34372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55</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255</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55</a:t>
              </a:r>
              <a:endParaRPr b="0" lang="en-US" sz="900" spc="-1" strike="noStrike">
                <a:solidFill>
                  <a:srgbClr val="000000"/>
                </a:solidFill>
                <a:latin typeface="Arial"/>
              </a:endParaRPr>
            </a:p>
          </p:txBody>
        </p:sp>
        <p:sp>
          <p:nvSpPr>
            <p:cNvPr id="330" name="Rectangle 10"/>
            <p:cNvSpPr/>
            <p:nvPr/>
          </p:nvSpPr>
          <p:spPr>
            <a:xfrm>
              <a:off x="2843280" y="402084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38</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23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25</a:t>
              </a:r>
              <a:endParaRPr b="0" lang="en-US" sz="900" spc="-1" strike="noStrike">
                <a:solidFill>
                  <a:srgbClr val="000000"/>
                </a:solidFill>
                <a:latin typeface="Arial"/>
              </a:endParaRPr>
            </a:p>
          </p:txBody>
        </p:sp>
        <p:sp>
          <p:nvSpPr>
            <p:cNvPr id="331" name="Rectangle 10"/>
            <p:cNvSpPr/>
            <p:nvPr/>
          </p:nvSpPr>
          <p:spPr>
            <a:xfrm>
              <a:off x="2843280" y="460440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52</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6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70</a:t>
              </a:r>
              <a:endParaRPr b="0" lang="en-US" sz="900" spc="-1" strike="noStrike">
                <a:solidFill>
                  <a:srgbClr val="000000"/>
                </a:solidFill>
                <a:latin typeface="Arial"/>
              </a:endParaRPr>
            </a:p>
          </p:txBody>
        </p:sp>
        <p:sp>
          <p:nvSpPr>
            <p:cNvPr id="332" name="Freeform 10"/>
            <p:cNvSpPr/>
            <p:nvPr/>
          </p:nvSpPr>
          <p:spPr>
            <a:xfrm>
              <a:off x="2308320" y="286812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tx1"/>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33" name="Freeform 10"/>
            <p:cNvSpPr/>
            <p:nvPr/>
          </p:nvSpPr>
          <p:spPr>
            <a:xfrm>
              <a:off x="2308320" y="343728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bg1"/>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34" name="Freeform 10"/>
            <p:cNvSpPr/>
            <p:nvPr/>
          </p:nvSpPr>
          <p:spPr>
            <a:xfrm>
              <a:off x="2308320" y="401616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bg2"/>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35" name="Freeform 10"/>
            <p:cNvSpPr/>
            <p:nvPr/>
          </p:nvSpPr>
          <p:spPr>
            <a:xfrm>
              <a:off x="2308320" y="460404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tx2"/>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grpSp>
      <p:grpSp>
        <p:nvGrpSpPr>
          <p:cNvPr id="336" name="Groupe 3"/>
          <p:cNvGrpSpPr/>
          <p:nvPr/>
        </p:nvGrpSpPr>
        <p:grpSpPr>
          <a:xfrm>
            <a:off x="3803400" y="2270520"/>
            <a:ext cx="1805760" cy="3349440"/>
            <a:chOff x="3803400" y="2270520"/>
            <a:chExt cx="1805760" cy="3349440"/>
          </a:xfrm>
        </p:grpSpPr>
        <p:sp>
          <p:nvSpPr>
            <p:cNvPr id="337" name="Text Box 2"/>
            <p:cNvSpPr/>
            <p:nvPr/>
          </p:nvSpPr>
          <p:spPr>
            <a:xfrm>
              <a:off x="3803400" y="235836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1</a:t>
              </a:r>
              <a:endParaRPr b="0" lang="en-US" sz="1100" spc="-1" strike="noStrike">
                <a:solidFill>
                  <a:srgbClr val="000000"/>
                </a:solidFill>
                <a:latin typeface="Arial"/>
              </a:endParaRPr>
            </a:p>
          </p:txBody>
        </p:sp>
        <p:sp>
          <p:nvSpPr>
            <p:cNvPr id="338" name="Text Box 2"/>
            <p:cNvSpPr/>
            <p:nvPr/>
          </p:nvSpPr>
          <p:spPr>
            <a:xfrm>
              <a:off x="3803400" y="294192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2</a:t>
              </a:r>
              <a:endParaRPr b="0" lang="en-US" sz="1100" spc="-1" strike="noStrike">
                <a:solidFill>
                  <a:srgbClr val="000000"/>
                </a:solidFill>
                <a:latin typeface="Arial"/>
              </a:endParaRPr>
            </a:p>
          </p:txBody>
        </p:sp>
        <p:sp>
          <p:nvSpPr>
            <p:cNvPr id="339" name="Text Box 2"/>
            <p:cNvSpPr/>
            <p:nvPr/>
          </p:nvSpPr>
          <p:spPr>
            <a:xfrm>
              <a:off x="3803400" y="352512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3</a:t>
              </a:r>
              <a:endParaRPr b="0" lang="en-US" sz="1100" spc="-1" strike="noStrike">
                <a:solidFill>
                  <a:srgbClr val="000000"/>
                </a:solidFill>
                <a:latin typeface="Arial"/>
              </a:endParaRPr>
            </a:p>
          </p:txBody>
        </p:sp>
        <p:sp>
          <p:nvSpPr>
            <p:cNvPr id="340" name="Text Box 2"/>
            <p:cNvSpPr/>
            <p:nvPr/>
          </p:nvSpPr>
          <p:spPr>
            <a:xfrm>
              <a:off x="3803400" y="410868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4</a:t>
              </a:r>
              <a:endParaRPr b="0" lang="en-US" sz="1100" spc="-1" strike="noStrike">
                <a:solidFill>
                  <a:srgbClr val="000000"/>
                </a:solidFill>
                <a:latin typeface="Arial"/>
              </a:endParaRPr>
            </a:p>
          </p:txBody>
        </p:sp>
        <p:sp>
          <p:nvSpPr>
            <p:cNvPr id="341" name="Text Box 2"/>
            <p:cNvSpPr/>
            <p:nvPr/>
          </p:nvSpPr>
          <p:spPr>
            <a:xfrm>
              <a:off x="3803400" y="469188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5</a:t>
              </a:r>
              <a:endParaRPr b="0" lang="en-US" sz="1100" spc="-1" strike="noStrike">
                <a:solidFill>
                  <a:srgbClr val="000000"/>
                </a:solidFill>
                <a:latin typeface="Arial"/>
              </a:endParaRPr>
            </a:p>
          </p:txBody>
        </p:sp>
        <p:sp>
          <p:nvSpPr>
            <p:cNvPr id="342" name="Text Box 2"/>
            <p:cNvSpPr/>
            <p:nvPr/>
          </p:nvSpPr>
          <p:spPr>
            <a:xfrm>
              <a:off x="3803400" y="5275440"/>
              <a:ext cx="7387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Accent 6</a:t>
              </a:r>
              <a:endParaRPr b="0" lang="en-US" sz="1100" spc="-1" strike="noStrike">
                <a:solidFill>
                  <a:srgbClr val="000000"/>
                </a:solidFill>
                <a:latin typeface="Arial"/>
              </a:endParaRPr>
            </a:p>
          </p:txBody>
        </p:sp>
        <p:sp>
          <p:nvSpPr>
            <p:cNvPr id="343" name="Rectangle 10"/>
            <p:cNvSpPr/>
            <p:nvPr/>
          </p:nvSpPr>
          <p:spPr>
            <a:xfrm>
              <a:off x="5176800" y="227052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52</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6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70</a:t>
              </a:r>
              <a:endParaRPr b="0" lang="en-US" sz="900" spc="-1" strike="noStrike">
                <a:solidFill>
                  <a:srgbClr val="000000"/>
                </a:solidFill>
                <a:latin typeface="Arial"/>
              </a:endParaRPr>
            </a:p>
          </p:txBody>
        </p:sp>
        <p:sp>
          <p:nvSpPr>
            <p:cNvPr id="344" name="Rectangle 10"/>
            <p:cNvSpPr/>
            <p:nvPr/>
          </p:nvSpPr>
          <p:spPr>
            <a:xfrm>
              <a:off x="5176800" y="28540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29</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44</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80</a:t>
              </a:r>
              <a:endParaRPr b="0" lang="en-US" sz="900" spc="-1" strike="noStrike">
                <a:solidFill>
                  <a:srgbClr val="000000"/>
                </a:solidFill>
                <a:latin typeface="Arial"/>
              </a:endParaRPr>
            </a:p>
          </p:txBody>
        </p:sp>
        <p:sp>
          <p:nvSpPr>
            <p:cNvPr id="345" name="Rectangle 10"/>
            <p:cNvSpPr/>
            <p:nvPr/>
          </p:nvSpPr>
          <p:spPr>
            <a:xfrm>
              <a:off x="5176800" y="34372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123</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197</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10</a:t>
              </a:r>
              <a:endParaRPr b="0" lang="en-US" sz="900" spc="-1" strike="noStrike">
                <a:solidFill>
                  <a:srgbClr val="000000"/>
                </a:solidFill>
                <a:latin typeface="Arial"/>
              </a:endParaRPr>
            </a:p>
          </p:txBody>
        </p:sp>
        <p:sp>
          <p:nvSpPr>
            <p:cNvPr id="346" name="Rectangle 10"/>
            <p:cNvSpPr/>
            <p:nvPr/>
          </p:nvSpPr>
          <p:spPr>
            <a:xfrm>
              <a:off x="5176800" y="402084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40</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238</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151</a:t>
              </a:r>
              <a:endParaRPr b="0" lang="en-US" sz="900" spc="-1" strike="noStrike">
                <a:solidFill>
                  <a:srgbClr val="000000"/>
                </a:solidFill>
                <a:latin typeface="Arial"/>
              </a:endParaRPr>
            </a:p>
          </p:txBody>
        </p:sp>
        <p:sp>
          <p:nvSpPr>
            <p:cNvPr id="347" name="Rectangle 10"/>
            <p:cNvSpPr/>
            <p:nvPr/>
          </p:nvSpPr>
          <p:spPr>
            <a:xfrm>
              <a:off x="5176800" y="460404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14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1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16</a:t>
              </a:r>
              <a:endParaRPr b="0" lang="en-US" sz="900" spc="-1" strike="noStrike">
                <a:solidFill>
                  <a:srgbClr val="000000"/>
                </a:solidFill>
                <a:latin typeface="Arial"/>
              </a:endParaRPr>
            </a:p>
          </p:txBody>
        </p:sp>
        <p:sp>
          <p:nvSpPr>
            <p:cNvPr id="348" name="Rectangle 10"/>
            <p:cNvSpPr/>
            <p:nvPr/>
          </p:nvSpPr>
          <p:spPr>
            <a:xfrm>
              <a:off x="5176800" y="518760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22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222</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50</a:t>
              </a:r>
              <a:endParaRPr b="0" lang="en-US" sz="900" spc="-1" strike="noStrike">
                <a:solidFill>
                  <a:srgbClr val="000000"/>
                </a:solidFill>
                <a:latin typeface="Arial"/>
              </a:endParaRPr>
            </a:p>
          </p:txBody>
        </p:sp>
        <p:sp>
          <p:nvSpPr>
            <p:cNvPr id="349" name="Freeform 10"/>
            <p:cNvSpPr/>
            <p:nvPr/>
          </p:nvSpPr>
          <p:spPr>
            <a:xfrm>
              <a:off x="4588920" y="227052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1"/>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0" name="Freeform 10"/>
            <p:cNvSpPr/>
            <p:nvPr/>
          </p:nvSpPr>
          <p:spPr>
            <a:xfrm>
              <a:off x="4588920" y="513900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6"/>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1" name="Freeform 10"/>
            <p:cNvSpPr/>
            <p:nvPr/>
          </p:nvSpPr>
          <p:spPr>
            <a:xfrm>
              <a:off x="4588920" y="456516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5"/>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2" name="Freeform 10"/>
            <p:cNvSpPr/>
            <p:nvPr/>
          </p:nvSpPr>
          <p:spPr>
            <a:xfrm>
              <a:off x="4588920" y="399168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4"/>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3" name="Freeform 10"/>
            <p:cNvSpPr/>
            <p:nvPr/>
          </p:nvSpPr>
          <p:spPr>
            <a:xfrm>
              <a:off x="4588920" y="341784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3"/>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54" name="Freeform 10"/>
            <p:cNvSpPr/>
            <p:nvPr/>
          </p:nvSpPr>
          <p:spPr>
            <a:xfrm>
              <a:off x="4588920" y="284436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chemeClr val="accent2"/>
            </a:solidFill>
            <a:ln w="9525">
              <a:solidFill>
                <a:srgbClr val="344246"/>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grpSp>
      <p:grpSp>
        <p:nvGrpSpPr>
          <p:cNvPr id="355" name="Groupe 2"/>
          <p:cNvGrpSpPr/>
          <p:nvPr/>
        </p:nvGrpSpPr>
        <p:grpSpPr>
          <a:xfrm>
            <a:off x="6128280" y="3437280"/>
            <a:ext cx="2476080" cy="1015920"/>
            <a:chOff x="6128280" y="3437280"/>
            <a:chExt cx="2476080" cy="1015920"/>
          </a:xfrm>
        </p:grpSpPr>
        <p:sp>
          <p:nvSpPr>
            <p:cNvPr id="356" name="Text Box 2"/>
            <p:cNvSpPr/>
            <p:nvPr/>
          </p:nvSpPr>
          <p:spPr>
            <a:xfrm>
              <a:off x="6128280" y="3525120"/>
              <a:ext cx="81504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Hyperlink</a:t>
              </a:r>
              <a:endParaRPr b="0" lang="en-US" sz="1100" spc="-1" strike="noStrike">
                <a:solidFill>
                  <a:srgbClr val="000000"/>
                </a:solidFill>
                <a:latin typeface="Arial"/>
              </a:endParaRPr>
            </a:p>
          </p:txBody>
        </p:sp>
        <p:sp>
          <p:nvSpPr>
            <p:cNvPr id="357" name="Text Box 2"/>
            <p:cNvSpPr/>
            <p:nvPr/>
          </p:nvSpPr>
          <p:spPr>
            <a:xfrm>
              <a:off x="6148080" y="4108680"/>
              <a:ext cx="1424520" cy="2566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GB" sz="1100" spc="-1" strike="noStrike">
                  <a:solidFill>
                    <a:srgbClr val="344246"/>
                  </a:solidFill>
                  <a:latin typeface="Verdana"/>
                  <a:ea typeface="Verdana"/>
                </a:rPr>
                <a:t>Followed hyperlink</a:t>
              </a:r>
              <a:endParaRPr b="0" lang="en-US" sz="1100" spc="-1" strike="noStrike">
                <a:solidFill>
                  <a:srgbClr val="000000"/>
                </a:solidFill>
                <a:latin typeface="Arial"/>
              </a:endParaRPr>
            </a:p>
          </p:txBody>
        </p:sp>
        <p:sp>
          <p:nvSpPr>
            <p:cNvPr id="358" name="Rectangle 10"/>
            <p:cNvSpPr/>
            <p:nvPr/>
          </p:nvSpPr>
          <p:spPr>
            <a:xfrm>
              <a:off x="8172000" y="343728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0</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17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40</a:t>
              </a:r>
              <a:endParaRPr b="0" lang="en-US" sz="900" spc="-1" strike="noStrike">
                <a:solidFill>
                  <a:srgbClr val="000000"/>
                </a:solidFill>
                <a:latin typeface="Arial"/>
              </a:endParaRPr>
            </a:p>
          </p:txBody>
        </p:sp>
        <p:sp>
          <p:nvSpPr>
            <p:cNvPr id="359" name="Rectangle 10"/>
            <p:cNvSpPr/>
            <p:nvPr/>
          </p:nvSpPr>
          <p:spPr>
            <a:xfrm>
              <a:off x="8172000" y="4020840"/>
              <a:ext cx="432360" cy="432360"/>
            </a:xfrm>
            <a:prstGeom prst="rect">
              <a:avLst/>
            </a:prstGeom>
            <a:noFill/>
            <a:ln w="9525">
              <a:noFill/>
            </a:ln>
          </p:spPr>
          <p:style>
            <a:lnRef idx="0"/>
            <a:fillRef idx="0"/>
            <a:effectRef idx="0"/>
            <a:fontRef idx="minor"/>
          </p:style>
          <p:txBody>
            <a:bodyPr wrap="none" lIns="36000" rIns="90000" tIns="45000" bIns="45000" anchor="ctr">
              <a:noAutofit/>
            </a:bodyPr>
            <a:p>
              <a:pPr>
                <a:lnSpc>
                  <a:spcPct val="100000"/>
                </a:lnSpc>
                <a:tabLst>
                  <a:tab algn="l" pos="179280"/>
                </a:tabLst>
              </a:pPr>
              <a:r>
                <a:rPr b="0" lang="en-US" sz="900" spc="-1" strike="noStrike">
                  <a:solidFill>
                    <a:srgbClr val="344246"/>
                  </a:solidFill>
                  <a:latin typeface="Calibri"/>
                </a:rPr>
                <a:t>R:</a:t>
              </a:r>
              <a:r>
                <a:rPr b="0" lang="en-US" sz="900" spc="-1" strike="noStrike">
                  <a:solidFill>
                    <a:srgbClr val="344246"/>
                  </a:solidFill>
                  <a:latin typeface="Calibri"/>
                </a:rPr>
                <a:t>	</a:t>
              </a:r>
              <a:r>
                <a:rPr b="0" lang="en-US" sz="900" spc="-1" strike="noStrike">
                  <a:solidFill>
                    <a:srgbClr val="344246"/>
                  </a:solidFill>
                  <a:latin typeface="Calibri"/>
                </a:rPr>
                <a:t>0</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V:</a:t>
              </a:r>
              <a:r>
                <a:rPr b="0" lang="en-US" sz="900" spc="-1" strike="noStrike">
                  <a:solidFill>
                    <a:srgbClr val="344246"/>
                  </a:solidFill>
                  <a:latin typeface="Calibri"/>
                </a:rPr>
                <a:t>	</a:t>
              </a:r>
              <a:r>
                <a:rPr b="0" lang="en-US" sz="900" spc="-1" strike="noStrike">
                  <a:solidFill>
                    <a:srgbClr val="344246"/>
                  </a:solidFill>
                  <a:latin typeface="Calibri"/>
                </a:rPr>
                <a:t>176</a:t>
              </a:r>
              <a:endParaRPr b="0" lang="en-US" sz="900" spc="-1" strike="noStrike">
                <a:solidFill>
                  <a:srgbClr val="000000"/>
                </a:solidFill>
                <a:latin typeface="Arial"/>
              </a:endParaRPr>
            </a:p>
            <a:p>
              <a:pPr>
                <a:lnSpc>
                  <a:spcPct val="100000"/>
                </a:lnSpc>
                <a:tabLst>
                  <a:tab algn="l" pos="179280"/>
                </a:tabLst>
              </a:pPr>
              <a:r>
                <a:rPr b="0" lang="en-US" sz="900" spc="-1" strike="noStrike">
                  <a:solidFill>
                    <a:srgbClr val="344246"/>
                  </a:solidFill>
                  <a:latin typeface="Calibri"/>
                </a:rPr>
                <a:t>B:</a:t>
              </a:r>
              <a:r>
                <a:rPr b="0" lang="en-US" sz="900" spc="-1" strike="noStrike">
                  <a:solidFill>
                    <a:srgbClr val="344246"/>
                  </a:solidFill>
                  <a:latin typeface="Calibri"/>
                </a:rPr>
                <a:t>	</a:t>
              </a:r>
              <a:r>
                <a:rPr b="0" lang="en-US" sz="900" spc="-1" strike="noStrike">
                  <a:solidFill>
                    <a:srgbClr val="344246"/>
                  </a:solidFill>
                  <a:latin typeface="Calibri"/>
                </a:rPr>
                <a:t>240</a:t>
              </a:r>
              <a:endParaRPr b="0" lang="en-US" sz="900" spc="-1" strike="noStrike">
                <a:solidFill>
                  <a:srgbClr val="000000"/>
                </a:solidFill>
                <a:latin typeface="Arial"/>
              </a:endParaRPr>
            </a:p>
          </p:txBody>
        </p:sp>
        <p:sp>
          <p:nvSpPr>
            <p:cNvPr id="360" name="Freeform 10"/>
            <p:cNvSpPr/>
            <p:nvPr/>
          </p:nvSpPr>
          <p:spPr>
            <a:xfrm>
              <a:off x="7674120" y="345132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00b0f0"/>
            </a:solidFill>
            <a:ln w="9525">
              <a:solidFill>
                <a:srgbClr val="00007f"/>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sp>
          <p:nvSpPr>
            <p:cNvPr id="361" name="Freeform 10"/>
            <p:cNvSpPr/>
            <p:nvPr/>
          </p:nvSpPr>
          <p:spPr>
            <a:xfrm>
              <a:off x="7674120" y="4011120"/>
              <a:ext cx="431640" cy="431640"/>
            </a:xfrm>
            <a:custGeom>
              <a:avLst/>
              <a:gdLst>
                <a:gd name="textAreaLeft" fmla="*/ 0 w 431640"/>
                <a:gd name="textAreaRight" fmla="*/ 432000 w 431640"/>
                <a:gd name="textAreaTop" fmla="*/ 0 h 431640"/>
                <a:gd name="textAreaBottom" fmla="*/ 432000 h 43164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solidFill>
              <a:srgbClr val="00b0f0"/>
            </a:solidFill>
            <a:ln w="9525">
              <a:solidFill>
                <a:srgbClr val="00007f"/>
              </a:solidFill>
              <a:miter/>
            </a:ln>
          </p:spPr>
          <p:style>
            <a:lnRef idx="0"/>
            <a:fillRef idx="0"/>
            <a:effectRef idx="0"/>
            <a:fontRef idx="minor"/>
          </p:style>
          <p:txBody>
            <a:bodyPr wrap="none" lIns="90000" rIns="90000" tIns="45000" bIns="45000" anchor="ctr">
              <a:noAutofit/>
            </a:bodyPr>
            <a:p>
              <a:pPr>
                <a:lnSpc>
                  <a:spcPct val="100000"/>
                </a:lnSpc>
              </a:pPr>
              <a:endParaRPr b="0" lang="fr-FR" sz="1400" spc="-1" strike="noStrike">
                <a:solidFill>
                  <a:srgbClr val="344246"/>
                </a:solidFill>
                <a:latin typeface="Calibri"/>
              </a:endParaRPr>
            </a:p>
          </p:txBody>
        </p:sp>
      </p:grpSp>
      <p:cxnSp>
        <p:nvCxnSpPr>
          <p:cNvPr id="362" name="Connecteur droit 85"/>
          <p:cNvCxnSpPr/>
          <p:nvPr/>
        </p:nvCxnSpPr>
        <p:spPr>
          <a:xfrm>
            <a:off x="3491640" y="1708920"/>
            <a:ext cx="360" cy="4320720"/>
          </a:xfrm>
          <a:prstGeom prst="straightConnector1">
            <a:avLst/>
          </a:prstGeom>
          <a:ln>
            <a:solidFill>
              <a:srgbClr val="ffffff">
                <a:lumMod val="85000"/>
              </a:srgbClr>
            </a:solidFill>
            <a:round/>
          </a:ln>
        </p:spPr>
      </p:cxnSp>
      <p:cxnSp>
        <p:nvCxnSpPr>
          <p:cNvPr id="363" name="Connecteur droit 86"/>
          <p:cNvCxnSpPr/>
          <p:nvPr/>
        </p:nvCxnSpPr>
        <p:spPr>
          <a:xfrm>
            <a:off x="6012000" y="1708920"/>
            <a:ext cx="360" cy="4320720"/>
          </a:xfrm>
          <a:prstGeom prst="straightConnector1">
            <a:avLst/>
          </a:prstGeom>
          <a:ln>
            <a:solidFill>
              <a:srgbClr val="ffffff">
                <a:lumMod val="85000"/>
              </a:srgbClr>
            </a:solidFill>
            <a:round/>
          </a:ln>
        </p:spPr>
      </p:cxn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925F07C9-3765-454B-A26A-5D670C31F14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6490800" cy="1142640"/>
          </a:xfrm>
          <a:prstGeom prst="rect">
            <a:avLst/>
          </a:prstGeom>
          <a:noFill/>
          <a:ln w="0">
            <a:noFill/>
          </a:ln>
        </p:spPr>
        <p:txBody>
          <a:bodyPr anchor="ctr">
            <a:normAutofit/>
          </a:bodyPr>
          <a:p>
            <a:pPr indent="0">
              <a:lnSpc>
                <a:spcPct val="100000"/>
              </a:lnSpc>
              <a:buNone/>
            </a:pPr>
            <a:r>
              <a:rPr b="0" lang="en-US" sz="3200" spc="-1" strike="noStrike">
                <a:solidFill>
                  <a:srgbClr val="344246"/>
                </a:solidFill>
                <a:latin typeface="Verdana"/>
                <a:ea typeface="Verdana"/>
              </a:rPr>
              <a:t>Basic slide with title &amp; content</a:t>
            </a:r>
            <a:endParaRPr b="0" lang="en-US" sz="3200" spc="-1" strike="noStrike">
              <a:solidFill>
                <a:srgbClr val="344246"/>
              </a:solidFill>
              <a:latin typeface="Calibri"/>
            </a:endParaRPr>
          </a:p>
        </p:txBody>
      </p:sp>
      <p:sp>
        <p:nvSpPr>
          <p:cNvPr id="177" name="PlaceHolder 2"/>
          <p:cNvSpPr>
            <a:spLocks noGrp="1"/>
          </p:cNvSpPr>
          <p:nvPr>
            <p:ph type="ftr" idx="12"/>
          </p:nvPr>
        </p:nvSpPr>
        <p:spPr>
          <a:xfrm>
            <a:off x="3124080" y="6356520"/>
            <a:ext cx="2895120" cy="364680"/>
          </a:xfrm>
          <a:prstGeom prst="rect">
            <a:avLst/>
          </a:prstGeom>
          <a:noFill/>
          <a:ln w="0">
            <a:noFill/>
          </a:ln>
        </p:spPr>
        <p:txBody>
          <a:bodyPr anchor="ctr">
            <a:noAutofit/>
          </a:bodyPr>
          <a:lstStyle>
            <a:lvl1pPr indent="0" algn="ctr">
              <a:lnSpc>
                <a:spcPct val="100000"/>
              </a:lnSpc>
              <a:buNone/>
              <a:defRPr b="0" lang="en-US" sz="1200" spc="-1" strike="noStrike">
                <a:solidFill>
                  <a:srgbClr val="eb8e97"/>
                </a:solidFill>
                <a:latin typeface="Calibri"/>
              </a:defRPr>
            </a:lvl1pPr>
          </a:lstStyle>
          <a:p>
            <a:pPr indent="0" algn="ctr">
              <a:lnSpc>
                <a:spcPct val="100000"/>
              </a:lnSpc>
              <a:buNone/>
            </a:pPr>
            <a:r>
              <a:rPr b="0" lang="en-US" sz="1200" spc="-1" strike="noStrike">
                <a:solidFill>
                  <a:srgbClr val="eb8e97"/>
                </a:solidFill>
                <a:latin typeface="Calibri"/>
              </a:rPr>
              <a:t>Your footer here</a:t>
            </a:r>
            <a:endParaRPr b="0" lang="en-US" sz="1200" spc="-1" strike="noStrike">
              <a:solidFill>
                <a:srgbClr val="000000"/>
              </a:solidFill>
              <a:latin typeface="Times New Roman"/>
            </a:endParaRPr>
          </a:p>
        </p:txBody>
      </p:sp>
      <p:sp>
        <p:nvSpPr>
          <p:cNvPr id="178" name="PlaceHolder 3"/>
          <p:cNvSpPr>
            <a:spLocks noGrp="1"/>
          </p:cNvSpPr>
          <p:nvPr>
            <p:ph/>
          </p:nvPr>
        </p:nvSpPr>
        <p:spPr>
          <a:xfrm>
            <a:off x="467640" y="1772640"/>
            <a:ext cx="8208720" cy="4320000"/>
          </a:xfrm>
          <a:prstGeom prst="rect">
            <a:avLst/>
          </a:prstGeom>
          <a:noFill/>
          <a:ln w="0">
            <a:noFill/>
          </a:ln>
        </p:spPr>
        <p:txBody>
          <a:bodyPr anchor="t">
            <a:noAutofit/>
          </a:bodyPr>
          <a:p>
            <a:pPr marL="343080" indent="-343080">
              <a:lnSpc>
                <a:spcPct val="100000"/>
              </a:lnSpc>
              <a:spcBef>
                <a:spcPts val="479"/>
              </a:spcBef>
              <a:buClr>
                <a:srgbClr val="344246"/>
              </a:buClr>
              <a:buFont typeface="Arial"/>
              <a:buChar char="•"/>
            </a:pPr>
            <a:r>
              <a:rPr b="0" lang="en-US" sz="2400" spc="-1" strike="noStrike">
                <a:solidFill>
                  <a:srgbClr val="344246"/>
                </a:solidFill>
                <a:latin typeface="Verdana"/>
                <a:ea typeface="Verdana"/>
              </a:rPr>
              <a:t>Master text styles</a:t>
            </a:r>
            <a:endParaRPr b="0" lang="en-US" sz="2400" spc="-1" strike="noStrike">
              <a:solidFill>
                <a:srgbClr val="344246"/>
              </a:solidFill>
              <a:latin typeface="Verdana"/>
            </a:endParaRPr>
          </a:p>
          <a:p>
            <a:pPr lvl="1" marL="743040" indent="-285840">
              <a:lnSpc>
                <a:spcPct val="100000"/>
              </a:lnSpc>
              <a:spcBef>
                <a:spcPts val="400"/>
              </a:spcBef>
              <a:buClr>
                <a:srgbClr val="344246"/>
              </a:buClr>
              <a:buFont typeface="Arial"/>
              <a:buChar char="–"/>
            </a:pPr>
            <a:r>
              <a:rPr b="0" lang="en-US" sz="2000" spc="-1" strike="noStrike">
                <a:solidFill>
                  <a:srgbClr val="344246"/>
                </a:solidFill>
                <a:latin typeface="Verdana"/>
                <a:ea typeface="Verdana"/>
              </a:rPr>
              <a:t>Second level</a:t>
            </a:r>
            <a:endParaRPr b="0" lang="en-US" sz="2000" spc="-1" strike="noStrike">
              <a:solidFill>
                <a:srgbClr val="344246"/>
              </a:solidFill>
              <a:latin typeface="Verdana"/>
            </a:endParaRPr>
          </a:p>
          <a:p>
            <a:pPr lvl="2" marL="1143000" indent="-228600">
              <a:lnSpc>
                <a:spcPct val="100000"/>
              </a:lnSpc>
              <a:spcBef>
                <a:spcPts val="360"/>
              </a:spcBef>
              <a:buClr>
                <a:srgbClr val="344246"/>
              </a:buClr>
              <a:buFont typeface="Arial"/>
              <a:buChar char="•"/>
            </a:pPr>
            <a:r>
              <a:rPr b="0" lang="en-US" sz="1800" spc="-1" strike="noStrike">
                <a:solidFill>
                  <a:srgbClr val="344246"/>
                </a:solidFill>
                <a:latin typeface="Verdana"/>
                <a:ea typeface="Verdana"/>
              </a:rPr>
              <a:t>Third level</a:t>
            </a:r>
            <a:endParaRPr b="0" lang="en-US" sz="1800" spc="-1" strike="noStrike">
              <a:solidFill>
                <a:srgbClr val="344246"/>
              </a:solidFill>
              <a:latin typeface="Verdana"/>
            </a:endParaRPr>
          </a:p>
          <a:p>
            <a:pPr lvl="3" marL="16002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ourth level</a:t>
            </a:r>
            <a:endParaRPr b="0" lang="en-US" sz="1600" spc="-1" strike="noStrike">
              <a:solidFill>
                <a:srgbClr val="344246"/>
              </a:solidFill>
              <a:latin typeface="Verdana"/>
            </a:endParaRPr>
          </a:p>
          <a:p>
            <a:pPr lvl="4" marL="2057400" indent="-228600">
              <a:lnSpc>
                <a:spcPct val="100000"/>
              </a:lnSpc>
              <a:spcBef>
                <a:spcPts val="320"/>
              </a:spcBef>
              <a:buClr>
                <a:srgbClr val="344246"/>
              </a:buClr>
              <a:buFont typeface="Arial"/>
              <a:buChar char="»"/>
            </a:pPr>
            <a:r>
              <a:rPr b="0" lang="en-US" sz="1600" spc="-1" strike="noStrike">
                <a:solidFill>
                  <a:srgbClr val="344246"/>
                </a:solidFill>
                <a:latin typeface="Verdana"/>
                <a:ea typeface="Verdana"/>
              </a:rPr>
              <a:t>Fifth level</a:t>
            </a:r>
            <a:endParaRPr b="0" lang="en-US" sz="1600" spc="-1" strike="noStrike">
              <a:solidFill>
                <a:srgbClr val="344246"/>
              </a:solidFill>
              <a:latin typeface="Verdana"/>
            </a:endParaRPr>
          </a:p>
          <a:p>
            <a:pPr indent="0">
              <a:lnSpc>
                <a:spcPct val="100000"/>
              </a:lnSpc>
              <a:spcBef>
                <a:spcPts val="479"/>
              </a:spcBef>
              <a:buNone/>
            </a:pPr>
            <a:endParaRPr b="0" lang="en-US" sz="2400" spc="-1" strike="noStrike">
              <a:solidFill>
                <a:srgbClr val="344246"/>
              </a:solidFill>
              <a:latin typeface="Verdana"/>
            </a:endParaRPr>
          </a:p>
          <a:p>
            <a:pPr indent="0">
              <a:lnSpc>
                <a:spcPct val="100000"/>
              </a:lnSpc>
              <a:spcBef>
                <a:spcPts val="479"/>
              </a:spcBef>
              <a:buNone/>
            </a:pPr>
            <a:endParaRPr b="0" lang="en-US" sz="2400" spc="-1" strike="noStrike">
              <a:solidFill>
                <a:srgbClr val="344246"/>
              </a:solidFill>
              <a:latin typeface="Verdana"/>
            </a:endParaRPr>
          </a:p>
        </p:txBody>
      </p:sp>
      <p:sp>
        <p:nvSpPr>
          <p:cNvPr id="5" name="PlaceHolder 4"/>
          <p:cNvSpPr>
            <a:spLocks noGrp="1"/>
          </p:cNvSpPr>
          <p:nvPr>
            <p:ph type="sldNum" idx="3"/>
          </p:nvPr>
        </p:nvSpPr>
        <p:spPr/>
        <p:txBody>
          <a:bodyPr/>
          <a:p>
            <a:fld id="{52B5A481-EAD6-49BF-9866-9A595AFB20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2 columns</a:t>
            </a:r>
            <a:endParaRPr b="0" lang="en-US" sz="3200" spc="-1" strike="noStrike">
              <a:solidFill>
                <a:srgbClr val="344246"/>
              </a:solidFill>
              <a:latin typeface="Calibri"/>
            </a:endParaRPr>
          </a:p>
        </p:txBody>
      </p:sp>
      <p:sp>
        <p:nvSpPr>
          <p:cNvPr id="180" name="PlaceHolder 2"/>
          <p:cNvSpPr>
            <a:spLocks noGrp="1"/>
          </p:cNvSpPr>
          <p:nvPr>
            <p:ph/>
          </p:nvPr>
        </p:nvSpPr>
        <p:spPr>
          <a:xfrm>
            <a:off x="467640" y="1772640"/>
            <a:ext cx="3960000" cy="4320000"/>
          </a:xfrm>
          <a:prstGeom prst="rect">
            <a:avLst/>
          </a:prstGeom>
          <a:noFill/>
          <a:ln w="0">
            <a:noFill/>
          </a:ln>
        </p:spPr>
        <p:txBody>
          <a:bodyPr anchor="t">
            <a:normAutofit/>
          </a:bodyPr>
          <a:p>
            <a:pPr indent="0" algn="just">
              <a:lnSpc>
                <a:spcPct val="100000"/>
              </a:lnSpc>
              <a:spcBef>
                <a:spcPts val="360"/>
              </a:spcBef>
              <a:buNone/>
              <a:tabLst>
                <a:tab algn="l" pos="0"/>
              </a:tabLst>
            </a:pPr>
            <a:r>
              <a:rPr b="1" lang="en-US" sz="1800" spc="-1" strike="noStrike">
                <a:solidFill>
                  <a:srgbClr val="344246"/>
                </a:solidFill>
                <a:latin typeface="Verdana"/>
                <a:ea typeface="Verdana"/>
              </a:rPr>
              <a:t>Lorem ipsum</a:t>
            </a:r>
            <a:endParaRPr b="0" lang="en-US" sz="1800" spc="-1" strike="noStrike">
              <a:solidFill>
                <a:srgbClr val="344246"/>
              </a:solidFill>
              <a:latin typeface="Verdana"/>
            </a:endParaRPr>
          </a:p>
          <a:p>
            <a:pPr indent="0" algn="just">
              <a:lnSpc>
                <a:spcPct val="100000"/>
              </a:lnSpc>
              <a:spcBef>
                <a:spcPts val="360"/>
              </a:spcBef>
              <a:buNone/>
              <a:tabLst>
                <a:tab algn="l" pos="0"/>
              </a:tabLst>
            </a:pPr>
            <a:endParaRPr b="0" lang="en-US" sz="1800" spc="-1" strike="noStrike">
              <a:solidFill>
                <a:srgbClr val="344246"/>
              </a:solidFill>
              <a:latin typeface="Verdana"/>
            </a:endParaRPr>
          </a:p>
          <a:p>
            <a:pPr indent="0" algn="just">
              <a:lnSpc>
                <a:spcPct val="100000"/>
              </a:lnSpc>
              <a:spcBef>
                <a:spcPts val="320"/>
              </a:spcBef>
              <a:buNone/>
              <a:tabLst>
                <a:tab algn="l" pos="0"/>
              </a:tabLst>
            </a:pPr>
            <a:r>
              <a:rPr b="0" lang="en-US" sz="1600" spc="-1" strike="noStrike">
                <a:solidFill>
                  <a:srgbClr val="344246"/>
                </a:solidFill>
                <a:latin typeface="Verdana"/>
                <a:ea typeface="Verdana"/>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a:t>
            </a:r>
            <a:endParaRPr b="0" lang="en-US" sz="1600" spc="-1" strike="noStrike">
              <a:solidFill>
                <a:srgbClr val="344246"/>
              </a:solidFill>
              <a:latin typeface="Verdana"/>
            </a:endParaRPr>
          </a:p>
        </p:txBody>
      </p:sp>
      <p:sp>
        <p:nvSpPr>
          <p:cNvPr id="181" name="PlaceHolder 3"/>
          <p:cNvSpPr>
            <a:spLocks noGrp="1"/>
          </p:cNvSpPr>
          <p:nvPr>
            <p:ph/>
          </p:nvPr>
        </p:nvSpPr>
        <p:spPr>
          <a:xfrm>
            <a:off x="4726800" y="1773360"/>
            <a:ext cx="3959640" cy="4319280"/>
          </a:xfrm>
          <a:prstGeom prst="rect">
            <a:avLst/>
          </a:prstGeom>
          <a:noFill/>
          <a:ln w="0">
            <a:noFill/>
          </a:ln>
        </p:spPr>
        <p:txBody>
          <a:bodyPr anchor="t">
            <a:normAutofit/>
          </a:bodyPr>
          <a:p>
            <a:pPr indent="0" algn="just">
              <a:lnSpc>
                <a:spcPct val="100000"/>
              </a:lnSpc>
              <a:spcBef>
                <a:spcPts val="380"/>
              </a:spcBef>
              <a:buNone/>
              <a:tabLst>
                <a:tab algn="l" pos="0"/>
              </a:tabLst>
            </a:pPr>
            <a:r>
              <a:rPr b="1" lang="en-US" sz="1900" spc="-1" strike="noStrike">
                <a:solidFill>
                  <a:srgbClr val="344246"/>
                </a:solidFill>
                <a:latin typeface="Verdana"/>
                <a:ea typeface="Verdana"/>
              </a:rPr>
              <a:t>Lorem ipsum</a:t>
            </a:r>
            <a:endParaRPr b="0" lang="en-US" sz="1900" spc="-1" strike="noStrike">
              <a:solidFill>
                <a:srgbClr val="344246"/>
              </a:solidFill>
              <a:latin typeface="Verdana"/>
            </a:endParaRPr>
          </a:p>
          <a:p>
            <a:pPr indent="0" algn="just">
              <a:lnSpc>
                <a:spcPct val="100000"/>
              </a:lnSpc>
              <a:spcBef>
                <a:spcPts val="360"/>
              </a:spcBef>
              <a:buNone/>
              <a:tabLst>
                <a:tab algn="l" pos="0"/>
              </a:tabLst>
            </a:pPr>
            <a:endParaRPr b="0" lang="en-US" sz="1800" spc="-1" strike="noStrike">
              <a:solidFill>
                <a:srgbClr val="344246"/>
              </a:solidFill>
              <a:latin typeface="Verdana"/>
            </a:endParaRPr>
          </a:p>
          <a:p>
            <a:pPr indent="0" algn="just">
              <a:lnSpc>
                <a:spcPct val="100000"/>
              </a:lnSpc>
              <a:spcBef>
                <a:spcPts val="320"/>
              </a:spcBef>
              <a:buNone/>
              <a:tabLst>
                <a:tab algn="l" pos="0"/>
              </a:tabLst>
            </a:pPr>
            <a:r>
              <a:rPr b="0" lang="en-US" sz="1600" spc="-1" strike="noStrike">
                <a:solidFill>
                  <a:srgbClr val="344246"/>
                </a:solidFill>
                <a:latin typeface="Verdana"/>
                <a:ea typeface="Verdana"/>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a:t>
            </a:r>
            <a:endParaRPr b="0" lang="en-US" sz="1600" spc="-1" strike="noStrike">
              <a:solidFill>
                <a:srgbClr val="344246"/>
              </a:solidFill>
              <a:latin typeface="Verdana"/>
            </a:endParaRPr>
          </a:p>
        </p:txBody>
      </p:sp>
      <p:sp>
        <p:nvSpPr>
          <p:cNvPr id="5" name="PlaceHolder 4"/>
          <p:cNvSpPr>
            <a:spLocks noGrp="1"/>
          </p:cNvSpPr>
          <p:nvPr>
            <p:ph type="ftr" idx="4"/>
          </p:nvPr>
        </p:nvSpPr>
        <p:spPr/>
        <p:txBody>
          <a:bodyPr/>
          <a:p>
            <a:r>
              <a:t>Your footer here</a:t>
            </a:r>
          </a:p>
        </p:txBody>
      </p:sp>
      <p:sp>
        <p:nvSpPr>
          <p:cNvPr id="6" name="PlaceHolder 5"/>
          <p:cNvSpPr>
            <a:spLocks noGrp="1"/>
          </p:cNvSpPr>
          <p:nvPr>
            <p:ph type="sldNum" idx="5"/>
          </p:nvPr>
        </p:nvSpPr>
        <p:spPr/>
        <p:txBody>
          <a:bodyPr/>
          <a:p>
            <a:fld id="{AE083EEC-360F-461A-AAC7-8F22425752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fr-FR" sz="3200" spc="-1" strike="noStrike">
                <a:solidFill>
                  <a:srgbClr val="344246"/>
                </a:solidFill>
                <a:latin typeface="Verdana"/>
                <a:ea typeface="Verdana"/>
              </a:rPr>
              <a:t>Contents</a:t>
            </a:r>
            <a:endParaRPr b="0" lang="en-US" sz="3200" spc="-1" strike="noStrike">
              <a:solidFill>
                <a:srgbClr val="344246"/>
              </a:solidFill>
              <a:latin typeface="Calibri"/>
            </a:endParaRPr>
          </a:p>
        </p:txBody>
      </p:sp>
      <p:sp>
        <p:nvSpPr>
          <p:cNvPr id="183" name="Freeform 10"/>
          <p:cNvSpPr/>
          <p:nvPr/>
        </p:nvSpPr>
        <p:spPr>
          <a:xfrm>
            <a:off x="766800" y="17229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a:solidFill>
              <a:srgbClr val="324044"/>
            </a:solidFill>
            <a:round/>
          </a:ln>
          <a:effectLst>
            <a:outerShdw blurRad="39960" dir="5400000" dist="23040" rotWithShape="0">
              <a:srgbClr val="000000">
                <a:alpha val="35000"/>
              </a:srgbClr>
            </a:outerShdw>
          </a:effectLst>
        </p:spPr>
        <p:style>
          <a:lnRef idx="1">
            <a:schemeClr val="dk1"/>
          </a:lnRef>
          <a:fillRef idx="3">
            <a:schemeClr val="dk1"/>
          </a:fillRef>
          <a:effectRef idx="2">
            <a:schemeClr val="dk1"/>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1</a:t>
            </a:r>
            <a:endParaRPr b="0" lang="en-US" sz="2800" spc="-1" strike="noStrike">
              <a:solidFill>
                <a:srgbClr val="000000"/>
              </a:solidFill>
              <a:latin typeface="Arial"/>
            </a:endParaRPr>
          </a:p>
        </p:txBody>
      </p:sp>
      <p:sp>
        <p:nvSpPr>
          <p:cNvPr id="184" name="Freeform 10"/>
          <p:cNvSpPr/>
          <p:nvPr/>
        </p:nvSpPr>
        <p:spPr>
          <a:xfrm>
            <a:off x="766800" y="27741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bf0b2e"/>
              </a:gs>
              <a:gs pos="100000">
                <a:srgbClr val="f80f3d"/>
              </a:gs>
            </a:gsLst>
            <a:lin ang="16200000"/>
          </a:gradFill>
          <a:ln>
            <a:solidFill>
              <a:srgbClr val="e3274b"/>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2</a:t>
            </a:r>
            <a:endParaRPr b="0" lang="en-US" sz="2800" spc="-1" strike="noStrike">
              <a:solidFill>
                <a:srgbClr val="000000"/>
              </a:solidFill>
              <a:latin typeface="Arial"/>
            </a:endParaRPr>
          </a:p>
        </p:txBody>
      </p:sp>
      <p:sp>
        <p:nvSpPr>
          <p:cNvPr id="185" name="Freeform 10"/>
          <p:cNvSpPr/>
          <p:nvPr/>
        </p:nvSpPr>
        <p:spPr>
          <a:xfrm>
            <a:off x="766800" y="38253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5199a6"/>
              </a:gs>
              <a:gs pos="100000">
                <a:srgbClr val="6ac7d8"/>
              </a:gs>
            </a:gsLst>
            <a:lin ang="16200000"/>
          </a:gradFill>
          <a:ln>
            <a:solidFill>
              <a:srgbClr val="76c1cf"/>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3</a:t>
            </a:r>
            <a:endParaRPr b="0" lang="en-US" sz="2800" spc="-1" strike="noStrike">
              <a:solidFill>
                <a:srgbClr val="000000"/>
              </a:solidFill>
              <a:latin typeface="Arial"/>
            </a:endParaRPr>
          </a:p>
        </p:txBody>
      </p:sp>
      <p:sp>
        <p:nvSpPr>
          <p:cNvPr id="186" name="Freeform 10"/>
          <p:cNvSpPr/>
          <p:nvPr/>
        </p:nvSpPr>
        <p:spPr>
          <a:xfrm>
            <a:off x="766800" y="487692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bdba66"/>
              </a:gs>
              <a:gs pos="100000">
                <a:srgbClr val="f5f285"/>
              </a:gs>
            </a:gsLst>
            <a:lin ang="16200000"/>
          </a:gradFill>
          <a:ln>
            <a:solidFill>
              <a:srgbClr val="ecea91"/>
            </a:solidFill>
            <a:round/>
          </a:ln>
          <a:effectLst>
            <a:outerShdw blurRad="39960" dir="5400000" dist="23040" rotWithShape="0">
              <a:srgbClr val="000000">
                <a:alpha val="35000"/>
              </a:srgbClr>
            </a:outerShdw>
          </a:effectLst>
        </p:spPr>
        <p:style>
          <a:lnRef idx="1">
            <a:schemeClr val="accent4"/>
          </a:lnRef>
          <a:fillRef idx="3">
            <a:schemeClr val="accent4"/>
          </a:fillRef>
          <a:effectRef idx="2">
            <a:schemeClr val="accent4"/>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4</a:t>
            </a:r>
            <a:endParaRPr b="0" lang="en-US" sz="2800" spc="-1" strike="noStrike">
              <a:solidFill>
                <a:srgbClr val="000000"/>
              </a:solidFill>
              <a:latin typeface="Arial"/>
            </a:endParaRPr>
          </a:p>
        </p:txBody>
      </p:sp>
      <p:sp>
        <p:nvSpPr>
          <p:cNvPr id="187" name="ZoneTexte 18"/>
          <p:cNvSpPr/>
          <p:nvPr/>
        </p:nvSpPr>
        <p:spPr>
          <a:xfrm>
            <a:off x="1810080" y="219600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1 here</a:t>
            </a:r>
            <a:endParaRPr b="0" lang="en-US" sz="1800" spc="-1" strike="noStrike">
              <a:solidFill>
                <a:srgbClr val="000000"/>
              </a:solidFill>
              <a:latin typeface="Arial"/>
            </a:endParaRPr>
          </a:p>
        </p:txBody>
      </p:sp>
      <p:sp>
        <p:nvSpPr>
          <p:cNvPr id="188" name="ZoneTexte 19"/>
          <p:cNvSpPr/>
          <p:nvPr/>
        </p:nvSpPr>
        <p:spPr>
          <a:xfrm>
            <a:off x="1810080" y="328284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e52c50"/>
                </a:solidFill>
                <a:latin typeface="Verdana"/>
                <a:ea typeface="Verdana"/>
              </a:rPr>
              <a:t>2 </a:t>
            </a:r>
            <a:r>
              <a:rPr b="1" lang="en-US" sz="1800" spc="-1" strike="noStrike" cap="small">
                <a:solidFill>
                  <a:srgbClr val="344246"/>
                </a:solidFill>
                <a:latin typeface="Verdana"/>
                <a:ea typeface="Verdana"/>
              </a:rPr>
              <a:t>here</a:t>
            </a:r>
            <a:endParaRPr b="0" lang="en-US" sz="1800" spc="-1" strike="noStrike">
              <a:solidFill>
                <a:srgbClr val="000000"/>
              </a:solidFill>
              <a:latin typeface="Arial"/>
            </a:endParaRPr>
          </a:p>
        </p:txBody>
      </p:sp>
      <p:sp>
        <p:nvSpPr>
          <p:cNvPr id="189" name="ZoneTexte 20"/>
          <p:cNvSpPr/>
          <p:nvPr/>
        </p:nvSpPr>
        <p:spPr>
          <a:xfrm>
            <a:off x="1777320" y="437256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7bc5d2"/>
                </a:solidFill>
                <a:latin typeface="Verdana"/>
                <a:ea typeface="Verdana"/>
              </a:rPr>
              <a:t>3</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190" name="ZoneTexte 21"/>
          <p:cNvSpPr/>
          <p:nvPr/>
        </p:nvSpPr>
        <p:spPr>
          <a:xfrm>
            <a:off x="1777320" y="541116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f0ee97"/>
                </a:solidFill>
                <a:latin typeface="Verdana"/>
                <a:ea typeface="Verdana"/>
              </a:rPr>
              <a:t>4</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191" name="Freeform 10"/>
          <p:cNvSpPr/>
          <p:nvPr/>
        </p:nvSpPr>
        <p:spPr>
          <a:xfrm>
            <a:off x="5220000" y="17229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243236"/>
              </a:gs>
              <a:gs pos="100000">
                <a:srgbClr val="2f4046"/>
              </a:gs>
            </a:gsLst>
            <a:lin ang="16200000"/>
          </a:gradFill>
          <a:ln>
            <a:solidFill>
              <a:srgbClr val="324044"/>
            </a:solidFill>
            <a:round/>
          </a:ln>
          <a:effectLst>
            <a:outerShdw blurRad="39960" dir="5400000" dist="23040" rotWithShape="0">
              <a:srgbClr val="000000">
                <a:alpha val="35000"/>
              </a:srgbClr>
            </a:outerShdw>
          </a:effectLst>
        </p:spPr>
        <p:style>
          <a:lnRef idx="1">
            <a:schemeClr val="dk1"/>
          </a:lnRef>
          <a:fillRef idx="3">
            <a:schemeClr val="dk1"/>
          </a:fillRef>
          <a:effectRef idx="2">
            <a:schemeClr val="dk1"/>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5</a:t>
            </a:r>
            <a:endParaRPr b="0" lang="en-US" sz="2800" spc="-1" strike="noStrike">
              <a:solidFill>
                <a:srgbClr val="000000"/>
              </a:solidFill>
              <a:latin typeface="Arial"/>
            </a:endParaRPr>
          </a:p>
        </p:txBody>
      </p:sp>
      <p:sp>
        <p:nvSpPr>
          <p:cNvPr id="192" name="Freeform 10"/>
          <p:cNvSpPr/>
          <p:nvPr/>
        </p:nvSpPr>
        <p:spPr>
          <a:xfrm>
            <a:off x="5220000" y="27741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bf0b2e"/>
              </a:gs>
              <a:gs pos="100000">
                <a:srgbClr val="f80f3d"/>
              </a:gs>
            </a:gsLst>
            <a:lin ang="16200000"/>
          </a:gradFill>
          <a:ln>
            <a:solidFill>
              <a:srgbClr val="e3274b"/>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6</a:t>
            </a:r>
            <a:endParaRPr b="0" lang="en-US" sz="2800" spc="-1" strike="noStrike">
              <a:solidFill>
                <a:srgbClr val="000000"/>
              </a:solidFill>
              <a:latin typeface="Arial"/>
            </a:endParaRPr>
          </a:p>
        </p:txBody>
      </p:sp>
      <p:sp>
        <p:nvSpPr>
          <p:cNvPr id="193" name="Freeform 10"/>
          <p:cNvSpPr/>
          <p:nvPr/>
        </p:nvSpPr>
        <p:spPr>
          <a:xfrm>
            <a:off x="5220000" y="382536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5199a6"/>
              </a:gs>
              <a:gs pos="100000">
                <a:srgbClr val="6ac7d8"/>
              </a:gs>
            </a:gsLst>
            <a:lin ang="16200000"/>
          </a:gradFill>
          <a:ln>
            <a:solidFill>
              <a:srgbClr val="76c1cf"/>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7</a:t>
            </a:r>
            <a:endParaRPr b="0" lang="en-US" sz="2800" spc="-1" strike="noStrike">
              <a:solidFill>
                <a:srgbClr val="000000"/>
              </a:solidFill>
              <a:latin typeface="Arial"/>
            </a:endParaRPr>
          </a:p>
        </p:txBody>
      </p:sp>
      <p:sp>
        <p:nvSpPr>
          <p:cNvPr id="194" name="Freeform 10"/>
          <p:cNvSpPr/>
          <p:nvPr/>
        </p:nvSpPr>
        <p:spPr>
          <a:xfrm>
            <a:off x="5220000" y="4876920"/>
            <a:ext cx="854640" cy="1089000"/>
          </a:xfrm>
          <a:custGeom>
            <a:avLst/>
            <a:gdLst>
              <a:gd name="textAreaLeft" fmla="*/ 0 w 854640"/>
              <a:gd name="textAreaRight" fmla="*/ 855000 w 854640"/>
              <a:gd name="textAreaTop" fmla="*/ 0 h 1089000"/>
              <a:gd name="textAreaBottom" fmla="*/ 1089360 h 1089000"/>
            </a:gdLst>
            <a:ahLst/>
            <a:rect l="textAreaLeft" t="textAreaTop" r="textAreaRight" b="textAreaBottom"/>
            <a:pathLst>
              <a:path w="336" h="428">
                <a:moveTo>
                  <a:pt x="0" y="0"/>
                </a:moveTo>
                <a:lnTo>
                  <a:pt x="0" y="0"/>
                </a:lnTo>
                <a:lnTo>
                  <a:pt x="36" y="48"/>
                </a:lnTo>
                <a:lnTo>
                  <a:pt x="52" y="68"/>
                </a:lnTo>
                <a:lnTo>
                  <a:pt x="68" y="86"/>
                </a:lnTo>
                <a:lnTo>
                  <a:pt x="68" y="86"/>
                </a:lnTo>
                <a:lnTo>
                  <a:pt x="84" y="98"/>
                </a:lnTo>
                <a:lnTo>
                  <a:pt x="98" y="110"/>
                </a:lnTo>
                <a:lnTo>
                  <a:pt x="114" y="120"/>
                </a:lnTo>
                <a:lnTo>
                  <a:pt x="130" y="128"/>
                </a:lnTo>
                <a:lnTo>
                  <a:pt x="146" y="136"/>
                </a:lnTo>
                <a:lnTo>
                  <a:pt x="164" y="142"/>
                </a:lnTo>
                <a:lnTo>
                  <a:pt x="182" y="146"/>
                </a:lnTo>
                <a:lnTo>
                  <a:pt x="200" y="150"/>
                </a:lnTo>
                <a:lnTo>
                  <a:pt x="200" y="150"/>
                </a:lnTo>
                <a:lnTo>
                  <a:pt x="226" y="156"/>
                </a:lnTo>
                <a:lnTo>
                  <a:pt x="250" y="162"/>
                </a:lnTo>
                <a:lnTo>
                  <a:pt x="274" y="172"/>
                </a:lnTo>
                <a:lnTo>
                  <a:pt x="294" y="182"/>
                </a:lnTo>
                <a:lnTo>
                  <a:pt x="302" y="190"/>
                </a:lnTo>
                <a:lnTo>
                  <a:pt x="310" y="196"/>
                </a:lnTo>
                <a:lnTo>
                  <a:pt x="318" y="206"/>
                </a:lnTo>
                <a:lnTo>
                  <a:pt x="324" y="216"/>
                </a:lnTo>
                <a:lnTo>
                  <a:pt x="328" y="226"/>
                </a:lnTo>
                <a:lnTo>
                  <a:pt x="332" y="240"/>
                </a:lnTo>
                <a:lnTo>
                  <a:pt x="334" y="254"/>
                </a:lnTo>
                <a:lnTo>
                  <a:pt x="336" y="268"/>
                </a:lnTo>
                <a:lnTo>
                  <a:pt x="336" y="268"/>
                </a:lnTo>
                <a:lnTo>
                  <a:pt x="336" y="286"/>
                </a:lnTo>
                <a:lnTo>
                  <a:pt x="334" y="302"/>
                </a:lnTo>
                <a:lnTo>
                  <a:pt x="328" y="320"/>
                </a:lnTo>
                <a:lnTo>
                  <a:pt x="322" y="334"/>
                </a:lnTo>
                <a:lnTo>
                  <a:pt x="316" y="350"/>
                </a:lnTo>
                <a:lnTo>
                  <a:pt x="306" y="364"/>
                </a:lnTo>
                <a:lnTo>
                  <a:pt x="296" y="376"/>
                </a:lnTo>
                <a:lnTo>
                  <a:pt x="284" y="388"/>
                </a:lnTo>
                <a:lnTo>
                  <a:pt x="272" y="398"/>
                </a:lnTo>
                <a:lnTo>
                  <a:pt x="258" y="408"/>
                </a:lnTo>
                <a:lnTo>
                  <a:pt x="244" y="414"/>
                </a:lnTo>
                <a:lnTo>
                  <a:pt x="230" y="420"/>
                </a:lnTo>
                <a:lnTo>
                  <a:pt x="214" y="424"/>
                </a:lnTo>
                <a:lnTo>
                  <a:pt x="198" y="426"/>
                </a:lnTo>
                <a:lnTo>
                  <a:pt x="180" y="428"/>
                </a:lnTo>
                <a:lnTo>
                  <a:pt x="164" y="426"/>
                </a:lnTo>
                <a:lnTo>
                  <a:pt x="164" y="426"/>
                </a:lnTo>
                <a:lnTo>
                  <a:pt x="146" y="422"/>
                </a:lnTo>
                <a:lnTo>
                  <a:pt x="130" y="416"/>
                </a:lnTo>
                <a:lnTo>
                  <a:pt x="114" y="410"/>
                </a:lnTo>
                <a:lnTo>
                  <a:pt x="100" y="404"/>
                </a:lnTo>
                <a:lnTo>
                  <a:pt x="88" y="396"/>
                </a:lnTo>
                <a:lnTo>
                  <a:pt x="76" y="386"/>
                </a:lnTo>
                <a:lnTo>
                  <a:pt x="66" y="376"/>
                </a:lnTo>
                <a:lnTo>
                  <a:pt x="56" y="366"/>
                </a:lnTo>
                <a:lnTo>
                  <a:pt x="40" y="340"/>
                </a:lnTo>
                <a:lnTo>
                  <a:pt x="26" y="314"/>
                </a:lnTo>
                <a:lnTo>
                  <a:pt x="16" y="284"/>
                </a:lnTo>
                <a:lnTo>
                  <a:pt x="10" y="254"/>
                </a:lnTo>
                <a:lnTo>
                  <a:pt x="4" y="222"/>
                </a:lnTo>
                <a:lnTo>
                  <a:pt x="2" y="188"/>
                </a:lnTo>
                <a:lnTo>
                  <a:pt x="0" y="154"/>
                </a:lnTo>
                <a:lnTo>
                  <a:pt x="0" y="122"/>
                </a:lnTo>
                <a:lnTo>
                  <a:pt x="0" y="0"/>
                </a:lnTo>
                <a:close/>
              </a:path>
            </a:pathLst>
          </a:custGeom>
          <a:gradFill rotWithShape="0">
            <a:gsLst>
              <a:gs pos="0">
                <a:srgbClr val="bdba66"/>
              </a:gs>
              <a:gs pos="100000">
                <a:srgbClr val="f5f285"/>
              </a:gs>
            </a:gsLst>
            <a:lin ang="16200000"/>
          </a:gradFill>
          <a:ln>
            <a:solidFill>
              <a:srgbClr val="ecea91"/>
            </a:solidFill>
            <a:round/>
          </a:ln>
          <a:effectLst>
            <a:outerShdw blurRad="39960" dir="5400000" dist="23040" rotWithShape="0">
              <a:srgbClr val="000000">
                <a:alpha val="35000"/>
              </a:srgbClr>
            </a:outerShdw>
          </a:effectLst>
        </p:spPr>
        <p:style>
          <a:lnRef idx="1">
            <a:schemeClr val="accent4"/>
          </a:lnRef>
          <a:fillRef idx="3">
            <a:schemeClr val="accent4"/>
          </a:fillRef>
          <a:effectRef idx="2">
            <a:schemeClr val="accent4"/>
          </a:effectRef>
          <a:fontRef idx="minor"/>
        </p:style>
        <p:txBody>
          <a:bodyPr numCol="1" spcCol="0" bIns="144000" anchor="b">
            <a:noAutofit/>
          </a:bodyPr>
          <a:p>
            <a:pPr algn="ctr">
              <a:lnSpc>
                <a:spcPct val="100000"/>
              </a:lnSpc>
            </a:pPr>
            <a:r>
              <a:rPr b="1" lang="fr-FR" sz="2800" spc="-1" strike="noStrike">
                <a:solidFill>
                  <a:srgbClr val="ffffff"/>
                </a:solidFill>
                <a:latin typeface="Verdana"/>
                <a:ea typeface="Verdana"/>
              </a:rPr>
              <a:t>8</a:t>
            </a:r>
            <a:endParaRPr b="0" lang="en-US" sz="2800" spc="-1" strike="noStrike">
              <a:solidFill>
                <a:srgbClr val="000000"/>
              </a:solidFill>
              <a:latin typeface="Arial"/>
            </a:endParaRPr>
          </a:p>
        </p:txBody>
      </p:sp>
      <p:sp>
        <p:nvSpPr>
          <p:cNvPr id="195" name="ZoneTexte 28"/>
          <p:cNvSpPr/>
          <p:nvPr/>
        </p:nvSpPr>
        <p:spPr>
          <a:xfrm>
            <a:off x="6230520" y="219600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5 here</a:t>
            </a:r>
            <a:endParaRPr b="0" lang="en-US" sz="1800" spc="-1" strike="noStrike">
              <a:solidFill>
                <a:srgbClr val="000000"/>
              </a:solidFill>
              <a:latin typeface="Arial"/>
            </a:endParaRPr>
          </a:p>
        </p:txBody>
      </p:sp>
      <p:sp>
        <p:nvSpPr>
          <p:cNvPr id="196" name="ZoneTexte 29"/>
          <p:cNvSpPr/>
          <p:nvPr/>
        </p:nvSpPr>
        <p:spPr>
          <a:xfrm>
            <a:off x="6230520" y="328284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e52c50"/>
                </a:solidFill>
                <a:latin typeface="Verdana"/>
                <a:ea typeface="Verdana"/>
              </a:rPr>
              <a:t>6</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197" name="ZoneTexte 30"/>
          <p:cNvSpPr/>
          <p:nvPr/>
        </p:nvSpPr>
        <p:spPr>
          <a:xfrm>
            <a:off x="6230520" y="437256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7bc5d2"/>
                </a:solidFill>
                <a:latin typeface="Verdana"/>
                <a:ea typeface="Verdana"/>
              </a:rPr>
              <a:t>7</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198" name="ZoneTexte 31"/>
          <p:cNvSpPr/>
          <p:nvPr/>
        </p:nvSpPr>
        <p:spPr>
          <a:xfrm>
            <a:off x="6230520" y="5411160"/>
            <a:ext cx="2290320" cy="3636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800" spc="-1" strike="noStrike" cap="small">
                <a:solidFill>
                  <a:srgbClr val="344246"/>
                </a:solidFill>
                <a:latin typeface="Verdana"/>
                <a:ea typeface="Verdana"/>
              </a:rPr>
              <a:t>Your part </a:t>
            </a:r>
            <a:r>
              <a:rPr b="1" lang="en-US" sz="1800" spc="-1" strike="noStrike" cap="small">
                <a:solidFill>
                  <a:srgbClr val="f0ee97"/>
                </a:solidFill>
                <a:latin typeface="Verdana"/>
                <a:ea typeface="Verdana"/>
              </a:rPr>
              <a:t>8</a:t>
            </a:r>
            <a:r>
              <a:rPr b="1" lang="en-US" sz="1800" spc="-1" strike="noStrike" cap="small">
                <a:solidFill>
                  <a:srgbClr val="344246"/>
                </a:solidFill>
                <a:latin typeface="Verdana"/>
                <a:ea typeface="Verdana"/>
              </a:rPr>
              <a:t> here</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Your footer here</a:t>
            </a:r>
          </a:p>
        </p:txBody>
      </p:sp>
      <p:sp>
        <p:nvSpPr>
          <p:cNvPr id="4" name="PlaceHolder 3"/>
          <p:cNvSpPr>
            <a:spLocks noGrp="1"/>
          </p:cNvSpPr>
          <p:nvPr>
            <p:ph type="sldNum" idx="7"/>
          </p:nvPr>
        </p:nvSpPr>
        <p:spPr/>
        <p:txBody>
          <a:bodyPr/>
          <a:p>
            <a:fld id="{1A704278-9CAD-4D43-91EB-61EA263B3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GB" sz="3200" spc="-1" strike="noStrike">
                <a:solidFill>
                  <a:srgbClr val="344246"/>
                </a:solidFill>
                <a:latin typeface="Verdana"/>
                <a:ea typeface="Verdana"/>
              </a:rPr>
              <a:t>Example with a histogram</a:t>
            </a:r>
            <a:endParaRPr b="0" lang="en-US" sz="3200" spc="-1" strike="noStrike">
              <a:solidFill>
                <a:srgbClr val="344246"/>
              </a:solidFill>
              <a:latin typeface="Calibri"/>
            </a:endParaRPr>
          </a:p>
        </p:txBody>
      </p:sp>
      <p:sp>
        <p:nvSpPr>
          <p:cNvPr id="200" name="Rectangle 3"/>
          <p:cNvSpPr/>
          <p:nvPr/>
        </p:nvSpPr>
        <p:spPr>
          <a:xfrm>
            <a:off x="5222880" y="2565360"/>
            <a:ext cx="3596760" cy="3481200"/>
          </a:xfrm>
          <a:prstGeom prst="rect">
            <a:avLst/>
          </a:prstGeom>
          <a:noFill/>
          <a:ln w="9525">
            <a:noFill/>
          </a:ln>
        </p:spPr>
        <p:style>
          <a:lnRef idx="0"/>
          <a:fillRef idx="0"/>
          <a:effectRef idx="0"/>
          <a:fontRef idx="minor"/>
        </p:style>
        <p:txBody>
          <a:bodyPr lIns="0" rIns="0" tIns="45000" bIns="45000" anchor="t">
            <a:noAutofit/>
          </a:bodyPr>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orem ipsum dolor sit amet, risus dolor nulla faucibus, elit amet duis blandit, tellus non mollis purus.</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Iaculis libero et elit nec, morbi nulla velit a, arcu dictum commodo amet.</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acus sed nulla id cillum, nulla cras vulputate ut phasellus, elit fermentum turpis vivamus pulvinar.</a:t>
            </a:r>
            <a:endParaRPr b="0" lang="en-US" sz="1400" spc="-1" strike="noStrike">
              <a:solidFill>
                <a:srgbClr val="000000"/>
              </a:solidFill>
              <a:latin typeface="Arial"/>
            </a:endParaRPr>
          </a:p>
        </p:txBody>
      </p:sp>
      <p:sp>
        <p:nvSpPr>
          <p:cNvPr id="201" name="Rectangle 9"/>
          <p:cNvSpPr/>
          <p:nvPr/>
        </p:nvSpPr>
        <p:spPr>
          <a:xfrm>
            <a:off x="539640" y="1557360"/>
            <a:ext cx="5932080" cy="675360"/>
          </a:xfrm>
          <a:prstGeom prst="rect">
            <a:avLst/>
          </a:prstGeom>
          <a:noFill/>
          <a:ln w="9525">
            <a:noFill/>
          </a:ln>
        </p:spPr>
        <p:style>
          <a:lnRef idx="0"/>
          <a:fillRef idx="0"/>
          <a:effectRef idx="0"/>
          <a:fontRef idx="minor"/>
        </p:style>
        <p:txBody>
          <a:bodyPr lIns="0" rIns="0" tIns="0" bIns="0" anchor="t">
            <a:spAutoFit/>
          </a:bodyPr>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Lorem ipsum dolor sit amet, in nec erat ac et, integer diam ultrices ut nec.</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Consectetuer pede orci a, accumsan at ante sed elit.</a:t>
            </a:r>
            <a:endParaRPr b="0" lang="en-US" sz="1400" spc="-1" strike="noStrike">
              <a:solidFill>
                <a:srgbClr val="000000"/>
              </a:solidFill>
              <a:latin typeface="Arial"/>
            </a:endParaRPr>
          </a:p>
        </p:txBody>
      </p:sp>
      <p:grpSp>
        <p:nvGrpSpPr>
          <p:cNvPr id="202" name="Groupe 8"/>
          <p:cNvGrpSpPr/>
          <p:nvPr/>
        </p:nvGrpSpPr>
        <p:grpSpPr>
          <a:xfrm>
            <a:off x="799560" y="2551680"/>
            <a:ext cx="3815640" cy="3598200"/>
            <a:chOff x="799560" y="2551680"/>
            <a:chExt cx="3815640" cy="3598200"/>
          </a:xfrm>
        </p:grpSpPr>
        <p:sp>
          <p:nvSpPr>
            <p:cNvPr id="203" name="Rectangle 5"/>
            <p:cNvSpPr/>
            <p:nvPr/>
          </p:nvSpPr>
          <p:spPr>
            <a:xfrm rot="21074400">
              <a:off x="1113120" y="2892240"/>
              <a:ext cx="3267000" cy="3004920"/>
            </a:xfrm>
            <a:custGeom>
              <a:avLst/>
              <a:gdLst>
                <a:gd name="textAreaLeft" fmla="*/ 0 w 3267000"/>
                <a:gd name="textAreaRight" fmla="*/ 3267360 w 3267000"/>
                <a:gd name="textAreaTop" fmla="*/ 0 h 3004920"/>
                <a:gd name="textAreaBottom" fmla="*/ 3005280 h 3004920"/>
              </a:gdLst>
              <a:ahLst/>
              <a:rect l="textAreaLeft" t="textAreaTop" r="textAreaRight" b="textAreaBottom"/>
              <a:pathLst>
                <a:path w="3011870" h="2769615">
                  <a:moveTo>
                    <a:pt x="0" y="0"/>
                  </a:moveTo>
                  <a:cubicBezTo>
                    <a:pt x="1127017" y="85961"/>
                    <a:pt x="1845297" y="76592"/>
                    <a:pt x="2847769" y="95182"/>
                  </a:cubicBezTo>
                  <a:cubicBezTo>
                    <a:pt x="2777291" y="1004083"/>
                    <a:pt x="3289279" y="2013053"/>
                    <a:pt x="2792196" y="2275334"/>
                  </a:cubicBezTo>
                  <a:cubicBezTo>
                    <a:pt x="2409503" y="2508287"/>
                    <a:pt x="1123783" y="2845055"/>
                    <a:pt x="113120" y="2754527"/>
                  </a:cubicBezTo>
                  <a:cubicBezTo>
                    <a:pt x="-60175" y="1676365"/>
                    <a:pt x="148001" y="804419"/>
                    <a:pt x="0" y="0"/>
                  </a:cubicBezTo>
                  <a:close/>
                </a:path>
              </a:pathLst>
            </a:custGeom>
            <a:solidFill>
              <a:srgbClr val="f0ee97"/>
            </a:solidFill>
            <a:ln>
              <a:noFill/>
            </a:ln>
            <a:effectLst>
              <a:outerShdw algn="tr" blurRad="216000" dir="4802027" dist="114406" rotWithShape="0" sx="99000" sy="99000">
                <a:srgbClr val="000000">
                  <a:alpha val="41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grpSp>
          <p:nvGrpSpPr>
            <p:cNvPr id="204" name="Groupe 13"/>
            <p:cNvGrpSpPr/>
            <p:nvPr/>
          </p:nvGrpSpPr>
          <p:grpSpPr>
            <a:xfrm>
              <a:off x="799560" y="2551680"/>
              <a:ext cx="3815640" cy="3598200"/>
              <a:chOff x="799560" y="2551680"/>
              <a:chExt cx="3815640" cy="3598200"/>
            </a:xfrm>
          </p:grpSpPr>
          <p:sp>
            <p:nvSpPr>
              <p:cNvPr id="205" name="Rectangle 5"/>
              <p:cNvSpPr/>
              <p:nvPr/>
            </p:nvSpPr>
            <p:spPr>
              <a:xfrm rot="21074400">
                <a:off x="1017360" y="2790720"/>
                <a:ext cx="3380040" cy="3119760"/>
              </a:xfrm>
              <a:custGeom>
                <a:avLst/>
                <a:gdLst>
                  <a:gd name="textAreaLeft" fmla="*/ 0 w 3380040"/>
                  <a:gd name="textAreaRight" fmla="*/ 3380400 w 3380040"/>
                  <a:gd name="textAreaTop" fmla="*/ 0 h 3119760"/>
                  <a:gd name="textAreaBottom" fmla="*/ 3120120 h 3119760"/>
                </a:gdLst>
                <a:ahLst/>
                <a:rect l="textAreaLeft" t="textAreaTop" r="textAreaRight" b="textAreaBottom"/>
                <a:pathLst>
                  <a:path w="3116300" h="2875403">
                    <a:moveTo>
                      <a:pt x="0" y="0"/>
                    </a:moveTo>
                    <a:cubicBezTo>
                      <a:pt x="1127017" y="85961"/>
                      <a:pt x="2004943" y="37181"/>
                      <a:pt x="3007415" y="55771"/>
                    </a:cubicBezTo>
                    <a:cubicBezTo>
                      <a:pt x="2936937" y="964672"/>
                      <a:pt x="3368549" y="2290401"/>
                      <a:pt x="2879470" y="2334344"/>
                    </a:cubicBezTo>
                    <a:cubicBezTo>
                      <a:pt x="2708049" y="2614029"/>
                      <a:pt x="1197859" y="2950916"/>
                      <a:pt x="187196" y="2860388"/>
                    </a:cubicBezTo>
                    <a:cubicBezTo>
                      <a:pt x="13901" y="1782226"/>
                      <a:pt x="148001" y="804419"/>
                      <a:pt x="0" y="0"/>
                    </a:cubicBezTo>
                    <a:close/>
                  </a:path>
                </a:pathLst>
              </a:custGeom>
              <a:solidFill>
                <a:srgbClr val="f0ee9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sp>
            <p:nvSpPr>
              <p:cNvPr id="206" name="Triangle rectangle 7"/>
              <p:cNvSpPr/>
              <p:nvPr/>
            </p:nvSpPr>
            <p:spPr>
              <a:xfrm rot="14260800">
                <a:off x="3548880" y="4482360"/>
                <a:ext cx="365400" cy="1647720"/>
              </a:xfrm>
              <a:custGeom>
                <a:avLst/>
                <a:gdLst>
                  <a:gd name="textAreaLeft" fmla="*/ 0 w 365400"/>
                  <a:gd name="textAreaRight" fmla="*/ 365760 w 365400"/>
                  <a:gd name="textAreaTop" fmla="*/ 0 h 1647720"/>
                  <a:gd name="textAreaBottom" fmla="*/ 1648080 h 1647720"/>
                </a:gdLst>
                <a:ahLst/>
                <a:rect l="textAreaLeft" t="textAreaTop" r="textAreaRight" b="textAreaBottom"/>
                <a:pathLst>
                  <a:path w="422071" h="1442880">
                    <a:moveTo>
                      <a:pt x="163454" y="1442880"/>
                    </a:moveTo>
                    <a:cubicBezTo>
                      <a:pt x="-176501" y="1226284"/>
                      <a:pt x="107547" y="307905"/>
                      <a:pt x="181580" y="0"/>
                    </a:cubicBezTo>
                    <a:cubicBezTo>
                      <a:pt x="115191" y="556789"/>
                      <a:pt x="137346" y="827855"/>
                      <a:pt x="422071" y="1149013"/>
                    </a:cubicBezTo>
                    <a:cubicBezTo>
                      <a:pt x="129579" y="963158"/>
                      <a:pt x="66208" y="1301405"/>
                      <a:pt x="163454" y="1442880"/>
                    </a:cubicBezTo>
                    <a:close/>
                  </a:path>
                </a:pathLst>
              </a:custGeom>
              <a:gradFill rotWithShape="0">
                <a:gsLst>
                  <a:gs pos="0">
                    <a:srgbClr val="797711"/>
                  </a:gs>
                  <a:gs pos="100000">
                    <a:srgbClr val="b5b21a"/>
                  </a:gs>
                </a:gsLst>
                <a:lin ang="11556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grpSp>
      </p:grpSp>
      <p:sp>
        <p:nvSpPr>
          <p:cNvPr id="207" name="Rectangle 21"/>
          <p:cNvSpPr/>
          <p:nvPr/>
        </p:nvSpPr>
        <p:spPr>
          <a:xfrm rot="18900000">
            <a:off x="291960" y="3156480"/>
            <a:ext cx="1693080" cy="313920"/>
          </a:xfrm>
          <a:custGeom>
            <a:avLst/>
            <a:gdLst>
              <a:gd name="textAreaLeft" fmla="*/ 0 w 1693080"/>
              <a:gd name="textAreaRight" fmla="*/ 1693440 w 1693080"/>
              <a:gd name="textAreaTop" fmla="*/ 0 h 313920"/>
              <a:gd name="textAreaBottom" fmla="*/ 314280 h 313920"/>
            </a:gdLst>
            <a:ahLst/>
            <a:rect l="textAreaLeft" t="textAreaTop" r="textAreaRight" b="textAreaBottom"/>
            <a:pathLst>
              <a:path w="1307634" h="242604">
                <a:moveTo>
                  <a:pt x="123870" y="0"/>
                </a:moveTo>
                <a:lnTo>
                  <a:pt x="1275998" y="0"/>
                </a:lnTo>
                <a:lnTo>
                  <a:pt x="1248694" y="42503"/>
                </a:lnTo>
                <a:cubicBezTo>
                  <a:pt x="1248694" y="59341"/>
                  <a:pt x="1295839" y="72812"/>
                  <a:pt x="1295839" y="89650"/>
                </a:cubicBezTo>
                <a:cubicBezTo>
                  <a:pt x="1301451" y="109856"/>
                  <a:pt x="1246729" y="127535"/>
                  <a:pt x="1243642" y="141847"/>
                </a:cubicBezTo>
                <a:cubicBezTo>
                  <a:pt x="1240555" y="156159"/>
                  <a:pt x="1271986" y="168507"/>
                  <a:pt x="1277318" y="175523"/>
                </a:cubicBezTo>
                <a:cubicBezTo>
                  <a:pt x="1276757" y="178329"/>
                  <a:pt x="1308188" y="226598"/>
                  <a:pt x="1307627" y="229404"/>
                </a:cubicBezTo>
                <a:lnTo>
                  <a:pt x="1275998" y="242604"/>
                </a:lnTo>
                <a:lnTo>
                  <a:pt x="123870" y="242604"/>
                </a:lnTo>
                <a:cubicBezTo>
                  <a:pt x="-84420" y="235072"/>
                  <a:pt x="34948" y="211960"/>
                  <a:pt x="26256" y="197412"/>
                </a:cubicBezTo>
                <a:cubicBezTo>
                  <a:pt x="17564" y="182864"/>
                  <a:pt x="73965" y="167103"/>
                  <a:pt x="90242" y="150265"/>
                </a:cubicBezTo>
                <a:cubicBezTo>
                  <a:pt x="106519" y="133427"/>
                  <a:pt x="115499" y="112662"/>
                  <a:pt x="123918" y="96385"/>
                </a:cubicBezTo>
                <a:cubicBezTo>
                  <a:pt x="132337" y="80108"/>
                  <a:pt x="199696" y="73721"/>
                  <a:pt x="199688" y="57657"/>
                </a:cubicBezTo>
                <a:cubicBezTo>
                  <a:pt x="200234" y="38438"/>
                  <a:pt x="123324" y="19219"/>
                  <a:pt x="123870" y="0"/>
                </a:cubicBezTo>
                <a:close/>
              </a:path>
            </a:pathLst>
          </a:custGeom>
          <a:solidFill>
            <a:srgbClr val="7bc5d2">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sp>
        <p:nvSpPr>
          <p:cNvPr id="208" name="Rectangle 22"/>
          <p:cNvSpPr/>
          <p:nvPr/>
        </p:nvSpPr>
        <p:spPr>
          <a:xfrm rot="2149200">
            <a:off x="2930760" y="2764080"/>
            <a:ext cx="1758960" cy="313920"/>
          </a:xfrm>
          <a:custGeom>
            <a:avLst/>
            <a:gdLst>
              <a:gd name="textAreaLeft" fmla="*/ 0 w 1758960"/>
              <a:gd name="textAreaRight" fmla="*/ 1759320 w 1758960"/>
              <a:gd name="textAreaTop" fmla="*/ 0 h 313920"/>
              <a:gd name="textAreaBottom" fmla="*/ 314280 h 313920"/>
            </a:gdLst>
            <a:ahLst/>
            <a:rect l="textAreaLeft" t="textAreaTop" r="textAreaRight" b="textAreaBottom"/>
            <a:pathLst>
              <a:path w="1358377" h="242604">
                <a:moveTo>
                  <a:pt x="106629" y="0"/>
                </a:moveTo>
                <a:lnTo>
                  <a:pt x="1258757" y="0"/>
                </a:lnTo>
                <a:lnTo>
                  <a:pt x="1290119" y="39590"/>
                </a:lnTo>
                <a:cubicBezTo>
                  <a:pt x="1289733" y="54046"/>
                  <a:pt x="1256057" y="53463"/>
                  <a:pt x="1256443" y="86737"/>
                </a:cubicBezTo>
                <a:cubicBezTo>
                  <a:pt x="1261494" y="100207"/>
                  <a:pt x="1257740" y="92750"/>
                  <a:pt x="1258126" y="118728"/>
                </a:cubicBezTo>
                <a:cubicBezTo>
                  <a:pt x="1270193" y="132479"/>
                  <a:pt x="1333513" y="149439"/>
                  <a:pt x="1328847" y="169243"/>
                </a:cubicBezTo>
                <a:cubicBezTo>
                  <a:pt x="1338388" y="187765"/>
                  <a:pt x="1308535" y="199110"/>
                  <a:pt x="1296853" y="211337"/>
                </a:cubicBezTo>
                <a:cubicBezTo>
                  <a:pt x="1285171" y="223564"/>
                  <a:pt x="1464985" y="241322"/>
                  <a:pt x="1258757" y="242604"/>
                </a:cubicBezTo>
                <a:lnTo>
                  <a:pt x="106629" y="242604"/>
                </a:lnTo>
                <a:cubicBezTo>
                  <a:pt x="106556" y="233866"/>
                  <a:pt x="106482" y="225128"/>
                  <a:pt x="106409" y="216390"/>
                </a:cubicBezTo>
                <a:cubicBezTo>
                  <a:pt x="109459" y="205566"/>
                  <a:pt x="173761" y="186081"/>
                  <a:pt x="182180" y="167559"/>
                </a:cubicBezTo>
                <a:cubicBezTo>
                  <a:pt x="190599" y="149037"/>
                  <a:pt x="131386" y="133042"/>
                  <a:pt x="128299" y="117046"/>
                </a:cubicBezTo>
                <a:cubicBezTo>
                  <a:pt x="125212" y="101050"/>
                  <a:pt x="115670" y="98243"/>
                  <a:pt x="97990" y="90105"/>
                </a:cubicBezTo>
                <a:cubicBezTo>
                  <a:pt x="80310" y="81967"/>
                  <a:pt x="50807" y="70043"/>
                  <a:pt x="50844" y="56429"/>
                </a:cubicBezTo>
                <a:cubicBezTo>
                  <a:pt x="50881" y="38886"/>
                  <a:pt x="-94690" y="9405"/>
                  <a:pt x="106629" y="0"/>
                </a:cubicBezTo>
                <a:close/>
              </a:path>
            </a:pathLst>
          </a:custGeom>
          <a:solidFill>
            <a:srgbClr val="7bc5d2">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graphicFrame>
        <p:nvGraphicFramePr>
          <p:cNvPr id="209" name="Graphique 18"/>
          <p:cNvGraphicFramePr/>
          <p:nvPr/>
        </p:nvGraphicFramePr>
        <p:xfrm>
          <a:off x="1384920" y="3285720"/>
          <a:ext cx="2932920" cy="2186640"/>
        </p:xfrm>
        <a:graphic>
          <a:graphicData uri="http://schemas.openxmlformats.org/drawingml/2006/chart">
            <c:chart xmlns:c="http://schemas.openxmlformats.org/drawingml/2006/chart" xmlns:r="http://schemas.openxmlformats.org/officeDocument/2006/relationships" r:id="rId1"/>
          </a:graphicData>
        </a:graphic>
      </p:graphicFrame>
      <p:pic>
        <p:nvPicPr>
          <p:cNvPr id="210" name="Picture 2" descr=""/>
          <p:cNvPicPr/>
          <p:nvPr/>
        </p:nvPicPr>
        <p:blipFill>
          <a:blip r:embed="rId2"/>
          <a:stretch/>
        </p:blipFill>
        <p:spPr>
          <a:xfrm>
            <a:off x="903600" y="2725560"/>
            <a:ext cx="3298320" cy="1176120"/>
          </a:xfrm>
          <a:prstGeom prst="rect">
            <a:avLst/>
          </a:prstGeom>
          <a:ln w="0">
            <a:noFill/>
          </a:ln>
        </p:spPr>
      </p:pic>
      <p:sp>
        <p:nvSpPr>
          <p:cNvPr id="211" name="Text Box 4"/>
          <p:cNvSpPr/>
          <p:nvPr/>
        </p:nvSpPr>
        <p:spPr>
          <a:xfrm>
            <a:off x="417240" y="652068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344246"/>
                </a:solidFill>
                <a:latin typeface="Arial"/>
                <a:ea typeface="宋体"/>
              </a:rPr>
              <a:t>powerpoint</a:t>
            </a:r>
            <a:r>
              <a:rPr b="0" lang="zh-CN" sz="1600" spc="-1" strike="noStrike">
                <a:solidFill>
                  <a:srgbClr val="344246"/>
                </a:solidFill>
                <a:latin typeface="Arial"/>
                <a:ea typeface="宋体"/>
              </a:rPr>
              <a:t>模板下载</a:t>
            </a:r>
            <a:r>
              <a:rPr b="0" lang="en-US" sz="1600" spc="-1" strike="noStrike" u="sng">
                <a:solidFill>
                  <a:srgbClr val="00b0f0"/>
                </a:solidFill>
                <a:uFillTx/>
                <a:latin typeface="Arial"/>
                <a:ea typeface="宋体"/>
                <a:hlinkClick r:id="rId3"/>
              </a:rPr>
              <a:t>http://www.eeppt.com/moban/</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1D7466EB-714C-46FB-A856-5B35284C20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GB" sz="3200" spc="-1" strike="noStrike">
                <a:solidFill>
                  <a:srgbClr val="344246"/>
                </a:solidFill>
                <a:latin typeface="Verdana"/>
                <a:ea typeface="Verdana"/>
              </a:rPr>
              <a:t>Example with a pie chart</a:t>
            </a:r>
            <a:endParaRPr b="0" lang="en-US" sz="3200" spc="-1" strike="noStrike">
              <a:solidFill>
                <a:srgbClr val="344246"/>
              </a:solidFill>
              <a:latin typeface="Calibri"/>
            </a:endParaRPr>
          </a:p>
        </p:txBody>
      </p:sp>
      <p:sp>
        <p:nvSpPr>
          <p:cNvPr id="213" name="Rectangle 8"/>
          <p:cNvSpPr/>
          <p:nvPr/>
        </p:nvSpPr>
        <p:spPr>
          <a:xfrm>
            <a:off x="539640" y="2565360"/>
            <a:ext cx="3596760" cy="3481200"/>
          </a:xfrm>
          <a:prstGeom prst="rect">
            <a:avLst/>
          </a:prstGeom>
          <a:noFill/>
          <a:ln w="9525">
            <a:noFill/>
          </a:ln>
        </p:spPr>
        <p:style>
          <a:lnRef idx="0"/>
          <a:fillRef idx="0"/>
          <a:effectRef idx="0"/>
          <a:fontRef idx="minor"/>
        </p:style>
        <p:txBody>
          <a:bodyPr lIns="0" rIns="0" tIns="45000" bIns="45000" anchor="t">
            <a:noAutofit/>
          </a:bodyPr>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orem ipsum dolor sit amet, risus dolor nulla faucibus, elit amet duis blandit, tellus non mollis purus.</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Iaculis libero et elit nec, morbi nulla velit a, arcu dictum commodo amet.</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acus sed nulla id cillum, nulla cras vulputate ut phasellus, elit fermentum turpis vivamus pulvinar.</a:t>
            </a:r>
            <a:endParaRPr b="0" lang="en-US" sz="1400" spc="-1" strike="noStrike">
              <a:solidFill>
                <a:srgbClr val="000000"/>
              </a:solidFill>
              <a:latin typeface="Arial"/>
            </a:endParaRPr>
          </a:p>
        </p:txBody>
      </p:sp>
      <p:sp>
        <p:nvSpPr>
          <p:cNvPr id="214" name="Rectangle 9"/>
          <p:cNvSpPr/>
          <p:nvPr/>
        </p:nvSpPr>
        <p:spPr>
          <a:xfrm>
            <a:off x="539640" y="1557360"/>
            <a:ext cx="5932080" cy="675360"/>
          </a:xfrm>
          <a:prstGeom prst="rect">
            <a:avLst/>
          </a:prstGeom>
          <a:noFill/>
          <a:ln w="9525">
            <a:noFill/>
          </a:ln>
        </p:spPr>
        <p:style>
          <a:lnRef idx="0"/>
          <a:fillRef idx="0"/>
          <a:effectRef idx="0"/>
          <a:fontRef idx="minor"/>
        </p:style>
        <p:txBody>
          <a:bodyPr lIns="0" rIns="0" tIns="0" bIns="0" anchor="t">
            <a:spAutoFit/>
          </a:bodyPr>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Lorem ipsum dolor sit amet, in nec erat ac et, integer diam ultrices ut nec.</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Consectetuer pede orci a, accumsan at ante sed elit.</a:t>
            </a:r>
            <a:endParaRPr b="0" lang="en-US" sz="1400" spc="-1" strike="noStrike">
              <a:solidFill>
                <a:srgbClr val="000000"/>
              </a:solidFill>
              <a:latin typeface="Arial"/>
            </a:endParaRPr>
          </a:p>
        </p:txBody>
      </p:sp>
      <p:graphicFrame>
        <p:nvGraphicFramePr>
          <p:cNvPr id="215" name="Graphique 8"/>
          <p:cNvGraphicFramePr/>
          <p:nvPr/>
        </p:nvGraphicFramePr>
        <p:xfrm>
          <a:off x="3996000" y="3140280"/>
          <a:ext cx="3816000" cy="2543760"/>
        </p:xfrm>
        <a:graphic>
          <a:graphicData uri="http://schemas.openxmlformats.org/drawingml/2006/chart">
            <c:chart xmlns:c="http://schemas.openxmlformats.org/drawingml/2006/chart" xmlns:r="http://schemas.openxmlformats.org/officeDocument/2006/relationships" r:id="rId1"/>
          </a:graphicData>
        </a:graphic>
      </p:graphicFrame>
      <p:sp>
        <p:nvSpPr>
          <p:cNvPr id="216" name="ZoneTexte 16"/>
          <p:cNvSpPr/>
          <p:nvPr/>
        </p:nvSpPr>
        <p:spPr>
          <a:xfrm>
            <a:off x="4753800" y="2783520"/>
            <a:ext cx="2351160" cy="36360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pPr>
            <a:r>
              <a:rPr b="1" lang="en-US" sz="1800" spc="-1" strike="noStrike">
                <a:solidFill>
                  <a:srgbClr val="344246"/>
                </a:solidFill>
                <a:latin typeface="Arial"/>
                <a:ea typeface="Arial"/>
              </a:rPr>
              <a:t>Title of the pie chart</a:t>
            </a:r>
            <a:endParaRPr b="0" lang="en-US" sz="1800" spc="-1" strike="noStrike">
              <a:solidFill>
                <a:srgbClr val="000000"/>
              </a:solidFill>
              <a:latin typeface="Arial"/>
            </a:endParaRPr>
          </a:p>
        </p:txBody>
      </p:sp>
      <p:sp>
        <p:nvSpPr>
          <p:cNvPr id="217" name="Ellipse 19"/>
          <p:cNvSpPr/>
          <p:nvPr/>
        </p:nvSpPr>
        <p:spPr>
          <a:xfrm>
            <a:off x="7387920" y="3626280"/>
            <a:ext cx="222480" cy="222480"/>
          </a:xfrm>
          <a:prstGeom prst="ellipse">
            <a:avLst/>
          </a:prstGeom>
          <a:solidFill>
            <a:srgbClr val="e52c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8" name="Ellipse 22"/>
          <p:cNvSpPr/>
          <p:nvPr/>
        </p:nvSpPr>
        <p:spPr>
          <a:xfrm>
            <a:off x="7387920" y="4088160"/>
            <a:ext cx="222480" cy="222480"/>
          </a:xfrm>
          <a:prstGeom prst="ellipse">
            <a:avLst/>
          </a:prstGeom>
          <a:solidFill>
            <a:srgbClr val="7bc5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9" name="Ellipse 25"/>
          <p:cNvSpPr/>
          <p:nvPr/>
        </p:nvSpPr>
        <p:spPr>
          <a:xfrm>
            <a:off x="7387920" y="4550040"/>
            <a:ext cx="222480" cy="222480"/>
          </a:xfrm>
          <a:prstGeom prst="ellipse">
            <a:avLst/>
          </a:prstGeom>
          <a:solidFill>
            <a:srgbClr val="f0ee9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Ellipse 28"/>
          <p:cNvSpPr/>
          <p:nvPr/>
        </p:nvSpPr>
        <p:spPr>
          <a:xfrm>
            <a:off x="7387920" y="5011920"/>
            <a:ext cx="222480" cy="222480"/>
          </a:xfrm>
          <a:prstGeom prst="ellipse">
            <a:avLst/>
          </a:prstGeom>
          <a:solidFill>
            <a:srgbClr val="34384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ZoneTexte 30"/>
          <p:cNvSpPr/>
          <p:nvPr/>
        </p:nvSpPr>
        <p:spPr>
          <a:xfrm>
            <a:off x="7805520" y="3609000"/>
            <a:ext cx="1084680" cy="25668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100" spc="-1" strike="noStrike">
                <a:solidFill>
                  <a:srgbClr val="e52c50"/>
                </a:solidFill>
                <a:latin typeface="Verdana"/>
                <a:ea typeface="Verdana"/>
              </a:rPr>
              <a:t>Chart legend</a:t>
            </a:r>
            <a:endParaRPr b="0" lang="en-US" sz="1100" spc="-1" strike="noStrike">
              <a:solidFill>
                <a:srgbClr val="000000"/>
              </a:solidFill>
              <a:latin typeface="Arial"/>
            </a:endParaRPr>
          </a:p>
        </p:txBody>
      </p:sp>
      <p:sp>
        <p:nvSpPr>
          <p:cNvPr id="222" name="ZoneTexte 31"/>
          <p:cNvSpPr/>
          <p:nvPr/>
        </p:nvSpPr>
        <p:spPr>
          <a:xfrm>
            <a:off x="7805520" y="4070880"/>
            <a:ext cx="1084680" cy="25668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100" spc="-1" strike="noStrike">
                <a:solidFill>
                  <a:srgbClr val="0086ac"/>
                </a:solidFill>
                <a:latin typeface="Verdana"/>
                <a:ea typeface="Verdana"/>
              </a:rPr>
              <a:t>Chart legend</a:t>
            </a:r>
            <a:endParaRPr b="0" lang="en-US" sz="1100" spc="-1" strike="noStrike">
              <a:solidFill>
                <a:srgbClr val="000000"/>
              </a:solidFill>
              <a:latin typeface="Arial"/>
            </a:endParaRPr>
          </a:p>
        </p:txBody>
      </p:sp>
      <p:sp>
        <p:nvSpPr>
          <p:cNvPr id="223" name="ZoneTexte 32"/>
          <p:cNvSpPr/>
          <p:nvPr/>
        </p:nvSpPr>
        <p:spPr>
          <a:xfrm>
            <a:off x="7805520" y="4532760"/>
            <a:ext cx="1084680" cy="25668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100" spc="-1" strike="noStrike">
                <a:solidFill>
                  <a:schemeClr val="accent6">
                    <a:lumMod val="50000"/>
                  </a:schemeClr>
                </a:solidFill>
                <a:latin typeface="Verdana"/>
                <a:ea typeface="Verdana"/>
              </a:rPr>
              <a:t>Chart legend</a:t>
            </a:r>
            <a:endParaRPr b="0" lang="en-US" sz="1100" spc="-1" strike="noStrike">
              <a:solidFill>
                <a:srgbClr val="000000"/>
              </a:solidFill>
              <a:latin typeface="Arial"/>
            </a:endParaRPr>
          </a:p>
        </p:txBody>
      </p:sp>
      <p:sp>
        <p:nvSpPr>
          <p:cNvPr id="224" name="ZoneTexte 33"/>
          <p:cNvSpPr/>
          <p:nvPr/>
        </p:nvSpPr>
        <p:spPr>
          <a:xfrm>
            <a:off x="7805520" y="4994640"/>
            <a:ext cx="1084680" cy="25668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1100" spc="-1" strike="noStrike">
                <a:solidFill>
                  <a:srgbClr val="343846"/>
                </a:solidFill>
                <a:latin typeface="Verdana"/>
                <a:ea typeface="Verdana"/>
              </a:rPr>
              <a:t>Chart legend</a:t>
            </a:r>
            <a:endParaRPr b="0" lang="en-US" sz="11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EF15B975-8A60-4F31-983A-901DB1593F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GB" sz="3200" spc="-1" strike="noStrike">
                <a:solidFill>
                  <a:srgbClr val="344246"/>
                </a:solidFill>
                <a:latin typeface="Verdana"/>
                <a:ea typeface="Verdana"/>
              </a:rPr>
              <a:t>Example with an object</a:t>
            </a:r>
            <a:endParaRPr b="0" lang="en-US" sz="3200" spc="-1" strike="noStrike">
              <a:solidFill>
                <a:srgbClr val="344246"/>
              </a:solidFill>
              <a:latin typeface="Calibri"/>
            </a:endParaRPr>
          </a:p>
        </p:txBody>
      </p:sp>
      <p:grpSp>
        <p:nvGrpSpPr>
          <p:cNvPr id="226" name="Groupe 2"/>
          <p:cNvGrpSpPr/>
          <p:nvPr/>
        </p:nvGrpSpPr>
        <p:grpSpPr>
          <a:xfrm>
            <a:off x="4633920" y="2563920"/>
            <a:ext cx="3250080" cy="3449880"/>
            <a:chOff x="4633920" y="2563920"/>
            <a:chExt cx="3250080" cy="3449880"/>
          </a:xfrm>
        </p:grpSpPr>
        <p:grpSp>
          <p:nvGrpSpPr>
            <p:cNvPr id="227" name="Ellipse 256"/>
            <p:cNvGrpSpPr/>
            <p:nvPr/>
          </p:nvGrpSpPr>
          <p:grpSpPr>
            <a:xfrm>
              <a:off x="4813560" y="5588280"/>
              <a:ext cx="2910960" cy="425520"/>
              <a:chOff x="4813560" y="5588280"/>
              <a:chExt cx="2910960" cy="425520"/>
            </a:xfrm>
          </p:grpSpPr>
          <p:pic>
            <p:nvPicPr>
              <p:cNvPr id="228" name="Ellipse 256" descr=""/>
              <p:cNvPicPr/>
              <p:nvPr/>
            </p:nvPicPr>
            <p:blipFill>
              <a:blip r:embed="rId1">
                <a:lum bright="60000"/>
              </a:blip>
              <a:stretch/>
            </p:blipFill>
            <p:spPr>
              <a:xfrm>
                <a:off x="4813560" y="5588280"/>
                <a:ext cx="2910960" cy="425520"/>
              </a:xfrm>
              <a:prstGeom prst="rect">
                <a:avLst/>
              </a:prstGeom>
              <a:ln w="0">
                <a:noFill/>
              </a:ln>
            </p:spPr>
          </p:pic>
          <p:sp>
            <p:nvSpPr>
              <p:cNvPr id="229" name="Text Box 369"/>
              <p:cNvSpPr/>
              <p:nvPr/>
            </p:nvSpPr>
            <p:spPr>
              <a:xfrm>
                <a:off x="5244120" y="5652720"/>
                <a:ext cx="2047680" cy="297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fr-FR" sz="1200" spc="-1" strike="noStrike">
                  <a:solidFill>
                    <a:srgbClr val="ffffff"/>
                  </a:solidFill>
                  <a:latin typeface="Calibri"/>
                  <a:ea typeface="MS PGothic"/>
                </a:endParaRPr>
              </a:p>
            </p:txBody>
          </p:sp>
        </p:grpSp>
        <p:sp>
          <p:nvSpPr>
            <p:cNvPr id="230" name="Freeform 119"/>
            <p:cNvSpPr/>
            <p:nvPr/>
          </p:nvSpPr>
          <p:spPr>
            <a:xfrm rot="18900000">
              <a:off x="4840200" y="3485160"/>
              <a:ext cx="1483920" cy="1198440"/>
            </a:xfrm>
            <a:custGeom>
              <a:avLst/>
              <a:gdLst>
                <a:gd name="textAreaLeft" fmla="*/ 0 w 1483920"/>
                <a:gd name="textAreaRight" fmla="*/ 1484280 w 1483920"/>
                <a:gd name="textAreaTop" fmla="*/ 0 h 1198440"/>
                <a:gd name="textAreaBottom" fmla="*/ 1198800 h 1198440"/>
              </a:gdLst>
              <a:ahLst/>
              <a:rect l="textAreaLeft" t="textAreaTop" r="textAreaRight" b="textAreaBottom"/>
              <a:pathLst>
                <a:path w="10000" h="10000">
                  <a:moveTo>
                    <a:pt x="6789" y="0"/>
                  </a:moveTo>
                  <a:lnTo>
                    <a:pt x="6789" y="0"/>
                  </a:lnTo>
                  <a:lnTo>
                    <a:pt x="6789" y="0"/>
                  </a:lnTo>
                  <a:lnTo>
                    <a:pt x="0" y="0"/>
                  </a:lnTo>
                  <a:lnTo>
                    <a:pt x="0" y="9747"/>
                  </a:lnTo>
                  <a:lnTo>
                    <a:pt x="0" y="9747"/>
                  </a:lnTo>
                  <a:lnTo>
                    <a:pt x="0" y="9747"/>
                  </a:lnTo>
                  <a:lnTo>
                    <a:pt x="752" y="9861"/>
                  </a:lnTo>
                  <a:lnTo>
                    <a:pt x="1067" y="9886"/>
                  </a:lnTo>
                  <a:lnTo>
                    <a:pt x="1304" y="9899"/>
                  </a:lnTo>
                  <a:lnTo>
                    <a:pt x="1304" y="9899"/>
                  </a:lnTo>
                  <a:lnTo>
                    <a:pt x="1566" y="9924"/>
                  </a:lnTo>
                  <a:lnTo>
                    <a:pt x="1846" y="9962"/>
                  </a:lnTo>
                  <a:lnTo>
                    <a:pt x="1846" y="9962"/>
                  </a:lnTo>
                  <a:lnTo>
                    <a:pt x="2030" y="10000"/>
                  </a:lnTo>
                  <a:lnTo>
                    <a:pt x="2213" y="10000"/>
                  </a:lnTo>
                  <a:lnTo>
                    <a:pt x="2213" y="10000"/>
                  </a:lnTo>
                  <a:lnTo>
                    <a:pt x="2213" y="10000"/>
                  </a:lnTo>
                  <a:lnTo>
                    <a:pt x="2213" y="10000"/>
                  </a:lnTo>
                  <a:lnTo>
                    <a:pt x="2213" y="10000"/>
                  </a:lnTo>
                  <a:lnTo>
                    <a:pt x="2213" y="10000"/>
                  </a:lnTo>
                  <a:lnTo>
                    <a:pt x="2362" y="9975"/>
                  </a:lnTo>
                  <a:lnTo>
                    <a:pt x="2493" y="9949"/>
                  </a:lnTo>
                  <a:cubicBezTo>
                    <a:pt x="2514" y="9941"/>
                    <a:pt x="2534" y="9932"/>
                    <a:pt x="2555" y="9924"/>
                  </a:cubicBezTo>
                  <a:cubicBezTo>
                    <a:pt x="2572" y="9911"/>
                    <a:pt x="2590" y="9899"/>
                    <a:pt x="2607" y="9886"/>
                  </a:cubicBezTo>
                  <a:lnTo>
                    <a:pt x="2660" y="9836"/>
                  </a:lnTo>
                  <a:cubicBezTo>
                    <a:pt x="2672" y="9819"/>
                    <a:pt x="2683" y="9802"/>
                    <a:pt x="2695" y="9785"/>
                  </a:cubicBezTo>
                  <a:cubicBezTo>
                    <a:pt x="2707" y="9764"/>
                    <a:pt x="2718" y="9743"/>
                    <a:pt x="2730" y="9722"/>
                  </a:cubicBezTo>
                  <a:cubicBezTo>
                    <a:pt x="2739" y="9697"/>
                    <a:pt x="2747" y="9671"/>
                    <a:pt x="2756" y="9646"/>
                  </a:cubicBezTo>
                  <a:cubicBezTo>
                    <a:pt x="2762" y="9612"/>
                    <a:pt x="2767" y="9579"/>
                    <a:pt x="2773" y="9545"/>
                  </a:cubicBezTo>
                  <a:cubicBezTo>
                    <a:pt x="2779" y="9511"/>
                    <a:pt x="2785" y="9478"/>
                    <a:pt x="2791" y="9444"/>
                  </a:cubicBezTo>
                  <a:lnTo>
                    <a:pt x="2791" y="9318"/>
                  </a:lnTo>
                  <a:cubicBezTo>
                    <a:pt x="2785" y="9272"/>
                    <a:pt x="2779" y="9225"/>
                    <a:pt x="2773" y="9179"/>
                  </a:cubicBezTo>
                  <a:cubicBezTo>
                    <a:pt x="2767" y="9129"/>
                    <a:pt x="2762" y="9078"/>
                    <a:pt x="2756" y="9028"/>
                  </a:cubicBezTo>
                  <a:cubicBezTo>
                    <a:pt x="2744" y="8977"/>
                    <a:pt x="2733" y="8927"/>
                    <a:pt x="2721" y="8876"/>
                  </a:cubicBezTo>
                  <a:lnTo>
                    <a:pt x="2721" y="8876"/>
                  </a:lnTo>
                  <a:lnTo>
                    <a:pt x="2712" y="8864"/>
                  </a:lnTo>
                  <a:lnTo>
                    <a:pt x="2712" y="8864"/>
                  </a:lnTo>
                  <a:lnTo>
                    <a:pt x="2712" y="8851"/>
                  </a:lnTo>
                  <a:lnTo>
                    <a:pt x="2712" y="8851"/>
                  </a:lnTo>
                  <a:lnTo>
                    <a:pt x="2712" y="8851"/>
                  </a:lnTo>
                  <a:cubicBezTo>
                    <a:pt x="2671" y="8666"/>
                    <a:pt x="2631" y="8480"/>
                    <a:pt x="2590" y="8295"/>
                  </a:cubicBezTo>
                  <a:lnTo>
                    <a:pt x="2476" y="7841"/>
                  </a:lnTo>
                  <a:cubicBezTo>
                    <a:pt x="2458" y="7769"/>
                    <a:pt x="2441" y="7698"/>
                    <a:pt x="2423" y="7626"/>
                  </a:cubicBezTo>
                  <a:cubicBezTo>
                    <a:pt x="2414" y="7563"/>
                    <a:pt x="2406" y="7500"/>
                    <a:pt x="2397" y="7437"/>
                  </a:cubicBezTo>
                  <a:cubicBezTo>
                    <a:pt x="2388" y="7382"/>
                    <a:pt x="2380" y="7328"/>
                    <a:pt x="2371" y="7273"/>
                  </a:cubicBezTo>
                  <a:lnTo>
                    <a:pt x="2362" y="7096"/>
                  </a:lnTo>
                  <a:lnTo>
                    <a:pt x="2362" y="7096"/>
                  </a:lnTo>
                  <a:cubicBezTo>
                    <a:pt x="2365" y="7045"/>
                    <a:pt x="2368" y="6995"/>
                    <a:pt x="2371" y="6944"/>
                  </a:cubicBezTo>
                  <a:cubicBezTo>
                    <a:pt x="2383" y="6898"/>
                    <a:pt x="2394" y="6852"/>
                    <a:pt x="2406" y="6806"/>
                  </a:cubicBezTo>
                  <a:cubicBezTo>
                    <a:pt x="2412" y="6785"/>
                    <a:pt x="2417" y="6763"/>
                    <a:pt x="2423" y="6742"/>
                  </a:cubicBezTo>
                  <a:cubicBezTo>
                    <a:pt x="2435" y="6725"/>
                    <a:pt x="2446" y="6709"/>
                    <a:pt x="2458" y="6692"/>
                  </a:cubicBezTo>
                  <a:cubicBezTo>
                    <a:pt x="2481" y="6654"/>
                    <a:pt x="2505" y="6616"/>
                    <a:pt x="2528" y="6578"/>
                  </a:cubicBezTo>
                  <a:lnTo>
                    <a:pt x="2651" y="6477"/>
                  </a:lnTo>
                  <a:lnTo>
                    <a:pt x="2791" y="6376"/>
                  </a:lnTo>
                  <a:lnTo>
                    <a:pt x="3167" y="6225"/>
                  </a:lnTo>
                  <a:lnTo>
                    <a:pt x="3167" y="6225"/>
                  </a:lnTo>
                  <a:lnTo>
                    <a:pt x="3167" y="6225"/>
                  </a:lnTo>
                  <a:lnTo>
                    <a:pt x="3342" y="6162"/>
                  </a:lnTo>
                  <a:lnTo>
                    <a:pt x="3473" y="6136"/>
                  </a:lnTo>
                  <a:lnTo>
                    <a:pt x="3613" y="6124"/>
                  </a:lnTo>
                  <a:lnTo>
                    <a:pt x="3736" y="6124"/>
                  </a:lnTo>
                  <a:lnTo>
                    <a:pt x="3736" y="6124"/>
                  </a:lnTo>
                  <a:lnTo>
                    <a:pt x="3736" y="6124"/>
                  </a:lnTo>
                  <a:lnTo>
                    <a:pt x="3736" y="6124"/>
                  </a:lnTo>
                  <a:lnTo>
                    <a:pt x="3736" y="6124"/>
                  </a:lnTo>
                  <a:lnTo>
                    <a:pt x="3736" y="6124"/>
                  </a:lnTo>
                  <a:lnTo>
                    <a:pt x="3736" y="6124"/>
                  </a:lnTo>
                  <a:lnTo>
                    <a:pt x="3841" y="6124"/>
                  </a:lnTo>
                  <a:lnTo>
                    <a:pt x="3937" y="6136"/>
                  </a:lnTo>
                  <a:lnTo>
                    <a:pt x="4016" y="6187"/>
                  </a:lnTo>
                  <a:cubicBezTo>
                    <a:pt x="4039" y="6200"/>
                    <a:pt x="4063" y="6212"/>
                    <a:pt x="4086" y="6225"/>
                  </a:cubicBezTo>
                  <a:cubicBezTo>
                    <a:pt x="4106" y="6242"/>
                    <a:pt x="4127" y="6258"/>
                    <a:pt x="4147" y="6275"/>
                  </a:cubicBezTo>
                  <a:cubicBezTo>
                    <a:pt x="4162" y="6300"/>
                    <a:pt x="4176" y="6326"/>
                    <a:pt x="4191" y="6351"/>
                  </a:cubicBezTo>
                  <a:cubicBezTo>
                    <a:pt x="4200" y="6376"/>
                    <a:pt x="4208" y="6402"/>
                    <a:pt x="4217" y="6427"/>
                  </a:cubicBezTo>
                  <a:cubicBezTo>
                    <a:pt x="4229" y="6456"/>
                    <a:pt x="4240" y="6486"/>
                    <a:pt x="4252" y="6515"/>
                  </a:cubicBezTo>
                  <a:cubicBezTo>
                    <a:pt x="4255" y="6549"/>
                    <a:pt x="4258" y="6582"/>
                    <a:pt x="4261" y="6616"/>
                  </a:cubicBezTo>
                  <a:cubicBezTo>
                    <a:pt x="4264" y="6650"/>
                    <a:pt x="4266" y="6683"/>
                    <a:pt x="4269" y="6717"/>
                  </a:cubicBezTo>
                  <a:lnTo>
                    <a:pt x="4269" y="6843"/>
                  </a:lnTo>
                  <a:cubicBezTo>
                    <a:pt x="4266" y="6881"/>
                    <a:pt x="4264" y="6919"/>
                    <a:pt x="4261" y="6957"/>
                  </a:cubicBezTo>
                  <a:cubicBezTo>
                    <a:pt x="4246" y="7050"/>
                    <a:pt x="4232" y="7142"/>
                    <a:pt x="4217" y="7235"/>
                  </a:cubicBezTo>
                  <a:cubicBezTo>
                    <a:pt x="4199" y="7340"/>
                    <a:pt x="4182" y="7446"/>
                    <a:pt x="4164" y="7551"/>
                  </a:cubicBezTo>
                  <a:lnTo>
                    <a:pt x="4164" y="7551"/>
                  </a:lnTo>
                  <a:cubicBezTo>
                    <a:pt x="4132" y="7702"/>
                    <a:pt x="4100" y="7854"/>
                    <a:pt x="4068" y="8005"/>
                  </a:cubicBezTo>
                  <a:cubicBezTo>
                    <a:pt x="4062" y="8072"/>
                    <a:pt x="4057" y="8140"/>
                    <a:pt x="4051" y="8207"/>
                  </a:cubicBezTo>
                  <a:cubicBezTo>
                    <a:pt x="4042" y="8279"/>
                    <a:pt x="4033" y="8350"/>
                    <a:pt x="4024" y="8422"/>
                  </a:cubicBezTo>
                  <a:cubicBezTo>
                    <a:pt x="4021" y="8485"/>
                    <a:pt x="4019" y="8548"/>
                    <a:pt x="4016" y="8611"/>
                  </a:cubicBezTo>
                  <a:lnTo>
                    <a:pt x="4016" y="8813"/>
                  </a:lnTo>
                  <a:cubicBezTo>
                    <a:pt x="4019" y="8876"/>
                    <a:pt x="4021" y="8940"/>
                    <a:pt x="4024" y="9003"/>
                  </a:cubicBezTo>
                  <a:cubicBezTo>
                    <a:pt x="4033" y="9062"/>
                    <a:pt x="4042" y="9120"/>
                    <a:pt x="4051" y="9179"/>
                  </a:cubicBezTo>
                  <a:cubicBezTo>
                    <a:pt x="4063" y="9238"/>
                    <a:pt x="4074" y="9297"/>
                    <a:pt x="4086" y="9356"/>
                  </a:cubicBezTo>
                  <a:cubicBezTo>
                    <a:pt x="4098" y="9407"/>
                    <a:pt x="4109" y="9457"/>
                    <a:pt x="4121" y="9508"/>
                  </a:cubicBezTo>
                  <a:cubicBezTo>
                    <a:pt x="4144" y="9554"/>
                    <a:pt x="4168" y="9600"/>
                    <a:pt x="4191" y="9646"/>
                  </a:cubicBezTo>
                  <a:lnTo>
                    <a:pt x="4269" y="9760"/>
                  </a:lnTo>
                  <a:cubicBezTo>
                    <a:pt x="4301" y="9794"/>
                    <a:pt x="4334" y="9827"/>
                    <a:pt x="4366" y="9861"/>
                  </a:cubicBezTo>
                  <a:lnTo>
                    <a:pt x="4471" y="9937"/>
                  </a:lnTo>
                  <a:lnTo>
                    <a:pt x="4611" y="9975"/>
                  </a:lnTo>
                  <a:lnTo>
                    <a:pt x="4759" y="10000"/>
                  </a:lnTo>
                  <a:lnTo>
                    <a:pt x="4759" y="10000"/>
                  </a:lnTo>
                  <a:lnTo>
                    <a:pt x="4759" y="10000"/>
                  </a:lnTo>
                  <a:lnTo>
                    <a:pt x="4759" y="10000"/>
                  </a:lnTo>
                  <a:lnTo>
                    <a:pt x="4759" y="10000"/>
                  </a:lnTo>
                  <a:lnTo>
                    <a:pt x="4821" y="10000"/>
                  </a:lnTo>
                  <a:lnTo>
                    <a:pt x="4821" y="10000"/>
                  </a:lnTo>
                  <a:lnTo>
                    <a:pt x="5136" y="9962"/>
                  </a:lnTo>
                  <a:lnTo>
                    <a:pt x="5468" y="9924"/>
                  </a:lnTo>
                  <a:lnTo>
                    <a:pt x="6203" y="9798"/>
                  </a:lnTo>
                  <a:lnTo>
                    <a:pt x="6982" y="9672"/>
                  </a:lnTo>
                  <a:lnTo>
                    <a:pt x="7358" y="9621"/>
                  </a:lnTo>
                  <a:lnTo>
                    <a:pt x="7734" y="9583"/>
                  </a:lnTo>
                  <a:lnTo>
                    <a:pt x="7734" y="9583"/>
                  </a:lnTo>
                  <a:lnTo>
                    <a:pt x="7725" y="9508"/>
                  </a:lnTo>
                  <a:lnTo>
                    <a:pt x="7725" y="9508"/>
                  </a:lnTo>
                  <a:lnTo>
                    <a:pt x="7725" y="9508"/>
                  </a:lnTo>
                  <a:lnTo>
                    <a:pt x="7725" y="9508"/>
                  </a:lnTo>
                  <a:lnTo>
                    <a:pt x="7725" y="9508"/>
                  </a:lnTo>
                  <a:cubicBezTo>
                    <a:pt x="7716" y="9474"/>
                    <a:pt x="7708" y="9441"/>
                    <a:pt x="7699" y="9407"/>
                  </a:cubicBezTo>
                  <a:lnTo>
                    <a:pt x="7699" y="9407"/>
                  </a:lnTo>
                  <a:lnTo>
                    <a:pt x="7699" y="9381"/>
                  </a:lnTo>
                  <a:lnTo>
                    <a:pt x="7699" y="9381"/>
                  </a:lnTo>
                  <a:cubicBezTo>
                    <a:pt x="7658" y="9137"/>
                    <a:pt x="7618" y="8893"/>
                    <a:pt x="7577" y="8649"/>
                  </a:cubicBezTo>
                  <a:lnTo>
                    <a:pt x="7463" y="7967"/>
                  </a:lnTo>
                  <a:cubicBezTo>
                    <a:pt x="7440" y="7765"/>
                    <a:pt x="7416" y="7563"/>
                    <a:pt x="7393" y="7361"/>
                  </a:cubicBezTo>
                  <a:cubicBezTo>
                    <a:pt x="7373" y="7176"/>
                    <a:pt x="7352" y="6991"/>
                    <a:pt x="7332" y="6806"/>
                  </a:cubicBezTo>
                  <a:cubicBezTo>
                    <a:pt x="7317" y="6642"/>
                    <a:pt x="7303" y="6477"/>
                    <a:pt x="7288" y="6313"/>
                  </a:cubicBezTo>
                  <a:cubicBezTo>
                    <a:pt x="7279" y="6166"/>
                    <a:pt x="7271" y="6018"/>
                    <a:pt x="7262" y="5871"/>
                  </a:cubicBezTo>
                  <a:cubicBezTo>
                    <a:pt x="7259" y="5741"/>
                    <a:pt x="7256" y="5610"/>
                    <a:pt x="7253" y="5480"/>
                  </a:cubicBezTo>
                  <a:cubicBezTo>
                    <a:pt x="7262" y="5366"/>
                    <a:pt x="7270" y="5253"/>
                    <a:pt x="7279" y="5139"/>
                  </a:cubicBezTo>
                  <a:lnTo>
                    <a:pt x="7297" y="4836"/>
                  </a:lnTo>
                  <a:cubicBezTo>
                    <a:pt x="7311" y="4752"/>
                    <a:pt x="7326" y="4667"/>
                    <a:pt x="7340" y="4583"/>
                  </a:cubicBezTo>
                  <a:cubicBezTo>
                    <a:pt x="7361" y="4520"/>
                    <a:pt x="7381" y="4457"/>
                    <a:pt x="7402" y="4394"/>
                  </a:cubicBezTo>
                  <a:cubicBezTo>
                    <a:pt x="7414" y="4360"/>
                    <a:pt x="7425" y="4327"/>
                    <a:pt x="7437" y="4293"/>
                  </a:cubicBezTo>
                  <a:cubicBezTo>
                    <a:pt x="7446" y="4268"/>
                    <a:pt x="7454" y="4242"/>
                    <a:pt x="7463" y="4217"/>
                  </a:cubicBezTo>
                  <a:cubicBezTo>
                    <a:pt x="7478" y="4196"/>
                    <a:pt x="7492" y="4175"/>
                    <a:pt x="7507" y="4154"/>
                  </a:cubicBezTo>
                  <a:cubicBezTo>
                    <a:pt x="7521" y="4137"/>
                    <a:pt x="7536" y="4121"/>
                    <a:pt x="7550" y="4104"/>
                  </a:cubicBezTo>
                  <a:cubicBezTo>
                    <a:pt x="7565" y="4087"/>
                    <a:pt x="7579" y="4070"/>
                    <a:pt x="7594" y="4053"/>
                  </a:cubicBezTo>
                  <a:lnTo>
                    <a:pt x="7647" y="4003"/>
                  </a:lnTo>
                  <a:cubicBezTo>
                    <a:pt x="7664" y="3999"/>
                    <a:pt x="7682" y="3994"/>
                    <a:pt x="7699" y="3990"/>
                  </a:cubicBezTo>
                  <a:cubicBezTo>
                    <a:pt x="7717" y="3982"/>
                    <a:pt x="7734" y="3973"/>
                    <a:pt x="7752" y="3965"/>
                  </a:cubicBezTo>
                  <a:lnTo>
                    <a:pt x="7857" y="3939"/>
                  </a:lnTo>
                  <a:lnTo>
                    <a:pt x="7857" y="3939"/>
                  </a:lnTo>
                  <a:lnTo>
                    <a:pt x="7857" y="3939"/>
                  </a:lnTo>
                  <a:lnTo>
                    <a:pt x="7857" y="3939"/>
                  </a:lnTo>
                  <a:lnTo>
                    <a:pt x="7857" y="3939"/>
                  </a:lnTo>
                  <a:lnTo>
                    <a:pt x="7857" y="3939"/>
                  </a:lnTo>
                  <a:lnTo>
                    <a:pt x="7857" y="3939"/>
                  </a:lnTo>
                  <a:lnTo>
                    <a:pt x="7857" y="3939"/>
                  </a:lnTo>
                  <a:lnTo>
                    <a:pt x="7927" y="3939"/>
                  </a:lnTo>
                  <a:cubicBezTo>
                    <a:pt x="7950" y="3948"/>
                    <a:pt x="7974" y="3956"/>
                    <a:pt x="7997" y="3965"/>
                  </a:cubicBezTo>
                  <a:lnTo>
                    <a:pt x="8136" y="4028"/>
                  </a:lnTo>
                  <a:lnTo>
                    <a:pt x="8294" y="4116"/>
                  </a:lnTo>
                  <a:lnTo>
                    <a:pt x="8443" y="4242"/>
                  </a:lnTo>
                  <a:lnTo>
                    <a:pt x="8443" y="4242"/>
                  </a:lnTo>
                  <a:lnTo>
                    <a:pt x="8451" y="4242"/>
                  </a:lnTo>
                  <a:lnTo>
                    <a:pt x="8451" y="4242"/>
                  </a:lnTo>
                  <a:lnTo>
                    <a:pt x="8836" y="4545"/>
                  </a:lnTo>
                  <a:lnTo>
                    <a:pt x="8976" y="4646"/>
                  </a:lnTo>
                  <a:lnTo>
                    <a:pt x="9099" y="4722"/>
                  </a:lnTo>
                  <a:lnTo>
                    <a:pt x="9204" y="4785"/>
                  </a:lnTo>
                  <a:cubicBezTo>
                    <a:pt x="9236" y="4798"/>
                    <a:pt x="9268" y="4810"/>
                    <a:pt x="9300" y="4823"/>
                  </a:cubicBezTo>
                  <a:lnTo>
                    <a:pt x="9388" y="4848"/>
                  </a:lnTo>
                  <a:lnTo>
                    <a:pt x="9466" y="4848"/>
                  </a:lnTo>
                  <a:lnTo>
                    <a:pt x="9466" y="4848"/>
                  </a:lnTo>
                  <a:lnTo>
                    <a:pt x="9484" y="4848"/>
                  </a:lnTo>
                  <a:lnTo>
                    <a:pt x="9484" y="4848"/>
                  </a:lnTo>
                  <a:lnTo>
                    <a:pt x="9484" y="4848"/>
                  </a:lnTo>
                  <a:lnTo>
                    <a:pt x="9484" y="4848"/>
                  </a:lnTo>
                  <a:lnTo>
                    <a:pt x="9580" y="4836"/>
                  </a:lnTo>
                  <a:cubicBezTo>
                    <a:pt x="9609" y="4823"/>
                    <a:pt x="9639" y="4811"/>
                    <a:pt x="9668" y="4798"/>
                  </a:cubicBezTo>
                  <a:cubicBezTo>
                    <a:pt x="9691" y="4781"/>
                    <a:pt x="9715" y="4764"/>
                    <a:pt x="9738" y="4747"/>
                  </a:cubicBezTo>
                  <a:lnTo>
                    <a:pt x="9799" y="4659"/>
                  </a:lnTo>
                  <a:lnTo>
                    <a:pt x="9799" y="4659"/>
                  </a:lnTo>
                  <a:lnTo>
                    <a:pt x="9799" y="4659"/>
                  </a:lnTo>
                  <a:lnTo>
                    <a:pt x="9799" y="4659"/>
                  </a:lnTo>
                  <a:lnTo>
                    <a:pt x="9799" y="4659"/>
                  </a:lnTo>
                  <a:lnTo>
                    <a:pt x="9799" y="4659"/>
                  </a:lnTo>
                  <a:lnTo>
                    <a:pt x="9816" y="4659"/>
                  </a:lnTo>
                  <a:lnTo>
                    <a:pt x="9816" y="4659"/>
                  </a:lnTo>
                  <a:lnTo>
                    <a:pt x="9816" y="4659"/>
                  </a:lnTo>
                  <a:lnTo>
                    <a:pt x="9816" y="4659"/>
                  </a:lnTo>
                  <a:lnTo>
                    <a:pt x="9816" y="4646"/>
                  </a:lnTo>
                  <a:lnTo>
                    <a:pt x="9816" y="4646"/>
                  </a:lnTo>
                  <a:lnTo>
                    <a:pt x="9816" y="4646"/>
                  </a:lnTo>
                  <a:lnTo>
                    <a:pt x="9816" y="4646"/>
                  </a:lnTo>
                  <a:lnTo>
                    <a:pt x="9816" y="4646"/>
                  </a:lnTo>
                  <a:lnTo>
                    <a:pt x="9816" y="4646"/>
                  </a:lnTo>
                  <a:lnTo>
                    <a:pt x="9816" y="4646"/>
                  </a:lnTo>
                  <a:lnTo>
                    <a:pt x="9816" y="4646"/>
                  </a:lnTo>
                  <a:lnTo>
                    <a:pt x="9816" y="4646"/>
                  </a:lnTo>
                  <a:lnTo>
                    <a:pt x="9816" y="4646"/>
                  </a:lnTo>
                  <a:lnTo>
                    <a:pt x="9843" y="4583"/>
                  </a:lnTo>
                  <a:cubicBezTo>
                    <a:pt x="9857" y="4554"/>
                    <a:pt x="9872" y="4524"/>
                    <a:pt x="9886" y="4495"/>
                  </a:cubicBezTo>
                  <a:cubicBezTo>
                    <a:pt x="9898" y="4453"/>
                    <a:pt x="9909" y="4411"/>
                    <a:pt x="9921" y="4369"/>
                  </a:cubicBezTo>
                  <a:cubicBezTo>
                    <a:pt x="9930" y="4318"/>
                    <a:pt x="9939" y="4268"/>
                    <a:pt x="9948" y="4217"/>
                  </a:cubicBezTo>
                  <a:cubicBezTo>
                    <a:pt x="9960" y="4158"/>
                    <a:pt x="9971" y="4099"/>
                    <a:pt x="9983" y="4040"/>
                  </a:cubicBezTo>
                  <a:cubicBezTo>
                    <a:pt x="9989" y="3977"/>
                    <a:pt x="9994" y="3914"/>
                    <a:pt x="10000" y="3851"/>
                  </a:cubicBezTo>
                  <a:lnTo>
                    <a:pt x="10000" y="3649"/>
                  </a:lnTo>
                  <a:lnTo>
                    <a:pt x="10000" y="3460"/>
                  </a:lnTo>
                  <a:cubicBezTo>
                    <a:pt x="9994" y="3393"/>
                    <a:pt x="9989" y="3325"/>
                    <a:pt x="9983" y="3258"/>
                  </a:cubicBezTo>
                  <a:cubicBezTo>
                    <a:pt x="9968" y="3195"/>
                    <a:pt x="9954" y="3131"/>
                    <a:pt x="9939" y="3068"/>
                  </a:cubicBezTo>
                  <a:cubicBezTo>
                    <a:pt x="9921" y="3013"/>
                    <a:pt x="9904" y="2959"/>
                    <a:pt x="9886" y="2904"/>
                  </a:cubicBezTo>
                  <a:cubicBezTo>
                    <a:pt x="9872" y="2875"/>
                    <a:pt x="9857" y="2845"/>
                    <a:pt x="9843" y="2816"/>
                  </a:cubicBezTo>
                  <a:cubicBezTo>
                    <a:pt x="9828" y="2795"/>
                    <a:pt x="9814" y="2774"/>
                    <a:pt x="9799" y="2753"/>
                  </a:cubicBezTo>
                  <a:cubicBezTo>
                    <a:pt x="9784" y="2728"/>
                    <a:pt x="9770" y="2702"/>
                    <a:pt x="9755" y="2677"/>
                  </a:cubicBezTo>
                  <a:cubicBezTo>
                    <a:pt x="9735" y="2656"/>
                    <a:pt x="9714" y="2635"/>
                    <a:pt x="9694" y="2614"/>
                  </a:cubicBezTo>
                  <a:cubicBezTo>
                    <a:pt x="9674" y="2593"/>
                    <a:pt x="9653" y="2572"/>
                    <a:pt x="9633" y="2551"/>
                  </a:cubicBezTo>
                  <a:cubicBezTo>
                    <a:pt x="9612" y="2534"/>
                    <a:pt x="9592" y="2517"/>
                    <a:pt x="9571" y="2500"/>
                  </a:cubicBezTo>
                  <a:cubicBezTo>
                    <a:pt x="9542" y="2492"/>
                    <a:pt x="9513" y="2483"/>
                    <a:pt x="9484" y="2475"/>
                  </a:cubicBezTo>
                  <a:cubicBezTo>
                    <a:pt x="9455" y="2466"/>
                    <a:pt x="9425" y="2458"/>
                    <a:pt x="9396" y="2449"/>
                  </a:cubicBezTo>
                  <a:cubicBezTo>
                    <a:pt x="9364" y="2441"/>
                    <a:pt x="9332" y="2432"/>
                    <a:pt x="9300" y="2424"/>
                  </a:cubicBezTo>
                  <a:lnTo>
                    <a:pt x="9195" y="2424"/>
                  </a:lnTo>
                  <a:lnTo>
                    <a:pt x="9195" y="2424"/>
                  </a:lnTo>
                  <a:lnTo>
                    <a:pt x="9195" y="2424"/>
                  </a:lnTo>
                  <a:lnTo>
                    <a:pt x="9195" y="2424"/>
                  </a:lnTo>
                  <a:lnTo>
                    <a:pt x="9195" y="2424"/>
                  </a:lnTo>
                  <a:lnTo>
                    <a:pt x="9195" y="2424"/>
                  </a:lnTo>
                  <a:lnTo>
                    <a:pt x="9081" y="2424"/>
                  </a:lnTo>
                  <a:lnTo>
                    <a:pt x="8941" y="2462"/>
                  </a:lnTo>
                  <a:lnTo>
                    <a:pt x="8801" y="2487"/>
                  </a:lnTo>
                  <a:lnTo>
                    <a:pt x="8644" y="2551"/>
                  </a:lnTo>
                  <a:lnTo>
                    <a:pt x="8644" y="2551"/>
                  </a:lnTo>
                  <a:lnTo>
                    <a:pt x="8635" y="2551"/>
                  </a:lnTo>
                  <a:lnTo>
                    <a:pt x="8635" y="2551"/>
                  </a:lnTo>
                  <a:lnTo>
                    <a:pt x="8626" y="2551"/>
                  </a:lnTo>
                  <a:lnTo>
                    <a:pt x="8626" y="2551"/>
                  </a:lnTo>
                  <a:lnTo>
                    <a:pt x="8443" y="2614"/>
                  </a:lnTo>
                  <a:lnTo>
                    <a:pt x="8276" y="2664"/>
                  </a:lnTo>
                  <a:lnTo>
                    <a:pt x="8110" y="2689"/>
                  </a:lnTo>
                  <a:lnTo>
                    <a:pt x="7979" y="2689"/>
                  </a:lnTo>
                  <a:lnTo>
                    <a:pt x="7979" y="2689"/>
                  </a:lnTo>
                  <a:lnTo>
                    <a:pt x="7979" y="2689"/>
                  </a:lnTo>
                  <a:lnTo>
                    <a:pt x="7979" y="2689"/>
                  </a:lnTo>
                  <a:lnTo>
                    <a:pt x="7979" y="2689"/>
                  </a:lnTo>
                  <a:lnTo>
                    <a:pt x="7979" y="2689"/>
                  </a:lnTo>
                  <a:lnTo>
                    <a:pt x="7979" y="2689"/>
                  </a:lnTo>
                  <a:lnTo>
                    <a:pt x="7979" y="2689"/>
                  </a:lnTo>
                  <a:lnTo>
                    <a:pt x="7848" y="2689"/>
                  </a:lnTo>
                  <a:lnTo>
                    <a:pt x="7743" y="2677"/>
                  </a:lnTo>
                  <a:lnTo>
                    <a:pt x="7638" y="2626"/>
                  </a:lnTo>
                  <a:cubicBezTo>
                    <a:pt x="7606" y="2618"/>
                    <a:pt x="7574" y="2609"/>
                    <a:pt x="7542" y="2601"/>
                  </a:cubicBezTo>
                  <a:lnTo>
                    <a:pt x="7454" y="2538"/>
                  </a:lnTo>
                  <a:cubicBezTo>
                    <a:pt x="7428" y="2517"/>
                    <a:pt x="7401" y="2496"/>
                    <a:pt x="7375" y="2475"/>
                  </a:cubicBezTo>
                  <a:cubicBezTo>
                    <a:pt x="7349" y="2450"/>
                    <a:pt x="7323" y="2424"/>
                    <a:pt x="7297" y="2399"/>
                  </a:cubicBezTo>
                  <a:cubicBezTo>
                    <a:pt x="7276" y="2374"/>
                    <a:pt x="7256" y="2348"/>
                    <a:pt x="7235" y="2323"/>
                  </a:cubicBezTo>
                  <a:lnTo>
                    <a:pt x="7174" y="2235"/>
                  </a:lnTo>
                  <a:cubicBezTo>
                    <a:pt x="7154" y="2201"/>
                    <a:pt x="7133" y="2168"/>
                    <a:pt x="7113" y="2134"/>
                  </a:cubicBezTo>
                  <a:lnTo>
                    <a:pt x="7008" y="1944"/>
                  </a:lnTo>
                  <a:cubicBezTo>
                    <a:pt x="6982" y="1873"/>
                    <a:pt x="6955" y="1801"/>
                    <a:pt x="6929" y="1730"/>
                  </a:cubicBezTo>
                  <a:cubicBezTo>
                    <a:pt x="6903" y="1658"/>
                    <a:pt x="6876" y="1587"/>
                    <a:pt x="6850" y="1515"/>
                  </a:cubicBezTo>
                  <a:lnTo>
                    <a:pt x="6850" y="1515"/>
                  </a:lnTo>
                  <a:cubicBezTo>
                    <a:pt x="6847" y="1507"/>
                    <a:pt x="6845" y="1498"/>
                    <a:pt x="6842" y="1490"/>
                  </a:cubicBezTo>
                  <a:lnTo>
                    <a:pt x="6842" y="1490"/>
                  </a:lnTo>
                  <a:lnTo>
                    <a:pt x="6842" y="1477"/>
                  </a:lnTo>
                  <a:lnTo>
                    <a:pt x="6842" y="1477"/>
                  </a:lnTo>
                  <a:lnTo>
                    <a:pt x="6842" y="1477"/>
                  </a:lnTo>
                  <a:cubicBezTo>
                    <a:pt x="6827" y="1431"/>
                    <a:pt x="6813" y="1384"/>
                    <a:pt x="6798" y="1338"/>
                  </a:cubicBezTo>
                  <a:cubicBezTo>
                    <a:pt x="6792" y="1279"/>
                    <a:pt x="6786" y="1221"/>
                    <a:pt x="6780" y="1162"/>
                  </a:cubicBezTo>
                  <a:cubicBezTo>
                    <a:pt x="6771" y="1090"/>
                    <a:pt x="6763" y="1019"/>
                    <a:pt x="6754" y="947"/>
                  </a:cubicBezTo>
                  <a:lnTo>
                    <a:pt x="6754" y="720"/>
                  </a:lnTo>
                  <a:lnTo>
                    <a:pt x="6754" y="720"/>
                  </a:lnTo>
                  <a:lnTo>
                    <a:pt x="6763" y="366"/>
                  </a:lnTo>
                  <a:cubicBezTo>
                    <a:pt x="6772" y="244"/>
                    <a:pt x="6780" y="122"/>
                    <a:pt x="6789" y="0"/>
                  </a:cubicBezTo>
                  <a:close/>
                </a:path>
              </a:pathLst>
            </a:custGeom>
            <a:solidFill>
              <a:schemeClr val="accent6"/>
            </a:solidFill>
            <a:ln w="0">
              <a:noFill/>
            </a:ln>
            <a:scene3d>
              <a:camera prst="orthographicFront">
                <a:rot lat="0" lon="0" rev="0"/>
              </a:camera>
              <a:lightRig dir="t" rig="soft">
                <a:rot lat="0" lon="0" rev="0"/>
              </a:lightRig>
            </a:scene3d>
            <a:sp3d contourW="44450" prstMaterial="matte">
              <a:bevelT prst="artDeco" w="63500" h="63500"/>
              <a:contourClr>
                <a:srgbClr val="ffffff"/>
              </a:contourClr>
            </a:sp3d>
          </p:spPr>
          <p:style>
            <a:lnRef idx="0"/>
            <a:fillRef idx="0"/>
            <a:effectRef idx="0"/>
            <a:fontRef idx="minor"/>
          </p:style>
          <p:txBody>
            <a:bodyPr numCol="1" spcCol="0" anchor="t">
              <a:noAutofit/>
            </a:bodyPr>
            <a:p>
              <a:pPr>
                <a:lnSpc>
                  <a:spcPct val="100000"/>
                </a:lnSpc>
              </a:pPr>
              <a:endParaRPr b="0" lang="fr-FR" sz="1200" spc="-1" strike="noStrike">
                <a:solidFill>
                  <a:srgbClr val="344246"/>
                </a:solidFill>
                <a:latin typeface="Calibri"/>
              </a:endParaRPr>
            </a:p>
          </p:txBody>
        </p:sp>
        <p:sp>
          <p:nvSpPr>
            <p:cNvPr id="231" name="Freeform 117"/>
            <p:cNvSpPr/>
            <p:nvPr/>
          </p:nvSpPr>
          <p:spPr>
            <a:xfrm rot="18900000">
              <a:off x="5730840" y="2781000"/>
              <a:ext cx="1289160" cy="1628280"/>
            </a:xfrm>
            <a:custGeom>
              <a:avLst/>
              <a:gdLst>
                <a:gd name="textAreaLeft" fmla="*/ 0 w 1289160"/>
                <a:gd name="textAreaRight" fmla="*/ 1289520 w 1289160"/>
                <a:gd name="textAreaTop" fmla="*/ 0 h 1628280"/>
                <a:gd name="textAreaBottom" fmla="*/ 1628640 h 1628280"/>
              </a:gdLst>
              <a:ahLst/>
              <a:rect l="textAreaLeft" t="textAreaTop" r="textAreaRight" b="textAreaBottom"/>
              <a:pathLst>
                <a:path w="10000" h="10000">
                  <a:moveTo>
                    <a:pt x="10000" y="0"/>
                  </a:moveTo>
                  <a:lnTo>
                    <a:pt x="40" y="0"/>
                  </a:lnTo>
                  <a:lnTo>
                    <a:pt x="40" y="0"/>
                  </a:lnTo>
                  <a:lnTo>
                    <a:pt x="10" y="270"/>
                  </a:lnTo>
                  <a:cubicBezTo>
                    <a:pt x="7" y="357"/>
                    <a:pt x="3" y="443"/>
                    <a:pt x="0" y="530"/>
                  </a:cubicBezTo>
                  <a:lnTo>
                    <a:pt x="0" y="530"/>
                  </a:lnTo>
                  <a:lnTo>
                    <a:pt x="0" y="698"/>
                  </a:lnTo>
                  <a:cubicBezTo>
                    <a:pt x="10" y="751"/>
                    <a:pt x="20" y="803"/>
                    <a:pt x="30" y="856"/>
                  </a:cubicBezTo>
                  <a:cubicBezTo>
                    <a:pt x="37" y="899"/>
                    <a:pt x="43" y="943"/>
                    <a:pt x="50" y="986"/>
                  </a:cubicBezTo>
                  <a:lnTo>
                    <a:pt x="101" y="1088"/>
                  </a:lnTo>
                  <a:lnTo>
                    <a:pt x="101" y="1088"/>
                  </a:lnTo>
                  <a:lnTo>
                    <a:pt x="101" y="1088"/>
                  </a:lnTo>
                  <a:lnTo>
                    <a:pt x="101" y="1098"/>
                  </a:lnTo>
                  <a:lnTo>
                    <a:pt x="101" y="1098"/>
                  </a:lnTo>
                  <a:cubicBezTo>
                    <a:pt x="104" y="1104"/>
                    <a:pt x="108" y="1110"/>
                    <a:pt x="111" y="1116"/>
                  </a:cubicBezTo>
                  <a:lnTo>
                    <a:pt x="111" y="1116"/>
                  </a:lnTo>
                  <a:cubicBezTo>
                    <a:pt x="141" y="1169"/>
                    <a:pt x="171" y="1221"/>
                    <a:pt x="201" y="1274"/>
                  </a:cubicBezTo>
                  <a:lnTo>
                    <a:pt x="291" y="1433"/>
                  </a:lnTo>
                  <a:lnTo>
                    <a:pt x="412" y="1572"/>
                  </a:lnTo>
                  <a:cubicBezTo>
                    <a:pt x="435" y="1597"/>
                    <a:pt x="459" y="1622"/>
                    <a:pt x="482" y="1647"/>
                  </a:cubicBezTo>
                  <a:lnTo>
                    <a:pt x="553" y="1712"/>
                  </a:lnTo>
                  <a:lnTo>
                    <a:pt x="623" y="1767"/>
                  </a:lnTo>
                  <a:cubicBezTo>
                    <a:pt x="653" y="1786"/>
                    <a:pt x="684" y="1804"/>
                    <a:pt x="714" y="1823"/>
                  </a:cubicBezTo>
                  <a:cubicBezTo>
                    <a:pt x="744" y="1839"/>
                    <a:pt x="774" y="1854"/>
                    <a:pt x="804" y="1870"/>
                  </a:cubicBezTo>
                  <a:cubicBezTo>
                    <a:pt x="838" y="1885"/>
                    <a:pt x="871" y="1901"/>
                    <a:pt x="905" y="1916"/>
                  </a:cubicBezTo>
                  <a:cubicBezTo>
                    <a:pt x="942" y="1922"/>
                    <a:pt x="978" y="1929"/>
                    <a:pt x="1015" y="1935"/>
                  </a:cubicBezTo>
                  <a:lnTo>
                    <a:pt x="1136" y="1972"/>
                  </a:lnTo>
                  <a:lnTo>
                    <a:pt x="1256" y="1981"/>
                  </a:lnTo>
                  <a:lnTo>
                    <a:pt x="1407" y="1981"/>
                  </a:lnTo>
                  <a:lnTo>
                    <a:pt x="1407" y="1981"/>
                  </a:lnTo>
                  <a:lnTo>
                    <a:pt x="1407" y="1981"/>
                  </a:lnTo>
                  <a:lnTo>
                    <a:pt x="1407" y="1981"/>
                  </a:lnTo>
                  <a:lnTo>
                    <a:pt x="1407" y="1981"/>
                  </a:lnTo>
                  <a:lnTo>
                    <a:pt x="1407" y="1981"/>
                  </a:lnTo>
                  <a:lnTo>
                    <a:pt x="1558" y="1981"/>
                  </a:lnTo>
                  <a:lnTo>
                    <a:pt x="1749" y="1963"/>
                  </a:lnTo>
                  <a:lnTo>
                    <a:pt x="1940" y="1926"/>
                  </a:lnTo>
                  <a:lnTo>
                    <a:pt x="2151" y="1879"/>
                  </a:lnTo>
                  <a:lnTo>
                    <a:pt x="2151" y="1879"/>
                  </a:lnTo>
                  <a:lnTo>
                    <a:pt x="2161" y="1879"/>
                  </a:lnTo>
                  <a:lnTo>
                    <a:pt x="2161" y="1879"/>
                  </a:lnTo>
                  <a:lnTo>
                    <a:pt x="2171" y="1879"/>
                  </a:lnTo>
                  <a:lnTo>
                    <a:pt x="2171" y="1879"/>
                  </a:lnTo>
                  <a:lnTo>
                    <a:pt x="2352" y="1833"/>
                  </a:lnTo>
                  <a:lnTo>
                    <a:pt x="2513" y="1814"/>
                  </a:lnTo>
                  <a:lnTo>
                    <a:pt x="2673" y="1786"/>
                  </a:lnTo>
                  <a:lnTo>
                    <a:pt x="2804" y="1786"/>
                  </a:lnTo>
                  <a:lnTo>
                    <a:pt x="2804" y="1786"/>
                  </a:lnTo>
                  <a:lnTo>
                    <a:pt x="2804" y="1786"/>
                  </a:lnTo>
                  <a:lnTo>
                    <a:pt x="2804" y="1786"/>
                  </a:lnTo>
                  <a:lnTo>
                    <a:pt x="2804" y="1786"/>
                  </a:lnTo>
                  <a:lnTo>
                    <a:pt x="2804" y="1786"/>
                  </a:lnTo>
                  <a:lnTo>
                    <a:pt x="2804" y="1786"/>
                  </a:lnTo>
                  <a:lnTo>
                    <a:pt x="2804" y="1786"/>
                  </a:lnTo>
                  <a:lnTo>
                    <a:pt x="2925" y="1786"/>
                  </a:lnTo>
                  <a:cubicBezTo>
                    <a:pt x="2962" y="1792"/>
                    <a:pt x="2998" y="1799"/>
                    <a:pt x="3035" y="1805"/>
                  </a:cubicBezTo>
                  <a:lnTo>
                    <a:pt x="3136" y="1823"/>
                  </a:lnTo>
                  <a:lnTo>
                    <a:pt x="3236" y="1842"/>
                  </a:lnTo>
                  <a:cubicBezTo>
                    <a:pt x="3260" y="1854"/>
                    <a:pt x="3283" y="1867"/>
                    <a:pt x="3307" y="1879"/>
                  </a:cubicBezTo>
                  <a:cubicBezTo>
                    <a:pt x="3330" y="1895"/>
                    <a:pt x="3354" y="1910"/>
                    <a:pt x="3377" y="1926"/>
                  </a:cubicBezTo>
                  <a:lnTo>
                    <a:pt x="3447" y="1972"/>
                  </a:lnTo>
                  <a:lnTo>
                    <a:pt x="3497" y="2028"/>
                  </a:lnTo>
                  <a:cubicBezTo>
                    <a:pt x="3514" y="2043"/>
                    <a:pt x="3531" y="2059"/>
                    <a:pt x="3548" y="2074"/>
                  </a:cubicBezTo>
                  <a:cubicBezTo>
                    <a:pt x="3565" y="2096"/>
                    <a:pt x="3581" y="2118"/>
                    <a:pt x="3598" y="2140"/>
                  </a:cubicBezTo>
                  <a:lnTo>
                    <a:pt x="3658" y="2260"/>
                  </a:lnTo>
                  <a:cubicBezTo>
                    <a:pt x="3675" y="2307"/>
                    <a:pt x="3692" y="2353"/>
                    <a:pt x="3709" y="2400"/>
                  </a:cubicBezTo>
                  <a:cubicBezTo>
                    <a:pt x="3716" y="2450"/>
                    <a:pt x="3722" y="2499"/>
                    <a:pt x="3729" y="2549"/>
                  </a:cubicBezTo>
                  <a:lnTo>
                    <a:pt x="3729" y="2688"/>
                  </a:lnTo>
                  <a:lnTo>
                    <a:pt x="3729" y="2837"/>
                  </a:lnTo>
                  <a:cubicBezTo>
                    <a:pt x="3722" y="2884"/>
                    <a:pt x="3716" y="2930"/>
                    <a:pt x="3709" y="2977"/>
                  </a:cubicBezTo>
                  <a:cubicBezTo>
                    <a:pt x="3695" y="3020"/>
                    <a:pt x="3682" y="3064"/>
                    <a:pt x="3668" y="3107"/>
                  </a:cubicBezTo>
                  <a:cubicBezTo>
                    <a:pt x="3658" y="3144"/>
                    <a:pt x="3648" y="3182"/>
                    <a:pt x="3638" y="3219"/>
                  </a:cubicBezTo>
                  <a:cubicBezTo>
                    <a:pt x="3625" y="3250"/>
                    <a:pt x="3611" y="3281"/>
                    <a:pt x="3598" y="3312"/>
                  </a:cubicBezTo>
                  <a:lnTo>
                    <a:pt x="3548" y="3377"/>
                  </a:lnTo>
                  <a:cubicBezTo>
                    <a:pt x="3538" y="3392"/>
                    <a:pt x="3528" y="3408"/>
                    <a:pt x="3518" y="3423"/>
                  </a:cubicBezTo>
                  <a:lnTo>
                    <a:pt x="3518" y="3423"/>
                  </a:lnTo>
                  <a:lnTo>
                    <a:pt x="3518" y="3423"/>
                  </a:lnTo>
                  <a:lnTo>
                    <a:pt x="3518" y="3423"/>
                  </a:lnTo>
                  <a:lnTo>
                    <a:pt x="3518" y="3423"/>
                  </a:lnTo>
                  <a:lnTo>
                    <a:pt x="3518" y="3423"/>
                  </a:lnTo>
                  <a:lnTo>
                    <a:pt x="3518" y="3423"/>
                  </a:lnTo>
                  <a:lnTo>
                    <a:pt x="3518" y="3423"/>
                  </a:lnTo>
                  <a:lnTo>
                    <a:pt x="3518" y="3423"/>
                  </a:lnTo>
                  <a:lnTo>
                    <a:pt x="3518" y="3423"/>
                  </a:lnTo>
                  <a:lnTo>
                    <a:pt x="3347" y="3535"/>
                  </a:lnTo>
                  <a:cubicBezTo>
                    <a:pt x="3313" y="3544"/>
                    <a:pt x="3280" y="3554"/>
                    <a:pt x="3246" y="3563"/>
                  </a:cubicBezTo>
                  <a:lnTo>
                    <a:pt x="3136" y="3572"/>
                  </a:lnTo>
                  <a:lnTo>
                    <a:pt x="3136" y="3572"/>
                  </a:lnTo>
                  <a:lnTo>
                    <a:pt x="3136" y="3572"/>
                  </a:lnTo>
                  <a:lnTo>
                    <a:pt x="3136" y="3572"/>
                  </a:lnTo>
                  <a:lnTo>
                    <a:pt x="3136" y="3572"/>
                  </a:lnTo>
                  <a:lnTo>
                    <a:pt x="3136" y="3572"/>
                  </a:lnTo>
                  <a:lnTo>
                    <a:pt x="3116" y="3572"/>
                  </a:lnTo>
                  <a:lnTo>
                    <a:pt x="3116" y="3572"/>
                  </a:lnTo>
                  <a:lnTo>
                    <a:pt x="3025" y="3572"/>
                  </a:lnTo>
                  <a:lnTo>
                    <a:pt x="2925" y="3553"/>
                  </a:lnTo>
                  <a:lnTo>
                    <a:pt x="2814" y="3526"/>
                  </a:lnTo>
                  <a:cubicBezTo>
                    <a:pt x="2774" y="3510"/>
                    <a:pt x="2733" y="3495"/>
                    <a:pt x="2693" y="3479"/>
                  </a:cubicBezTo>
                  <a:lnTo>
                    <a:pt x="2553" y="3423"/>
                  </a:lnTo>
                  <a:lnTo>
                    <a:pt x="2392" y="3349"/>
                  </a:lnTo>
                  <a:lnTo>
                    <a:pt x="2010" y="3153"/>
                  </a:lnTo>
                  <a:lnTo>
                    <a:pt x="2010" y="3153"/>
                  </a:lnTo>
                  <a:lnTo>
                    <a:pt x="2010" y="3153"/>
                  </a:lnTo>
                  <a:lnTo>
                    <a:pt x="2010" y="3153"/>
                  </a:lnTo>
                  <a:lnTo>
                    <a:pt x="2000" y="3153"/>
                  </a:lnTo>
                  <a:lnTo>
                    <a:pt x="2000" y="3153"/>
                  </a:lnTo>
                  <a:lnTo>
                    <a:pt x="2000" y="3153"/>
                  </a:lnTo>
                  <a:lnTo>
                    <a:pt x="2000" y="3153"/>
                  </a:lnTo>
                  <a:lnTo>
                    <a:pt x="1769" y="3033"/>
                  </a:lnTo>
                  <a:lnTo>
                    <a:pt x="1588" y="2967"/>
                  </a:lnTo>
                  <a:lnTo>
                    <a:pt x="1427" y="2921"/>
                  </a:lnTo>
                  <a:cubicBezTo>
                    <a:pt x="1400" y="2915"/>
                    <a:pt x="1374" y="2908"/>
                    <a:pt x="1347" y="2902"/>
                  </a:cubicBezTo>
                  <a:lnTo>
                    <a:pt x="1266" y="2902"/>
                  </a:lnTo>
                  <a:lnTo>
                    <a:pt x="1266" y="2902"/>
                  </a:lnTo>
                  <a:lnTo>
                    <a:pt x="1266" y="2902"/>
                  </a:lnTo>
                  <a:lnTo>
                    <a:pt x="1266" y="2902"/>
                  </a:lnTo>
                  <a:lnTo>
                    <a:pt x="1266" y="2902"/>
                  </a:lnTo>
                  <a:lnTo>
                    <a:pt x="1266" y="2902"/>
                  </a:lnTo>
                  <a:lnTo>
                    <a:pt x="1146" y="2921"/>
                  </a:lnTo>
                  <a:cubicBezTo>
                    <a:pt x="1126" y="2927"/>
                    <a:pt x="1105" y="2934"/>
                    <a:pt x="1085" y="2940"/>
                  </a:cubicBezTo>
                  <a:lnTo>
                    <a:pt x="1025" y="2949"/>
                  </a:lnTo>
                  <a:cubicBezTo>
                    <a:pt x="1005" y="2961"/>
                    <a:pt x="985" y="2974"/>
                    <a:pt x="965" y="2986"/>
                  </a:cubicBezTo>
                  <a:cubicBezTo>
                    <a:pt x="948" y="2998"/>
                    <a:pt x="932" y="3011"/>
                    <a:pt x="915" y="3023"/>
                  </a:cubicBezTo>
                  <a:cubicBezTo>
                    <a:pt x="898" y="3035"/>
                    <a:pt x="881" y="3048"/>
                    <a:pt x="864" y="3060"/>
                  </a:cubicBezTo>
                  <a:lnTo>
                    <a:pt x="814" y="3107"/>
                  </a:lnTo>
                  <a:cubicBezTo>
                    <a:pt x="804" y="3126"/>
                    <a:pt x="794" y="3144"/>
                    <a:pt x="784" y="3163"/>
                  </a:cubicBezTo>
                  <a:cubicBezTo>
                    <a:pt x="771" y="3188"/>
                    <a:pt x="757" y="3212"/>
                    <a:pt x="744" y="3237"/>
                  </a:cubicBezTo>
                  <a:cubicBezTo>
                    <a:pt x="720" y="3284"/>
                    <a:pt x="697" y="3330"/>
                    <a:pt x="673" y="3377"/>
                  </a:cubicBezTo>
                  <a:cubicBezTo>
                    <a:pt x="656" y="3439"/>
                    <a:pt x="640" y="3501"/>
                    <a:pt x="623" y="3563"/>
                  </a:cubicBezTo>
                  <a:cubicBezTo>
                    <a:pt x="616" y="3637"/>
                    <a:pt x="610" y="3712"/>
                    <a:pt x="603" y="3786"/>
                  </a:cubicBezTo>
                  <a:cubicBezTo>
                    <a:pt x="593" y="3870"/>
                    <a:pt x="583" y="3953"/>
                    <a:pt x="573" y="4037"/>
                  </a:cubicBezTo>
                  <a:cubicBezTo>
                    <a:pt x="576" y="4133"/>
                    <a:pt x="580" y="4230"/>
                    <a:pt x="583" y="4326"/>
                  </a:cubicBezTo>
                  <a:cubicBezTo>
                    <a:pt x="593" y="4434"/>
                    <a:pt x="603" y="4543"/>
                    <a:pt x="613" y="4651"/>
                  </a:cubicBezTo>
                  <a:cubicBezTo>
                    <a:pt x="630" y="4772"/>
                    <a:pt x="646" y="4893"/>
                    <a:pt x="663" y="5014"/>
                  </a:cubicBezTo>
                  <a:cubicBezTo>
                    <a:pt x="687" y="5150"/>
                    <a:pt x="710" y="5287"/>
                    <a:pt x="734" y="5423"/>
                  </a:cubicBezTo>
                  <a:cubicBezTo>
                    <a:pt x="761" y="5572"/>
                    <a:pt x="787" y="5721"/>
                    <a:pt x="814" y="5870"/>
                  </a:cubicBezTo>
                  <a:cubicBezTo>
                    <a:pt x="858" y="6037"/>
                    <a:pt x="901" y="6205"/>
                    <a:pt x="945" y="6372"/>
                  </a:cubicBezTo>
                  <a:cubicBezTo>
                    <a:pt x="992" y="6552"/>
                    <a:pt x="1038" y="6732"/>
                    <a:pt x="1085" y="6912"/>
                  </a:cubicBezTo>
                  <a:lnTo>
                    <a:pt x="1085" y="6912"/>
                  </a:lnTo>
                  <a:lnTo>
                    <a:pt x="1085" y="6930"/>
                  </a:lnTo>
                  <a:lnTo>
                    <a:pt x="1085" y="6930"/>
                  </a:lnTo>
                  <a:cubicBezTo>
                    <a:pt x="1095" y="6955"/>
                    <a:pt x="1106" y="6980"/>
                    <a:pt x="1116" y="7005"/>
                  </a:cubicBezTo>
                  <a:lnTo>
                    <a:pt x="1116" y="7005"/>
                  </a:lnTo>
                  <a:lnTo>
                    <a:pt x="1116" y="7005"/>
                  </a:lnTo>
                  <a:lnTo>
                    <a:pt x="1116" y="7005"/>
                  </a:lnTo>
                  <a:lnTo>
                    <a:pt x="1116" y="7005"/>
                  </a:lnTo>
                  <a:cubicBezTo>
                    <a:pt x="1119" y="7023"/>
                    <a:pt x="1123" y="7042"/>
                    <a:pt x="1126" y="7060"/>
                  </a:cubicBezTo>
                  <a:lnTo>
                    <a:pt x="1126" y="7060"/>
                  </a:lnTo>
                  <a:lnTo>
                    <a:pt x="1126" y="7060"/>
                  </a:lnTo>
                  <a:lnTo>
                    <a:pt x="1126" y="7060"/>
                  </a:lnTo>
                  <a:lnTo>
                    <a:pt x="1146" y="7060"/>
                  </a:lnTo>
                  <a:lnTo>
                    <a:pt x="1146" y="7060"/>
                  </a:lnTo>
                  <a:lnTo>
                    <a:pt x="1156" y="7060"/>
                  </a:lnTo>
                  <a:lnTo>
                    <a:pt x="1156" y="7060"/>
                  </a:lnTo>
                  <a:lnTo>
                    <a:pt x="1156" y="7060"/>
                  </a:lnTo>
                  <a:lnTo>
                    <a:pt x="1156" y="7060"/>
                  </a:lnTo>
                  <a:lnTo>
                    <a:pt x="1457" y="7051"/>
                  </a:lnTo>
                  <a:lnTo>
                    <a:pt x="1749" y="7051"/>
                  </a:lnTo>
                  <a:lnTo>
                    <a:pt x="1749" y="7051"/>
                  </a:lnTo>
                  <a:lnTo>
                    <a:pt x="1749" y="7051"/>
                  </a:lnTo>
                  <a:lnTo>
                    <a:pt x="1749" y="7051"/>
                  </a:lnTo>
                  <a:lnTo>
                    <a:pt x="1749" y="7051"/>
                  </a:lnTo>
                  <a:lnTo>
                    <a:pt x="1749" y="7051"/>
                  </a:lnTo>
                  <a:lnTo>
                    <a:pt x="1759" y="7051"/>
                  </a:lnTo>
                  <a:lnTo>
                    <a:pt x="1759" y="7051"/>
                  </a:lnTo>
                  <a:lnTo>
                    <a:pt x="1759" y="7051"/>
                  </a:lnTo>
                  <a:lnTo>
                    <a:pt x="1759" y="7051"/>
                  </a:lnTo>
                  <a:lnTo>
                    <a:pt x="1759" y="7051"/>
                  </a:lnTo>
                  <a:lnTo>
                    <a:pt x="1759" y="7051"/>
                  </a:lnTo>
                  <a:lnTo>
                    <a:pt x="1769" y="7051"/>
                  </a:lnTo>
                  <a:lnTo>
                    <a:pt x="1769" y="7051"/>
                  </a:lnTo>
                  <a:lnTo>
                    <a:pt x="1769" y="7051"/>
                  </a:lnTo>
                  <a:lnTo>
                    <a:pt x="1769" y="7051"/>
                  </a:lnTo>
                  <a:lnTo>
                    <a:pt x="1769" y="7051"/>
                  </a:lnTo>
                  <a:lnTo>
                    <a:pt x="1980" y="7051"/>
                  </a:lnTo>
                  <a:lnTo>
                    <a:pt x="1980" y="7051"/>
                  </a:lnTo>
                  <a:lnTo>
                    <a:pt x="2281" y="7033"/>
                  </a:lnTo>
                  <a:lnTo>
                    <a:pt x="2281" y="7033"/>
                  </a:lnTo>
                  <a:lnTo>
                    <a:pt x="2281" y="7033"/>
                  </a:lnTo>
                  <a:lnTo>
                    <a:pt x="2281" y="7033"/>
                  </a:lnTo>
                  <a:lnTo>
                    <a:pt x="2291" y="7033"/>
                  </a:lnTo>
                  <a:lnTo>
                    <a:pt x="2291" y="7033"/>
                  </a:lnTo>
                  <a:lnTo>
                    <a:pt x="2302" y="7033"/>
                  </a:lnTo>
                  <a:lnTo>
                    <a:pt x="2302" y="7033"/>
                  </a:lnTo>
                  <a:lnTo>
                    <a:pt x="2332" y="7033"/>
                  </a:lnTo>
                  <a:lnTo>
                    <a:pt x="2332" y="7033"/>
                  </a:lnTo>
                  <a:lnTo>
                    <a:pt x="2854" y="7033"/>
                  </a:lnTo>
                  <a:lnTo>
                    <a:pt x="2854" y="7033"/>
                  </a:lnTo>
                  <a:lnTo>
                    <a:pt x="2854" y="7033"/>
                  </a:lnTo>
                  <a:lnTo>
                    <a:pt x="2854" y="7033"/>
                  </a:lnTo>
                  <a:lnTo>
                    <a:pt x="2854" y="7033"/>
                  </a:lnTo>
                  <a:lnTo>
                    <a:pt x="2854" y="7033"/>
                  </a:lnTo>
                  <a:lnTo>
                    <a:pt x="2854" y="7033"/>
                  </a:lnTo>
                  <a:lnTo>
                    <a:pt x="2854" y="7033"/>
                  </a:lnTo>
                  <a:lnTo>
                    <a:pt x="3286" y="7033"/>
                  </a:lnTo>
                  <a:lnTo>
                    <a:pt x="3709" y="7060"/>
                  </a:lnTo>
                  <a:lnTo>
                    <a:pt x="4101" y="7088"/>
                  </a:lnTo>
                  <a:lnTo>
                    <a:pt x="4291" y="7116"/>
                  </a:lnTo>
                  <a:lnTo>
                    <a:pt x="4462" y="7135"/>
                  </a:lnTo>
                  <a:lnTo>
                    <a:pt x="4623" y="7172"/>
                  </a:lnTo>
                  <a:lnTo>
                    <a:pt x="4764" y="7219"/>
                  </a:lnTo>
                  <a:lnTo>
                    <a:pt x="4894" y="7274"/>
                  </a:lnTo>
                  <a:cubicBezTo>
                    <a:pt x="4924" y="7293"/>
                    <a:pt x="4955" y="7311"/>
                    <a:pt x="4985" y="7330"/>
                  </a:cubicBezTo>
                  <a:cubicBezTo>
                    <a:pt x="5015" y="7352"/>
                    <a:pt x="5045" y="7373"/>
                    <a:pt x="5075" y="7395"/>
                  </a:cubicBezTo>
                  <a:cubicBezTo>
                    <a:pt x="5095" y="7417"/>
                    <a:pt x="5116" y="7438"/>
                    <a:pt x="5136" y="7460"/>
                  </a:cubicBezTo>
                  <a:cubicBezTo>
                    <a:pt x="5143" y="7476"/>
                    <a:pt x="5149" y="7491"/>
                    <a:pt x="5156" y="7507"/>
                  </a:cubicBezTo>
                  <a:cubicBezTo>
                    <a:pt x="5163" y="7522"/>
                    <a:pt x="5169" y="7538"/>
                    <a:pt x="5176" y="7553"/>
                  </a:cubicBezTo>
                  <a:lnTo>
                    <a:pt x="5176" y="7600"/>
                  </a:lnTo>
                  <a:lnTo>
                    <a:pt x="5176" y="7656"/>
                  </a:lnTo>
                  <a:lnTo>
                    <a:pt x="5176" y="7656"/>
                  </a:lnTo>
                  <a:lnTo>
                    <a:pt x="5176" y="7665"/>
                  </a:lnTo>
                  <a:lnTo>
                    <a:pt x="5176" y="7665"/>
                  </a:lnTo>
                  <a:lnTo>
                    <a:pt x="5176" y="7665"/>
                  </a:lnTo>
                  <a:lnTo>
                    <a:pt x="5146" y="7851"/>
                  </a:lnTo>
                  <a:lnTo>
                    <a:pt x="5095" y="8037"/>
                  </a:lnTo>
                  <a:cubicBezTo>
                    <a:pt x="5065" y="8170"/>
                    <a:pt x="5035" y="8304"/>
                    <a:pt x="5005" y="8437"/>
                  </a:cubicBezTo>
                  <a:cubicBezTo>
                    <a:pt x="4988" y="8505"/>
                    <a:pt x="4972" y="8574"/>
                    <a:pt x="4955" y="8642"/>
                  </a:cubicBezTo>
                  <a:cubicBezTo>
                    <a:pt x="4942" y="8704"/>
                    <a:pt x="4928" y="8766"/>
                    <a:pt x="4915" y="8828"/>
                  </a:cubicBezTo>
                  <a:lnTo>
                    <a:pt x="4894" y="9023"/>
                  </a:lnTo>
                  <a:cubicBezTo>
                    <a:pt x="4887" y="9082"/>
                    <a:pt x="4881" y="9141"/>
                    <a:pt x="4874" y="9200"/>
                  </a:cubicBezTo>
                  <a:lnTo>
                    <a:pt x="4874" y="9200"/>
                  </a:lnTo>
                  <a:lnTo>
                    <a:pt x="4874" y="9293"/>
                  </a:lnTo>
                  <a:cubicBezTo>
                    <a:pt x="4881" y="9327"/>
                    <a:pt x="4887" y="9361"/>
                    <a:pt x="4894" y="9395"/>
                  </a:cubicBezTo>
                  <a:lnTo>
                    <a:pt x="4915" y="9488"/>
                  </a:lnTo>
                  <a:cubicBezTo>
                    <a:pt x="4922" y="9513"/>
                    <a:pt x="4928" y="9538"/>
                    <a:pt x="4935" y="9563"/>
                  </a:cubicBezTo>
                  <a:cubicBezTo>
                    <a:pt x="4952" y="9591"/>
                    <a:pt x="4968" y="9619"/>
                    <a:pt x="4985" y="9647"/>
                  </a:cubicBezTo>
                  <a:lnTo>
                    <a:pt x="5035" y="9721"/>
                  </a:lnTo>
                  <a:cubicBezTo>
                    <a:pt x="5055" y="9743"/>
                    <a:pt x="5075" y="9764"/>
                    <a:pt x="5095" y="9786"/>
                  </a:cubicBezTo>
                  <a:cubicBezTo>
                    <a:pt x="5122" y="9805"/>
                    <a:pt x="5149" y="9823"/>
                    <a:pt x="5176" y="9842"/>
                  </a:cubicBezTo>
                  <a:lnTo>
                    <a:pt x="5176" y="9842"/>
                  </a:lnTo>
                  <a:lnTo>
                    <a:pt x="5176" y="9842"/>
                  </a:lnTo>
                  <a:cubicBezTo>
                    <a:pt x="5196" y="9854"/>
                    <a:pt x="5216" y="9867"/>
                    <a:pt x="5236" y="9879"/>
                  </a:cubicBezTo>
                  <a:cubicBezTo>
                    <a:pt x="5260" y="9891"/>
                    <a:pt x="5283" y="9904"/>
                    <a:pt x="5307" y="9916"/>
                  </a:cubicBezTo>
                  <a:lnTo>
                    <a:pt x="5447" y="9963"/>
                  </a:lnTo>
                  <a:lnTo>
                    <a:pt x="5608" y="9991"/>
                  </a:lnTo>
                  <a:lnTo>
                    <a:pt x="5779" y="10000"/>
                  </a:lnTo>
                  <a:lnTo>
                    <a:pt x="5779" y="10000"/>
                  </a:lnTo>
                  <a:lnTo>
                    <a:pt x="5779" y="10000"/>
                  </a:lnTo>
                  <a:lnTo>
                    <a:pt x="5779" y="10000"/>
                  </a:lnTo>
                  <a:lnTo>
                    <a:pt x="5779" y="10000"/>
                  </a:lnTo>
                  <a:lnTo>
                    <a:pt x="5779" y="10000"/>
                  </a:lnTo>
                  <a:lnTo>
                    <a:pt x="5899" y="9991"/>
                  </a:lnTo>
                  <a:lnTo>
                    <a:pt x="6040" y="9981"/>
                  </a:lnTo>
                  <a:lnTo>
                    <a:pt x="6171" y="9963"/>
                  </a:lnTo>
                  <a:lnTo>
                    <a:pt x="6291" y="9926"/>
                  </a:lnTo>
                  <a:cubicBezTo>
                    <a:pt x="6331" y="9913"/>
                    <a:pt x="6372" y="9901"/>
                    <a:pt x="6412" y="9888"/>
                  </a:cubicBezTo>
                  <a:lnTo>
                    <a:pt x="6533" y="9842"/>
                  </a:lnTo>
                  <a:cubicBezTo>
                    <a:pt x="6570" y="9830"/>
                    <a:pt x="6606" y="9817"/>
                    <a:pt x="6643" y="9805"/>
                  </a:cubicBezTo>
                  <a:lnTo>
                    <a:pt x="6744" y="9740"/>
                  </a:lnTo>
                  <a:cubicBezTo>
                    <a:pt x="6771" y="9718"/>
                    <a:pt x="6797" y="9696"/>
                    <a:pt x="6824" y="9674"/>
                  </a:cubicBezTo>
                  <a:cubicBezTo>
                    <a:pt x="6851" y="9652"/>
                    <a:pt x="6878" y="9631"/>
                    <a:pt x="6905" y="9609"/>
                  </a:cubicBezTo>
                  <a:cubicBezTo>
                    <a:pt x="6925" y="9587"/>
                    <a:pt x="6945" y="9566"/>
                    <a:pt x="6965" y="9544"/>
                  </a:cubicBezTo>
                  <a:cubicBezTo>
                    <a:pt x="6982" y="9516"/>
                    <a:pt x="6998" y="9488"/>
                    <a:pt x="7015" y="9460"/>
                  </a:cubicBezTo>
                  <a:cubicBezTo>
                    <a:pt x="7022" y="9438"/>
                    <a:pt x="7028" y="9417"/>
                    <a:pt x="7035" y="9395"/>
                  </a:cubicBezTo>
                  <a:cubicBezTo>
                    <a:pt x="7038" y="9364"/>
                    <a:pt x="7042" y="9333"/>
                    <a:pt x="7045" y="9302"/>
                  </a:cubicBezTo>
                  <a:cubicBezTo>
                    <a:pt x="7042" y="9277"/>
                    <a:pt x="7038" y="9253"/>
                    <a:pt x="7035" y="9228"/>
                  </a:cubicBezTo>
                  <a:cubicBezTo>
                    <a:pt x="7022" y="9200"/>
                    <a:pt x="7008" y="9172"/>
                    <a:pt x="6995" y="9144"/>
                  </a:cubicBezTo>
                  <a:lnTo>
                    <a:pt x="6995" y="9144"/>
                  </a:lnTo>
                  <a:lnTo>
                    <a:pt x="6995" y="9135"/>
                  </a:lnTo>
                  <a:lnTo>
                    <a:pt x="6995" y="9135"/>
                  </a:lnTo>
                  <a:lnTo>
                    <a:pt x="6985" y="9135"/>
                  </a:lnTo>
                  <a:lnTo>
                    <a:pt x="6985" y="9135"/>
                  </a:lnTo>
                  <a:lnTo>
                    <a:pt x="6985" y="9135"/>
                  </a:lnTo>
                  <a:lnTo>
                    <a:pt x="6985" y="9135"/>
                  </a:lnTo>
                  <a:lnTo>
                    <a:pt x="6985" y="9135"/>
                  </a:lnTo>
                  <a:lnTo>
                    <a:pt x="6985" y="9135"/>
                  </a:lnTo>
                  <a:lnTo>
                    <a:pt x="6985" y="9135"/>
                  </a:lnTo>
                  <a:lnTo>
                    <a:pt x="6985" y="9135"/>
                  </a:lnTo>
                  <a:lnTo>
                    <a:pt x="6985" y="9126"/>
                  </a:lnTo>
                  <a:lnTo>
                    <a:pt x="6985" y="9126"/>
                  </a:lnTo>
                  <a:lnTo>
                    <a:pt x="6985" y="9126"/>
                  </a:lnTo>
                  <a:lnTo>
                    <a:pt x="6985" y="9126"/>
                  </a:lnTo>
                  <a:lnTo>
                    <a:pt x="6985" y="9126"/>
                  </a:lnTo>
                  <a:lnTo>
                    <a:pt x="6985" y="9126"/>
                  </a:lnTo>
                  <a:lnTo>
                    <a:pt x="6985" y="9126"/>
                  </a:lnTo>
                  <a:lnTo>
                    <a:pt x="6985" y="9126"/>
                  </a:lnTo>
                  <a:cubicBezTo>
                    <a:pt x="6921" y="9030"/>
                    <a:pt x="6858" y="8933"/>
                    <a:pt x="6794" y="8837"/>
                  </a:cubicBezTo>
                  <a:lnTo>
                    <a:pt x="6693" y="8679"/>
                  </a:lnTo>
                  <a:cubicBezTo>
                    <a:pt x="6660" y="8626"/>
                    <a:pt x="6626" y="8574"/>
                    <a:pt x="6593" y="8521"/>
                  </a:cubicBezTo>
                  <a:cubicBezTo>
                    <a:pt x="6566" y="8471"/>
                    <a:pt x="6540" y="8422"/>
                    <a:pt x="6513" y="8372"/>
                  </a:cubicBezTo>
                  <a:cubicBezTo>
                    <a:pt x="6489" y="8319"/>
                    <a:pt x="6466" y="8267"/>
                    <a:pt x="6442" y="8214"/>
                  </a:cubicBezTo>
                  <a:cubicBezTo>
                    <a:pt x="6425" y="8161"/>
                    <a:pt x="6409" y="8109"/>
                    <a:pt x="6392" y="8056"/>
                  </a:cubicBezTo>
                  <a:cubicBezTo>
                    <a:pt x="6389" y="8031"/>
                    <a:pt x="6385" y="8006"/>
                    <a:pt x="6382" y="7981"/>
                  </a:cubicBezTo>
                  <a:lnTo>
                    <a:pt x="6382" y="7907"/>
                  </a:lnTo>
                  <a:lnTo>
                    <a:pt x="6382" y="7907"/>
                  </a:lnTo>
                  <a:cubicBezTo>
                    <a:pt x="6385" y="7873"/>
                    <a:pt x="6389" y="7839"/>
                    <a:pt x="6392" y="7805"/>
                  </a:cubicBezTo>
                  <a:cubicBezTo>
                    <a:pt x="6402" y="7771"/>
                    <a:pt x="6412" y="7736"/>
                    <a:pt x="6422" y="7702"/>
                  </a:cubicBezTo>
                  <a:cubicBezTo>
                    <a:pt x="6432" y="7687"/>
                    <a:pt x="6442" y="7671"/>
                    <a:pt x="6452" y="7656"/>
                  </a:cubicBezTo>
                  <a:cubicBezTo>
                    <a:pt x="6465" y="7640"/>
                    <a:pt x="6479" y="7625"/>
                    <a:pt x="6492" y="7609"/>
                  </a:cubicBezTo>
                  <a:cubicBezTo>
                    <a:pt x="6502" y="7594"/>
                    <a:pt x="6513" y="7578"/>
                    <a:pt x="6523" y="7563"/>
                  </a:cubicBezTo>
                  <a:cubicBezTo>
                    <a:pt x="6540" y="7551"/>
                    <a:pt x="6556" y="7538"/>
                    <a:pt x="6573" y="7526"/>
                  </a:cubicBezTo>
                  <a:lnTo>
                    <a:pt x="6704" y="7451"/>
                  </a:lnTo>
                  <a:lnTo>
                    <a:pt x="6864" y="7395"/>
                  </a:lnTo>
                  <a:lnTo>
                    <a:pt x="7065" y="7349"/>
                  </a:lnTo>
                  <a:lnTo>
                    <a:pt x="7307" y="7321"/>
                  </a:lnTo>
                  <a:lnTo>
                    <a:pt x="7307" y="7321"/>
                  </a:lnTo>
                  <a:lnTo>
                    <a:pt x="8533" y="7219"/>
                  </a:lnTo>
                  <a:lnTo>
                    <a:pt x="10000" y="7116"/>
                  </a:lnTo>
                  <a:lnTo>
                    <a:pt x="10000" y="7116"/>
                  </a:lnTo>
                  <a:lnTo>
                    <a:pt x="10000" y="7116"/>
                  </a:lnTo>
                  <a:lnTo>
                    <a:pt x="10000" y="7116"/>
                  </a:lnTo>
                  <a:lnTo>
                    <a:pt x="10000" y="0"/>
                  </a:lnTo>
                  <a:close/>
                </a:path>
              </a:pathLst>
            </a:custGeom>
            <a:solidFill>
              <a:srgbClr val="7bc5d2"/>
            </a:solidFill>
            <a:ln w="0">
              <a:noFill/>
            </a:ln>
            <a:scene3d>
              <a:camera prst="orthographicFront">
                <a:rot lat="0" lon="0" rev="0"/>
              </a:camera>
              <a:lightRig dir="t" rig="soft">
                <a:rot lat="0" lon="0" rev="0"/>
              </a:lightRig>
            </a:scene3d>
            <a:sp3d contourW="44450" prstMaterial="matte">
              <a:bevelT prst="artDeco" w="63500" h="63500"/>
              <a:contourClr>
                <a:srgbClr val="ffffff"/>
              </a:contourClr>
            </a:sp3d>
          </p:spPr>
          <p:style>
            <a:lnRef idx="0"/>
            <a:fillRef idx="0"/>
            <a:effectRef idx="0"/>
            <a:fontRef idx="minor"/>
          </p:style>
          <p:txBody>
            <a:bodyPr numCol="1" spcCol="0" anchor="t">
              <a:noAutofit/>
            </a:bodyPr>
            <a:p>
              <a:pPr>
                <a:lnSpc>
                  <a:spcPct val="100000"/>
                </a:lnSpc>
              </a:pPr>
              <a:endParaRPr b="0" lang="fr-FR" sz="1200" spc="-1" strike="noStrike">
                <a:solidFill>
                  <a:srgbClr val="344246"/>
                </a:solidFill>
                <a:latin typeface="Calibri"/>
              </a:endParaRPr>
            </a:p>
          </p:txBody>
        </p:sp>
        <p:sp>
          <p:nvSpPr>
            <p:cNvPr id="232" name="Freeform 144"/>
            <p:cNvSpPr/>
            <p:nvPr/>
          </p:nvSpPr>
          <p:spPr>
            <a:xfrm rot="18900000">
              <a:off x="5517720" y="4021920"/>
              <a:ext cx="1286640" cy="1561680"/>
            </a:xfrm>
            <a:custGeom>
              <a:avLst/>
              <a:gdLst>
                <a:gd name="textAreaLeft" fmla="*/ 0 w 1286640"/>
                <a:gd name="textAreaRight" fmla="*/ 1287000 w 1286640"/>
                <a:gd name="textAreaTop" fmla="*/ 0 h 1561680"/>
                <a:gd name="textAreaBottom" fmla="*/ 1562040 h 1561680"/>
              </a:gdLst>
              <a:ahLst/>
              <a:rect l="textAreaLeft" t="textAreaTop" r="textAreaRight" b="textAreaBottom"/>
              <a:pathLst>
                <a:path w="10000" h="10000">
                  <a:moveTo>
                    <a:pt x="4304" y="0"/>
                  </a:moveTo>
                  <a:lnTo>
                    <a:pt x="4304" y="0"/>
                  </a:lnTo>
                  <a:lnTo>
                    <a:pt x="4304" y="0"/>
                  </a:lnTo>
                  <a:lnTo>
                    <a:pt x="4163" y="0"/>
                  </a:lnTo>
                  <a:lnTo>
                    <a:pt x="4002" y="9"/>
                  </a:lnTo>
                  <a:lnTo>
                    <a:pt x="3851" y="30"/>
                  </a:lnTo>
                  <a:lnTo>
                    <a:pt x="3659" y="68"/>
                  </a:lnTo>
                  <a:lnTo>
                    <a:pt x="3659" y="68"/>
                  </a:lnTo>
                  <a:lnTo>
                    <a:pt x="3659" y="68"/>
                  </a:lnTo>
                  <a:lnTo>
                    <a:pt x="3659" y="68"/>
                  </a:lnTo>
                  <a:lnTo>
                    <a:pt x="3649" y="68"/>
                  </a:lnTo>
                  <a:lnTo>
                    <a:pt x="3649" y="68"/>
                  </a:lnTo>
                  <a:lnTo>
                    <a:pt x="3649" y="77"/>
                  </a:lnTo>
                  <a:lnTo>
                    <a:pt x="3649" y="77"/>
                  </a:lnTo>
                  <a:lnTo>
                    <a:pt x="3649" y="77"/>
                  </a:lnTo>
                  <a:lnTo>
                    <a:pt x="3407" y="135"/>
                  </a:lnTo>
                  <a:lnTo>
                    <a:pt x="3216" y="194"/>
                  </a:lnTo>
                  <a:lnTo>
                    <a:pt x="3054" y="272"/>
                  </a:lnTo>
                  <a:lnTo>
                    <a:pt x="2913" y="350"/>
                  </a:lnTo>
                  <a:cubicBezTo>
                    <a:pt x="2886" y="377"/>
                    <a:pt x="2860" y="407"/>
                    <a:pt x="2833" y="436"/>
                  </a:cubicBezTo>
                  <a:cubicBezTo>
                    <a:pt x="2819" y="448"/>
                    <a:pt x="2806" y="462"/>
                    <a:pt x="2792" y="475"/>
                  </a:cubicBezTo>
                  <a:cubicBezTo>
                    <a:pt x="2785" y="491"/>
                    <a:pt x="2779" y="508"/>
                    <a:pt x="2772" y="523"/>
                  </a:cubicBezTo>
                  <a:cubicBezTo>
                    <a:pt x="2759" y="558"/>
                    <a:pt x="2745" y="594"/>
                    <a:pt x="2732" y="628"/>
                  </a:cubicBezTo>
                  <a:cubicBezTo>
                    <a:pt x="2729" y="668"/>
                    <a:pt x="2725" y="706"/>
                    <a:pt x="2722" y="746"/>
                  </a:cubicBezTo>
                  <a:lnTo>
                    <a:pt x="2722" y="746"/>
                  </a:lnTo>
                  <a:cubicBezTo>
                    <a:pt x="2725" y="791"/>
                    <a:pt x="2729" y="837"/>
                    <a:pt x="2732" y="881"/>
                  </a:cubicBezTo>
                  <a:cubicBezTo>
                    <a:pt x="2742" y="924"/>
                    <a:pt x="2752" y="966"/>
                    <a:pt x="2762" y="1008"/>
                  </a:cubicBezTo>
                  <a:cubicBezTo>
                    <a:pt x="2772" y="1055"/>
                    <a:pt x="2782" y="1104"/>
                    <a:pt x="2792" y="1153"/>
                  </a:cubicBezTo>
                  <a:cubicBezTo>
                    <a:pt x="2812" y="1208"/>
                    <a:pt x="2833" y="1262"/>
                    <a:pt x="2853" y="1316"/>
                  </a:cubicBezTo>
                  <a:cubicBezTo>
                    <a:pt x="2897" y="1432"/>
                    <a:pt x="2940" y="1550"/>
                    <a:pt x="2984" y="1666"/>
                  </a:cubicBezTo>
                  <a:lnTo>
                    <a:pt x="3125" y="2093"/>
                  </a:lnTo>
                  <a:lnTo>
                    <a:pt x="3125" y="2093"/>
                  </a:lnTo>
                  <a:lnTo>
                    <a:pt x="3125" y="2093"/>
                  </a:lnTo>
                  <a:lnTo>
                    <a:pt x="3125" y="2104"/>
                  </a:lnTo>
                  <a:lnTo>
                    <a:pt x="3125" y="2104"/>
                  </a:lnTo>
                  <a:cubicBezTo>
                    <a:pt x="3128" y="2107"/>
                    <a:pt x="3132" y="2110"/>
                    <a:pt x="3135" y="2113"/>
                  </a:cubicBezTo>
                  <a:lnTo>
                    <a:pt x="3135" y="2113"/>
                  </a:lnTo>
                  <a:cubicBezTo>
                    <a:pt x="3148" y="2152"/>
                    <a:pt x="3162" y="2191"/>
                    <a:pt x="3175" y="2229"/>
                  </a:cubicBezTo>
                  <a:cubicBezTo>
                    <a:pt x="3182" y="2269"/>
                    <a:pt x="3189" y="2307"/>
                    <a:pt x="3196" y="2346"/>
                  </a:cubicBezTo>
                  <a:cubicBezTo>
                    <a:pt x="3203" y="2380"/>
                    <a:pt x="3209" y="2417"/>
                    <a:pt x="3216" y="2452"/>
                  </a:cubicBezTo>
                  <a:lnTo>
                    <a:pt x="3216" y="2550"/>
                  </a:lnTo>
                  <a:cubicBezTo>
                    <a:pt x="3209" y="2574"/>
                    <a:pt x="3203" y="2600"/>
                    <a:pt x="3196" y="2626"/>
                  </a:cubicBezTo>
                  <a:cubicBezTo>
                    <a:pt x="3189" y="2652"/>
                    <a:pt x="3182" y="2677"/>
                    <a:pt x="3175" y="2703"/>
                  </a:cubicBezTo>
                  <a:lnTo>
                    <a:pt x="3145" y="2763"/>
                  </a:lnTo>
                  <a:cubicBezTo>
                    <a:pt x="3132" y="2779"/>
                    <a:pt x="3118" y="2795"/>
                    <a:pt x="3105" y="2811"/>
                  </a:cubicBezTo>
                  <a:cubicBezTo>
                    <a:pt x="3092" y="2824"/>
                    <a:pt x="3078" y="2836"/>
                    <a:pt x="3065" y="2849"/>
                  </a:cubicBezTo>
                  <a:cubicBezTo>
                    <a:pt x="3045" y="2862"/>
                    <a:pt x="3024" y="2876"/>
                    <a:pt x="3004" y="2888"/>
                  </a:cubicBezTo>
                  <a:cubicBezTo>
                    <a:pt x="2984" y="2897"/>
                    <a:pt x="2964" y="2908"/>
                    <a:pt x="2944" y="2917"/>
                  </a:cubicBezTo>
                  <a:cubicBezTo>
                    <a:pt x="2920" y="2923"/>
                    <a:pt x="2897" y="2930"/>
                    <a:pt x="2873" y="2936"/>
                  </a:cubicBezTo>
                  <a:lnTo>
                    <a:pt x="2722" y="2955"/>
                  </a:lnTo>
                  <a:lnTo>
                    <a:pt x="2550" y="2975"/>
                  </a:lnTo>
                  <a:lnTo>
                    <a:pt x="2550" y="2975"/>
                  </a:lnTo>
                  <a:lnTo>
                    <a:pt x="2550" y="2975"/>
                  </a:lnTo>
                  <a:lnTo>
                    <a:pt x="2550" y="2975"/>
                  </a:lnTo>
                  <a:lnTo>
                    <a:pt x="2550" y="2975"/>
                  </a:lnTo>
                  <a:lnTo>
                    <a:pt x="2550" y="2975"/>
                  </a:lnTo>
                  <a:lnTo>
                    <a:pt x="2550" y="2975"/>
                  </a:lnTo>
                  <a:lnTo>
                    <a:pt x="2550" y="2975"/>
                  </a:lnTo>
                  <a:lnTo>
                    <a:pt x="2339" y="2975"/>
                  </a:lnTo>
                  <a:lnTo>
                    <a:pt x="2127" y="2946"/>
                  </a:lnTo>
                  <a:lnTo>
                    <a:pt x="2127" y="2946"/>
                  </a:lnTo>
                  <a:lnTo>
                    <a:pt x="1804" y="2917"/>
                  </a:lnTo>
                  <a:lnTo>
                    <a:pt x="1502" y="2897"/>
                  </a:lnTo>
                  <a:lnTo>
                    <a:pt x="1502" y="2897"/>
                  </a:lnTo>
                  <a:lnTo>
                    <a:pt x="1230" y="2888"/>
                  </a:lnTo>
                  <a:lnTo>
                    <a:pt x="867" y="2868"/>
                  </a:lnTo>
                  <a:lnTo>
                    <a:pt x="0" y="2781"/>
                  </a:lnTo>
                  <a:lnTo>
                    <a:pt x="0" y="10000"/>
                  </a:lnTo>
                  <a:lnTo>
                    <a:pt x="9990" y="10000"/>
                  </a:lnTo>
                  <a:lnTo>
                    <a:pt x="9990" y="10000"/>
                  </a:lnTo>
                  <a:cubicBezTo>
                    <a:pt x="9990" y="9974"/>
                    <a:pt x="9988" y="9934"/>
                    <a:pt x="9990" y="9847"/>
                  </a:cubicBezTo>
                  <a:cubicBezTo>
                    <a:pt x="9993" y="9722"/>
                    <a:pt x="9997" y="9600"/>
                    <a:pt x="10000" y="9477"/>
                  </a:cubicBezTo>
                  <a:lnTo>
                    <a:pt x="9970" y="9168"/>
                  </a:lnTo>
                  <a:cubicBezTo>
                    <a:pt x="9960" y="9077"/>
                    <a:pt x="9950" y="8985"/>
                    <a:pt x="9940" y="8895"/>
                  </a:cubicBezTo>
                  <a:cubicBezTo>
                    <a:pt x="9920" y="8820"/>
                    <a:pt x="9899" y="8747"/>
                    <a:pt x="9879" y="8673"/>
                  </a:cubicBezTo>
                  <a:cubicBezTo>
                    <a:pt x="9852" y="8605"/>
                    <a:pt x="9825" y="8538"/>
                    <a:pt x="9798" y="8470"/>
                  </a:cubicBezTo>
                  <a:cubicBezTo>
                    <a:pt x="9771" y="8418"/>
                    <a:pt x="9745" y="8365"/>
                    <a:pt x="9718" y="8314"/>
                  </a:cubicBezTo>
                  <a:cubicBezTo>
                    <a:pt x="9684" y="8273"/>
                    <a:pt x="9651" y="8231"/>
                    <a:pt x="9617" y="8188"/>
                  </a:cubicBezTo>
                  <a:lnTo>
                    <a:pt x="9506" y="8091"/>
                  </a:lnTo>
                  <a:lnTo>
                    <a:pt x="9395" y="8024"/>
                  </a:lnTo>
                  <a:cubicBezTo>
                    <a:pt x="9355" y="8007"/>
                    <a:pt x="9314" y="7992"/>
                    <a:pt x="9274" y="7976"/>
                  </a:cubicBezTo>
                  <a:cubicBezTo>
                    <a:pt x="9234" y="7966"/>
                    <a:pt x="9193" y="7957"/>
                    <a:pt x="9153" y="7947"/>
                  </a:cubicBezTo>
                  <a:lnTo>
                    <a:pt x="9022" y="7926"/>
                  </a:lnTo>
                  <a:lnTo>
                    <a:pt x="8901" y="7926"/>
                  </a:lnTo>
                  <a:lnTo>
                    <a:pt x="8901" y="7926"/>
                  </a:lnTo>
                  <a:lnTo>
                    <a:pt x="8901" y="7926"/>
                  </a:lnTo>
                  <a:lnTo>
                    <a:pt x="8901" y="7926"/>
                  </a:lnTo>
                  <a:lnTo>
                    <a:pt x="8901" y="7926"/>
                  </a:lnTo>
                  <a:lnTo>
                    <a:pt x="8901" y="7926"/>
                  </a:lnTo>
                  <a:lnTo>
                    <a:pt x="8700" y="7926"/>
                  </a:lnTo>
                  <a:lnTo>
                    <a:pt x="8528" y="7947"/>
                  </a:lnTo>
                  <a:lnTo>
                    <a:pt x="8528" y="7947"/>
                  </a:lnTo>
                  <a:lnTo>
                    <a:pt x="8528" y="7947"/>
                  </a:lnTo>
                  <a:lnTo>
                    <a:pt x="8528" y="7947"/>
                  </a:lnTo>
                  <a:cubicBezTo>
                    <a:pt x="8525" y="7950"/>
                    <a:pt x="8521" y="7952"/>
                    <a:pt x="8518" y="7955"/>
                  </a:cubicBezTo>
                  <a:lnTo>
                    <a:pt x="8518" y="7955"/>
                  </a:lnTo>
                  <a:lnTo>
                    <a:pt x="8135" y="8024"/>
                  </a:lnTo>
                  <a:lnTo>
                    <a:pt x="7671" y="8139"/>
                  </a:lnTo>
                  <a:lnTo>
                    <a:pt x="7671" y="8139"/>
                  </a:lnTo>
                  <a:lnTo>
                    <a:pt x="7671" y="8139"/>
                  </a:lnTo>
                  <a:lnTo>
                    <a:pt x="7671" y="8139"/>
                  </a:lnTo>
                  <a:lnTo>
                    <a:pt x="7661" y="8139"/>
                  </a:lnTo>
                  <a:lnTo>
                    <a:pt x="7661" y="8139"/>
                  </a:lnTo>
                  <a:lnTo>
                    <a:pt x="7450" y="8188"/>
                  </a:lnTo>
                  <a:lnTo>
                    <a:pt x="7248" y="8237"/>
                  </a:lnTo>
                  <a:lnTo>
                    <a:pt x="7036" y="8275"/>
                  </a:lnTo>
                  <a:lnTo>
                    <a:pt x="6835" y="8275"/>
                  </a:lnTo>
                  <a:lnTo>
                    <a:pt x="6835" y="8275"/>
                  </a:lnTo>
                  <a:lnTo>
                    <a:pt x="6835" y="8275"/>
                  </a:lnTo>
                  <a:lnTo>
                    <a:pt x="6835" y="8275"/>
                  </a:lnTo>
                  <a:lnTo>
                    <a:pt x="6835" y="8275"/>
                  </a:lnTo>
                  <a:lnTo>
                    <a:pt x="6835" y="8275"/>
                  </a:lnTo>
                  <a:lnTo>
                    <a:pt x="6835" y="8275"/>
                  </a:lnTo>
                  <a:lnTo>
                    <a:pt x="6835" y="8275"/>
                  </a:lnTo>
                  <a:lnTo>
                    <a:pt x="6663" y="8275"/>
                  </a:lnTo>
                  <a:lnTo>
                    <a:pt x="6512" y="8237"/>
                  </a:lnTo>
                  <a:cubicBezTo>
                    <a:pt x="6489" y="8226"/>
                    <a:pt x="6465" y="8217"/>
                    <a:pt x="6442" y="8207"/>
                  </a:cubicBezTo>
                  <a:cubicBezTo>
                    <a:pt x="6422" y="8198"/>
                    <a:pt x="6401" y="8188"/>
                    <a:pt x="6381" y="8177"/>
                  </a:cubicBezTo>
                  <a:cubicBezTo>
                    <a:pt x="6361" y="8165"/>
                    <a:pt x="6341" y="8151"/>
                    <a:pt x="6321" y="8139"/>
                  </a:cubicBezTo>
                  <a:cubicBezTo>
                    <a:pt x="6304" y="8124"/>
                    <a:pt x="6287" y="8106"/>
                    <a:pt x="6270" y="8091"/>
                  </a:cubicBezTo>
                  <a:lnTo>
                    <a:pt x="6220" y="8032"/>
                  </a:lnTo>
                  <a:cubicBezTo>
                    <a:pt x="6203" y="8009"/>
                    <a:pt x="6186" y="7988"/>
                    <a:pt x="6169" y="7965"/>
                  </a:cubicBezTo>
                  <a:cubicBezTo>
                    <a:pt x="6162" y="7943"/>
                    <a:pt x="6156" y="7920"/>
                    <a:pt x="6149" y="7898"/>
                  </a:cubicBezTo>
                  <a:cubicBezTo>
                    <a:pt x="6136" y="7868"/>
                    <a:pt x="6122" y="7838"/>
                    <a:pt x="6109" y="7810"/>
                  </a:cubicBezTo>
                  <a:cubicBezTo>
                    <a:pt x="6106" y="7780"/>
                    <a:pt x="6102" y="7752"/>
                    <a:pt x="6099" y="7723"/>
                  </a:cubicBezTo>
                  <a:cubicBezTo>
                    <a:pt x="6096" y="7688"/>
                    <a:pt x="6092" y="7653"/>
                    <a:pt x="6089" y="7617"/>
                  </a:cubicBezTo>
                  <a:lnTo>
                    <a:pt x="6089" y="7501"/>
                  </a:lnTo>
                  <a:lnTo>
                    <a:pt x="6089" y="7374"/>
                  </a:lnTo>
                  <a:lnTo>
                    <a:pt x="6089" y="7374"/>
                  </a:lnTo>
                  <a:lnTo>
                    <a:pt x="6089" y="7374"/>
                  </a:lnTo>
                  <a:lnTo>
                    <a:pt x="6089" y="7374"/>
                  </a:lnTo>
                  <a:lnTo>
                    <a:pt x="6089" y="7344"/>
                  </a:lnTo>
                  <a:lnTo>
                    <a:pt x="6089" y="7344"/>
                  </a:lnTo>
                  <a:cubicBezTo>
                    <a:pt x="6102" y="7235"/>
                    <a:pt x="6116" y="7125"/>
                    <a:pt x="6129" y="7016"/>
                  </a:cubicBezTo>
                  <a:cubicBezTo>
                    <a:pt x="6146" y="6929"/>
                    <a:pt x="6162" y="6841"/>
                    <a:pt x="6179" y="6754"/>
                  </a:cubicBezTo>
                  <a:cubicBezTo>
                    <a:pt x="6199" y="6680"/>
                    <a:pt x="6220" y="6606"/>
                    <a:pt x="6240" y="6531"/>
                  </a:cubicBezTo>
                  <a:cubicBezTo>
                    <a:pt x="6253" y="6505"/>
                    <a:pt x="6267" y="6479"/>
                    <a:pt x="6280" y="6453"/>
                  </a:cubicBezTo>
                  <a:cubicBezTo>
                    <a:pt x="6294" y="6425"/>
                    <a:pt x="6307" y="6396"/>
                    <a:pt x="6321" y="6366"/>
                  </a:cubicBezTo>
                  <a:cubicBezTo>
                    <a:pt x="6331" y="6348"/>
                    <a:pt x="6341" y="6327"/>
                    <a:pt x="6351" y="6309"/>
                  </a:cubicBezTo>
                  <a:lnTo>
                    <a:pt x="6401" y="6250"/>
                  </a:lnTo>
                  <a:cubicBezTo>
                    <a:pt x="6418" y="6235"/>
                    <a:pt x="6435" y="6218"/>
                    <a:pt x="6452" y="6202"/>
                  </a:cubicBezTo>
                  <a:cubicBezTo>
                    <a:pt x="6472" y="6190"/>
                    <a:pt x="6492" y="6175"/>
                    <a:pt x="6512" y="6163"/>
                  </a:cubicBezTo>
                  <a:cubicBezTo>
                    <a:pt x="6529" y="6154"/>
                    <a:pt x="6546" y="6143"/>
                    <a:pt x="6563" y="6134"/>
                  </a:cubicBezTo>
                  <a:lnTo>
                    <a:pt x="6623" y="6125"/>
                  </a:lnTo>
                  <a:lnTo>
                    <a:pt x="6694" y="6105"/>
                  </a:lnTo>
                  <a:lnTo>
                    <a:pt x="6774" y="6096"/>
                  </a:lnTo>
                  <a:lnTo>
                    <a:pt x="6774" y="6096"/>
                  </a:lnTo>
                  <a:lnTo>
                    <a:pt x="6774" y="6096"/>
                  </a:lnTo>
                  <a:lnTo>
                    <a:pt x="6774" y="6096"/>
                  </a:lnTo>
                  <a:lnTo>
                    <a:pt x="6774" y="6096"/>
                  </a:lnTo>
                  <a:lnTo>
                    <a:pt x="6774" y="6096"/>
                  </a:lnTo>
                  <a:lnTo>
                    <a:pt x="6774" y="6096"/>
                  </a:lnTo>
                  <a:lnTo>
                    <a:pt x="6774" y="6096"/>
                  </a:lnTo>
                  <a:lnTo>
                    <a:pt x="6875" y="6105"/>
                  </a:lnTo>
                  <a:lnTo>
                    <a:pt x="7006" y="6134"/>
                  </a:lnTo>
                  <a:lnTo>
                    <a:pt x="7137" y="6154"/>
                  </a:lnTo>
                  <a:cubicBezTo>
                    <a:pt x="7181" y="6169"/>
                    <a:pt x="7224" y="6187"/>
                    <a:pt x="7268" y="6202"/>
                  </a:cubicBezTo>
                  <a:lnTo>
                    <a:pt x="7601" y="6318"/>
                  </a:lnTo>
                  <a:lnTo>
                    <a:pt x="7964" y="6464"/>
                  </a:lnTo>
                  <a:lnTo>
                    <a:pt x="7964" y="6464"/>
                  </a:lnTo>
                  <a:lnTo>
                    <a:pt x="7984" y="6464"/>
                  </a:lnTo>
                  <a:lnTo>
                    <a:pt x="7984" y="6464"/>
                  </a:lnTo>
                  <a:lnTo>
                    <a:pt x="7994" y="6464"/>
                  </a:lnTo>
                  <a:lnTo>
                    <a:pt x="7994" y="6464"/>
                  </a:lnTo>
                  <a:lnTo>
                    <a:pt x="8216" y="6540"/>
                  </a:lnTo>
                  <a:lnTo>
                    <a:pt x="8407" y="6601"/>
                  </a:lnTo>
                  <a:lnTo>
                    <a:pt x="8599" y="6639"/>
                  </a:lnTo>
                  <a:lnTo>
                    <a:pt x="8770" y="6648"/>
                  </a:lnTo>
                  <a:lnTo>
                    <a:pt x="8770" y="6648"/>
                  </a:lnTo>
                  <a:lnTo>
                    <a:pt x="8770" y="6648"/>
                  </a:lnTo>
                  <a:lnTo>
                    <a:pt x="8770" y="6648"/>
                  </a:lnTo>
                  <a:lnTo>
                    <a:pt x="8770" y="6648"/>
                  </a:lnTo>
                  <a:lnTo>
                    <a:pt x="8770" y="6648"/>
                  </a:lnTo>
                  <a:lnTo>
                    <a:pt x="8911" y="6639"/>
                  </a:lnTo>
                  <a:cubicBezTo>
                    <a:pt x="8951" y="6625"/>
                    <a:pt x="8992" y="6613"/>
                    <a:pt x="9032" y="6601"/>
                  </a:cubicBezTo>
                  <a:cubicBezTo>
                    <a:pt x="9052" y="6595"/>
                    <a:pt x="9073" y="6585"/>
                    <a:pt x="9093" y="6578"/>
                  </a:cubicBezTo>
                  <a:cubicBezTo>
                    <a:pt x="9110" y="6570"/>
                    <a:pt x="9126" y="6560"/>
                    <a:pt x="9143" y="6550"/>
                  </a:cubicBezTo>
                  <a:cubicBezTo>
                    <a:pt x="9160" y="6540"/>
                    <a:pt x="9177" y="6532"/>
                    <a:pt x="9194" y="6522"/>
                  </a:cubicBezTo>
                  <a:cubicBezTo>
                    <a:pt x="9211" y="6506"/>
                    <a:pt x="9227" y="6489"/>
                    <a:pt x="9244" y="6473"/>
                  </a:cubicBezTo>
                  <a:cubicBezTo>
                    <a:pt x="9254" y="6458"/>
                    <a:pt x="9264" y="6440"/>
                    <a:pt x="9274" y="6426"/>
                  </a:cubicBezTo>
                  <a:cubicBezTo>
                    <a:pt x="9288" y="6406"/>
                    <a:pt x="9301" y="6386"/>
                    <a:pt x="9315" y="6366"/>
                  </a:cubicBezTo>
                  <a:cubicBezTo>
                    <a:pt x="9335" y="6322"/>
                    <a:pt x="9355" y="6277"/>
                    <a:pt x="9375" y="6232"/>
                  </a:cubicBezTo>
                  <a:cubicBezTo>
                    <a:pt x="9392" y="6169"/>
                    <a:pt x="9408" y="6108"/>
                    <a:pt x="9425" y="6047"/>
                  </a:cubicBezTo>
                  <a:cubicBezTo>
                    <a:pt x="9432" y="5984"/>
                    <a:pt x="9439" y="5917"/>
                    <a:pt x="9446" y="5853"/>
                  </a:cubicBezTo>
                  <a:cubicBezTo>
                    <a:pt x="9449" y="5770"/>
                    <a:pt x="9453" y="5685"/>
                    <a:pt x="9456" y="5600"/>
                  </a:cubicBezTo>
                  <a:cubicBezTo>
                    <a:pt x="9453" y="5511"/>
                    <a:pt x="9449" y="5419"/>
                    <a:pt x="9446" y="5330"/>
                  </a:cubicBezTo>
                  <a:cubicBezTo>
                    <a:pt x="9436" y="5225"/>
                    <a:pt x="9425" y="5123"/>
                    <a:pt x="9415" y="5020"/>
                  </a:cubicBezTo>
                  <a:cubicBezTo>
                    <a:pt x="9398" y="4896"/>
                    <a:pt x="9382" y="4774"/>
                    <a:pt x="9365" y="4650"/>
                  </a:cubicBezTo>
                  <a:cubicBezTo>
                    <a:pt x="9338" y="4519"/>
                    <a:pt x="9311" y="4386"/>
                    <a:pt x="9284" y="4254"/>
                  </a:cubicBezTo>
                  <a:cubicBezTo>
                    <a:pt x="9257" y="4098"/>
                    <a:pt x="9231" y="3944"/>
                    <a:pt x="9204" y="3789"/>
                  </a:cubicBezTo>
                  <a:cubicBezTo>
                    <a:pt x="9164" y="3627"/>
                    <a:pt x="9123" y="3466"/>
                    <a:pt x="9083" y="3304"/>
                  </a:cubicBezTo>
                  <a:cubicBezTo>
                    <a:pt x="9032" y="3124"/>
                    <a:pt x="8982" y="2943"/>
                    <a:pt x="8931" y="2763"/>
                  </a:cubicBezTo>
                  <a:lnTo>
                    <a:pt x="8931" y="2763"/>
                  </a:lnTo>
                  <a:lnTo>
                    <a:pt x="8931" y="2723"/>
                  </a:lnTo>
                  <a:lnTo>
                    <a:pt x="8931" y="2723"/>
                  </a:lnTo>
                  <a:lnTo>
                    <a:pt x="8921" y="2713"/>
                  </a:lnTo>
                  <a:lnTo>
                    <a:pt x="8921" y="2713"/>
                  </a:lnTo>
                  <a:cubicBezTo>
                    <a:pt x="8918" y="2698"/>
                    <a:pt x="8914" y="2680"/>
                    <a:pt x="8911" y="2665"/>
                  </a:cubicBezTo>
                  <a:lnTo>
                    <a:pt x="8911" y="2665"/>
                  </a:lnTo>
                  <a:lnTo>
                    <a:pt x="8911" y="2656"/>
                  </a:lnTo>
                  <a:lnTo>
                    <a:pt x="8911" y="2656"/>
                  </a:lnTo>
                  <a:lnTo>
                    <a:pt x="8911" y="2656"/>
                  </a:lnTo>
                  <a:lnTo>
                    <a:pt x="8911" y="2656"/>
                  </a:lnTo>
                  <a:lnTo>
                    <a:pt x="8478" y="2685"/>
                  </a:lnTo>
                  <a:lnTo>
                    <a:pt x="8044" y="2723"/>
                  </a:lnTo>
                  <a:lnTo>
                    <a:pt x="7147" y="2819"/>
                  </a:lnTo>
                  <a:lnTo>
                    <a:pt x="6300" y="2917"/>
                  </a:lnTo>
                  <a:lnTo>
                    <a:pt x="5917" y="2946"/>
                  </a:lnTo>
                  <a:lnTo>
                    <a:pt x="5554" y="2975"/>
                  </a:lnTo>
                  <a:lnTo>
                    <a:pt x="5554" y="2975"/>
                  </a:lnTo>
                  <a:lnTo>
                    <a:pt x="5484" y="2975"/>
                  </a:lnTo>
                  <a:lnTo>
                    <a:pt x="5484" y="2975"/>
                  </a:lnTo>
                  <a:lnTo>
                    <a:pt x="5484" y="2975"/>
                  </a:lnTo>
                  <a:lnTo>
                    <a:pt x="5484" y="2975"/>
                  </a:lnTo>
                  <a:lnTo>
                    <a:pt x="5484" y="2975"/>
                  </a:lnTo>
                  <a:lnTo>
                    <a:pt x="5484" y="2975"/>
                  </a:lnTo>
                  <a:lnTo>
                    <a:pt x="5484" y="2975"/>
                  </a:lnTo>
                  <a:lnTo>
                    <a:pt x="5313" y="2955"/>
                  </a:lnTo>
                  <a:lnTo>
                    <a:pt x="5151" y="2927"/>
                  </a:lnTo>
                  <a:cubicBezTo>
                    <a:pt x="5111" y="2907"/>
                    <a:pt x="5070" y="2888"/>
                    <a:pt x="5030" y="2868"/>
                  </a:cubicBezTo>
                  <a:lnTo>
                    <a:pt x="4919" y="2790"/>
                  </a:lnTo>
                  <a:cubicBezTo>
                    <a:pt x="4889" y="2762"/>
                    <a:pt x="4859" y="2734"/>
                    <a:pt x="4829" y="2703"/>
                  </a:cubicBezTo>
                  <a:cubicBezTo>
                    <a:pt x="4802" y="2667"/>
                    <a:pt x="4775" y="2633"/>
                    <a:pt x="4748" y="2597"/>
                  </a:cubicBezTo>
                  <a:cubicBezTo>
                    <a:pt x="4735" y="2559"/>
                    <a:pt x="4721" y="2520"/>
                    <a:pt x="4708" y="2482"/>
                  </a:cubicBezTo>
                  <a:cubicBezTo>
                    <a:pt x="4694" y="2436"/>
                    <a:pt x="4681" y="2390"/>
                    <a:pt x="4667" y="2346"/>
                  </a:cubicBezTo>
                  <a:cubicBezTo>
                    <a:pt x="4657" y="2300"/>
                    <a:pt x="4647" y="2254"/>
                    <a:pt x="4637" y="2210"/>
                  </a:cubicBezTo>
                  <a:cubicBezTo>
                    <a:pt x="4634" y="2161"/>
                    <a:pt x="4630" y="2113"/>
                    <a:pt x="4627" y="2065"/>
                  </a:cubicBezTo>
                  <a:lnTo>
                    <a:pt x="4627" y="1909"/>
                  </a:lnTo>
                  <a:cubicBezTo>
                    <a:pt x="4630" y="1862"/>
                    <a:pt x="4634" y="1811"/>
                    <a:pt x="4637" y="1762"/>
                  </a:cubicBezTo>
                  <a:cubicBezTo>
                    <a:pt x="4647" y="1707"/>
                    <a:pt x="4657" y="1654"/>
                    <a:pt x="4667" y="1598"/>
                  </a:cubicBezTo>
                  <a:cubicBezTo>
                    <a:pt x="4674" y="1547"/>
                    <a:pt x="4681" y="1495"/>
                    <a:pt x="4688" y="1443"/>
                  </a:cubicBezTo>
                  <a:cubicBezTo>
                    <a:pt x="4701" y="1391"/>
                    <a:pt x="4715" y="1341"/>
                    <a:pt x="4728" y="1289"/>
                  </a:cubicBezTo>
                  <a:cubicBezTo>
                    <a:pt x="4745" y="1237"/>
                    <a:pt x="4761" y="1185"/>
                    <a:pt x="4778" y="1134"/>
                  </a:cubicBezTo>
                  <a:lnTo>
                    <a:pt x="4778" y="1134"/>
                  </a:lnTo>
                  <a:lnTo>
                    <a:pt x="4778" y="1134"/>
                  </a:lnTo>
                  <a:lnTo>
                    <a:pt x="4778" y="1134"/>
                  </a:lnTo>
                  <a:lnTo>
                    <a:pt x="4778" y="1134"/>
                  </a:lnTo>
                  <a:lnTo>
                    <a:pt x="4778" y="1134"/>
                  </a:lnTo>
                  <a:cubicBezTo>
                    <a:pt x="4781" y="1131"/>
                    <a:pt x="4785" y="1128"/>
                    <a:pt x="4788" y="1123"/>
                  </a:cubicBezTo>
                  <a:lnTo>
                    <a:pt x="4788" y="1123"/>
                  </a:lnTo>
                  <a:lnTo>
                    <a:pt x="4788" y="1123"/>
                  </a:lnTo>
                  <a:lnTo>
                    <a:pt x="4788" y="1123"/>
                  </a:lnTo>
                  <a:lnTo>
                    <a:pt x="4788" y="1114"/>
                  </a:lnTo>
                  <a:lnTo>
                    <a:pt x="4788" y="1114"/>
                  </a:lnTo>
                  <a:lnTo>
                    <a:pt x="4788" y="1114"/>
                  </a:lnTo>
                  <a:lnTo>
                    <a:pt x="4788" y="1114"/>
                  </a:lnTo>
                  <a:lnTo>
                    <a:pt x="4788" y="1104"/>
                  </a:lnTo>
                  <a:lnTo>
                    <a:pt x="4788" y="1104"/>
                  </a:lnTo>
                  <a:lnTo>
                    <a:pt x="4788" y="1104"/>
                  </a:lnTo>
                  <a:lnTo>
                    <a:pt x="4788" y="1104"/>
                  </a:lnTo>
                  <a:lnTo>
                    <a:pt x="4788" y="1094"/>
                  </a:lnTo>
                  <a:lnTo>
                    <a:pt x="4788" y="1094"/>
                  </a:lnTo>
                  <a:cubicBezTo>
                    <a:pt x="4812" y="1014"/>
                    <a:pt x="4835" y="933"/>
                    <a:pt x="4859" y="853"/>
                  </a:cubicBezTo>
                  <a:cubicBezTo>
                    <a:pt x="4876" y="781"/>
                    <a:pt x="4892" y="710"/>
                    <a:pt x="4909" y="640"/>
                  </a:cubicBezTo>
                  <a:cubicBezTo>
                    <a:pt x="4912" y="611"/>
                    <a:pt x="4916" y="582"/>
                    <a:pt x="4919" y="553"/>
                  </a:cubicBezTo>
                  <a:lnTo>
                    <a:pt x="4919" y="454"/>
                  </a:lnTo>
                  <a:cubicBezTo>
                    <a:pt x="4916" y="429"/>
                    <a:pt x="4912" y="404"/>
                    <a:pt x="4909" y="377"/>
                  </a:cubicBezTo>
                  <a:cubicBezTo>
                    <a:pt x="4906" y="353"/>
                    <a:pt x="4902" y="326"/>
                    <a:pt x="4899" y="300"/>
                  </a:cubicBezTo>
                  <a:cubicBezTo>
                    <a:pt x="4886" y="278"/>
                    <a:pt x="4872" y="256"/>
                    <a:pt x="4859" y="233"/>
                  </a:cubicBezTo>
                  <a:cubicBezTo>
                    <a:pt x="4849" y="214"/>
                    <a:pt x="4839" y="194"/>
                    <a:pt x="4829" y="175"/>
                  </a:cubicBezTo>
                  <a:lnTo>
                    <a:pt x="4778" y="115"/>
                  </a:lnTo>
                  <a:cubicBezTo>
                    <a:pt x="4755" y="103"/>
                    <a:pt x="4731" y="90"/>
                    <a:pt x="4708" y="77"/>
                  </a:cubicBezTo>
                  <a:cubicBezTo>
                    <a:pt x="4681" y="68"/>
                    <a:pt x="4654" y="59"/>
                    <a:pt x="4627" y="47"/>
                  </a:cubicBezTo>
                  <a:cubicBezTo>
                    <a:pt x="4597" y="35"/>
                    <a:pt x="4566" y="24"/>
                    <a:pt x="4536" y="9"/>
                  </a:cubicBezTo>
                  <a:lnTo>
                    <a:pt x="4425" y="0"/>
                  </a:lnTo>
                  <a:lnTo>
                    <a:pt x="4304" y="0"/>
                  </a:lnTo>
                  <a:lnTo>
                    <a:pt x="4304" y="0"/>
                  </a:lnTo>
                  <a:lnTo>
                    <a:pt x="4304" y="0"/>
                  </a:lnTo>
                  <a:close/>
                </a:path>
              </a:pathLst>
            </a:custGeom>
            <a:solidFill>
              <a:srgbClr val="e52c50"/>
            </a:solidFill>
            <a:ln w="0">
              <a:noFill/>
            </a:ln>
            <a:scene3d>
              <a:camera prst="orthographicFront">
                <a:rot lat="0" lon="0" rev="0"/>
              </a:camera>
              <a:lightRig dir="t" rig="soft">
                <a:rot lat="0" lon="0" rev="0"/>
              </a:lightRig>
            </a:scene3d>
            <a:sp3d contourW="44450" prstMaterial="matte">
              <a:bevelT prst="artDeco" w="63500" h="63500"/>
              <a:contourClr>
                <a:srgbClr val="ffffff"/>
              </a:contourClr>
            </a:sp3d>
          </p:spPr>
          <p:style>
            <a:lnRef idx="0"/>
            <a:fillRef idx="0"/>
            <a:effectRef idx="0"/>
            <a:fontRef idx="minor"/>
          </p:style>
          <p:txBody>
            <a:bodyPr numCol="1" spcCol="0" anchor="t">
              <a:noAutofit/>
            </a:bodyPr>
            <a:p>
              <a:pPr>
                <a:lnSpc>
                  <a:spcPct val="100000"/>
                </a:lnSpc>
              </a:pPr>
              <a:endParaRPr b="0" lang="fr-FR" sz="1200" spc="-1" strike="noStrike">
                <a:solidFill>
                  <a:srgbClr val="344246"/>
                </a:solidFill>
                <a:latin typeface="Calibri"/>
              </a:endParaRPr>
            </a:p>
          </p:txBody>
        </p:sp>
        <p:sp>
          <p:nvSpPr>
            <p:cNvPr id="233" name="Freeform 142"/>
            <p:cNvSpPr/>
            <p:nvPr/>
          </p:nvSpPr>
          <p:spPr>
            <a:xfrm rot="18900000">
              <a:off x="6184080" y="3737160"/>
              <a:ext cx="1513800" cy="1152720"/>
            </a:xfrm>
            <a:custGeom>
              <a:avLst/>
              <a:gdLst>
                <a:gd name="textAreaLeft" fmla="*/ 0 w 1513800"/>
                <a:gd name="textAreaRight" fmla="*/ 1514160 w 1513800"/>
                <a:gd name="textAreaTop" fmla="*/ 0 h 1152720"/>
                <a:gd name="textAreaBottom" fmla="*/ 1153080 h 1152720"/>
              </a:gdLst>
              <a:ahLst/>
              <a:rect l="textAreaLeft" t="textAreaTop" r="textAreaRight" b="textAreaBottom"/>
              <a:pathLst>
                <a:path w="9995" h="10000">
                  <a:moveTo>
                    <a:pt x="9974" y="197"/>
                  </a:moveTo>
                  <a:cubicBezTo>
                    <a:pt x="9974" y="-1"/>
                    <a:pt x="9540" y="188"/>
                    <a:pt x="9342" y="184"/>
                  </a:cubicBezTo>
                  <a:lnTo>
                    <a:pt x="8426" y="290"/>
                  </a:lnTo>
                  <a:lnTo>
                    <a:pt x="7670" y="407"/>
                  </a:lnTo>
                  <a:lnTo>
                    <a:pt x="7670" y="407"/>
                  </a:lnTo>
                  <a:lnTo>
                    <a:pt x="7542" y="420"/>
                  </a:lnTo>
                  <a:cubicBezTo>
                    <a:pt x="7505" y="432"/>
                    <a:pt x="7467" y="439"/>
                    <a:pt x="7430" y="448"/>
                  </a:cubicBezTo>
                  <a:cubicBezTo>
                    <a:pt x="7399" y="465"/>
                    <a:pt x="7368" y="483"/>
                    <a:pt x="7337" y="501"/>
                  </a:cubicBezTo>
                  <a:cubicBezTo>
                    <a:pt x="7308" y="510"/>
                    <a:pt x="7280" y="519"/>
                    <a:pt x="7251" y="527"/>
                  </a:cubicBezTo>
                  <a:lnTo>
                    <a:pt x="7173" y="578"/>
                  </a:lnTo>
                  <a:cubicBezTo>
                    <a:pt x="7149" y="601"/>
                    <a:pt x="7127" y="623"/>
                    <a:pt x="7104" y="645"/>
                  </a:cubicBezTo>
                  <a:cubicBezTo>
                    <a:pt x="7084" y="666"/>
                    <a:pt x="7064" y="688"/>
                    <a:pt x="7044" y="709"/>
                  </a:cubicBezTo>
                  <a:cubicBezTo>
                    <a:pt x="7029" y="732"/>
                    <a:pt x="7016" y="753"/>
                    <a:pt x="7001" y="776"/>
                  </a:cubicBezTo>
                  <a:cubicBezTo>
                    <a:pt x="6987" y="794"/>
                    <a:pt x="6972" y="810"/>
                    <a:pt x="6958" y="827"/>
                  </a:cubicBezTo>
                  <a:cubicBezTo>
                    <a:pt x="6950" y="859"/>
                    <a:pt x="6941" y="889"/>
                    <a:pt x="6933" y="920"/>
                  </a:cubicBezTo>
                  <a:cubicBezTo>
                    <a:pt x="6924" y="945"/>
                    <a:pt x="6917" y="973"/>
                    <a:pt x="6907" y="998"/>
                  </a:cubicBezTo>
                  <a:cubicBezTo>
                    <a:pt x="6902" y="1024"/>
                    <a:pt x="6896" y="1050"/>
                    <a:pt x="6891" y="1077"/>
                  </a:cubicBezTo>
                  <a:cubicBezTo>
                    <a:pt x="6888" y="1102"/>
                    <a:pt x="6884" y="1129"/>
                    <a:pt x="6881" y="1155"/>
                  </a:cubicBezTo>
                  <a:lnTo>
                    <a:pt x="6881" y="1248"/>
                  </a:lnTo>
                  <a:cubicBezTo>
                    <a:pt x="6884" y="1305"/>
                    <a:pt x="6888" y="1360"/>
                    <a:pt x="6891" y="1419"/>
                  </a:cubicBezTo>
                  <a:cubicBezTo>
                    <a:pt x="6899" y="1484"/>
                    <a:pt x="6907" y="1549"/>
                    <a:pt x="6917" y="1616"/>
                  </a:cubicBezTo>
                  <a:cubicBezTo>
                    <a:pt x="6936" y="1677"/>
                    <a:pt x="6956" y="1736"/>
                    <a:pt x="6976" y="1799"/>
                  </a:cubicBezTo>
                  <a:cubicBezTo>
                    <a:pt x="6996" y="1869"/>
                    <a:pt x="7016" y="1937"/>
                    <a:pt x="7036" y="2010"/>
                  </a:cubicBezTo>
                  <a:cubicBezTo>
                    <a:pt x="7056" y="2074"/>
                    <a:pt x="7075" y="2141"/>
                    <a:pt x="7095" y="2207"/>
                  </a:cubicBezTo>
                  <a:cubicBezTo>
                    <a:pt x="7146" y="2338"/>
                    <a:pt x="7199" y="2468"/>
                    <a:pt x="7251" y="2600"/>
                  </a:cubicBezTo>
                  <a:cubicBezTo>
                    <a:pt x="7299" y="2718"/>
                    <a:pt x="7349" y="2835"/>
                    <a:pt x="7396" y="2953"/>
                  </a:cubicBezTo>
                  <a:lnTo>
                    <a:pt x="7396" y="2953"/>
                  </a:lnTo>
                  <a:cubicBezTo>
                    <a:pt x="7405" y="2982"/>
                    <a:pt x="7413" y="3007"/>
                    <a:pt x="7422" y="3032"/>
                  </a:cubicBezTo>
                  <a:cubicBezTo>
                    <a:pt x="7427" y="3059"/>
                    <a:pt x="7434" y="3087"/>
                    <a:pt x="7440" y="3111"/>
                  </a:cubicBezTo>
                  <a:cubicBezTo>
                    <a:pt x="7442" y="3138"/>
                    <a:pt x="7445" y="3163"/>
                    <a:pt x="7447" y="3192"/>
                  </a:cubicBezTo>
                  <a:lnTo>
                    <a:pt x="7447" y="3269"/>
                  </a:lnTo>
                  <a:cubicBezTo>
                    <a:pt x="7445" y="3293"/>
                    <a:pt x="7442" y="3324"/>
                    <a:pt x="7440" y="3348"/>
                  </a:cubicBezTo>
                  <a:cubicBezTo>
                    <a:pt x="7436" y="3368"/>
                    <a:pt x="7434" y="3391"/>
                    <a:pt x="7430" y="3413"/>
                  </a:cubicBezTo>
                  <a:cubicBezTo>
                    <a:pt x="7420" y="3440"/>
                    <a:pt x="7408" y="3465"/>
                    <a:pt x="7396" y="3491"/>
                  </a:cubicBezTo>
                  <a:cubicBezTo>
                    <a:pt x="7391" y="3512"/>
                    <a:pt x="7385" y="3538"/>
                    <a:pt x="7380" y="3557"/>
                  </a:cubicBezTo>
                  <a:cubicBezTo>
                    <a:pt x="7351" y="3605"/>
                    <a:pt x="7323" y="3654"/>
                    <a:pt x="7294" y="3700"/>
                  </a:cubicBezTo>
                  <a:cubicBezTo>
                    <a:pt x="7263" y="3737"/>
                    <a:pt x="7230" y="3772"/>
                    <a:pt x="7199" y="3806"/>
                  </a:cubicBezTo>
                  <a:lnTo>
                    <a:pt x="7079" y="3924"/>
                  </a:lnTo>
                  <a:cubicBezTo>
                    <a:pt x="7036" y="3956"/>
                    <a:pt x="6993" y="3986"/>
                    <a:pt x="6951" y="4017"/>
                  </a:cubicBezTo>
                  <a:cubicBezTo>
                    <a:pt x="6902" y="4038"/>
                    <a:pt x="6853" y="4063"/>
                    <a:pt x="6805" y="4084"/>
                  </a:cubicBezTo>
                  <a:cubicBezTo>
                    <a:pt x="6756" y="4104"/>
                    <a:pt x="6708" y="4126"/>
                    <a:pt x="6658" y="4149"/>
                  </a:cubicBezTo>
                  <a:lnTo>
                    <a:pt x="6513" y="4173"/>
                  </a:lnTo>
                  <a:lnTo>
                    <a:pt x="6369" y="4189"/>
                  </a:lnTo>
                  <a:lnTo>
                    <a:pt x="6222" y="4173"/>
                  </a:lnTo>
                  <a:lnTo>
                    <a:pt x="6083" y="4137"/>
                  </a:lnTo>
                  <a:cubicBezTo>
                    <a:pt x="6043" y="4115"/>
                    <a:pt x="6004" y="4092"/>
                    <a:pt x="5964" y="4070"/>
                  </a:cubicBezTo>
                  <a:cubicBezTo>
                    <a:pt x="5945" y="4053"/>
                    <a:pt x="5925" y="4033"/>
                    <a:pt x="5905" y="4017"/>
                  </a:cubicBezTo>
                  <a:cubicBezTo>
                    <a:pt x="5888" y="4002"/>
                    <a:pt x="5870" y="3984"/>
                    <a:pt x="5854" y="3965"/>
                  </a:cubicBezTo>
                  <a:lnTo>
                    <a:pt x="5854" y="3965"/>
                  </a:lnTo>
                  <a:cubicBezTo>
                    <a:pt x="5825" y="3925"/>
                    <a:pt x="5797" y="3888"/>
                    <a:pt x="5768" y="3846"/>
                  </a:cubicBezTo>
                  <a:cubicBezTo>
                    <a:pt x="5741" y="3803"/>
                    <a:pt x="5715" y="3759"/>
                    <a:pt x="5691" y="3715"/>
                  </a:cubicBezTo>
                  <a:cubicBezTo>
                    <a:pt x="5676" y="3663"/>
                    <a:pt x="5662" y="3611"/>
                    <a:pt x="5647" y="3557"/>
                  </a:cubicBezTo>
                  <a:cubicBezTo>
                    <a:pt x="5638" y="3501"/>
                    <a:pt x="5631" y="3444"/>
                    <a:pt x="5621" y="3387"/>
                  </a:cubicBezTo>
                  <a:cubicBezTo>
                    <a:pt x="5612" y="3328"/>
                    <a:pt x="5605" y="3264"/>
                    <a:pt x="5595" y="3204"/>
                  </a:cubicBezTo>
                  <a:lnTo>
                    <a:pt x="5595" y="3021"/>
                  </a:lnTo>
                  <a:cubicBezTo>
                    <a:pt x="5602" y="2950"/>
                    <a:pt x="5608" y="2879"/>
                    <a:pt x="5614" y="2808"/>
                  </a:cubicBezTo>
                  <a:cubicBezTo>
                    <a:pt x="5616" y="2739"/>
                    <a:pt x="5619" y="2669"/>
                    <a:pt x="5621" y="2600"/>
                  </a:cubicBezTo>
                  <a:cubicBezTo>
                    <a:pt x="5638" y="2457"/>
                    <a:pt x="5655" y="2311"/>
                    <a:pt x="5673" y="2165"/>
                  </a:cubicBezTo>
                  <a:cubicBezTo>
                    <a:pt x="5696" y="2026"/>
                    <a:pt x="5718" y="1885"/>
                    <a:pt x="5741" y="1747"/>
                  </a:cubicBezTo>
                  <a:cubicBezTo>
                    <a:pt x="5765" y="1603"/>
                    <a:pt x="5788" y="1458"/>
                    <a:pt x="5810" y="1315"/>
                  </a:cubicBezTo>
                  <a:cubicBezTo>
                    <a:pt x="5816" y="1239"/>
                    <a:pt x="5823" y="1164"/>
                    <a:pt x="5828" y="1089"/>
                  </a:cubicBezTo>
                  <a:cubicBezTo>
                    <a:pt x="5837" y="1024"/>
                    <a:pt x="5845" y="959"/>
                    <a:pt x="5854" y="893"/>
                  </a:cubicBezTo>
                  <a:lnTo>
                    <a:pt x="5854" y="893"/>
                  </a:lnTo>
                  <a:lnTo>
                    <a:pt x="5854" y="801"/>
                  </a:lnTo>
                  <a:lnTo>
                    <a:pt x="5854" y="737"/>
                  </a:lnTo>
                  <a:cubicBezTo>
                    <a:pt x="5845" y="709"/>
                    <a:pt x="5837" y="684"/>
                    <a:pt x="5828" y="657"/>
                  </a:cubicBezTo>
                  <a:cubicBezTo>
                    <a:pt x="5823" y="636"/>
                    <a:pt x="5816" y="614"/>
                    <a:pt x="5810" y="592"/>
                  </a:cubicBezTo>
                  <a:cubicBezTo>
                    <a:pt x="5799" y="569"/>
                    <a:pt x="5788" y="548"/>
                    <a:pt x="5777" y="527"/>
                  </a:cubicBezTo>
                  <a:cubicBezTo>
                    <a:pt x="5766" y="510"/>
                    <a:pt x="5754" y="492"/>
                    <a:pt x="5741" y="474"/>
                  </a:cubicBezTo>
                  <a:cubicBezTo>
                    <a:pt x="5707" y="439"/>
                    <a:pt x="5674" y="403"/>
                    <a:pt x="5639" y="367"/>
                  </a:cubicBezTo>
                  <a:cubicBezTo>
                    <a:pt x="5603" y="336"/>
                    <a:pt x="5564" y="306"/>
                    <a:pt x="5528" y="275"/>
                  </a:cubicBezTo>
                  <a:cubicBezTo>
                    <a:pt x="5479" y="251"/>
                    <a:pt x="5431" y="224"/>
                    <a:pt x="5382" y="198"/>
                  </a:cubicBezTo>
                  <a:lnTo>
                    <a:pt x="5227" y="145"/>
                  </a:lnTo>
                  <a:lnTo>
                    <a:pt x="5048" y="106"/>
                  </a:lnTo>
                  <a:lnTo>
                    <a:pt x="4859" y="67"/>
                  </a:lnTo>
                  <a:lnTo>
                    <a:pt x="4654" y="40"/>
                  </a:lnTo>
                  <a:lnTo>
                    <a:pt x="4242" y="0"/>
                  </a:lnTo>
                  <a:lnTo>
                    <a:pt x="3805" y="0"/>
                  </a:lnTo>
                  <a:lnTo>
                    <a:pt x="3385" y="0"/>
                  </a:lnTo>
                  <a:lnTo>
                    <a:pt x="3385" y="0"/>
                  </a:lnTo>
                  <a:lnTo>
                    <a:pt x="2940" y="27"/>
                  </a:lnTo>
                  <a:lnTo>
                    <a:pt x="2940" y="27"/>
                  </a:lnTo>
                  <a:lnTo>
                    <a:pt x="2664" y="27"/>
                  </a:lnTo>
                  <a:lnTo>
                    <a:pt x="2399" y="40"/>
                  </a:lnTo>
                  <a:lnTo>
                    <a:pt x="2399" y="40"/>
                  </a:lnTo>
                  <a:cubicBezTo>
                    <a:pt x="2451" y="363"/>
                    <a:pt x="2503" y="688"/>
                    <a:pt x="2554" y="1011"/>
                  </a:cubicBezTo>
                  <a:cubicBezTo>
                    <a:pt x="2597" y="1297"/>
                    <a:pt x="2640" y="1580"/>
                    <a:pt x="2681" y="1866"/>
                  </a:cubicBezTo>
                  <a:cubicBezTo>
                    <a:pt x="2710" y="2115"/>
                    <a:pt x="2738" y="2363"/>
                    <a:pt x="2768" y="2612"/>
                  </a:cubicBezTo>
                  <a:cubicBezTo>
                    <a:pt x="2792" y="2830"/>
                    <a:pt x="2815" y="3052"/>
                    <a:pt x="2837" y="3269"/>
                  </a:cubicBezTo>
                  <a:cubicBezTo>
                    <a:pt x="2843" y="3449"/>
                    <a:pt x="2850" y="3627"/>
                    <a:pt x="2855" y="3806"/>
                  </a:cubicBezTo>
                  <a:cubicBezTo>
                    <a:pt x="2857" y="3888"/>
                    <a:pt x="2860" y="3964"/>
                    <a:pt x="2863" y="4042"/>
                  </a:cubicBezTo>
                  <a:cubicBezTo>
                    <a:pt x="2860" y="4116"/>
                    <a:pt x="2857" y="4193"/>
                    <a:pt x="2855" y="4265"/>
                  </a:cubicBezTo>
                  <a:cubicBezTo>
                    <a:pt x="2852" y="4333"/>
                    <a:pt x="2850" y="4397"/>
                    <a:pt x="2846" y="4462"/>
                  </a:cubicBezTo>
                  <a:cubicBezTo>
                    <a:pt x="2843" y="4518"/>
                    <a:pt x="2841" y="4575"/>
                    <a:pt x="2837" y="4632"/>
                  </a:cubicBezTo>
                  <a:cubicBezTo>
                    <a:pt x="2826" y="4687"/>
                    <a:pt x="2814" y="4739"/>
                    <a:pt x="2802" y="4792"/>
                  </a:cubicBezTo>
                  <a:cubicBezTo>
                    <a:pt x="2797" y="4839"/>
                    <a:pt x="2792" y="4889"/>
                    <a:pt x="2786" y="4935"/>
                  </a:cubicBezTo>
                  <a:cubicBezTo>
                    <a:pt x="2770" y="4975"/>
                    <a:pt x="2757" y="5015"/>
                    <a:pt x="2741" y="5053"/>
                  </a:cubicBezTo>
                  <a:cubicBezTo>
                    <a:pt x="2727" y="5090"/>
                    <a:pt x="2712" y="5123"/>
                    <a:pt x="2699" y="5159"/>
                  </a:cubicBezTo>
                  <a:cubicBezTo>
                    <a:pt x="2685" y="5185"/>
                    <a:pt x="2671" y="5211"/>
                    <a:pt x="2657" y="5238"/>
                  </a:cubicBezTo>
                  <a:cubicBezTo>
                    <a:pt x="2640" y="5261"/>
                    <a:pt x="2621" y="5280"/>
                    <a:pt x="2605" y="5303"/>
                  </a:cubicBezTo>
                  <a:cubicBezTo>
                    <a:pt x="2585" y="5325"/>
                    <a:pt x="2565" y="5346"/>
                    <a:pt x="2545" y="5370"/>
                  </a:cubicBezTo>
                  <a:cubicBezTo>
                    <a:pt x="2525" y="5382"/>
                    <a:pt x="2505" y="5395"/>
                    <a:pt x="2485" y="5409"/>
                  </a:cubicBezTo>
                  <a:cubicBezTo>
                    <a:pt x="2463" y="5418"/>
                    <a:pt x="2440" y="5427"/>
                    <a:pt x="2417" y="5435"/>
                  </a:cubicBezTo>
                  <a:cubicBezTo>
                    <a:pt x="2394" y="5439"/>
                    <a:pt x="2372" y="5442"/>
                    <a:pt x="2349" y="5446"/>
                  </a:cubicBezTo>
                  <a:lnTo>
                    <a:pt x="2263" y="5446"/>
                  </a:lnTo>
                  <a:lnTo>
                    <a:pt x="2176" y="5446"/>
                  </a:lnTo>
                  <a:lnTo>
                    <a:pt x="2014" y="5409"/>
                  </a:lnTo>
                  <a:lnTo>
                    <a:pt x="1818" y="5303"/>
                  </a:lnTo>
                  <a:lnTo>
                    <a:pt x="1620" y="5197"/>
                  </a:lnTo>
                  <a:lnTo>
                    <a:pt x="1620" y="5197"/>
                  </a:lnTo>
                  <a:lnTo>
                    <a:pt x="1233" y="4975"/>
                  </a:lnTo>
                  <a:cubicBezTo>
                    <a:pt x="1179" y="4945"/>
                    <a:pt x="1126" y="4913"/>
                    <a:pt x="1071" y="4885"/>
                  </a:cubicBezTo>
                  <a:lnTo>
                    <a:pt x="909" y="4792"/>
                  </a:lnTo>
                  <a:cubicBezTo>
                    <a:pt x="865" y="4780"/>
                    <a:pt x="824" y="4765"/>
                    <a:pt x="780" y="4751"/>
                  </a:cubicBezTo>
                  <a:lnTo>
                    <a:pt x="651" y="4713"/>
                  </a:lnTo>
                  <a:cubicBezTo>
                    <a:pt x="615" y="4709"/>
                    <a:pt x="577" y="4706"/>
                    <a:pt x="539" y="4701"/>
                  </a:cubicBezTo>
                  <a:cubicBezTo>
                    <a:pt x="508" y="4713"/>
                    <a:pt x="477" y="4726"/>
                    <a:pt x="446" y="4739"/>
                  </a:cubicBezTo>
                  <a:cubicBezTo>
                    <a:pt x="429" y="4747"/>
                    <a:pt x="411" y="4757"/>
                    <a:pt x="395" y="4765"/>
                  </a:cubicBezTo>
                  <a:cubicBezTo>
                    <a:pt x="380" y="4776"/>
                    <a:pt x="366" y="4782"/>
                    <a:pt x="351" y="4792"/>
                  </a:cubicBezTo>
                  <a:cubicBezTo>
                    <a:pt x="337" y="4809"/>
                    <a:pt x="324" y="4827"/>
                    <a:pt x="309" y="4844"/>
                  </a:cubicBezTo>
                  <a:cubicBezTo>
                    <a:pt x="298" y="4862"/>
                    <a:pt x="285" y="4882"/>
                    <a:pt x="275" y="4898"/>
                  </a:cubicBezTo>
                  <a:cubicBezTo>
                    <a:pt x="254" y="4935"/>
                    <a:pt x="234" y="4976"/>
                    <a:pt x="213" y="5015"/>
                  </a:cubicBezTo>
                  <a:cubicBezTo>
                    <a:pt x="193" y="5077"/>
                    <a:pt x="174" y="5137"/>
                    <a:pt x="153" y="5197"/>
                  </a:cubicBezTo>
                  <a:cubicBezTo>
                    <a:pt x="136" y="5273"/>
                    <a:pt x="119" y="5346"/>
                    <a:pt x="102" y="5422"/>
                  </a:cubicBezTo>
                  <a:cubicBezTo>
                    <a:pt x="88" y="5518"/>
                    <a:pt x="74" y="5615"/>
                    <a:pt x="60" y="5711"/>
                  </a:cubicBezTo>
                  <a:cubicBezTo>
                    <a:pt x="49" y="5817"/>
                    <a:pt x="36" y="5920"/>
                    <a:pt x="26" y="6024"/>
                  </a:cubicBezTo>
                  <a:cubicBezTo>
                    <a:pt x="17" y="6147"/>
                    <a:pt x="9" y="6270"/>
                    <a:pt x="0" y="6392"/>
                  </a:cubicBezTo>
                  <a:lnTo>
                    <a:pt x="0" y="6392"/>
                  </a:lnTo>
                  <a:lnTo>
                    <a:pt x="0" y="6605"/>
                  </a:lnTo>
                  <a:lnTo>
                    <a:pt x="0" y="6772"/>
                  </a:lnTo>
                  <a:cubicBezTo>
                    <a:pt x="3" y="6821"/>
                    <a:pt x="5" y="6868"/>
                    <a:pt x="9" y="6917"/>
                  </a:cubicBezTo>
                  <a:cubicBezTo>
                    <a:pt x="14" y="6966"/>
                    <a:pt x="20" y="7015"/>
                    <a:pt x="26" y="7062"/>
                  </a:cubicBezTo>
                  <a:cubicBezTo>
                    <a:pt x="36" y="7099"/>
                    <a:pt x="49" y="7143"/>
                    <a:pt x="60" y="7180"/>
                  </a:cubicBezTo>
                  <a:cubicBezTo>
                    <a:pt x="71" y="7215"/>
                    <a:pt x="84" y="7251"/>
                    <a:pt x="94" y="7287"/>
                  </a:cubicBezTo>
                  <a:cubicBezTo>
                    <a:pt x="105" y="7315"/>
                    <a:pt x="117" y="7347"/>
                    <a:pt x="128" y="7377"/>
                  </a:cubicBezTo>
                  <a:cubicBezTo>
                    <a:pt x="145" y="7404"/>
                    <a:pt x="162" y="7430"/>
                    <a:pt x="179" y="7455"/>
                  </a:cubicBezTo>
                  <a:lnTo>
                    <a:pt x="239" y="7509"/>
                  </a:lnTo>
                  <a:cubicBezTo>
                    <a:pt x="260" y="7526"/>
                    <a:pt x="280" y="7544"/>
                    <a:pt x="300" y="7561"/>
                  </a:cubicBezTo>
                  <a:cubicBezTo>
                    <a:pt x="320" y="7575"/>
                    <a:pt x="340" y="7587"/>
                    <a:pt x="360" y="7600"/>
                  </a:cubicBezTo>
                  <a:lnTo>
                    <a:pt x="437" y="7627"/>
                  </a:lnTo>
                  <a:lnTo>
                    <a:pt x="504" y="7652"/>
                  </a:lnTo>
                  <a:lnTo>
                    <a:pt x="591" y="7652"/>
                  </a:lnTo>
                  <a:lnTo>
                    <a:pt x="755" y="7652"/>
                  </a:lnTo>
                  <a:lnTo>
                    <a:pt x="934" y="7615"/>
                  </a:lnTo>
                  <a:lnTo>
                    <a:pt x="1106" y="7561"/>
                  </a:lnTo>
                  <a:lnTo>
                    <a:pt x="1465" y="7430"/>
                  </a:lnTo>
                  <a:lnTo>
                    <a:pt x="1791" y="7299"/>
                  </a:lnTo>
                  <a:cubicBezTo>
                    <a:pt x="1837" y="7277"/>
                    <a:pt x="1882" y="7254"/>
                    <a:pt x="1928" y="7232"/>
                  </a:cubicBezTo>
                  <a:lnTo>
                    <a:pt x="2057" y="7219"/>
                  </a:lnTo>
                  <a:lnTo>
                    <a:pt x="2057" y="7219"/>
                  </a:lnTo>
                  <a:lnTo>
                    <a:pt x="2297" y="7180"/>
                  </a:lnTo>
                  <a:lnTo>
                    <a:pt x="2417" y="7180"/>
                  </a:lnTo>
                  <a:lnTo>
                    <a:pt x="2554" y="7204"/>
                  </a:lnTo>
                  <a:lnTo>
                    <a:pt x="2691" y="7232"/>
                  </a:lnTo>
                  <a:cubicBezTo>
                    <a:pt x="2710" y="7243"/>
                    <a:pt x="2730" y="7251"/>
                    <a:pt x="2751" y="7260"/>
                  </a:cubicBezTo>
                  <a:cubicBezTo>
                    <a:pt x="2770" y="7277"/>
                    <a:pt x="2792" y="7295"/>
                    <a:pt x="2812" y="7311"/>
                  </a:cubicBezTo>
                  <a:cubicBezTo>
                    <a:pt x="2835" y="7333"/>
                    <a:pt x="2857" y="7357"/>
                    <a:pt x="2881" y="7377"/>
                  </a:cubicBezTo>
                  <a:cubicBezTo>
                    <a:pt x="2897" y="7401"/>
                    <a:pt x="2915" y="7420"/>
                    <a:pt x="2932" y="7443"/>
                  </a:cubicBezTo>
                  <a:cubicBezTo>
                    <a:pt x="2952" y="7469"/>
                    <a:pt x="2972" y="7495"/>
                    <a:pt x="2992" y="7522"/>
                  </a:cubicBezTo>
                  <a:cubicBezTo>
                    <a:pt x="3008" y="7553"/>
                    <a:pt x="3027" y="7583"/>
                    <a:pt x="3043" y="7615"/>
                  </a:cubicBezTo>
                  <a:cubicBezTo>
                    <a:pt x="3060" y="7644"/>
                    <a:pt x="3077" y="7673"/>
                    <a:pt x="3094" y="7706"/>
                  </a:cubicBezTo>
                  <a:cubicBezTo>
                    <a:pt x="3108" y="7747"/>
                    <a:pt x="3122" y="7791"/>
                    <a:pt x="3136" y="7836"/>
                  </a:cubicBezTo>
                  <a:cubicBezTo>
                    <a:pt x="3151" y="7884"/>
                    <a:pt x="3165" y="7932"/>
                    <a:pt x="3180" y="7979"/>
                  </a:cubicBezTo>
                  <a:cubicBezTo>
                    <a:pt x="3194" y="8032"/>
                    <a:pt x="3208" y="8086"/>
                    <a:pt x="3222" y="8138"/>
                  </a:cubicBezTo>
                  <a:cubicBezTo>
                    <a:pt x="3230" y="8193"/>
                    <a:pt x="3239" y="8253"/>
                    <a:pt x="3248" y="8308"/>
                  </a:cubicBezTo>
                  <a:cubicBezTo>
                    <a:pt x="3257" y="8379"/>
                    <a:pt x="3265" y="8447"/>
                    <a:pt x="3274" y="8519"/>
                  </a:cubicBezTo>
                  <a:cubicBezTo>
                    <a:pt x="3280" y="8588"/>
                    <a:pt x="3286" y="8659"/>
                    <a:pt x="3292" y="8728"/>
                  </a:cubicBezTo>
                  <a:cubicBezTo>
                    <a:pt x="3301" y="8809"/>
                    <a:pt x="3309" y="8886"/>
                    <a:pt x="3317" y="8966"/>
                  </a:cubicBezTo>
                  <a:cubicBezTo>
                    <a:pt x="3319" y="9058"/>
                    <a:pt x="3323" y="9148"/>
                    <a:pt x="3325" y="9242"/>
                  </a:cubicBezTo>
                  <a:lnTo>
                    <a:pt x="3325" y="9530"/>
                  </a:lnTo>
                  <a:cubicBezTo>
                    <a:pt x="3323" y="9631"/>
                    <a:pt x="3339" y="9880"/>
                    <a:pt x="3337" y="9982"/>
                  </a:cubicBezTo>
                  <a:lnTo>
                    <a:pt x="9995" y="10000"/>
                  </a:lnTo>
                  <a:cubicBezTo>
                    <a:pt x="9961" y="-2008"/>
                    <a:pt x="9989" y="11905"/>
                    <a:pt x="9974" y="197"/>
                  </a:cubicBezTo>
                  <a:close/>
                </a:path>
              </a:pathLst>
            </a:custGeom>
            <a:solidFill>
              <a:srgbClr val="ec660d"/>
            </a:solidFill>
            <a:ln w="0">
              <a:noFill/>
            </a:ln>
            <a:scene3d>
              <a:camera prst="orthographicFront">
                <a:rot lat="0" lon="0" rev="0"/>
              </a:camera>
              <a:lightRig dir="t" rig="soft">
                <a:rot lat="0" lon="0" rev="0"/>
              </a:lightRig>
            </a:scene3d>
            <a:sp3d contourW="44450" prstMaterial="matte">
              <a:bevelT prst="artDeco" w="63500" h="63500"/>
              <a:contourClr>
                <a:srgbClr val="ffffff"/>
              </a:contourClr>
            </a:sp3d>
          </p:spPr>
          <p:style>
            <a:lnRef idx="0"/>
            <a:fillRef idx="0"/>
            <a:effectRef idx="0"/>
            <a:fontRef idx="minor"/>
          </p:style>
          <p:txBody>
            <a:bodyPr numCol="1" spcCol="0" anchor="t">
              <a:noAutofit/>
            </a:bodyPr>
            <a:p>
              <a:pPr>
                <a:lnSpc>
                  <a:spcPct val="100000"/>
                </a:lnSpc>
              </a:pPr>
              <a:endParaRPr b="0" lang="fr-FR" sz="1200" spc="-1" strike="noStrike">
                <a:solidFill>
                  <a:srgbClr val="344246"/>
                </a:solidFill>
                <a:latin typeface="Calibri"/>
              </a:endParaRPr>
            </a:p>
          </p:txBody>
        </p:sp>
        <p:sp>
          <p:nvSpPr>
            <p:cNvPr id="234" name="ZoneTexte 20"/>
            <p:cNvSpPr/>
            <p:nvPr/>
          </p:nvSpPr>
          <p:spPr>
            <a:xfrm>
              <a:off x="5663160" y="3014640"/>
              <a:ext cx="11746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cap="small">
                  <a:solidFill>
                    <a:srgbClr val="ffffff"/>
                  </a:solidFill>
                  <a:latin typeface="Calibri"/>
                </a:rPr>
                <a:t>Strengths</a:t>
              </a:r>
              <a:endParaRPr b="0" lang="en-US" sz="1600" spc="-1" strike="noStrike">
                <a:solidFill>
                  <a:srgbClr val="000000"/>
                </a:solidFill>
                <a:latin typeface="Arial"/>
              </a:endParaRPr>
            </a:p>
          </p:txBody>
        </p:sp>
        <p:sp>
          <p:nvSpPr>
            <p:cNvPr id="235" name="ZoneTexte 21"/>
            <p:cNvSpPr/>
            <p:nvPr/>
          </p:nvSpPr>
          <p:spPr>
            <a:xfrm>
              <a:off x="4698720" y="3955320"/>
              <a:ext cx="131184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cap="small">
                  <a:solidFill>
                    <a:srgbClr val="ffffff"/>
                  </a:solidFill>
                  <a:latin typeface="Calibri"/>
                </a:rPr>
                <a:t>Weaknesses</a:t>
              </a:r>
              <a:endParaRPr b="0" lang="en-US" sz="1600" spc="-1" strike="noStrike">
                <a:solidFill>
                  <a:srgbClr val="000000"/>
                </a:solidFill>
                <a:latin typeface="Arial"/>
              </a:endParaRPr>
            </a:p>
          </p:txBody>
        </p:sp>
        <p:sp>
          <p:nvSpPr>
            <p:cNvPr id="236" name="ZoneTexte 22"/>
            <p:cNvSpPr/>
            <p:nvPr/>
          </p:nvSpPr>
          <p:spPr>
            <a:xfrm>
              <a:off x="6323760" y="4104000"/>
              <a:ext cx="155124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cap="small">
                  <a:solidFill>
                    <a:srgbClr val="ffffff"/>
                  </a:solidFill>
                  <a:latin typeface="Calibri"/>
                </a:rPr>
                <a:t>Opportunities</a:t>
              </a:r>
              <a:endParaRPr b="0" lang="en-US" sz="1600" spc="-1" strike="noStrike">
                <a:solidFill>
                  <a:srgbClr val="000000"/>
                </a:solidFill>
                <a:latin typeface="Arial"/>
              </a:endParaRPr>
            </a:p>
          </p:txBody>
        </p:sp>
        <p:sp>
          <p:nvSpPr>
            <p:cNvPr id="237" name="ZoneTexte 23"/>
            <p:cNvSpPr/>
            <p:nvPr/>
          </p:nvSpPr>
          <p:spPr>
            <a:xfrm>
              <a:off x="5790240" y="5104800"/>
              <a:ext cx="9201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cap="small">
                  <a:solidFill>
                    <a:srgbClr val="ffffff"/>
                  </a:solidFill>
                  <a:latin typeface="Calibri"/>
                </a:rPr>
                <a:t>Threats</a:t>
              </a:r>
              <a:endParaRPr b="0" lang="en-US" sz="1600" spc="-1" strike="noStrike">
                <a:solidFill>
                  <a:srgbClr val="000000"/>
                </a:solidFill>
                <a:latin typeface="Arial"/>
              </a:endParaRPr>
            </a:p>
          </p:txBody>
        </p:sp>
      </p:grpSp>
      <p:sp>
        <p:nvSpPr>
          <p:cNvPr id="238" name="Rectangle 8"/>
          <p:cNvSpPr/>
          <p:nvPr/>
        </p:nvSpPr>
        <p:spPr>
          <a:xfrm>
            <a:off x="539640" y="2565360"/>
            <a:ext cx="3596760" cy="3481200"/>
          </a:xfrm>
          <a:prstGeom prst="rect">
            <a:avLst/>
          </a:prstGeom>
          <a:noFill/>
          <a:ln w="9525">
            <a:noFill/>
          </a:ln>
        </p:spPr>
        <p:style>
          <a:lnRef idx="0"/>
          <a:fillRef idx="0"/>
          <a:effectRef idx="0"/>
          <a:fontRef idx="minor"/>
        </p:style>
        <p:txBody>
          <a:bodyPr lIns="0" rIns="0" tIns="45000" bIns="45000" anchor="t">
            <a:noAutofit/>
          </a:bodyPr>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orem ipsum dolor sit amet, risus dolor nulla faucibus, elit amet duis blandit, tellus non mollis purus.</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Iaculis libero et elit nec, morbi nulla velit a, arcu dictum commodo amet.</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0" lang="fr-FR" sz="1400" spc="-1" strike="noStrike">
                <a:solidFill>
                  <a:srgbClr val="e52c50"/>
                </a:solidFill>
                <a:latin typeface="Verdana"/>
              </a:rPr>
              <a:t>Lacus sed nulla id cillum, nulla cras vulputate ut phasellus, elit fermentum turpis vivamus pulvinar.</a:t>
            </a:r>
            <a:endParaRPr b="0" lang="en-US" sz="1400" spc="-1" strike="noStrike">
              <a:solidFill>
                <a:srgbClr val="000000"/>
              </a:solidFill>
              <a:latin typeface="Arial"/>
            </a:endParaRPr>
          </a:p>
        </p:txBody>
      </p:sp>
      <p:sp>
        <p:nvSpPr>
          <p:cNvPr id="239" name="Rectangle 9"/>
          <p:cNvSpPr/>
          <p:nvPr/>
        </p:nvSpPr>
        <p:spPr>
          <a:xfrm>
            <a:off x="539640" y="1557360"/>
            <a:ext cx="5932080" cy="675360"/>
          </a:xfrm>
          <a:prstGeom prst="rect">
            <a:avLst/>
          </a:prstGeom>
          <a:noFill/>
          <a:ln w="9525">
            <a:noFill/>
          </a:ln>
        </p:spPr>
        <p:style>
          <a:lnRef idx="0"/>
          <a:fillRef idx="0"/>
          <a:effectRef idx="0"/>
          <a:fontRef idx="minor"/>
        </p:style>
        <p:txBody>
          <a:bodyPr lIns="0" rIns="0" tIns="0" bIns="0" anchor="t">
            <a:spAutoFit/>
          </a:bodyPr>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Lorem ipsum dolor sit amet, in nec erat ac et, integer diam ultrices ut nec.</a:t>
            </a:r>
            <a:endParaRPr b="0" lang="en-US" sz="1400" spc="-1" strike="noStrike">
              <a:solidFill>
                <a:srgbClr val="000000"/>
              </a:solidFill>
              <a:latin typeface="Arial"/>
            </a:endParaRPr>
          </a:p>
          <a:p>
            <a:pPr marL="343080" indent="-343080">
              <a:lnSpc>
                <a:spcPct val="100000"/>
              </a:lnSpc>
              <a:spcBef>
                <a:spcPts val="281"/>
              </a:spcBef>
              <a:buClr>
                <a:srgbClr val="e52c50"/>
              </a:buClr>
              <a:buFont typeface="Symbol" charset="2"/>
              <a:buChar char=""/>
            </a:pPr>
            <a:r>
              <a:rPr b="1" lang="fr-FR" sz="1400" spc="-1" strike="noStrike">
                <a:solidFill>
                  <a:srgbClr val="e52c50"/>
                </a:solidFill>
                <a:latin typeface="Verdana"/>
              </a:rPr>
              <a:t>Consectetuer pede orci a, accumsan at ante sed elit.</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69D15C17-F5D0-4B98-968F-272935853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US" sz="3200" spc="-1" strike="noStrike">
                <a:solidFill>
                  <a:srgbClr val="344246"/>
                </a:solidFill>
                <a:latin typeface="Verdana"/>
                <a:ea typeface="Verdana"/>
              </a:rPr>
              <a:t>Diagrams examples</a:t>
            </a:r>
            <a:endParaRPr b="0" lang="en-US" sz="3200" spc="-1" strike="noStrike">
              <a:solidFill>
                <a:srgbClr val="344246"/>
              </a:solidFill>
              <a:latin typeface="Calibri"/>
            </a:endParaRPr>
          </a:p>
        </p:txBody>
      </p:sp>
      <p:grpSp>
        <p:nvGrpSpPr>
          <p:cNvPr id="241" name="Groupe 31"/>
          <p:cNvGrpSpPr/>
          <p:nvPr/>
        </p:nvGrpSpPr>
        <p:grpSpPr>
          <a:xfrm>
            <a:off x="390960" y="2361960"/>
            <a:ext cx="1422720" cy="1553040"/>
            <a:chOff x="390960" y="2361960"/>
            <a:chExt cx="1422720" cy="1553040"/>
          </a:xfrm>
        </p:grpSpPr>
        <p:sp>
          <p:nvSpPr>
            <p:cNvPr id="242" name="Freeform 7"/>
            <p:cNvSpPr/>
            <p:nvPr/>
          </p:nvSpPr>
          <p:spPr>
            <a:xfrm rot="10864200">
              <a:off x="920880" y="2490840"/>
              <a:ext cx="879480" cy="1415880"/>
            </a:xfrm>
            <a:custGeom>
              <a:avLst/>
              <a:gdLst>
                <a:gd name="textAreaLeft" fmla="*/ 0 w 879480"/>
                <a:gd name="textAreaRight" fmla="*/ 879840 w 879480"/>
                <a:gd name="textAreaTop" fmla="*/ 0 h 1415880"/>
                <a:gd name="textAreaBottom" fmla="*/ 1416240 h 1415880"/>
              </a:gdLst>
              <a:ahLst/>
              <a:rect l="textAreaLeft" t="textAreaTop" r="textAreaRight" b="textAreaBottom"/>
              <a:pathLst>
                <a:path w="1239" h="2125">
                  <a:moveTo>
                    <a:pt x="861" y="2125"/>
                  </a:moveTo>
                  <a:lnTo>
                    <a:pt x="817" y="2120"/>
                  </a:lnTo>
                  <a:lnTo>
                    <a:pt x="773" y="2110"/>
                  </a:lnTo>
                  <a:lnTo>
                    <a:pt x="729" y="2099"/>
                  </a:lnTo>
                  <a:lnTo>
                    <a:pt x="685" y="2087"/>
                  </a:lnTo>
                  <a:lnTo>
                    <a:pt x="644" y="2072"/>
                  </a:lnTo>
                  <a:lnTo>
                    <a:pt x="602" y="2054"/>
                  </a:lnTo>
                  <a:lnTo>
                    <a:pt x="562" y="2037"/>
                  </a:lnTo>
                  <a:lnTo>
                    <a:pt x="523" y="2016"/>
                  </a:lnTo>
                  <a:lnTo>
                    <a:pt x="485" y="1995"/>
                  </a:lnTo>
                  <a:lnTo>
                    <a:pt x="447" y="1972"/>
                  </a:lnTo>
                  <a:lnTo>
                    <a:pt x="412" y="1947"/>
                  </a:lnTo>
                  <a:lnTo>
                    <a:pt x="376" y="1920"/>
                  </a:lnTo>
                  <a:lnTo>
                    <a:pt x="343" y="1893"/>
                  </a:lnTo>
                  <a:lnTo>
                    <a:pt x="310" y="1863"/>
                  </a:lnTo>
                  <a:lnTo>
                    <a:pt x="280" y="1832"/>
                  </a:lnTo>
                  <a:lnTo>
                    <a:pt x="249" y="1801"/>
                  </a:lnTo>
                  <a:lnTo>
                    <a:pt x="222" y="1767"/>
                  </a:lnTo>
                  <a:lnTo>
                    <a:pt x="195" y="1732"/>
                  </a:lnTo>
                  <a:lnTo>
                    <a:pt x="170" y="1698"/>
                  </a:lnTo>
                  <a:lnTo>
                    <a:pt x="145" y="1659"/>
                  </a:lnTo>
                  <a:lnTo>
                    <a:pt x="124" y="1621"/>
                  </a:lnTo>
                  <a:lnTo>
                    <a:pt x="103" y="1582"/>
                  </a:lnTo>
                  <a:lnTo>
                    <a:pt x="84" y="1542"/>
                  </a:lnTo>
                  <a:lnTo>
                    <a:pt x="67" y="1502"/>
                  </a:lnTo>
                  <a:lnTo>
                    <a:pt x="51" y="1460"/>
                  </a:lnTo>
                  <a:lnTo>
                    <a:pt x="38" y="1417"/>
                  </a:lnTo>
                  <a:lnTo>
                    <a:pt x="26" y="1373"/>
                  </a:lnTo>
                  <a:lnTo>
                    <a:pt x="17" y="1329"/>
                  </a:lnTo>
                  <a:lnTo>
                    <a:pt x="9" y="1285"/>
                  </a:lnTo>
                  <a:lnTo>
                    <a:pt x="3" y="1239"/>
                  </a:lnTo>
                  <a:lnTo>
                    <a:pt x="0" y="1193"/>
                  </a:lnTo>
                  <a:lnTo>
                    <a:pt x="0" y="1145"/>
                  </a:lnTo>
                  <a:lnTo>
                    <a:pt x="0" y="1105"/>
                  </a:lnTo>
                  <a:lnTo>
                    <a:pt x="2" y="1063"/>
                  </a:lnTo>
                  <a:lnTo>
                    <a:pt x="5" y="1022"/>
                  </a:lnTo>
                  <a:lnTo>
                    <a:pt x="11" y="982"/>
                  </a:lnTo>
                  <a:lnTo>
                    <a:pt x="19" y="942"/>
                  </a:lnTo>
                  <a:lnTo>
                    <a:pt x="28" y="903"/>
                  </a:lnTo>
                  <a:lnTo>
                    <a:pt x="38" y="865"/>
                  </a:lnTo>
                  <a:lnTo>
                    <a:pt x="49" y="827"/>
                  </a:lnTo>
                  <a:lnTo>
                    <a:pt x="65" y="788"/>
                  </a:lnTo>
                  <a:lnTo>
                    <a:pt x="78" y="752"/>
                  </a:lnTo>
                  <a:lnTo>
                    <a:pt x="96" y="715"/>
                  </a:lnTo>
                  <a:lnTo>
                    <a:pt x="113" y="679"/>
                  </a:lnTo>
                  <a:lnTo>
                    <a:pt x="134" y="644"/>
                  </a:lnTo>
                  <a:lnTo>
                    <a:pt x="153" y="610"/>
                  </a:lnTo>
                  <a:lnTo>
                    <a:pt x="176" y="577"/>
                  </a:lnTo>
                  <a:lnTo>
                    <a:pt x="199" y="546"/>
                  </a:lnTo>
                  <a:lnTo>
                    <a:pt x="224" y="514"/>
                  </a:lnTo>
                  <a:lnTo>
                    <a:pt x="249" y="485"/>
                  </a:lnTo>
                  <a:lnTo>
                    <a:pt x="276" y="454"/>
                  </a:lnTo>
                  <a:lnTo>
                    <a:pt x="305" y="427"/>
                  </a:lnTo>
                  <a:lnTo>
                    <a:pt x="333" y="401"/>
                  </a:lnTo>
                  <a:lnTo>
                    <a:pt x="364" y="376"/>
                  </a:lnTo>
                  <a:lnTo>
                    <a:pt x="395" y="351"/>
                  </a:lnTo>
                  <a:lnTo>
                    <a:pt x="428" y="328"/>
                  </a:lnTo>
                  <a:lnTo>
                    <a:pt x="460" y="307"/>
                  </a:lnTo>
                  <a:lnTo>
                    <a:pt x="495" y="285"/>
                  </a:lnTo>
                  <a:lnTo>
                    <a:pt x="529" y="266"/>
                  </a:lnTo>
                  <a:lnTo>
                    <a:pt x="566" y="249"/>
                  </a:lnTo>
                  <a:lnTo>
                    <a:pt x="602" y="234"/>
                  </a:lnTo>
                  <a:lnTo>
                    <a:pt x="639" y="218"/>
                  </a:lnTo>
                  <a:lnTo>
                    <a:pt x="677" y="207"/>
                  </a:lnTo>
                  <a:lnTo>
                    <a:pt x="715" y="195"/>
                  </a:lnTo>
                  <a:lnTo>
                    <a:pt x="746" y="188"/>
                  </a:lnTo>
                  <a:lnTo>
                    <a:pt x="777" y="180"/>
                  </a:lnTo>
                  <a:lnTo>
                    <a:pt x="809" y="174"/>
                  </a:lnTo>
                  <a:lnTo>
                    <a:pt x="842" y="168"/>
                  </a:lnTo>
                  <a:lnTo>
                    <a:pt x="873" y="165"/>
                  </a:lnTo>
                  <a:lnTo>
                    <a:pt x="905" y="161"/>
                  </a:lnTo>
                  <a:lnTo>
                    <a:pt x="940" y="159"/>
                  </a:lnTo>
                  <a:lnTo>
                    <a:pt x="972" y="157"/>
                  </a:lnTo>
                  <a:lnTo>
                    <a:pt x="972" y="159"/>
                  </a:lnTo>
                  <a:lnTo>
                    <a:pt x="974" y="159"/>
                  </a:lnTo>
                  <a:lnTo>
                    <a:pt x="978" y="159"/>
                  </a:lnTo>
                  <a:lnTo>
                    <a:pt x="978" y="0"/>
                  </a:lnTo>
                  <a:lnTo>
                    <a:pt x="1239" y="343"/>
                  </a:lnTo>
                  <a:lnTo>
                    <a:pt x="978" y="669"/>
                  </a:lnTo>
                  <a:lnTo>
                    <a:pt x="978" y="539"/>
                  </a:lnTo>
                  <a:lnTo>
                    <a:pt x="955" y="541"/>
                  </a:lnTo>
                  <a:lnTo>
                    <a:pt x="934" y="541"/>
                  </a:lnTo>
                  <a:lnTo>
                    <a:pt x="909" y="543"/>
                  </a:lnTo>
                  <a:lnTo>
                    <a:pt x="886" y="546"/>
                  </a:lnTo>
                  <a:lnTo>
                    <a:pt x="859" y="550"/>
                  </a:lnTo>
                  <a:lnTo>
                    <a:pt x="832" y="558"/>
                  </a:lnTo>
                  <a:lnTo>
                    <a:pt x="807" y="566"/>
                  </a:lnTo>
                  <a:lnTo>
                    <a:pt x="783" y="573"/>
                  </a:lnTo>
                  <a:lnTo>
                    <a:pt x="758" y="583"/>
                  </a:lnTo>
                  <a:lnTo>
                    <a:pt x="733" y="594"/>
                  </a:lnTo>
                  <a:lnTo>
                    <a:pt x="710" y="606"/>
                  </a:lnTo>
                  <a:lnTo>
                    <a:pt x="687" y="617"/>
                  </a:lnTo>
                  <a:lnTo>
                    <a:pt x="664" y="631"/>
                  </a:lnTo>
                  <a:lnTo>
                    <a:pt x="641" y="646"/>
                  </a:lnTo>
                  <a:lnTo>
                    <a:pt x="619" y="662"/>
                  </a:lnTo>
                  <a:lnTo>
                    <a:pt x="600" y="677"/>
                  </a:lnTo>
                  <a:lnTo>
                    <a:pt x="579" y="694"/>
                  </a:lnTo>
                  <a:lnTo>
                    <a:pt x="560" y="713"/>
                  </a:lnTo>
                  <a:lnTo>
                    <a:pt x="543" y="733"/>
                  </a:lnTo>
                  <a:lnTo>
                    <a:pt x="525" y="752"/>
                  </a:lnTo>
                  <a:lnTo>
                    <a:pt x="508" y="771"/>
                  </a:lnTo>
                  <a:lnTo>
                    <a:pt x="493" y="792"/>
                  </a:lnTo>
                  <a:lnTo>
                    <a:pt x="477" y="815"/>
                  </a:lnTo>
                  <a:lnTo>
                    <a:pt x="464" y="836"/>
                  </a:lnTo>
                  <a:lnTo>
                    <a:pt x="451" y="859"/>
                  </a:lnTo>
                  <a:lnTo>
                    <a:pt x="439" y="882"/>
                  </a:lnTo>
                  <a:lnTo>
                    <a:pt x="428" y="907"/>
                  </a:lnTo>
                  <a:lnTo>
                    <a:pt x="418" y="932"/>
                  </a:lnTo>
                  <a:lnTo>
                    <a:pt x="408" y="957"/>
                  </a:lnTo>
                  <a:lnTo>
                    <a:pt x="401" y="982"/>
                  </a:lnTo>
                  <a:lnTo>
                    <a:pt x="395" y="1009"/>
                  </a:lnTo>
                  <a:lnTo>
                    <a:pt x="389" y="1036"/>
                  </a:lnTo>
                  <a:lnTo>
                    <a:pt x="385" y="1063"/>
                  </a:lnTo>
                  <a:lnTo>
                    <a:pt x="381" y="1089"/>
                  </a:lnTo>
                  <a:lnTo>
                    <a:pt x="380" y="1118"/>
                  </a:lnTo>
                  <a:lnTo>
                    <a:pt x="380" y="1145"/>
                  </a:lnTo>
                  <a:lnTo>
                    <a:pt x="380" y="1174"/>
                  </a:lnTo>
                  <a:lnTo>
                    <a:pt x="381" y="1201"/>
                  </a:lnTo>
                  <a:lnTo>
                    <a:pt x="385" y="1229"/>
                  </a:lnTo>
                  <a:lnTo>
                    <a:pt x="389" y="1256"/>
                  </a:lnTo>
                  <a:lnTo>
                    <a:pt x="395" y="1283"/>
                  </a:lnTo>
                  <a:lnTo>
                    <a:pt x="401" y="1310"/>
                  </a:lnTo>
                  <a:lnTo>
                    <a:pt x="410" y="1335"/>
                  </a:lnTo>
                  <a:lnTo>
                    <a:pt x="418" y="1360"/>
                  </a:lnTo>
                  <a:lnTo>
                    <a:pt x="428" y="1385"/>
                  </a:lnTo>
                  <a:lnTo>
                    <a:pt x="439" y="1410"/>
                  </a:lnTo>
                  <a:lnTo>
                    <a:pt x="452" y="1433"/>
                  </a:lnTo>
                  <a:lnTo>
                    <a:pt x="464" y="1456"/>
                  </a:lnTo>
                  <a:lnTo>
                    <a:pt x="479" y="1479"/>
                  </a:lnTo>
                  <a:lnTo>
                    <a:pt x="495" y="1500"/>
                  </a:lnTo>
                  <a:lnTo>
                    <a:pt x="510" y="1521"/>
                  </a:lnTo>
                  <a:lnTo>
                    <a:pt x="527" y="1542"/>
                  </a:lnTo>
                  <a:lnTo>
                    <a:pt x="545" y="1561"/>
                  </a:lnTo>
                  <a:lnTo>
                    <a:pt x="564" y="1581"/>
                  </a:lnTo>
                  <a:lnTo>
                    <a:pt x="583" y="1598"/>
                  </a:lnTo>
                  <a:lnTo>
                    <a:pt x="602" y="1615"/>
                  </a:lnTo>
                  <a:lnTo>
                    <a:pt x="623" y="1632"/>
                  </a:lnTo>
                  <a:lnTo>
                    <a:pt x="644" y="1648"/>
                  </a:lnTo>
                  <a:lnTo>
                    <a:pt x="667" y="1661"/>
                  </a:lnTo>
                  <a:lnTo>
                    <a:pt x="690" y="1677"/>
                  </a:lnTo>
                  <a:lnTo>
                    <a:pt x="713" y="1688"/>
                  </a:lnTo>
                  <a:lnTo>
                    <a:pt x="738" y="1700"/>
                  </a:lnTo>
                  <a:lnTo>
                    <a:pt x="761" y="1711"/>
                  </a:lnTo>
                  <a:lnTo>
                    <a:pt x="786" y="1719"/>
                  </a:lnTo>
                  <a:lnTo>
                    <a:pt x="813" y="1728"/>
                  </a:lnTo>
                  <a:lnTo>
                    <a:pt x="840" y="1736"/>
                  </a:lnTo>
                  <a:lnTo>
                    <a:pt x="865" y="1742"/>
                  </a:lnTo>
                  <a:lnTo>
                    <a:pt x="892" y="1746"/>
                  </a:lnTo>
                  <a:lnTo>
                    <a:pt x="731" y="1953"/>
                  </a:lnTo>
                  <a:lnTo>
                    <a:pt x="861" y="2125"/>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43" name="Freeform 8"/>
            <p:cNvSpPr/>
            <p:nvPr/>
          </p:nvSpPr>
          <p:spPr>
            <a:xfrm rot="10864200">
              <a:off x="403920" y="2369880"/>
              <a:ext cx="877680" cy="1415880"/>
            </a:xfrm>
            <a:custGeom>
              <a:avLst/>
              <a:gdLst>
                <a:gd name="textAreaLeft" fmla="*/ 0 w 877680"/>
                <a:gd name="textAreaRight" fmla="*/ 878040 w 877680"/>
                <a:gd name="textAreaTop" fmla="*/ 0 h 1415880"/>
                <a:gd name="textAreaBottom" fmla="*/ 1416240 h 1415880"/>
              </a:gdLst>
              <a:ahLst/>
              <a:rect l="textAreaLeft" t="textAreaTop" r="textAreaRight" b="textAreaBottom"/>
              <a:pathLst>
                <a:path w="1237" h="2125">
                  <a:moveTo>
                    <a:pt x="374" y="0"/>
                  </a:moveTo>
                  <a:lnTo>
                    <a:pt x="418" y="5"/>
                  </a:lnTo>
                  <a:lnTo>
                    <a:pt x="464" y="15"/>
                  </a:lnTo>
                  <a:lnTo>
                    <a:pt x="508" y="26"/>
                  </a:lnTo>
                  <a:lnTo>
                    <a:pt x="550" y="38"/>
                  </a:lnTo>
                  <a:lnTo>
                    <a:pt x="593" y="53"/>
                  </a:lnTo>
                  <a:lnTo>
                    <a:pt x="635" y="69"/>
                  </a:lnTo>
                  <a:lnTo>
                    <a:pt x="675" y="88"/>
                  </a:lnTo>
                  <a:lnTo>
                    <a:pt x="714" y="107"/>
                  </a:lnTo>
                  <a:lnTo>
                    <a:pt x="752" y="130"/>
                  </a:lnTo>
                  <a:lnTo>
                    <a:pt x="790" y="153"/>
                  </a:lnTo>
                  <a:lnTo>
                    <a:pt x="827" y="178"/>
                  </a:lnTo>
                  <a:lnTo>
                    <a:pt x="861" y="203"/>
                  </a:lnTo>
                  <a:lnTo>
                    <a:pt x="894" y="232"/>
                  </a:lnTo>
                  <a:lnTo>
                    <a:pt x="927" y="260"/>
                  </a:lnTo>
                  <a:lnTo>
                    <a:pt x="959" y="291"/>
                  </a:lnTo>
                  <a:lnTo>
                    <a:pt x="988" y="324"/>
                  </a:lnTo>
                  <a:lnTo>
                    <a:pt x="1017" y="356"/>
                  </a:lnTo>
                  <a:lnTo>
                    <a:pt x="1044" y="393"/>
                  </a:lnTo>
                  <a:lnTo>
                    <a:pt x="1069" y="427"/>
                  </a:lnTo>
                  <a:lnTo>
                    <a:pt x="1093" y="464"/>
                  </a:lnTo>
                  <a:lnTo>
                    <a:pt x="1115" y="502"/>
                  </a:lnTo>
                  <a:lnTo>
                    <a:pt x="1136" y="543"/>
                  </a:lnTo>
                  <a:lnTo>
                    <a:pt x="1155" y="583"/>
                  </a:lnTo>
                  <a:lnTo>
                    <a:pt x="1172" y="623"/>
                  </a:lnTo>
                  <a:lnTo>
                    <a:pt x="1188" y="665"/>
                  </a:lnTo>
                  <a:lnTo>
                    <a:pt x="1201" y="708"/>
                  </a:lnTo>
                  <a:lnTo>
                    <a:pt x="1212" y="752"/>
                  </a:lnTo>
                  <a:lnTo>
                    <a:pt x="1222" y="796"/>
                  </a:lnTo>
                  <a:lnTo>
                    <a:pt x="1228" y="840"/>
                  </a:lnTo>
                  <a:lnTo>
                    <a:pt x="1234" y="886"/>
                  </a:lnTo>
                  <a:lnTo>
                    <a:pt x="1237" y="932"/>
                  </a:lnTo>
                  <a:lnTo>
                    <a:pt x="1237" y="980"/>
                  </a:lnTo>
                  <a:lnTo>
                    <a:pt x="1237" y="1013"/>
                  </a:lnTo>
                  <a:lnTo>
                    <a:pt x="1235" y="1043"/>
                  </a:lnTo>
                  <a:lnTo>
                    <a:pt x="1234" y="1076"/>
                  </a:lnTo>
                  <a:lnTo>
                    <a:pt x="1230" y="1109"/>
                  </a:lnTo>
                  <a:lnTo>
                    <a:pt x="1226" y="1139"/>
                  </a:lnTo>
                  <a:lnTo>
                    <a:pt x="1220" y="1170"/>
                  </a:lnTo>
                  <a:lnTo>
                    <a:pt x="1212" y="1201"/>
                  </a:lnTo>
                  <a:lnTo>
                    <a:pt x="1207" y="1231"/>
                  </a:lnTo>
                  <a:lnTo>
                    <a:pt x="1197" y="1260"/>
                  </a:lnTo>
                  <a:lnTo>
                    <a:pt x="1188" y="1291"/>
                  </a:lnTo>
                  <a:lnTo>
                    <a:pt x="1178" y="1320"/>
                  </a:lnTo>
                  <a:lnTo>
                    <a:pt x="1166" y="1348"/>
                  </a:lnTo>
                  <a:lnTo>
                    <a:pt x="1141" y="1404"/>
                  </a:lnTo>
                  <a:lnTo>
                    <a:pt x="1115" y="1458"/>
                  </a:lnTo>
                  <a:lnTo>
                    <a:pt x="1082" y="1511"/>
                  </a:lnTo>
                  <a:lnTo>
                    <a:pt x="1047" y="1561"/>
                  </a:lnTo>
                  <a:lnTo>
                    <a:pt x="1011" y="1609"/>
                  </a:lnTo>
                  <a:lnTo>
                    <a:pt x="971" y="1653"/>
                  </a:lnTo>
                  <a:lnTo>
                    <a:pt x="928" y="1698"/>
                  </a:lnTo>
                  <a:lnTo>
                    <a:pt x="882" y="1738"/>
                  </a:lnTo>
                  <a:lnTo>
                    <a:pt x="834" y="1774"/>
                  </a:lnTo>
                  <a:lnTo>
                    <a:pt x="785" y="1809"/>
                  </a:lnTo>
                  <a:lnTo>
                    <a:pt x="756" y="1830"/>
                  </a:lnTo>
                  <a:lnTo>
                    <a:pt x="725" y="1849"/>
                  </a:lnTo>
                  <a:lnTo>
                    <a:pt x="694" y="1866"/>
                  </a:lnTo>
                  <a:lnTo>
                    <a:pt x="660" y="1882"/>
                  </a:lnTo>
                  <a:lnTo>
                    <a:pt x="627" y="1895"/>
                  </a:lnTo>
                  <a:lnTo>
                    <a:pt x="593" y="1909"/>
                  </a:lnTo>
                  <a:lnTo>
                    <a:pt x="556" y="1920"/>
                  </a:lnTo>
                  <a:lnTo>
                    <a:pt x="522" y="1930"/>
                  </a:lnTo>
                  <a:lnTo>
                    <a:pt x="491" y="1937"/>
                  </a:lnTo>
                  <a:lnTo>
                    <a:pt x="460" y="1945"/>
                  </a:lnTo>
                  <a:lnTo>
                    <a:pt x="428" y="1951"/>
                  </a:lnTo>
                  <a:lnTo>
                    <a:pt x="395" y="1957"/>
                  </a:lnTo>
                  <a:lnTo>
                    <a:pt x="364" y="1960"/>
                  </a:lnTo>
                  <a:lnTo>
                    <a:pt x="332" y="1964"/>
                  </a:lnTo>
                  <a:lnTo>
                    <a:pt x="297" y="1966"/>
                  </a:lnTo>
                  <a:lnTo>
                    <a:pt x="265" y="1968"/>
                  </a:lnTo>
                  <a:lnTo>
                    <a:pt x="265" y="1966"/>
                  </a:lnTo>
                  <a:lnTo>
                    <a:pt x="263" y="1966"/>
                  </a:lnTo>
                  <a:lnTo>
                    <a:pt x="259" y="1966"/>
                  </a:lnTo>
                  <a:lnTo>
                    <a:pt x="259" y="2125"/>
                  </a:lnTo>
                  <a:lnTo>
                    <a:pt x="0" y="1786"/>
                  </a:lnTo>
                  <a:lnTo>
                    <a:pt x="161" y="1579"/>
                  </a:lnTo>
                  <a:lnTo>
                    <a:pt x="161" y="1579"/>
                  </a:lnTo>
                  <a:lnTo>
                    <a:pt x="259" y="1456"/>
                  </a:lnTo>
                  <a:lnTo>
                    <a:pt x="259" y="1586"/>
                  </a:lnTo>
                  <a:lnTo>
                    <a:pt x="282" y="1584"/>
                  </a:lnTo>
                  <a:lnTo>
                    <a:pt x="303" y="1584"/>
                  </a:lnTo>
                  <a:lnTo>
                    <a:pt x="328" y="1582"/>
                  </a:lnTo>
                  <a:lnTo>
                    <a:pt x="351" y="1579"/>
                  </a:lnTo>
                  <a:lnTo>
                    <a:pt x="378" y="1575"/>
                  </a:lnTo>
                  <a:lnTo>
                    <a:pt x="405" y="1567"/>
                  </a:lnTo>
                  <a:lnTo>
                    <a:pt x="430" y="1559"/>
                  </a:lnTo>
                  <a:lnTo>
                    <a:pt x="454" y="1552"/>
                  </a:lnTo>
                  <a:lnTo>
                    <a:pt x="479" y="1542"/>
                  </a:lnTo>
                  <a:lnTo>
                    <a:pt x="504" y="1531"/>
                  </a:lnTo>
                  <a:lnTo>
                    <a:pt x="527" y="1519"/>
                  </a:lnTo>
                  <a:lnTo>
                    <a:pt x="550" y="1508"/>
                  </a:lnTo>
                  <a:lnTo>
                    <a:pt x="573" y="1494"/>
                  </a:lnTo>
                  <a:lnTo>
                    <a:pt x="596" y="1479"/>
                  </a:lnTo>
                  <a:lnTo>
                    <a:pt x="618" y="1463"/>
                  </a:lnTo>
                  <a:lnTo>
                    <a:pt x="637" y="1448"/>
                  </a:lnTo>
                  <a:lnTo>
                    <a:pt x="658" y="1431"/>
                  </a:lnTo>
                  <a:lnTo>
                    <a:pt x="677" y="1412"/>
                  </a:lnTo>
                  <a:lnTo>
                    <a:pt x="694" y="1392"/>
                  </a:lnTo>
                  <a:lnTo>
                    <a:pt x="712" y="1373"/>
                  </a:lnTo>
                  <a:lnTo>
                    <a:pt x="729" y="1354"/>
                  </a:lnTo>
                  <a:lnTo>
                    <a:pt x="744" y="1333"/>
                  </a:lnTo>
                  <a:lnTo>
                    <a:pt x="760" y="1310"/>
                  </a:lnTo>
                  <a:lnTo>
                    <a:pt x="773" y="1289"/>
                  </a:lnTo>
                  <a:lnTo>
                    <a:pt x="786" y="1266"/>
                  </a:lnTo>
                  <a:lnTo>
                    <a:pt x="798" y="1243"/>
                  </a:lnTo>
                  <a:lnTo>
                    <a:pt x="809" y="1218"/>
                  </a:lnTo>
                  <a:lnTo>
                    <a:pt x="819" y="1193"/>
                  </a:lnTo>
                  <a:lnTo>
                    <a:pt x="829" y="1168"/>
                  </a:lnTo>
                  <a:lnTo>
                    <a:pt x="836" y="1143"/>
                  </a:lnTo>
                  <a:lnTo>
                    <a:pt x="842" y="1116"/>
                  </a:lnTo>
                  <a:lnTo>
                    <a:pt x="848" y="1089"/>
                  </a:lnTo>
                  <a:lnTo>
                    <a:pt x="852" y="1062"/>
                  </a:lnTo>
                  <a:lnTo>
                    <a:pt x="856" y="1036"/>
                  </a:lnTo>
                  <a:lnTo>
                    <a:pt x="857" y="1007"/>
                  </a:lnTo>
                  <a:lnTo>
                    <a:pt x="857" y="980"/>
                  </a:lnTo>
                  <a:lnTo>
                    <a:pt x="857" y="951"/>
                  </a:lnTo>
                  <a:lnTo>
                    <a:pt x="856" y="924"/>
                  </a:lnTo>
                  <a:lnTo>
                    <a:pt x="852" y="896"/>
                  </a:lnTo>
                  <a:lnTo>
                    <a:pt x="848" y="869"/>
                  </a:lnTo>
                  <a:lnTo>
                    <a:pt x="842" y="842"/>
                  </a:lnTo>
                  <a:lnTo>
                    <a:pt x="836" y="815"/>
                  </a:lnTo>
                  <a:lnTo>
                    <a:pt x="829" y="790"/>
                  </a:lnTo>
                  <a:lnTo>
                    <a:pt x="819" y="765"/>
                  </a:lnTo>
                  <a:lnTo>
                    <a:pt x="809" y="740"/>
                  </a:lnTo>
                  <a:lnTo>
                    <a:pt x="798" y="715"/>
                  </a:lnTo>
                  <a:lnTo>
                    <a:pt x="785" y="692"/>
                  </a:lnTo>
                  <a:lnTo>
                    <a:pt x="773" y="669"/>
                  </a:lnTo>
                  <a:lnTo>
                    <a:pt x="758" y="646"/>
                  </a:lnTo>
                  <a:lnTo>
                    <a:pt x="742" y="625"/>
                  </a:lnTo>
                  <a:lnTo>
                    <a:pt x="727" y="604"/>
                  </a:lnTo>
                  <a:lnTo>
                    <a:pt x="710" y="583"/>
                  </a:lnTo>
                  <a:lnTo>
                    <a:pt x="692" y="564"/>
                  </a:lnTo>
                  <a:lnTo>
                    <a:pt x="675" y="544"/>
                  </a:lnTo>
                  <a:lnTo>
                    <a:pt x="656" y="527"/>
                  </a:lnTo>
                  <a:lnTo>
                    <a:pt x="635" y="510"/>
                  </a:lnTo>
                  <a:lnTo>
                    <a:pt x="614" y="493"/>
                  </a:lnTo>
                  <a:lnTo>
                    <a:pt x="593" y="477"/>
                  </a:lnTo>
                  <a:lnTo>
                    <a:pt x="572" y="464"/>
                  </a:lnTo>
                  <a:lnTo>
                    <a:pt x="549" y="450"/>
                  </a:lnTo>
                  <a:lnTo>
                    <a:pt x="524" y="437"/>
                  </a:lnTo>
                  <a:lnTo>
                    <a:pt x="501" y="425"/>
                  </a:lnTo>
                  <a:lnTo>
                    <a:pt x="476" y="416"/>
                  </a:lnTo>
                  <a:lnTo>
                    <a:pt x="451" y="406"/>
                  </a:lnTo>
                  <a:lnTo>
                    <a:pt x="426" y="397"/>
                  </a:lnTo>
                  <a:lnTo>
                    <a:pt x="399" y="391"/>
                  </a:lnTo>
                  <a:lnTo>
                    <a:pt x="372" y="383"/>
                  </a:lnTo>
                  <a:lnTo>
                    <a:pt x="345" y="379"/>
                  </a:lnTo>
                  <a:lnTo>
                    <a:pt x="508" y="176"/>
                  </a:lnTo>
                  <a:lnTo>
                    <a:pt x="374" y="0"/>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grpSp>
      <p:grpSp>
        <p:nvGrpSpPr>
          <p:cNvPr id="244" name="Groupe 32"/>
          <p:cNvGrpSpPr/>
          <p:nvPr/>
        </p:nvGrpSpPr>
        <p:grpSpPr>
          <a:xfrm>
            <a:off x="1972080" y="2396520"/>
            <a:ext cx="1518840" cy="1482840"/>
            <a:chOff x="1972080" y="2396520"/>
            <a:chExt cx="1518840" cy="1482840"/>
          </a:xfrm>
        </p:grpSpPr>
        <p:sp>
          <p:nvSpPr>
            <p:cNvPr id="245" name="Freeform 9"/>
            <p:cNvSpPr/>
            <p:nvPr/>
          </p:nvSpPr>
          <p:spPr>
            <a:xfrm>
              <a:off x="1988640" y="2396520"/>
              <a:ext cx="912240" cy="1023840"/>
            </a:xfrm>
            <a:custGeom>
              <a:avLst/>
              <a:gdLst>
                <a:gd name="textAreaLeft" fmla="*/ 0 w 912240"/>
                <a:gd name="textAreaRight" fmla="*/ 912600 w 912240"/>
                <a:gd name="textAreaTop" fmla="*/ 0 h 1023840"/>
                <a:gd name="textAreaBottom" fmla="*/ 1024200 h 1023840"/>
              </a:gdLst>
              <a:ahLst/>
              <a:rect l="textAreaLeft" t="textAreaTop" r="textAreaRight" b="textAreaBottom"/>
              <a:pathLst>
                <a:path w="1232" h="1472">
                  <a:moveTo>
                    <a:pt x="1107" y="165"/>
                  </a:moveTo>
                  <a:lnTo>
                    <a:pt x="1107" y="165"/>
                  </a:lnTo>
                  <a:lnTo>
                    <a:pt x="1107" y="165"/>
                  </a:lnTo>
                  <a:lnTo>
                    <a:pt x="1232" y="349"/>
                  </a:lnTo>
                  <a:lnTo>
                    <a:pt x="1086" y="545"/>
                  </a:lnTo>
                  <a:lnTo>
                    <a:pt x="1086" y="545"/>
                  </a:lnTo>
                  <a:lnTo>
                    <a:pt x="1084" y="545"/>
                  </a:lnTo>
                  <a:lnTo>
                    <a:pt x="998" y="664"/>
                  </a:lnTo>
                  <a:lnTo>
                    <a:pt x="998" y="537"/>
                  </a:lnTo>
                  <a:lnTo>
                    <a:pt x="992" y="537"/>
                  </a:lnTo>
                  <a:lnTo>
                    <a:pt x="988" y="537"/>
                  </a:lnTo>
                  <a:lnTo>
                    <a:pt x="982" y="537"/>
                  </a:lnTo>
                  <a:lnTo>
                    <a:pt x="979" y="537"/>
                  </a:lnTo>
                  <a:lnTo>
                    <a:pt x="934" y="539"/>
                  </a:lnTo>
                  <a:lnTo>
                    <a:pt x="890" y="545"/>
                  </a:lnTo>
                  <a:lnTo>
                    <a:pt x="848" y="554"/>
                  </a:lnTo>
                  <a:lnTo>
                    <a:pt x="806" y="566"/>
                  </a:lnTo>
                  <a:lnTo>
                    <a:pt x="781" y="574"/>
                  </a:lnTo>
                  <a:lnTo>
                    <a:pt x="756" y="583"/>
                  </a:lnTo>
                  <a:lnTo>
                    <a:pt x="733" y="593"/>
                  </a:lnTo>
                  <a:lnTo>
                    <a:pt x="710" y="604"/>
                  </a:lnTo>
                  <a:lnTo>
                    <a:pt x="689" y="616"/>
                  </a:lnTo>
                  <a:lnTo>
                    <a:pt x="666" y="629"/>
                  </a:lnTo>
                  <a:lnTo>
                    <a:pt x="652" y="639"/>
                  </a:lnTo>
                  <a:lnTo>
                    <a:pt x="641" y="649"/>
                  </a:lnTo>
                  <a:lnTo>
                    <a:pt x="641" y="647"/>
                  </a:lnTo>
                  <a:lnTo>
                    <a:pt x="610" y="670"/>
                  </a:lnTo>
                  <a:lnTo>
                    <a:pt x="583" y="693"/>
                  </a:lnTo>
                  <a:lnTo>
                    <a:pt x="558" y="716"/>
                  </a:lnTo>
                  <a:lnTo>
                    <a:pt x="533" y="743"/>
                  </a:lnTo>
                  <a:lnTo>
                    <a:pt x="510" y="769"/>
                  </a:lnTo>
                  <a:lnTo>
                    <a:pt x="489" y="798"/>
                  </a:lnTo>
                  <a:lnTo>
                    <a:pt x="468" y="829"/>
                  </a:lnTo>
                  <a:lnTo>
                    <a:pt x="451" y="860"/>
                  </a:lnTo>
                  <a:lnTo>
                    <a:pt x="435" y="892"/>
                  </a:lnTo>
                  <a:lnTo>
                    <a:pt x="420" y="927"/>
                  </a:lnTo>
                  <a:lnTo>
                    <a:pt x="408" y="961"/>
                  </a:lnTo>
                  <a:lnTo>
                    <a:pt x="399" y="996"/>
                  </a:lnTo>
                  <a:lnTo>
                    <a:pt x="389" y="1032"/>
                  </a:lnTo>
                  <a:lnTo>
                    <a:pt x="384" y="1069"/>
                  </a:lnTo>
                  <a:lnTo>
                    <a:pt x="382" y="1107"/>
                  </a:lnTo>
                  <a:lnTo>
                    <a:pt x="380" y="1146"/>
                  </a:lnTo>
                  <a:lnTo>
                    <a:pt x="382" y="1186"/>
                  </a:lnTo>
                  <a:lnTo>
                    <a:pt x="385" y="1226"/>
                  </a:lnTo>
                  <a:lnTo>
                    <a:pt x="391" y="1265"/>
                  </a:lnTo>
                  <a:lnTo>
                    <a:pt x="401" y="1303"/>
                  </a:lnTo>
                  <a:lnTo>
                    <a:pt x="153" y="1269"/>
                  </a:lnTo>
                  <a:lnTo>
                    <a:pt x="55" y="1472"/>
                  </a:lnTo>
                  <a:lnTo>
                    <a:pt x="42" y="1434"/>
                  </a:lnTo>
                  <a:lnTo>
                    <a:pt x="32" y="1393"/>
                  </a:lnTo>
                  <a:lnTo>
                    <a:pt x="23" y="1355"/>
                  </a:lnTo>
                  <a:lnTo>
                    <a:pt x="13" y="1313"/>
                  </a:lnTo>
                  <a:lnTo>
                    <a:pt x="7" y="1272"/>
                  </a:lnTo>
                  <a:lnTo>
                    <a:pt x="3" y="1230"/>
                  </a:lnTo>
                  <a:lnTo>
                    <a:pt x="0" y="1188"/>
                  </a:lnTo>
                  <a:lnTo>
                    <a:pt x="0" y="1146"/>
                  </a:lnTo>
                  <a:lnTo>
                    <a:pt x="2" y="1084"/>
                  </a:lnTo>
                  <a:lnTo>
                    <a:pt x="7" y="1023"/>
                  </a:lnTo>
                  <a:lnTo>
                    <a:pt x="17" y="963"/>
                  </a:lnTo>
                  <a:lnTo>
                    <a:pt x="28" y="904"/>
                  </a:lnTo>
                  <a:lnTo>
                    <a:pt x="46" y="846"/>
                  </a:lnTo>
                  <a:lnTo>
                    <a:pt x="65" y="791"/>
                  </a:lnTo>
                  <a:lnTo>
                    <a:pt x="88" y="737"/>
                  </a:lnTo>
                  <a:lnTo>
                    <a:pt x="115" y="685"/>
                  </a:lnTo>
                  <a:lnTo>
                    <a:pt x="144" y="633"/>
                  </a:lnTo>
                  <a:lnTo>
                    <a:pt x="174" y="585"/>
                  </a:lnTo>
                  <a:lnTo>
                    <a:pt x="209" y="537"/>
                  </a:lnTo>
                  <a:lnTo>
                    <a:pt x="245" y="493"/>
                  </a:lnTo>
                  <a:lnTo>
                    <a:pt x="286" y="451"/>
                  </a:lnTo>
                  <a:lnTo>
                    <a:pt x="328" y="410"/>
                  </a:lnTo>
                  <a:lnTo>
                    <a:pt x="372" y="374"/>
                  </a:lnTo>
                  <a:lnTo>
                    <a:pt x="418" y="338"/>
                  </a:lnTo>
                  <a:lnTo>
                    <a:pt x="449" y="316"/>
                  </a:lnTo>
                  <a:lnTo>
                    <a:pt x="478" y="297"/>
                  </a:lnTo>
                  <a:lnTo>
                    <a:pt x="510" y="280"/>
                  </a:lnTo>
                  <a:lnTo>
                    <a:pt x="543" y="263"/>
                  </a:lnTo>
                  <a:lnTo>
                    <a:pt x="575" y="245"/>
                  </a:lnTo>
                  <a:lnTo>
                    <a:pt x="610" y="232"/>
                  </a:lnTo>
                  <a:lnTo>
                    <a:pt x="645" y="219"/>
                  </a:lnTo>
                  <a:lnTo>
                    <a:pt x="679" y="207"/>
                  </a:lnTo>
                  <a:lnTo>
                    <a:pt x="710" y="197"/>
                  </a:lnTo>
                  <a:lnTo>
                    <a:pt x="739" y="190"/>
                  </a:lnTo>
                  <a:lnTo>
                    <a:pt x="769" y="182"/>
                  </a:lnTo>
                  <a:lnTo>
                    <a:pt x="800" y="174"/>
                  </a:lnTo>
                  <a:lnTo>
                    <a:pt x="831" y="171"/>
                  </a:lnTo>
                  <a:lnTo>
                    <a:pt x="863" y="165"/>
                  </a:lnTo>
                  <a:lnTo>
                    <a:pt x="894" y="161"/>
                  </a:lnTo>
                  <a:lnTo>
                    <a:pt x="927" y="159"/>
                  </a:lnTo>
                  <a:lnTo>
                    <a:pt x="944" y="157"/>
                  </a:lnTo>
                  <a:lnTo>
                    <a:pt x="963" y="157"/>
                  </a:lnTo>
                  <a:lnTo>
                    <a:pt x="980" y="157"/>
                  </a:lnTo>
                  <a:lnTo>
                    <a:pt x="998" y="155"/>
                  </a:lnTo>
                  <a:lnTo>
                    <a:pt x="998" y="0"/>
                  </a:lnTo>
                  <a:lnTo>
                    <a:pt x="1107" y="165"/>
                  </a:lnTo>
                  <a:close/>
                </a:path>
              </a:pathLst>
            </a:custGeom>
            <a:solidFill>
              <a:srgbClr val="07bd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46" name="Freeform 10"/>
            <p:cNvSpPr/>
            <p:nvPr/>
          </p:nvSpPr>
          <p:spPr>
            <a:xfrm>
              <a:off x="1972080" y="3278880"/>
              <a:ext cx="1353600" cy="600480"/>
            </a:xfrm>
            <a:custGeom>
              <a:avLst/>
              <a:gdLst>
                <a:gd name="textAreaLeft" fmla="*/ 0 w 1353600"/>
                <a:gd name="textAreaRight" fmla="*/ 1353960 w 1353600"/>
                <a:gd name="textAreaTop" fmla="*/ 0 h 600480"/>
                <a:gd name="textAreaBottom" fmla="*/ 600840 h 600480"/>
              </a:gdLst>
              <a:ahLst/>
              <a:rect l="textAreaLeft" t="textAreaTop" r="textAreaRight" b="textAreaBottom"/>
              <a:pathLst>
                <a:path w="1827" h="865">
                  <a:moveTo>
                    <a:pt x="1827" y="431"/>
                  </a:moveTo>
                  <a:lnTo>
                    <a:pt x="1792" y="479"/>
                  </a:lnTo>
                  <a:lnTo>
                    <a:pt x="1754" y="526"/>
                  </a:lnTo>
                  <a:lnTo>
                    <a:pt x="1714" y="568"/>
                  </a:lnTo>
                  <a:lnTo>
                    <a:pt x="1671" y="610"/>
                  </a:lnTo>
                  <a:lnTo>
                    <a:pt x="1627" y="648"/>
                  </a:lnTo>
                  <a:lnTo>
                    <a:pt x="1579" y="683"/>
                  </a:lnTo>
                  <a:lnTo>
                    <a:pt x="1529" y="716"/>
                  </a:lnTo>
                  <a:lnTo>
                    <a:pt x="1479" y="746"/>
                  </a:lnTo>
                  <a:lnTo>
                    <a:pt x="1426" y="773"/>
                  </a:lnTo>
                  <a:lnTo>
                    <a:pt x="1370" y="796"/>
                  </a:lnTo>
                  <a:lnTo>
                    <a:pt x="1314" y="817"/>
                  </a:lnTo>
                  <a:lnTo>
                    <a:pt x="1255" y="833"/>
                  </a:lnTo>
                  <a:lnTo>
                    <a:pt x="1195" y="846"/>
                  </a:lnTo>
                  <a:lnTo>
                    <a:pt x="1136" y="856"/>
                  </a:lnTo>
                  <a:lnTo>
                    <a:pt x="1105" y="860"/>
                  </a:lnTo>
                  <a:lnTo>
                    <a:pt x="1073" y="861"/>
                  </a:lnTo>
                  <a:lnTo>
                    <a:pt x="1042" y="863"/>
                  </a:lnTo>
                  <a:lnTo>
                    <a:pt x="1011" y="865"/>
                  </a:lnTo>
                  <a:lnTo>
                    <a:pt x="967" y="863"/>
                  </a:lnTo>
                  <a:lnTo>
                    <a:pt x="923" y="860"/>
                  </a:lnTo>
                  <a:lnTo>
                    <a:pt x="881" y="856"/>
                  </a:lnTo>
                  <a:lnTo>
                    <a:pt x="838" y="850"/>
                  </a:lnTo>
                  <a:lnTo>
                    <a:pt x="796" y="840"/>
                  </a:lnTo>
                  <a:lnTo>
                    <a:pt x="754" y="831"/>
                  </a:lnTo>
                  <a:lnTo>
                    <a:pt x="714" y="819"/>
                  </a:lnTo>
                  <a:lnTo>
                    <a:pt x="673" y="806"/>
                  </a:lnTo>
                  <a:lnTo>
                    <a:pt x="635" y="790"/>
                  </a:lnTo>
                  <a:lnTo>
                    <a:pt x="597" y="773"/>
                  </a:lnTo>
                  <a:lnTo>
                    <a:pt x="560" y="756"/>
                  </a:lnTo>
                  <a:lnTo>
                    <a:pt x="524" y="735"/>
                  </a:lnTo>
                  <a:lnTo>
                    <a:pt x="487" y="714"/>
                  </a:lnTo>
                  <a:lnTo>
                    <a:pt x="453" y="691"/>
                  </a:lnTo>
                  <a:lnTo>
                    <a:pt x="420" y="668"/>
                  </a:lnTo>
                  <a:lnTo>
                    <a:pt x="387" y="643"/>
                  </a:lnTo>
                  <a:lnTo>
                    <a:pt x="359" y="620"/>
                  </a:lnTo>
                  <a:lnTo>
                    <a:pt x="332" y="595"/>
                  </a:lnTo>
                  <a:lnTo>
                    <a:pt x="307" y="570"/>
                  </a:lnTo>
                  <a:lnTo>
                    <a:pt x="282" y="545"/>
                  </a:lnTo>
                  <a:lnTo>
                    <a:pt x="259" y="518"/>
                  </a:lnTo>
                  <a:lnTo>
                    <a:pt x="236" y="491"/>
                  </a:lnTo>
                  <a:lnTo>
                    <a:pt x="215" y="462"/>
                  </a:lnTo>
                  <a:lnTo>
                    <a:pt x="195" y="433"/>
                  </a:lnTo>
                  <a:lnTo>
                    <a:pt x="178" y="407"/>
                  </a:lnTo>
                  <a:lnTo>
                    <a:pt x="161" y="380"/>
                  </a:lnTo>
                  <a:lnTo>
                    <a:pt x="145" y="353"/>
                  </a:lnTo>
                  <a:lnTo>
                    <a:pt x="130" y="326"/>
                  </a:lnTo>
                  <a:lnTo>
                    <a:pt x="124" y="314"/>
                  </a:lnTo>
                  <a:lnTo>
                    <a:pt x="121" y="303"/>
                  </a:lnTo>
                  <a:lnTo>
                    <a:pt x="0" y="368"/>
                  </a:lnTo>
                  <a:lnTo>
                    <a:pt x="78" y="205"/>
                  </a:lnTo>
                  <a:lnTo>
                    <a:pt x="78" y="203"/>
                  </a:lnTo>
                  <a:lnTo>
                    <a:pt x="78" y="203"/>
                  </a:lnTo>
                  <a:lnTo>
                    <a:pt x="176" y="0"/>
                  </a:lnTo>
                  <a:lnTo>
                    <a:pt x="424" y="34"/>
                  </a:lnTo>
                  <a:lnTo>
                    <a:pt x="424" y="34"/>
                  </a:lnTo>
                  <a:lnTo>
                    <a:pt x="424" y="34"/>
                  </a:lnTo>
                  <a:lnTo>
                    <a:pt x="583" y="55"/>
                  </a:lnTo>
                  <a:lnTo>
                    <a:pt x="456" y="126"/>
                  </a:lnTo>
                  <a:lnTo>
                    <a:pt x="460" y="134"/>
                  </a:lnTo>
                  <a:lnTo>
                    <a:pt x="464" y="142"/>
                  </a:lnTo>
                  <a:lnTo>
                    <a:pt x="468" y="149"/>
                  </a:lnTo>
                  <a:lnTo>
                    <a:pt x="472" y="157"/>
                  </a:lnTo>
                  <a:lnTo>
                    <a:pt x="493" y="193"/>
                  </a:lnTo>
                  <a:lnTo>
                    <a:pt x="520" y="232"/>
                  </a:lnTo>
                  <a:lnTo>
                    <a:pt x="533" y="251"/>
                  </a:lnTo>
                  <a:lnTo>
                    <a:pt x="549" y="270"/>
                  </a:lnTo>
                  <a:lnTo>
                    <a:pt x="566" y="289"/>
                  </a:lnTo>
                  <a:lnTo>
                    <a:pt x="583" y="307"/>
                  </a:lnTo>
                  <a:lnTo>
                    <a:pt x="616" y="337"/>
                  </a:lnTo>
                  <a:lnTo>
                    <a:pt x="652" y="366"/>
                  </a:lnTo>
                  <a:lnTo>
                    <a:pt x="689" y="393"/>
                  </a:lnTo>
                  <a:lnTo>
                    <a:pt x="729" y="414"/>
                  </a:lnTo>
                  <a:lnTo>
                    <a:pt x="737" y="418"/>
                  </a:lnTo>
                  <a:lnTo>
                    <a:pt x="742" y="422"/>
                  </a:lnTo>
                  <a:lnTo>
                    <a:pt x="742" y="422"/>
                  </a:lnTo>
                  <a:lnTo>
                    <a:pt x="773" y="435"/>
                  </a:lnTo>
                  <a:lnTo>
                    <a:pt x="806" y="449"/>
                  </a:lnTo>
                  <a:lnTo>
                    <a:pt x="838" y="458"/>
                  </a:lnTo>
                  <a:lnTo>
                    <a:pt x="871" y="468"/>
                  </a:lnTo>
                  <a:lnTo>
                    <a:pt x="906" y="476"/>
                  </a:lnTo>
                  <a:lnTo>
                    <a:pt x="940" y="479"/>
                  </a:lnTo>
                  <a:lnTo>
                    <a:pt x="975" y="483"/>
                  </a:lnTo>
                  <a:lnTo>
                    <a:pt x="1011" y="483"/>
                  </a:lnTo>
                  <a:lnTo>
                    <a:pt x="1049" y="483"/>
                  </a:lnTo>
                  <a:lnTo>
                    <a:pt x="1086" y="479"/>
                  </a:lnTo>
                  <a:lnTo>
                    <a:pt x="1122" y="474"/>
                  </a:lnTo>
                  <a:lnTo>
                    <a:pt x="1159" y="466"/>
                  </a:lnTo>
                  <a:lnTo>
                    <a:pt x="1195" y="456"/>
                  </a:lnTo>
                  <a:lnTo>
                    <a:pt x="1228" y="443"/>
                  </a:lnTo>
                  <a:lnTo>
                    <a:pt x="1263" y="430"/>
                  </a:lnTo>
                  <a:lnTo>
                    <a:pt x="1295" y="414"/>
                  </a:lnTo>
                  <a:lnTo>
                    <a:pt x="1326" y="395"/>
                  </a:lnTo>
                  <a:lnTo>
                    <a:pt x="1357" y="376"/>
                  </a:lnTo>
                  <a:lnTo>
                    <a:pt x="1385" y="355"/>
                  </a:lnTo>
                  <a:lnTo>
                    <a:pt x="1412" y="332"/>
                  </a:lnTo>
                  <a:lnTo>
                    <a:pt x="1439" y="307"/>
                  </a:lnTo>
                  <a:lnTo>
                    <a:pt x="1462" y="282"/>
                  </a:lnTo>
                  <a:lnTo>
                    <a:pt x="1485" y="255"/>
                  </a:lnTo>
                  <a:lnTo>
                    <a:pt x="1508" y="226"/>
                  </a:lnTo>
                  <a:lnTo>
                    <a:pt x="1593" y="451"/>
                  </a:lnTo>
                  <a:lnTo>
                    <a:pt x="1827" y="431"/>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47" name="Freeform 11"/>
            <p:cNvSpPr/>
            <p:nvPr/>
          </p:nvSpPr>
          <p:spPr>
            <a:xfrm>
              <a:off x="2793600" y="2511360"/>
              <a:ext cx="697320" cy="1078920"/>
            </a:xfrm>
            <a:custGeom>
              <a:avLst/>
              <a:gdLst>
                <a:gd name="textAreaLeft" fmla="*/ 0 w 697320"/>
                <a:gd name="textAreaRight" fmla="*/ 697680 w 697320"/>
                <a:gd name="textAreaTop" fmla="*/ 0 h 1078920"/>
                <a:gd name="textAreaBottom" fmla="*/ 1079280 h 1078920"/>
              </a:gdLst>
              <a:ahLst/>
              <a:rect l="textAreaLeft" t="textAreaTop" r="textAreaRight" b="textAreaBottom"/>
              <a:pathLst>
                <a:path w="942" h="1553">
                  <a:moveTo>
                    <a:pt x="324" y="1130"/>
                  </a:moveTo>
                  <a:lnTo>
                    <a:pt x="463" y="1215"/>
                  </a:lnTo>
                  <a:lnTo>
                    <a:pt x="463" y="1215"/>
                  </a:lnTo>
                  <a:lnTo>
                    <a:pt x="463" y="1215"/>
                  </a:lnTo>
                  <a:lnTo>
                    <a:pt x="468" y="1201"/>
                  </a:lnTo>
                  <a:lnTo>
                    <a:pt x="472" y="1188"/>
                  </a:lnTo>
                  <a:lnTo>
                    <a:pt x="482" y="1163"/>
                  </a:lnTo>
                  <a:lnTo>
                    <a:pt x="489" y="1138"/>
                  </a:lnTo>
                  <a:lnTo>
                    <a:pt x="495" y="1113"/>
                  </a:lnTo>
                  <a:lnTo>
                    <a:pt x="499" y="1086"/>
                  </a:lnTo>
                  <a:lnTo>
                    <a:pt x="505" y="1061"/>
                  </a:lnTo>
                  <a:lnTo>
                    <a:pt x="507" y="1034"/>
                  </a:lnTo>
                  <a:lnTo>
                    <a:pt x="509" y="1008"/>
                  </a:lnTo>
                  <a:lnTo>
                    <a:pt x="509" y="981"/>
                  </a:lnTo>
                  <a:lnTo>
                    <a:pt x="509" y="952"/>
                  </a:lnTo>
                  <a:lnTo>
                    <a:pt x="507" y="925"/>
                  </a:lnTo>
                  <a:lnTo>
                    <a:pt x="503" y="896"/>
                  </a:lnTo>
                  <a:lnTo>
                    <a:pt x="499" y="869"/>
                  </a:lnTo>
                  <a:lnTo>
                    <a:pt x="493" y="842"/>
                  </a:lnTo>
                  <a:lnTo>
                    <a:pt x="488" y="818"/>
                  </a:lnTo>
                  <a:lnTo>
                    <a:pt x="480" y="791"/>
                  </a:lnTo>
                  <a:lnTo>
                    <a:pt x="470" y="766"/>
                  </a:lnTo>
                  <a:lnTo>
                    <a:pt x="461" y="741"/>
                  </a:lnTo>
                  <a:lnTo>
                    <a:pt x="449" y="718"/>
                  </a:lnTo>
                  <a:lnTo>
                    <a:pt x="438" y="693"/>
                  </a:lnTo>
                  <a:lnTo>
                    <a:pt x="424" y="670"/>
                  </a:lnTo>
                  <a:lnTo>
                    <a:pt x="411" y="649"/>
                  </a:lnTo>
                  <a:lnTo>
                    <a:pt x="395" y="626"/>
                  </a:lnTo>
                  <a:lnTo>
                    <a:pt x="380" y="606"/>
                  </a:lnTo>
                  <a:lnTo>
                    <a:pt x="363" y="585"/>
                  </a:lnTo>
                  <a:lnTo>
                    <a:pt x="345" y="566"/>
                  </a:lnTo>
                  <a:lnTo>
                    <a:pt x="326" y="547"/>
                  </a:lnTo>
                  <a:lnTo>
                    <a:pt x="307" y="530"/>
                  </a:lnTo>
                  <a:lnTo>
                    <a:pt x="288" y="512"/>
                  </a:lnTo>
                  <a:lnTo>
                    <a:pt x="267" y="495"/>
                  </a:lnTo>
                  <a:lnTo>
                    <a:pt x="246" y="480"/>
                  </a:lnTo>
                  <a:lnTo>
                    <a:pt x="225" y="466"/>
                  </a:lnTo>
                  <a:lnTo>
                    <a:pt x="202" y="451"/>
                  </a:lnTo>
                  <a:lnTo>
                    <a:pt x="178" y="439"/>
                  </a:lnTo>
                  <a:lnTo>
                    <a:pt x="154" y="428"/>
                  </a:lnTo>
                  <a:lnTo>
                    <a:pt x="131" y="416"/>
                  </a:lnTo>
                  <a:lnTo>
                    <a:pt x="106" y="407"/>
                  </a:lnTo>
                  <a:lnTo>
                    <a:pt x="79" y="399"/>
                  </a:lnTo>
                  <a:lnTo>
                    <a:pt x="54" y="391"/>
                  </a:lnTo>
                  <a:lnTo>
                    <a:pt x="27" y="386"/>
                  </a:lnTo>
                  <a:lnTo>
                    <a:pt x="0" y="380"/>
                  </a:lnTo>
                  <a:lnTo>
                    <a:pt x="146" y="184"/>
                  </a:lnTo>
                  <a:lnTo>
                    <a:pt x="21" y="0"/>
                  </a:lnTo>
                  <a:lnTo>
                    <a:pt x="67" y="6"/>
                  </a:lnTo>
                  <a:lnTo>
                    <a:pt x="111" y="15"/>
                  </a:lnTo>
                  <a:lnTo>
                    <a:pt x="155" y="25"/>
                  </a:lnTo>
                  <a:lnTo>
                    <a:pt x="200" y="38"/>
                  </a:lnTo>
                  <a:lnTo>
                    <a:pt x="242" y="54"/>
                  </a:lnTo>
                  <a:lnTo>
                    <a:pt x="282" y="69"/>
                  </a:lnTo>
                  <a:lnTo>
                    <a:pt x="324" y="88"/>
                  </a:lnTo>
                  <a:lnTo>
                    <a:pt x="363" y="107"/>
                  </a:lnTo>
                  <a:lnTo>
                    <a:pt x="401" y="128"/>
                  </a:lnTo>
                  <a:lnTo>
                    <a:pt x="440" y="151"/>
                  </a:lnTo>
                  <a:lnTo>
                    <a:pt x="476" y="176"/>
                  </a:lnTo>
                  <a:lnTo>
                    <a:pt x="511" y="203"/>
                  </a:lnTo>
                  <a:lnTo>
                    <a:pt x="545" y="232"/>
                  </a:lnTo>
                  <a:lnTo>
                    <a:pt x="578" y="261"/>
                  </a:lnTo>
                  <a:lnTo>
                    <a:pt x="608" y="292"/>
                  </a:lnTo>
                  <a:lnTo>
                    <a:pt x="639" y="324"/>
                  </a:lnTo>
                  <a:lnTo>
                    <a:pt x="668" y="357"/>
                  </a:lnTo>
                  <a:lnTo>
                    <a:pt x="695" y="391"/>
                  </a:lnTo>
                  <a:lnTo>
                    <a:pt x="720" y="428"/>
                  </a:lnTo>
                  <a:lnTo>
                    <a:pt x="743" y="464"/>
                  </a:lnTo>
                  <a:lnTo>
                    <a:pt x="766" y="503"/>
                  </a:lnTo>
                  <a:lnTo>
                    <a:pt x="787" y="541"/>
                  </a:lnTo>
                  <a:lnTo>
                    <a:pt x="806" y="581"/>
                  </a:lnTo>
                  <a:lnTo>
                    <a:pt x="823" y="624"/>
                  </a:lnTo>
                  <a:lnTo>
                    <a:pt x="839" y="666"/>
                  </a:lnTo>
                  <a:lnTo>
                    <a:pt x="852" y="708"/>
                  </a:lnTo>
                  <a:lnTo>
                    <a:pt x="864" y="752"/>
                  </a:lnTo>
                  <a:lnTo>
                    <a:pt x="871" y="796"/>
                  </a:lnTo>
                  <a:lnTo>
                    <a:pt x="879" y="841"/>
                  </a:lnTo>
                  <a:lnTo>
                    <a:pt x="885" y="887"/>
                  </a:lnTo>
                  <a:lnTo>
                    <a:pt x="889" y="933"/>
                  </a:lnTo>
                  <a:lnTo>
                    <a:pt x="889" y="981"/>
                  </a:lnTo>
                  <a:lnTo>
                    <a:pt x="889" y="1031"/>
                  </a:lnTo>
                  <a:lnTo>
                    <a:pt x="885" y="1082"/>
                  </a:lnTo>
                  <a:lnTo>
                    <a:pt x="877" y="1132"/>
                  </a:lnTo>
                  <a:lnTo>
                    <a:pt x="869" y="1180"/>
                  </a:lnTo>
                  <a:lnTo>
                    <a:pt x="858" y="1228"/>
                  </a:lnTo>
                  <a:lnTo>
                    <a:pt x="845" y="1276"/>
                  </a:lnTo>
                  <a:lnTo>
                    <a:pt x="829" y="1322"/>
                  </a:lnTo>
                  <a:lnTo>
                    <a:pt x="810" y="1368"/>
                  </a:lnTo>
                  <a:lnTo>
                    <a:pt x="798" y="1393"/>
                  </a:lnTo>
                  <a:lnTo>
                    <a:pt x="787" y="1418"/>
                  </a:lnTo>
                  <a:lnTo>
                    <a:pt x="787" y="1418"/>
                  </a:lnTo>
                  <a:lnTo>
                    <a:pt x="787" y="1418"/>
                  </a:lnTo>
                  <a:lnTo>
                    <a:pt x="942" y="1518"/>
                  </a:lnTo>
                  <a:lnTo>
                    <a:pt x="720" y="1534"/>
                  </a:lnTo>
                  <a:lnTo>
                    <a:pt x="484" y="1553"/>
                  </a:lnTo>
                  <a:lnTo>
                    <a:pt x="399" y="1328"/>
                  </a:lnTo>
                  <a:lnTo>
                    <a:pt x="399" y="1328"/>
                  </a:lnTo>
                  <a:lnTo>
                    <a:pt x="324" y="1130"/>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grpSp>
      <p:grpSp>
        <p:nvGrpSpPr>
          <p:cNvPr id="248" name="Groupe 36"/>
          <p:cNvGrpSpPr/>
          <p:nvPr/>
        </p:nvGrpSpPr>
        <p:grpSpPr>
          <a:xfrm>
            <a:off x="3616920" y="2335320"/>
            <a:ext cx="1709640" cy="1605240"/>
            <a:chOff x="3616920" y="2335320"/>
            <a:chExt cx="1709640" cy="1605240"/>
          </a:xfrm>
        </p:grpSpPr>
        <p:sp>
          <p:nvSpPr>
            <p:cNvPr id="249" name="Freeform 13"/>
            <p:cNvSpPr/>
            <p:nvPr/>
          </p:nvSpPr>
          <p:spPr>
            <a:xfrm>
              <a:off x="4539600" y="2453040"/>
              <a:ext cx="786960" cy="858600"/>
            </a:xfrm>
            <a:custGeom>
              <a:avLst/>
              <a:gdLst>
                <a:gd name="textAreaLeft" fmla="*/ 0 w 786960"/>
                <a:gd name="textAreaRight" fmla="*/ 787320 w 786960"/>
                <a:gd name="textAreaTop" fmla="*/ 0 h 858600"/>
                <a:gd name="textAreaBottom" fmla="*/ 858960 h 858600"/>
              </a:gdLst>
              <a:ahLst/>
              <a:rect l="textAreaLeft" t="textAreaTop" r="textAreaRight" b="textAreaBottom"/>
              <a:pathLst>
                <a:path w="1055" h="1225">
                  <a:moveTo>
                    <a:pt x="31" y="0"/>
                  </a:moveTo>
                  <a:lnTo>
                    <a:pt x="67" y="4"/>
                  </a:lnTo>
                  <a:lnTo>
                    <a:pt x="104" y="10"/>
                  </a:lnTo>
                  <a:lnTo>
                    <a:pt x="138" y="18"/>
                  </a:lnTo>
                  <a:lnTo>
                    <a:pt x="173" y="27"/>
                  </a:lnTo>
                  <a:lnTo>
                    <a:pt x="209" y="37"/>
                  </a:lnTo>
                  <a:lnTo>
                    <a:pt x="242" y="48"/>
                  </a:lnTo>
                  <a:lnTo>
                    <a:pt x="276" y="62"/>
                  </a:lnTo>
                  <a:lnTo>
                    <a:pt x="309" y="75"/>
                  </a:lnTo>
                  <a:lnTo>
                    <a:pt x="342" y="91"/>
                  </a:lnTo>
                  <a:lnTo>
                    <a:pt x="374" y="108"/>
                  </a:lnTo>
                  <a:lnTo>
                    <a:pt x="405" y="125"/>
                  </a:lnTo>
                  <a:lnTo>
                    <a:pt x="436" y="142"/>
                  </a:lnTo>
                  <a:lnTo>
                    <a:pt x="466" y="162"/>
                  </a:lnTo>
                  <a:lnTo>
                    <a:pt x="495" y="183"/>
                  </a:lnTo>
                  <a:lnTo>
                    <a:pt x="524" y="204"/>
                  </a:lnTo>
                  <a:lnTo>
                    <a:pt x="551" y="227"/>
                  </a:lnTo>
                  <a:lnTo>
                    <a:pt x="578" y="250"/>
                  </a:lnTo>
                  <a:lnTo>
                    <a:pt x="605" y="275"/>
                  </a:lnTo>
                  <a:lnTo>
                    <a:pt x="629" y="300"/>
                  </a:lnTo>
                  <a:lnTo>
                    <a:pt x="654" y="327"/>
                  </a:lnTo>
                  <a:lnTo>
                    <a:pt x="677" y="353"/>
                  </a:lnTo>
                  <a:lnTo>
                    <a:pt x="699" y="382"/>
                  </a:lnTo>
                  <a:lnTo>
                    <a:pt x="720" y="411"/>
                  </a:lnTo>
                  <a:lnTo>
                    <a:pt x="741" y="440"/>
                  </a:lnTo>
                  <a:lnTo>
                    <a:pt x="758" y="471"/>
                  </a:lnTo>
                  <a:lnTo>
                    <a:pt x="777" y="501"/>
                  </a:lnTo>
                  <a:lnTo>
                    <a:pt x="793" y="532"/>
                  </a:lnTo>
                  <a:lnTo>
                    <a:pt x="808" y="565"/>
                  </a:lnTo>
                  <a:lnTo>
                    <a:pt x="823" y="599"/>
                  </a:lnTo>
                  <a:lnTo>
                    <a:pt x="835" y="632"/>
                  </a:lnTo>
                  <a:lnTo>
                    <a:pt x="846" y="666"/>
                  </a:lnTo>
                  <a:lnTo>
                    <a:pt x="858" y="701"/>
                  </a:lnTo>
                  <a:lnTo>
                    <a:pt x="865" y="731"/>
                  </a:lnTo>
                  <a:lnTo>
                    <a:pt x="873" y="762"/>
                  </a:lnTo>
                  <a:lnTo>
                    <a:pt x="881" y="795"/>
                  </a:lnTo>
                  <a:lnTo>
                    <a:pt x="885" y="827"/>
                  </a:lnTo>
                  <a:lnTo>
                    <a:pt x="890" y="858"/>
                  </a:lnTo>
                  <a:lnTo>
                    <a:pt x="894" y="891"/>
                  </a:lnTo>
                  <a:lnTo>
                    <a:pt x="896" y="923"/>
                  </a:lnTo>
                  <a:lnTo>
                    <a:pt x="898" y="958"/>
                  </a:lnTo>
                  <a:lnTo>
                    <a:pt x="896" y="958"/>
                  </a:lnTo>
                  <a:lnTo>
                    <a:pt x="896" y="960"/>
                  </a:lnTo>
                  <a:lnTo>
                    <a:pt x="896" y="964"/>
                  </a:lnTo>
                  <a:lnTo>
                    <a:pt x="1055" y="962"/>
                  </a:lnTo>
                  <a:lnTo>
                    <a:pt x="714" y="1225"/>
                  </a:lnTo>
                  <a:lnTo>
                    <a:pt x="386" y="967"/>
                  </a:lnTo>
                  <a:lnTo>
                    <a:pt x="516" y="967"/>
                  </a:lnTo>
                  <a:lnTo>
                    <a:pt x="514" y="944"/>
                  </a:lnTo>
                  <a:lnTo>
                    <a:pt x="514" y="921"/>
                  </a:lnTo>
                  <a:lnTo>
                    <a:pt x="511" y="898"/>
                  </a:lnTo>
                  <a:lnTo>
                    <a:pt x="509" y="875"/>
                  </a:lnTo>
                  <a:lnTo>
                    <a:pt x="503" y="850"/>
                  </a:lnTo>
                  <a:lnTo>
                    <a:pt x="497" y="827"/>
                  </a:lnTo>
                  <a:lnTo>
                    <a:pt x="491" y="804"/>
                  </a:lnTo>
                  <a:lnTo>
                    <a:pt x="484" y="781"/>
                  </a:lnTo>
                  <a:lnTo>
                    <a:pt x="466" y="737"/>
                  </a:lnTo>
                  <a:lnTo>
                    <a:pt x="445" y="695"/>
                  </a:lnTo>
                  <a:lnTo>
                    <a:pt x="422" y="655"/>
                  </a:lnTo>
                  <a:lnTo>
                    <a:pt x="395" y="616"/>
                  </a:lnTo>
                  <a:lnTo>
                    <a:pt x="367" y="580"/>
                  </a:lnTo>
                  <a:lnTo>
                    <a:pt x="334" y="545"/>
                  </a:lnTo>
                  <a:lnTo>
                    <a:pt x="299" y="515"/>
                  </a:lnTo>
                  <a:lnTo>
                    <a:pt x="261" y="486"/>
                  </a:lnTo>
                  <a:lnTo>
                    <a:pt x="223" y="461"/>
                  </a:lnTo>
                  <a:lnTo>
                    <a:pt x="182" y="438"/>
                  </a:lnTo>
                  <a:lnTo>
                    <a:pt x="138" y="419"/>
                  </a:lnTo>
                  <a:lnTo>
                    <a:pt x="94" y="401"/>
                  </a:lnTo>
                  <a:lnTo>
                    <a:pt x="71" y="396"/>
                  </a:lnTo>
                  <a:lnTo>
                    <a:pt x="48" y="388"/>
                  </a:lnTo>
                  <a:lnTo>
                    <a:pt x="23" y="384"/>
                  </a:lnTo>
                  <a:lnTo>
                    <a:pt x="0" y="380"/>
                  </a:lnTo>
                  <a:lnTo>
                    <a:pt x="163" y="175"/>
                  </a:lnTo>
                  <a:lnTo>
                    <a:pt x="31" y="0"/>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0" name="Freeform 12"/>
            <p:cNvSpPr/>
            <p:nvPr/>
          </p:nvSpPr>
          <p:spPr>
            <a:xfrm>
              <a:off x="3616920" y="2966040"/>
              <a:ext cx="1587600" cy="856800"/>
            </a:xfrm>
            <a:custGeom>
              <a:avLst/>
              <a:gdLst>
                <a:gd name="textAreaLeft" fmla="*/ 0 w 1587600"/>
                <a:gd name="textAreaRight" fmla="*/ 1587960 w 1587600"/>
                <a:gd name="textAreaTop" fmla="*/ 0 h 856800"/>
                <a:gd name="textAreaBottom" fmla="*/ 857160 h 856800"/>
              </a:gdLst>
              <a:ahLst/>
              <a:rect l="textAreaLeft" t="textAreaTop" r="textAreaRight" b="textAreaBottom"/>
              <a:pathLst>
                <a:path w="2127" h="1225">
                  <a:moveTo>
                    <a:pt x="2127" y="359"/>
                  </a:moveTo>
                  <a:lnTo>
                    <a:pt x="2118" y="419"/>
                  </a:lnTo>
                  <a:lnTo>
                    <a:pt x="2106" y="478"/>
                  </a:lnTo>
                  <a:lnTo>
                    <a:pt x="2089" y="534"/>
                  </a:lnTo>
                  <a:lnTo>
                    <a:pt x="2070" y="591"/>
                  </a:lnTo>
                  <a:lnTo>
                    <a:pt x="2049" y="645"/>
                  </a:lnTo>
                  <a:lnTo>
                    <a:pt x="2022" y="697"/>
                  </a:lnTo>
                  <a:lnTo>
                    <a:pt x="1995" y="749"/>
                  </a:lnTo>
                  <a:lnTo>
                    <a:pt x="1962" y="799"/>
                  </a:lnTo>
                  <a:lnTo>
                    <a:pt x="1993" y="749"/>
                  </a:lnTo>
                  <a:lnTo>
                    <a:pt x="2022" y="699"/>
                  </a:lnTo>
                  <a:lnTo>
                    <a:pt x="2047" y="645"/>
                  </a:lnTo>
                  <a:lnTo>
                    <a:pt x="2070" y="591"/>
                  </a:lnTo>
                  <a:lnTo>
                    <a:pt x="2089" y="536"/>
                  </a:lnTo>
                  <a:lnTo>
                    <a:pt x="2104" y="478"/>
                  </a:lnTo>
                  <a:lnTo>
                    <a:pt x="2116" y="421"/>
                  </a:lnTo>
                  <a:lnTo>
                    <a:pt x="2125" y="361"/>
                  </a:lnTo>
                  <a:lnTo>
                    <a:pt x="2127" y="359"/>
                  </a:lnTo>
                  <a:close/>
                  <a:moveTo>
                    <a:pt x="1022" y="1225"/>
                  </a:moveTo>
                  <a:lnTo>
                    <a:pt x="969" y="1217"/>
                  </a:lnTo>
                  <a:lnTo>
                    <a:pt x="915" y="1205"/>
                  </a:lnTo>
                  <a:lnTo>
                    <a:pt x="863" y="1190"/>
                  </a:lnTo>
                  <a:lnTo>
                    <a:pt x="811" y="1173"/>
                  </a:lnTo>
                  <a:lnTo>
                    <a:pt x="761" y="1154"/>
                  </a:lnTo>
                  <a:lnTo>
                    <a:pt x="713" y="1132"/>
                  </a:lnTo>
                  <a:lnTo>
                    <a:pt x="665" y="1108"/>
                  </a:lnTo>
                  <a:lnTo>
                    <a:pt x="619" y="1081"/>
                  </a:lnTo>
                  <a:lnTo>
                    <a:pt x="575" y="1050"/>
                  </a:lnTo>
                  <a:lnTo>
                    <a:pt x="533" y="1019"/>
                  </a:lnTo>
                  <a:lnTo>
                    <a:pt x="493" y="985"/>
                  </a:lnTo>
                  <a:lnTo>
                    <a:pt x="454" y="950"/>
                  </a:lnTo>
                  <a:lnTo>
                    <a:pt x="418" y="912"/>
                  </a:lnTo>
                  <a:lnTo>
                    <a:pt x="383" y="872"/>
                  </a:lnTo>
                  <a:lnTo>
                    <a:pt x="351" y="829"/>
                  </a:lnTo>
                  <a:lnTo>
                    <a:pt x="320" y="787"/>
                  </a:lnTo>
                  <a:lnTo>
                    <a:pt x="299" y="758"/>
                  </a:lnTo>
                  <a:lnTo>
                    <a:pt x="280" y="728"/>
                  </a:lnTo>
                  <a:lnTo>
                    <a:pt x="262" y="695"/>
                  </a:lnTo>
                  <a:lnTo>
                    <a:pt x="247" y="662"/>
                  </a:lnTo>
                  <a:lnTo>
                    <a:pt x="234" y="630"/>
                  </a:lnTo>
                  <a:lnTo>
                    <a:pt x="220" y="595"/>
                  </a:lnTo>
                  <a:lnTo>
                    <a:pt x="209" y="559"/>
                  </a:lnTo>
                  <a:lnTo>
                    <a:pt x="197" y="524"/>
                  </a:lnTo>
                  <a:lnTo>
                    <a:pt x="190" y="494"/>
                  </a:lnTo>
                  <a:lnTo>
                    <a:pt x="182" y="463"/>
                  </a:lnTo>
                  <a:lnTo>
                    <a:pt x="174" y="430"/>
                  </a:lnTo>
                  <a:lnTo>
                    <a:pt x="170" y="398"/>
                  </a:lnTo>
                  <a:lnTo>
                    <a:pt x="165" y="367"/>
                  </a:lnTo>
                  <a:lnTo>
                    <a:pt x="161" y="334"/>
                  </a:lnTo>
                  <a:lnTo>
                    <a:pt x="159" y="302"/>
                  </a:lnTo>
                  <a:lnTo>
                    <a:pt x="157" y="267"/>
                  </a:lnTo>
                  <a:lnTo>
                    <a:pt x="159" y="267"/>
                  </a:lnTo>
                  <a:lnTo>
                    <a:pt x="159" y="265"/>
                  </a:lnTo>
                  <a:lnTo>
                    <a:pt x="159" y="261"/>
                  </a:lnTo>
                  <a:lnTo>
                    <a:pt x="0" y="263"/>
                  </a:lnTo>
                  <a:lnTo>
                    <a:pt x="337" y="0"/>
                  </a:lnTo>
                  <a:lnTo>
                    <a:pt x="544" y="162"/>
                  </a:lnTo>
                  <a:lnTo>
                    <a:pt x="544" y="162"/>
                  </a:lnTo>
                  <a:lnTo>
                    <a:pt x="544" y="162"/>
                  </a:lnTo>
                  <a:lnTo>
                    <a:pt x="669" y="258"/>
                  </a:lnTo>
                  <a:lnTo>
                    <a:pt x="539" y="258"/>
                  </a:lnTo>
                  <a:lnTo>
                    <a:pt x="541" y="281"/>
                  </a:lnTo>
                  <a:lnTo>
                    <a:pt x="541" y="304"/>
                  </a:lnTo>
                  <a:lnTo>
                    <a:pt x="544" y="327"/>
                  </a:lnTo>
                  <a:lnTo>
                    <a:pt x="546" y="350"/>
                  </a:lnTo>
                  <a:lnTo>
                    <a:pt x="552" y="375"/>
                  </a:lnTo>
                  <a:lnTo>
                    <a:pt x="558" y="398"/>
                  </a:lnTo>
                  <a:lnTo>
                    <a:pt x="564" y="421"/>
                  </a:lnTo>
                  <a:lnTo>
                    <a:pt x="571" y="444"/>
                  </a:lnTo>
                  <a:lnTo>
                    <a:pt x="589" y="488"/>
                  </a:lnTo>
                  <a:lnTo>
                    <a:pt x="610" y="530"/>
                  </a:lnTo>
                  <a:lnTo>
                    <a:pt x="633" y="570"/>
                  </a:lnTo>
                  <a:lnTo>
                    <a:pt x="660" y="609"/>
                  </a:lnTo>
                  <a:lnTo>
                    <a:pt x="690" y="645"/>
                  </a:lnTo>
                  <a:lnTo>
                    <a:pt x="721" y="680"/>
                  </a:lnTo>
                  <a:lnTo>
                    <a:pt x="757" y="710"/>
                  </a:lnTo>
                  <a:lnTo>
                    <a:pt x="794" y="739"/>
                  </a:lnTo>
                  <a:lnTo>
                    <a:pt x="832" y="766"/>
                  </a:lnTo>
                  <a:lnTo>
                    <a:pt x="875" y="787"/>
                  </a:lnTo>
                  <a:lnTo>
                    <a:pt x="917" y="808"/>
                  </a:lnTo>
                  <a:lnTo>
                    <a:pt x="963" y="824"/>
                  </a:lnTo>
                  <a:lnTo>
                    <a:pt x="986" y="831"/>
                  </a:lnTo>
                  <a:lnTo>
                    <a:pt x="1009" y="837"/>
                  </a:lnTo>
                  <a:lnTo>
                    <a:pt x="1032" y="841"/>
                  </a:lnTo>
                  <a:lnTo>
                    <a:pt x="1057" y="845"/>
                  </a:lnTo>
                  <a:lnTo>
                    <a:pt x="1055" y="847"/>
                  </a:lnTo>
                  <a:lnTo>
                    <a:pt x="1055" y="847"/>
                  </a:lnTo>
                  <a:lnTo>
                    <a:pt x="892" y="1054"/>
                  </a:lnTo>
                  <a:lnTo>
                    <a:pt x="1022" y="1225"/>
                  </a:lnTo>
                  <a:close/>
                  <a:moveTo>
                    <a:pt x="1153" y="852"/>
                  </a:moveTo>
                  <a:lnTo>
                    <a:pt x="1189" y="850"/>
                  </a:lnTo>
                  <a:lnTo>
                    <a:pt x="1226" y="847"/>
                  </a:lnTo>
                  <a:lnTo>
                    <a:pt x="1262" y="841"/>
                  </a:lnTo>
                  <a:lnTo>
                    <a:pt x="1299" y="833"/>
                  </a:lnTo>
                  <a:lnTo>
                    <a:pt x="1333" y="822"/>
                  </a:lnTo>
                  <a:lnTo>
                    <a:pt x="1368" y="810"/>
                  </a:lnTo>
                  <a:lnTo>
                    <a:pt x="1400" y="797"/>
                  </a:lnTo>
                  <a:lnTo>
                    <a:pt x="1433" y="779"/>
                  </a:lnTo>
                  <a:lnTo>
                    <a:pt x="1464" y="762"/>
                  </a:lnTo>
                  <a:lnTo>
                    <a:pt x="1492" y="743"/>
                  </a:lnTo>
                  <a:lnTo>
                    <a:pt x="1521" y="722"/>
                  </a:lnTo>
                  <a:lnTo>
                    <a:pt x="1548" y="699"/>
                  </a:lnTo>
                  <a:lnTo>
                    <a:pt x="1573" y="674"/>
                  </a:lnTo>
                  <a:lnTo>
                    <a:pt x="1598" y="649"/>
                  </a:lnTo>
                  <a:lnTo>
                    <a:pt x="1621" y="622"/>
                  </a:lnTo>
                  <a:lnTo>
                    <a:pt x="1642" y="593"/>
                  </a:lnTo>
                  <a:lnTo>
                    <a:pt x="1625" y="618"/>
                  </a:lnTo>
                  <a:lnTo>
                    <a:pt x="1606" y="641"/>
                  </a:lnTo>
                  <a:lnTo>
                    <a:pt x="1584" y="664"/>
                  </a:lnTo>
                  <a:lnTo>
                    <a:pt x="1563" y="685"/>
                  </a:lnTo>
                  <a:lnTo>
                    <a:pt x="1542" y="705"/>
                  </a:lnTo>
                  <a:lnTo>
                    <a:pt x="1519" y="724"/>
                  </a:lnTo>
                  <a:lnTo>
                    <a:pt x="1494" y="743"/>
                  </a:lnTo>
                  <a:lnTo>
                    <a:pt x="1469" y="760"/>
                  </a:lnTo>
                  <a:lnTo>
                    <a:pt x="1444" y="776"/>
                  </a:lnTo>
                  <a:lnTo>
                    <a:pt x="1417" y="789"/>
                  </a:lnTo>
                  <a:lnTo>
                    <a:pt x="1391" y="802"/>
                  </a:lnTo>
                  <a:lnTo>
                    <a:pt x="1362" y="814"/>
                  </a:lnTo>
                  <a:lnTo>
                    <a:pt x="1333" y="825"/>
                  </a:lnTo>
                  <a:lnTo>
                    <a:pt x="1304" y="833"/>
                  </a:lnTo>
                  <a:lnTo>
                    <a:pt x="1274" y="841"/>
                  </a:lnTo>
                  <a:lnTo>
                    <a:pt x="1245" y="847"/>
                  </a:lnTo>
                  <a:lnTo>
                    <a:pt x="1220" y="850"/>
                  </a:lnTo>
                  <a:lnTo>
                    <a:pt x="1197" y="852"/>
                  </a:lnTo>
                  <a:lnTo>
                    <a:pt x="1174" y="852"/>
                  </a:lnTo>
                  <a:lnTo>
                    <a:pt x="1153" y="854"/>
                  </a:lnTo>
                  <a:lnTo>
                    <a:pt x="1153" y="852"/>
                  </a:lnTo>
                  <a:close/>
                  <a:moveTo>
                    <a:pt x="1644" y="591"/>
                  </a:moveTo>
                  <a:lnTo>
                    <a:pt x="1644" y="589"/>
                  </a:lnTo>
                  <a:lnTo>
                    <a:pt x="1646" y="589"/>
                  </a:lnTo>
                  <a:lnTo>
                    <a:pt x="1644" y="589"/>
                  </a:lnTo>
                  <a:lnTo>
                    <a:pt x="1644" y="591"/>
                  </a:lnTo>
                  <a:close/>
                </a:path>
              </a:pathLst>
            </a:custGeom>
            <a:solidFill>
              <a:srgbClr val="07bd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1" name="Freeform 14"/>
            <p:cNvSpPr/>
            <p:nvPr/>
          </p:nvSpPr>
          <p:spPr>
            <a:xfrm>
              <a:off x="3741840" y="2335320"/>
              <a:ext cx="919440" cy="743760"/>
            </a:xfrm>
            <a:custGeom>
              <a:avLst/>
              <a:gdLst>
                <a:gd name="textAreaLeft" fmla="*/ 0 w 919440"/>
                <a:gd name="textAreaRight" fmla="*/ 919800 w 919440"/>
                <a:gd name="textAreaTop" fmla="*/ 0 h 743760"/>
                <a:gd name="textAreaBottom" fmla="*/ 744120 h 743760"/>
              </a:gdLst>
              <a:ahLst/>
              <a:rect l="textAreaLeft" t="textAreaTop" r="textAreaRight" b="textAreaBottom"/>
              <a:pathLst>
                <a:path w="1233" h="1061">
                  <a:moveTo>
                    <a:pt x="0" y="1032"/>
                  </a:moveTo>
                  <a:lnTo>
                    <a:pt x="5" y="995"/>
                  </a:lnTo>
                  <a:lnTo>
                    <a:pt x="11" y="959"/>
                  </a:lnTo>
                  <a:lnTo>
                    <a:pt x="19" y="922"/>
                  </a:lnTo>
                  <a:lnTo>
                    <a:pt x="26" y="886"/>
                  </a:lnTo>
                  <a:lnTo>
                    <a:pt x="38" y="851"/>
                  </a:lnTo>
                  <a:lnTo>
                    <a:pt x="49" y="817"/>
                  </a:lnTo>
                  <a:lnTo>
                    <a:pt x="61" y="782"/>
                  </a:lnTo>
                  <a:lnTo>
                    <a:pt x="76" y="748"/>
                  </a:lnTo>
                  <a:lnTo>
                    <a:pt x="92" y="715"/>
                  </a:lnTo>
                  <a:lnTo>
                    <a:pt x="107" y="683"/>
                  </a:lnTo>
                  <a:lnTo>
                    <a:pt x="124" y="650"/>
                  </a:lnTo>
                  <a:lnTo>
                    <a:pt x="143" y="619"/>
                  </a:lnTo>
                  <a:lnTo>
                    <a:pt x="163" y="589"/>
                  </a:lnTo>
                  <a:lnTo>
                    <a:pt x="184" y="560"/>
                  </a:lnTo>
                  <a:lnTo>
                    <a:pt x="207" y="531"/>
                  </a:lnTo>
                  <a:lnTo>
                    <a:pt x="228" y="502"/>
                  </a:lnTo>
                  <a:lnTo>
                    <a:pt x="253" y="475"/>
                  </a:lnTo>
                  <a:lnTo>
                    <a:pt x="278" y="449"/>
                  </a:lnTo>
                  <a:lnTo>
                    <a:pt x="303" y="424"/>
                  </a:lnTo>
                  <a:lnTo>
                    <a:pt x="330" y="399"/>
                  </a:lnTo>
                  <a:lnTo>
                    <a:pt x="356" y="376"/>
                  </a:lnTo>
                  <a:lnTo>
                    <a:pt x="385" y="355"/>
                  </a:lnTo>
                  <a:lnTo>
                    <a:pt x="416" y="333"/>
                  </a:lnTo>
                  <a:lnTo>
                    <a:pt x="445" y="312"/>
                  </a:lnTo>
                  <a:lnTo>
                    <a:pt x="475" y="293"/>
                  </a:lnTo>
                  <a:lnTo>
                    <a:pt x="508" y="276"/>
                  </a:lnTo>
                  <a:lnTo>
                    <a:pt x="539" y="259"/>
                  </a:lnTo>
                  <a:lnTo>
                    <a:pt x="573" y="243"/>
                  </a:lnTo>
                  <a:lnTo>
                    <a:pt x="606" y="230"/>
                  </a:lnTo>
                  <a:lnTo>
                    <a:pt x="640" y="216"/>
                  </a:lnTo>
                  <a:lnTo>
                    <a:pt x="675" y="205"/>
                  </a:lnTo>
                  <a:lnTo>
                    <a:pt x="711" y="195"/>
                  </a:lnTo>
                  <a:lnTo>
                    <a:pt x="742" y="188"/>
                  </a:lnTo>
                  <a:lnTo>
                    <a:pt x="773" y="180"/>
                  </a:lnTo>
                  <a:lnTo>
                    <a:pt x="803" y="174"/>
                  </a:lnTo>
                  <a:lnTo>
                    <a:pt x="836" y="168"/>
                  </a:lnTo>
                  <a:lnTo>
                    <a:pt x="869" y="165"/>
                  </a:lnTo>
                  <a:lnTo>
                    <a:pt x="901" y="161"/>
                  </a:lnTo>
                  <a:lnTo>
                    <a:pt x="934" y="159"/>
                  </a:lnTo>
                  <a:lnTo>
                    <a:pt x="967" y="157"/>
                  </a:lnTo>
                  <a:lnTo>
                    <a:pt x="967" y="159"/>
                  </a:lnTo>
                  <a:lnTo>
                    <a:pt x="970" y="159"/>
                  </a:lnTo>
                  <a:lnTo>
                    <a:pt x="972" y="159"/>
                  </a:lnTo>
                  <a:lnTo>
                    <a:pt x="972" y="0"/>
                  </a:lnTo>
                  <a:lnTo>
                    <a:pt x="1233" y="343"/>
                  </a:lnTo>
                  <a:lnTo>
                    <a:pt x="972" y="669"/>
                  </a:lnTo>
                  <a:lnTo>
                    <a:pt x="972" y="539"/>
                  </a:lnTo>
                  <a:lnTo>
                    <a:pt x="951" y="541"/>
                  </a:lnTo>
                  <a:lnTo>
                    <a:pt x="928" y="541"/>
                  </a:lnTo>
                  <a:lnTo>
                    <a:pt x="905" y="543"/>
                  </a:lnTo>
                  <a:lnTo>
                    <a:pt x="880" y="546"/>
                  </a:lnTo>
                  <a:lnTo>
                    <a:pt x="857" y="550"/>
                  </a:lnTo>
                  <a:lnTo>
                    <a:pt x="832" y="556"/>
                  </a:lnTo>
                  <a:lnTo>
                    <a:pt x="809" y="562"/>
                  </a:lnTo>
                  <a:lnTo>
                    <a:pt x="786" y="569"/>
                  </a:lnTo>
                  <a:lnTo>
                    <a:pt x="742" y="587"/>
                  </a:lnTo>
                  <a:lnTo>
                    <a:pt x="698" y="608"/>
                  </a:lnTo>
                  <a:lnTo>
                    <a:pt x="658" y="633"/>
                  </a:lnTo>
                  <a:lnTo>
                    <a:pt x="617" y="660"/>
                  </a:lnTo>
                  <a:lnTo>
                    <a:pt x="581" y="688"/>
                  </a:lnTo>
                  <a:lnTo>
                    <a:pt x="546" y="721"/>
                  </a:lnTo>
                  <a:lnTo>
                    <a:pt x="516" y="757"/>
                  </a:lnTo>
                  <a:lnTo>
                    <a:pt x="487" y="794"/>
                  </a:lnTo>
                  <a:lnTo>
                    <a:pt x="460" y="834"/>
                  </a:lnTo>
                  <a:lnTo>
                    <a:pt x="437" y="876"/>
                  </a:lnTo>
                  <a:lnTo>
                    <a:pt x="427" y="898"/>
                  </a:lnTo>
                  <a:lnTo>
                    <a:pt x="418" y="921"/>
                  </a:lnTo>
                  <a:lnTo>
                    <a:pt x="408" y="944"/>
                  </a:lnTo>
                  <a:lnTo>
                    <a:pt x="401" y="967"/>
                  </a:lnTo>
                  <a:lnTo>
                    <a:pt x="395" y="990"/>
                  </a:lnTo>
                  <a:lnTo>
                    <a:pt x="389" y="1013"/>
                  </a:lnTo>
                  <a:lnTo>
                    <a:pt x="383" y="1038"/>
                  </a:lnTo>
                  <a:lnTo>
                    <a:pt x="379" y="1061"/>
                  </a:lnTo>
                  <a:lnTo>
                    <a:pt x="377" y="1061"/>
                  </a:lnTo>
                  <a:lnTo>
                    <a:pt x="377" y="1061"/>
                  </a:lnTo>
                  <a:lnTo>
                    <a:pt x="377" y="1061"/>
                  </a:lnTo>
                  <a:lnTo>
                    <a:pt x="170" y="899"/>
                  </a:lnTo>
                  <a:lnTo>
                    <a:pt x="0" y="1032"/>
                  </a:lnTo>
                  <a:close/>
                </a:path>
              </a:pathLst>
            </a:custGeom>
            <a:solidFill>
              <a:srgbClr val="554c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2" name="Freeform 15"/>
            <p:cNvSpPr/>
            <p:nvPr/>
          </p:nvSpPr>
          <p:spPr>
            <a:xfrm>
              <a:off x="4281840" y="3198600"/>
              <a:ext cx="920880" cy="741960"/>
            </a:xfrm>
            <a:custGeom>
              <a:avLst/>
              <a:gdLst>
                <a:gd name="textAreaLeft" fmla="*/ 0 w 920880"/>
                <a:gd name="textAreaRight" fmla="*/ 921240 w 920880"/>
                <a:gd name="textAreaTop" fmla="*/ 0 h 741960"/>
                <a:gd name="textAreaBottom" fmla="*/ 742320 h 741960"/>
              </a:gdLst>
              <a:ahLst/>
              <a:rect l="textAreaLeft" t="textAreaTop" r="textAreaRight" b="textAreaBottom"/>
              <a:pathLst>
                <a:path w="1233" h="1061">
                  <a:moveTo>
                    <a:pt x="1233" y="29"/>
                  </a:moveTo>
                  <a:lnTo>
                    <a:pt x="1228" y="66"/>
                  </a:lnTo>
                  <a:lnTo>
                    <a:pt x="1222" y="100"/>
                  </a:lnTo>
                  <a:lnTo>
                    <a:pt x="1214" y="137"/>
                  </a:lnTo>
                  <a:lnTo>
                    <a:pt x="1205" y="171"/>
                  </a:lnTo>
                  <a:lnTo>
                    <a:pt x="1195" y="206"/>
                  </a:lnTo>
                  <a:lnTo>
                    <a:pt x="1184" y="240"/>
                  </a:lnTo>
                  <a:lnTo>
                    <a:pt x="1170" y="275"/>
                  </a:lnTo>
                  <a:lnTo>
                    <a:pt x="1157" y="309"/>
                  </a:lnTo>
                  <a:lnTo>
                    <a:pt x="1141" y="342"/>
                  </a:lnTo>
                  <a:lnTo>
                    <a:pt x="1124" y="375"/>
                  </a:lnTo>
                  <a:lnTo>
                    <a:pt x="1107" y="405"/>
                  </a:lnTo>
                  <a:lnTo>
                    <a:pt x="1088" y="438"/>
                  </a:lnTo>
                  <a:lnTo>
                    <a:pt x="1068" y="469"/>
                  </a:lnTo>
                  <a:lnTo>
                    <a:pt x="1047" y="497"/>
                  </a:lnTo>
                  <a:lnTo>
                    <a:pt x="1026" y="526"/>
                  </a:lnTo>
                  <a:lnTo>
                    <a:pt x="1003" y="555"/>
                  </a:lnTo>
                  <a:lnTo>
                    <a:pt x="978" y="582"/>
                  </a:lnTo>
                  <a:lnTo>
                    <a:pt x="953" y="609"/>
                  </a:lnTo>
                  <a:lnTo>
                    <a:pt x="928" y="635"/>
                  </a:lnTo>
                  <a:lnTo>
                    <a:pt x="902" y="658"/>
                  </a:lnTo>
                  <a:lnTo>
                    <a:pt x="875" y="683"/>
                  </a:lnTo>
                  <a:lnTo>
                    <a:pt x="846" y="706"/>
                  </a:lnTo>
                  <a:lnTo>
                    <a:pt x="817" y="728"/>
                  </a:lnTo>
                  <a:lnTo>
                    <a:pt x="786" y="747"/>
                  </a:lnTo>
                  <a:lnTo>
                    <a:pt x="756" y="766"/>
                  </a:lnTo>
                  <a:lnTo>
                    <a:pt x="725" y="785"/>
                  </a:lnTo>
                  <a:lnTo>
                    <a:pt x="692" y="802"/>
                  </a:lnTo>
                  <a:lnTo>
                    <a:pt x="660" y="818"/>
                  </a:lnTo>
                  <a:lnTo>
                    <a:pt x="625" y="831"/>
                  </a:lnTo>
                  <a:lnTo>
                    <a:pt x="593" y="845"/>
                  </a:lnTo>
                  <a:lnTo>
                    <a:pt x="558" y="856"/>
                  </a:lnTo>
                  <a:lnTo>
                    <a:pt x="522" y="866"/>
                  </a:lnTo>
                  <a:lnTo>
                    <a:pt x="491" y="873"/>
                  </a:lnTo>
                  <a:lnTo>
                    <a:pt x="460" y="881"/>
                  </a:lnTo>
                  <a:lnTo>
                    <a:pt x="430" y="887"/>
                  </a:lnTo>
                  <a:lnTo>
                    <a:pt x="397" y="893"/>
                  </a:lnTo>
                  <a:lnTo>
                    <a:pt x="364" y="896"/>
                  </a:lnTo>
                  <a:lnTo>
                    <a:pt x="332" y="900"/>
                  </a:lnTo>
                  <a:lnTo>
                    <a:pt x="299" y="902"/>
                  </a:lnTo>
                  <a:lnTo>
                    <a:pt x="266" y="904"/>
                  </a:lnTo>
                  <a:lnTo>
                    <a:pt x="266" y="902"/>
                  </a:lnTo>
                  <a:lnTo>
                    <a:pt x="263" y="902"/>
                  </a:lnTo>
                  <a:lnTo>
                    <a:pt x="261" y="902"/>
                  </a:lnTo>
                  <a:lnTo>
                    <a:pt x="261" y="1061"/>
                  </a:lnTo>
                  <a:lnTo>
                    <a:pt x="0" y="722"/>
                  </a:lnTo>
                  <a:lnTo>
                    <a:pt x="163" y="515"/>
                  </a:lnTo>
                  <a:lnTo>
                    <a:pt x="163" y="515"/>
                  </a:lnTo>
                  <a:lnTo>
                    <a:pt x="261" y="392"/>
                  </a:lnTo>
                  <a:lnTo>
                    <a:pt x="261" y="522"/>
                  </a:lnTo>
                  <a:lnTo>
                    <a:pt x="282" y="520"/>
                  </a:lnTo>
                  <a:lnTo>
                    <a:pt x="305" y="520"/>
                  </a:lnTo>
                  <a:lnTo>
                    <a:pt x="328" y="518"/>
                  </a:lnTo>
                  <a:lnTo>
                    <a:pt x="353" y="515"/>
                  </a:lnTo>
                  <a:lnTo>
                    <a:pt x="376" y="511"/>
                  </a:lnTo>
                  <a:lnTo>
                    <a:pt x="401" y="505"/>
                  </a:lnTo>
                  <a:lnTo>
                    <a:pt x="424" y="499"/>
                  </a:lnTo>
                  <a:lnTo>
                    <a:pt x="447" y="492"/>
                  </a:lnTo>
                  <a:lnTo>
                    <a:pt x="491" y="474"/>
                  </a:lnTo>
                  <a:lnTo>
                    <a:pt x="535" y="453"/>
                  </a:lnTo>
                  <a:lnTo>
                    <a:pt x="575" y="428"/>
                  </a:lnTo>
                  <a:lnTo>
                    <a:pt x="616" y="401"/>
                  </a:lnTo>
                  <a:lnTo>
                    <a:pt x="652" y="373"/>
                  </a:lnTo>
                  <a:lnTo>
                    <a:pt x="687" y="340"/>
                  </a:lnTo>
                  <a:lnTo>
                    <a:pt x="717" y="304"/>
                  </a:lnTo>
                  <a:lnTo>
                    <a:pt x="746" y="267"/>
                  </a:lnTo>
                  <a:lnTo>
                    <a:pt x="773" y="227"/>
                  </a:lnTo>
                  <a:lnTo>
                    <a:pt x="796" y="185"/>
                  </a:lnTo>
                  <a:lnTo>
                    <a:pt x="815" y="142"/>
                  </a:lnTo>
                  <a:lnTo>
                    <a:pt x="831" y="96"/>
                  </a:lnTo>
                  <a:lnTo>
                    <a:pt x="838" y="73"/>
                  </a:lnTo>
                  <a:lnTo>
                    <a:pt x="844" y="48"/>
                  </a:lnTo>
                  <a:lnTo>
                    <a:pt x="850" y="25"/>
                  </a:lnTo>
                  <a:lnTo>
                    <a:pt x="854" y="0"/>
                  </a:lnTo>
                  <a:lnTo>
                    <a:pt x="1059" y="162"/>
                  </a:lnTo>
                  <a:lnTo>
                    <a:pt x="1233" y="29"/>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grpSp>
      <p:grpSp>
        <p:nvGrpSpPr>
          <p:cNvPr id="253" name="Groupe 34"/>
          <p:cNvGrpSpPr/>
          <p:nvPr/>
        </p:nvGrpSpPr>
        <p:grpSpPr>
          <a:xfrm>
            <a:off x="5409000" y="2383560"/>
            <a:ext cx="1638000" cy="1508400"/>
            <a:chOff x="5409000" y="2383560"/>
            <a:chExt cx="1638000" cy="1508400"/>
          </a:xfrm>
        </p:grpSpPr>
        <p:sp>
          <p:nvSpPr>
            <p:cNvPr id="254" name="Freeform 16"/>
            <p:cNvSpPr/>
            <p:nvPr/>
          </p:nvSpPr>
          <p:spPr>
            <a:xfrm>
              <a:off x="5560920" y="2383560"/>
              <a:ext cx="862920" cy="609480"/>
            </a:xfrm>
            <a:custGeom>
              <a:avLst/>
              <a:gdLst>
                <a:gd name="textAreaLeft" fmla="*/ 0 w 862920"/>
                <a:gd name="textAreaRight" fmla="*/ 863280 w 862920"/>
                <a:gd name="textAreaTop" fmla="*/ 0 h 609480"/>
                <a:gd name="textAreaBottom" fmla="*/ 609840 h 609480"/>
              </a:gdLst>
              <a:ahLst/>
              <a:rect l="textAreaLeft" t="textAreaTop" r="textAreaRight" b="textAreaBottom"/>
              <a:pathLst>
                <a:path w="1145" h="861">
                  <a:moveTo>
                    <a:pt x="0" y="727"/>
                  </a:moveTo>
                  <a:lnTo>
                    <a:pt x="16" y="694"/>
                  </a:lnTo>
                  <a:lnTo>
                    <a:pt x="33" y="661"/>
                  </a:lnTo>
                  <a:lnTo>
                    <a:pt x="50" y="631"/>
                  </a:lnTo>
                  <a:lnTo>
                    <a:pt x="69" y="600"/>
                  </a:lnTo>
                  <a:lnTo>
                    <a:pt x="91" y="571"/>
                  </a:lnTo>
                  <a:lnTo>
                    <a:pt x="112" y="542"/>
                  </a:lnTo>
                  <a:lnTo>
                    <a:pt x="133" y="516"/>
                  </a:lnTo>
                  <a:lnTo>
                    <a:pt x="156" y="489"/>
                  </a:lnTo>
                  <a:lnTo>
                    <a:pt x="181" y="464"/>
                  </a:lnTo>
                  <a:lnTo>
                    <a:pt x="204" y="439"/>
                  </a:lnTo>
                  <a:lnTo>
                    <a:pt x="229" y="414"/>
                  </a:lnTo>
                  <a:lnTo>
                    <a:pt x="256" y="393"/>
                  </a:lnTo>
                  <a:lnTo>
                    <a:pt x="283" y="370"/>
                  </a:lnTo>
                  <a:lnTo>
                    <a:pt x="308" y="351"/>
                  </a:lnTo>
                  <a:lnTo>
                    <a:pt x="334" y="331"/>
                  </a:lnTo>
                  <a:lnTo>
                    <a:pt x="363" y="312"/>
                  </a:lnTo>
                  <a:lnTo>
                    <a:pt x="392" y="291"/>
                  </a:lnTo>
                  <a:lnTo>
                    <a:pt x="423" y="274"/>
                  </a:lnTo>
                  <a:lnTo>
                    <a:pt x="455" y="257"/>
                  </a:lnTo>
                  <a:lnTo>
                    <a:pt x="490" y="241"/>
                  </a:lnTo>
                  <a:lnTo>
                    <a:pt x="525" y="228"/>
                  </a:lnTo>
                  <a:lnTo>
                    <a:pt x="561" y="214"/>
                  </a:lnTo>
                  <a:lnTo>
                    <a:pt x="596" y="205"/>
                  </a:lnTo>
                  <a:lnTo>
                    <a:pt x="632" y="195"/>
                  </a:lnTo>
                  <a:lnTo>
                    <a:pt x="663" y="186"/>
                  </a:lnTo>
                  <a:lnTo>
                    <a:pt x="693" y="180"/>
                  </a:lnTo>
                  <a:lnTo>
                    <a:pt x="726" y="172"/>
                  </a:lnTo>
                  <a:lnTo>
                    <a:pt x="757" y="168"/>
                  </a:lnTo>
                  <a:lnTo>
                    <a:pt x="789" y="163"/>
                  </a:lnTo>
                  <a:lnTo>
                    <a:pt x="822" y="161"/>
                  </a:lnTo>
                  <a:lnTo>
                    <a:pt x="855" y="159"/>
                  </a:lnTo>
                  <a:lnTo>
                    <a:pt x="889" y="157"/>
                  </a:lnTo>
                  <a:lnTo>
                    <a:pt x="889" y="159"/>
                  </a:lnTo>
                  <a:lnTo>
                    <a:pt x="891" y="159"/>
                  </a:lnTo>
                  <a:lnTo>
                    <a:pt x="895" y="159"/>
                  </a:lnTo>
                  <a:lnTo>
                    <a:pt x="895" y="0"/>
                  </a:lnTo>
                  <a:lnTo>
                    <a:pt x="1145" y="351"/>
                  </a:lnTo>
                  <a:lnTo>
                    <a:pt x="989" y="546"/>
                  </a:lnTo>
                  <a:lnTo>
                    <a:pt x="989" y="546"/>
                  </a:lnTo>
                  <a:lnTo>
                    <a:pt x="989" y="546"/>
                  </a:lnTo>
                  <a:lnTo>
                    <a:pt x="893" y="669"/>
                  </a:lnTo>
                  <a:lnTo>
                    <a:pt x="893" y="539"/>
                  </a:lnTo>
                  <a:lnTo>
                    <a:pt x="870" y="540"/>
                  </a:lnTo>
                  <a:lnTo>
                    <a:pt x="849" y="540"/>
                  </a:lnTo>
                  <a:lnTo>
                    <a:pt x="824" y="542"/>
                  </a:lnTo>
                  <a:lnTo>
                    <a:pt x="801" y="546"/>
                  </a:lnTo>
                  <a:lnTo>
                    <a:pt x="765" y="552"/>
                  </a:lnTo>
                  <a:lnTo>
                    <a:pt x="730" y="562"/>
                  </a:lnTo>
                  <a:lnTo>
                    <a:pt x="697" y="571"/>
                  </a:lnTo>
                  <a:lnTo>
                    <a:pt x="663" y="585"/>
                  </a:lnTo>
                  <a:lnTo>
                    <a:pt x="630" y="598"/>
                  </a:lnTo>
                  <a:lnTo>
                    <a:pt x="599" y="615"/>
                  </a:lnTo>
                  <a:lnTo>
                    <a:pt x="569" y="633"/>
                  </a:lnTo>
                  <a:lnTo>
                    <a:pt x="540" y="652"/>
                  </a:lnTo>
                  <a:lnTo>
                    <a:pt x="511" y="673"/>
                  </a:lnTo>
                  <a:lnTo>
                    <a:pt x="484" y="696"/>
                  </a:lnTo>
                  <a:lnTo>
                    <a:pt x="459" y="721"/>
                  </a:lnTo>
                  <a:lnTo>
                    <a:pt x="436" y="746"/>
                  </a:lnTo>
                  <a:lnTo>
                    <a:pt x="413" y="773"/>
                  </a:lnTo>
                  <a:lnTo>
                    <a:pt x="392" y="801"/>
                  </a:lnTo>
                  <a:lnTo>
                    <a:pt x="373" y="830"/>
                  </a:lnTo>
                  <a:lnTo>
                    <a:pt x="356" y="861"/>
                  </a:lnTo>
                  <a:lnTo>
                    <a:pt x="350" y="853"/>
                  </a:lnTo>
                  <a:lnTo>
                    <a:pt x="350" y="853"/>
                  </a:lnTo>
                  <a:lnTo>
                    <a:pt x="350" y="853"/>
                  </a:lnTo>
                  <a:lnTo>
                    <a:pt x="235" y="648"/>
                  </a:lnTo>
                  <a:lnTo>
                    <a:pt x="0" y="727"/>
                  </a:lnTo>
                  <a:close/>
                </a:path>
              </a:pathLst>
            </a:custGeom>
            <a:solidFill>
              <a:srgbClr val="cc3300"/>
            </a:solidFill>
            <a:ln w="19050">
              <a:solidFill>
                <a:srgbClr val="ffffff"/>
              </a:solidFill>
              <a:round/>
            </a:ln>
          </p:spPr>
          <p:style>
            <a:lnRef idx="0"/>
            <a:fillRef idx="0"/>
            <a:effectRef idx="0"/>
            <a:fontRef idx="minor"/>
          </p:style>
          <p:txBody>
            <a:bodyPr lIns="54000" rIns="54000" tIns="54000" bIns="54000" anchor="ctr">
              <a:noAutofit/>
            </a:bodyPr>
            <a:p>
              <a:pPr>
                <a:lnSpc>
                  <a:spcPct val="100000"/>
                </a:lnSpc>
              </a:pPr>
              <a:endParaRPr b="0" lang="en-GB" sz="1800" spc="-1" strike="noStrike">
                <a:solidFill>
                  <a:srgbClr val="344246"/>
                </a:solidFill>
                <a:latin typeface="Calibri"/>
              </a:endParaRPr>
            </a:p>
          </p:txBody>
        </p:sp>
        <p:sp>
          <p:nvSpPr>
            <p:cNvPr id="255" name="Freeform 17"/>
            <p:cNvSpPr/>
            <p:nvPr/>
          </p:nvSpPr>
          <p:spPr>
            <a:xfrm>
              <a:off x="6305040" y="2501640"/>
              <a:ext cx="741960" cy="697320"/>
            </a:xfrm>
            <a:custGeom>
              <a:avLst/>
              <a:gdLst>
                <a:gd name="textAreaLeft" fmla="*/ 0 w 741960"/>
                <a:gd name="textAreaRight" fmla="*/ 742320 w 741960"/>
                <a:gd name="textAreaTop" fmla="*/ 0 h 697320"/>
                <a:gd name="textAreaBottom" fmla="*/ 697680 h 697320"/>
              </a:gdLst>
              <a:ahLst/>
              <a:rect l="textAreaLeft" t="textAreaTop" r="textAreaRight" b="textAreaBottom"/>
              <a:pathLst>
                <a:path w="985" h="986">
                  <a:moveTo>
                    <a:pt x="27" y="0"/>
                  </a:moveTo>
                  <a:lnTo>
                    <a:pt x="79" y="8"/>
                  </a:lnTo>
                  <a:lnTo>
                    <a:pt x="131" y="20"/>
                  </a:lnTo>
                  <a:lnTo>
                    <a:pt x="181" y="33"/>
                  </a:lnTo>
                  <a:lnTo>
                    <a:pt x="233" y="50"/>
                  </a:lnTo>
                  <a:lnTo>
                    <a:pt x="283" y="70"/>
                  </a:lnTo>
                  <a:lnTo>
                    <a:pt x="331" y="91"/>
                  </a:lnTo>
                  <a:lnTo>
                    <a:pt x="380" y="116"/>
                  </a:lnTo>
                  <a:lnTo>
                    <a:pt x="427" y="144"/>
                  </a:lnTo>
                  <a:lnTo>
                    <a:pt x="473" y="173"/>
                  </a:lnTo>
                  <a:lnTo>
                    <a:pt x="517" y="206"/>
                  </a:lnTo>
                  <a:lnTo>
                    <a:pt x="559" y="240"/>
                  </a:lnTo>
                  <a:lnTo>
                    <a:pt x="599" y="277"/>
                  </a:lnTo>
                  <a:lnTo>
                    <a:pt x="636" y="317"/>
                  </a:lnTo>
                  <a:lnTo>
                    <a:pt x="672" y="357"/>
                  </a:lnTo>
                  <a:lnTo>
                    <a:pt x="705" y="401"/>
                  </a:lnTo>
                  <a:lnTo>
                    <a:pt x="736" y="447"/>
                  </a:lnTo>
                  <a:lnTo>
                    <a:pt x="751" y="474"/>
                  </a:lnTo>
                  <a:lnTo>
                    <a:pt x="768" y="501"/>
                  </a:lnTo>
                  <a:lnTo>
                    <a:pt x="782" y="528"/>
                  </a:lnTo>
                  <a:lnTo>
                    <a:pt x="795" y="557"/>
                  </a:lnTo>
                  <a:lnTo>
                    <a:pt x="809" y="585"/>
                  </a:lnTo>
                  <a:lnTo>
                    <a:pt x="820" y="614"/>
                  </a:lnTo>
                  <a:lnTo>
                    <a:pt x="832" y="645"/>
                  </a:lnTo>
                  <a:lnTo>
                    <a:pt x="841" y="676"/>
                  </a:lnTo>
                  <a:lnTo>
                    <a:pt x="839" y="678"/>
                  </a:lnTo>
                  <a:lnTo>
                    <a:pt x="845" y="676"/>
                  </a:lnTo>
                  <a:lnTo>
                    <a:pt x="861" y="670"/>
                  </a:lnTo>
                  <a:lnTo>
                    <a:pt x="895" y="660"/>
                  </a:lnTo>
                  <a:lnTo>
                    <a:pt x="932" y="649"/>
                  </a:lnTo>
                  <a:lnTo>
                    <a:pt x="964" y="637"/>
                  </a:lnTo>
                  <a:lnTo>
                    <a:pt x="985" y="632"/>
                  </a:lnTo>
                  <a:lnTo>
                    <a:pt x="738" y="986"/>
                  </a:lnTo>
                  <a:lnTo>
                    <a:pt x="688" y="967"/>
                  </a:lnTo>
                  <a:lnTo>
                    <a:pt x="640" y="948"/>
                  </a:lnTo>
                  <a:lnTo>
                    <a:pt x="590" y="929"/>
                  </a:lnTo>
                  <a:lnTo>
                    <a:pt x="542" y="910"/>
                  </a:lnTo>
                  <a:lnTo>
                    <a:pt x="492" y="892"/>
                  </a:lnTo>
                  <a:lnTo>
                    <a:pt x="444" y="873"/>
                  </a:lnTo>
                  <a:lnTo>
                    <a:pt x="396" y="854"/>
                  </a:lnTo>
                  <a:lnTo>
                    <a:pt x="346" y="835"/>
                  </a:lnTo>
                  <a:lnTo>
                    <a:pt x="471" y="796"/>
                  </a:lnTo>
                  <a:lnTo>
                    <a:pt x="463" y="775"/>
                  </a:lnTo>
                  <a:lnTo>
                    <a:pt x="455" y="754"/>
                  </a:lnTo>
                  <a:lnTo>
                    <a:pt x="448" y="733"/>
                  </a:lnTo>
                  <a:lnTo>
                    <a:pt x="438" y="710"/>
                  </a:lnTo>
                  <a:lnTo>
                    <a:pt x="421" y="678"/>
                  </a:lnTo>
                  <a:lnTo>
                    <a:pt x="402" y="647"/>
                  </a:lnTo>
                  <a:lnTo>
                    <a:pt x="380" y="618"/>
                  </a:lnTo>
                  <a:lnTo>
                    <a:pt x="359" y="591"/>
                  </a:lnTo>
                  <a:lnTo>
                    <a:pt x="334" y="564"/>
                  </a:lnTo>
                  <a:lnTo>
                    <a:pt x="309" y="539"/>
                  </a:lnTo>
                  <a:lnTo>
                    <a:pt x="284" y="516"/>
                  </a:lnTo>
                  <a:lnTo>
                    <a:pt x="256" y="493"/>
                  </a:lnTo>
                  <a:lnTo>
                    <a:pt x="227" y="474"/>
                  </a:lnTo>
                  <a:lnTo>
                    <a:pt x="198" y="455"/>
                  </a:lnTo>
                  <a:lnTo>
                    <a:pt x="167" y="440"/>
                  </a:lnTo>
                  <a:lnTo>
                    <a:pt x="135" y="424"/>
                  </a:lnTo>
                  <a:lnTo>
                    <a:pt x="102" y="411"/>
                  </a:lnTo>
                  <a:lnTo>
                    <a:pt x="69" y="399"/>
                  </a:lnTo>
                  <a:lnTo>
                    <a:pt x="35" y="390"/>
                  </a:lnTo>
                  <a:lnTo>
                    <a:pt x="0" y="384"/>
                  </a:lnTo>
                  <a:lnTo>
                    <a:pt x="2" y="380"/>
                  </a:lnTo>
                  <a:lnTo>
                    <a:pt x="2" y="380"/>
                  </a:lnTo>
                  <a:lnTo>
                    <a:pt x="2" y="380"/>
                  </a:lnTo>
                  <a:lnTo>
                    <a:pt x="158" y="185"/>
                  </a:lnTo>
                  <a:lnTo>
                    <a:pt x="27" y="0"/>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6" name="Freeform 18"/>
            <p:cNvSpPr/>
            <p:nvPr/>
          </p:nvSpPr>
          <p:spPr>
            <a:xfrm>
              <a:off x="6434640" y="3060720"/>
              <a:ext cx="540720" cy="786960"/>
            </a:xfrm>
            <a:custGeom>
              <a:avLst/>
              <a:gdLst>
                <a:gd name="textAreaLeft" fmla="*/ 0 w 540720"/>
                <a:gd name="textAreaRight" fmla="*/ 541080 w 540720"/>
                <a:gd name="textAreaTop" fmla="*/ 0 h 786960"/>
                <a:gd name="textAreaBottom" fmla="*/ 787320 h 786960"/>
              </a:gdLst>
              <a:ahLst/>
              <a:rect l="textAreaLeft" t="textAreaTop" r="textAreaRight" b="textAreaBottom"/>
              <a:pathLst>
                <a:path w="718" h="1116">
                  <a:moveTo>
                    <a:pt x="701" y="0"/>
                  </a:moveTo>
                  <a:lnTo>
                    <a:pt x="707" y="34"/>
                  </a:lnTo>
                  <a:lnTo>
                    <a:pt x="712" y="69"/>
                  </a:lnTo>
                  <a:lnTo>
                    <a:pt x="716" y="103"/>
                  </a:lnTo>
                  <a:lnTo>
                    <a:pt x="718" y="138"/>
                  </a:lnTo>
                  <a:lnTo>
                    <a:pt x="718" y="172"/>
                  </a:lnTo>
                  <a:lnTo>
                    <a:pt x="718" y="205"/>
                  </a:lnTo>
                  <a:lnTo>
                    <a:pt x="718" y="239"/>
                  </a:lnTo>
                  <a:lnTo>
                    <a:pt x="714" y="274"/>
                  </a:lnTo>
                  <a:lnTo>
                    <a:pt x="712" y="309"/>
                  </a:lnTo>
                  <a:lnTo>
                    <a:pt x="707" y="343"/>
                  </a:lnTo>
                  <a:lnTo>
                    <a:pt x="701" y="376"/>
                  </a:lnTo>
                  <a:lnTo>
                    <a:pt x="693" y="410"/>
                  </a:lnTo>
                  <a:lnTo>
                    <a:pt x="686" y="443"/>
                  </a:lnTo>
                  <a:lnTo>
                    <a:pt x="676" y="475"/>
                  </a:lnTo>
                  <a:lnTo>
                    <a:pt x="664" y="510"/>
                  </a:lnTo>
                  <a:lnTo>
                    <a:pt x="653" y="541"/>
                  </a:lnTo>
                  <a:lnTo>
                    <a:pt x="641" y="575"/>
                  </a:lnTo>
                  <a:lnTo>
                    <a:pt x="628" y="610"/>
                  </a:lnTo>
                  <a:lnTo>
                    <a:pt x="611" y="644"/>
                  </a:lnTo>
                  <a:lnTo>
                    <a:pt x="593" y="677"/>
                  </a:lnTo>
                  <a:lnTo>
                    <a:pt x="572" y="709"/>
                  </a:lnTo>
                  <a:lnTo>
                    <a:pt x="551" y="742"/>
                  </a:lnTo>
                  <a:lnTo>
                    <a:pt x="530" y="773"/>
                  </a:lnTo>
                  <a:lnTo>
                    <a:pt x="507" y="801"/>
                  </a:lnTo>
                  <a:lnTo>
                    <a:pt x="486" y="826"/>
                  </a:lnTo>
                  <a:lnTo>
                    <a:pt x="465" y="851"/>
                  </a:lnTo>
                  <a:lnTo>
                    <a:pt x="444" y="874"/>
                  </a:lnTo>
                  <a:lnTo>
                    <a:pt x="421" y="899"/>
                  </a:lnTo>
                  <a:lnTo>
                    <a:pt x="398" y="920"/>
                  </a:lnTo>
                  <a:lnTo>
                    <a:pt x="373" y="943"/>
                  </a:lnTo>
                  <a:lnTo>
                    <a:pt x="348" y="965"/>
                  </a:lnTo>
                  <a:lnTo>
                    <a:pt x="321" y="984"/>
                  </a:lnTo>
                  <a:lnTo>
                    <a:pt x="321" y="984"/>
                  </a:lnTo>
                  <a:lnTo>
                    <a:pt x="317" y="984"/>
                  </a:lnTo>
                  <a:lnTo>
                    <a:pt x="315" y="986"/>
                  </a:lnTo>
                  <a:lnTo>
                    <a:pt x="411" y="1116"/>
                  </a:lnTo>
                  <a:lnTo>
                    <a:pt x="0" y="995"/>
                  </a:lnTo>
                  <a:lnTo>
                    <a:pt x="10" y="732"/>
                  </a:lnTo>
                  <a:lnTo>
                    <a:pt x="14" y="575"/>
                  </a:lnTo>
                  <a:lnTo>
                    <a:pt x="90" y="679"/>
                  </a:lnTo>
                  <a:lnTo>
                    <a:pt x="110" y="667"/>
                  </a:lnTo>
                  <a:lnTo>
                    <a:pt x="127" y="652"/>
                  </a:lnTo>
                  <a:lnTo>
                    <a:pt x="144" y="637"/>
                  </a:lnTo>
                  <a:lnTo>
                    <a:pt x="161" y="619"/>
                  </a:lnTo>
                  <a:lnTo>
                    <a:pt x="186" y="594"/>
                  </a:lnTo>
                  <a:lnTo>
                    <a:pt x="209" y="566"/>
                  </a:lnTo>
                  <a:lnTo>
                    <a:pt x="229" y="537"/>
                  </a:lnTo>
                  <a:lnTo>
                    <a:pt x="248" y="506"/>
                  </a:lnTo>
                  <a:lnTo>
                    <a:pt x="265" y="475"/>
                  </a:lnTo>
                  <a:lnTo>
                    <a:pt x="280" y="445"/>
                  </a:lnTo>
                  <a:lnTo>
                    <a:pt x="294" y="412"/>
                  </a:lnTo>
                  <a:lnTo>
                    <a:pt x="305" y="379"/>
                  </a:lnTo>
                  <a:lnTo>
                    <a:pt x="315" y="345"/>
                  </a:lnTo>
                  <a:lnTo>
                    <a:pt x="323" y="312"/>
                  </a:lnTo>
                  <a:lnTo>
                    <a:pt x="328" y="278"/>
                  </a:lnTo>
                  <a:lnTo>
                    <a:pt x="332" y="243"/>
                  </a:lnTo>
                  <a:lnTo>
                    <a:pt x="334" y="209"/>
                  </a:lnTo>
                  <a:lnTo>
                    <a:pt x="334" y="172"/>
                  </a:lnTo>
                  <a:lnTo>
                    <a:pt x="330" y="138"/>
                  </a:lnTo>
                  <a:lnTo>
                    <a:pt x="327" y="103"/>
                  </a:lnTo>
                  <a:lnTo>
                    <a:pt x="386" y="126"/>
                  </a:lnTo>
                  <a:lnTo>
                    <a:pt x="446" y="149"/>
                  </a:lnTo>
                  <a:lnTo>
                    <a:pt x="505" y="172"/>
                  </a:lnTo>
                  <a:lnTo>
                    <a:pt x="565" y="195"/>
                  </a:lnTo>
                  <a:lnTo>
                    <a:pt x="701" y="0"/>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7" name="Freeform 19"/>
            <p:cNvSpPr/>
            <p:nvPr/>
          </p:nvSpPr>
          <p:spPr>
            <a:xfrm>
              <a:off x="5725080" y="3467520"/>
              <a:ext cx="873360" cy="424440"/>
            </a:xfrm>
            <a:custGeom>
              <a:avLst/>
              <a:gdLst>
                <a:gd name="textAreaLeft" fmla="*/ 0 w 873360"/>
                <a:gd name="textAreaRight" fmla="*/ 873720 w 873360"/>
                <a:gd name="textAreaTop" fmla="*/ 0 h 424440"/>
                <a:gd name="textAreaBottom" fmla="*/ 424800 h 424440"/>
              </a:gdLst>
              <a:ahLst/>
              <a:rect l="textAreaLeft" t="textAreaTop" r="textAreaRight" b="textAreaBottom"/>
              <a:pathLst>
                <a:path w="1158" h="602">
                  <a:moveTo>
                    <a:pt x="1158" y="483"/>
                  </a:moveTo>
                  <a:lnTo>
                    <a:pt x="1127" y="501"/>
                  </a:lnTo>
                  <a:lnTo>
                    <a:pt x="1095" y="516"/>
                  </a:lnTo>
                  <a:lnTo>
                    <a:pt x="1062" y="530"/>
                  </a:lnTo>
                  <a:lnTo>
                    <a:pt x="1029" y="543"/>
                  </a:lnTo>
                  <a:lnTo>
                    <a:pt x="995" y="554"/>
                  </a:lnTo>
                  <a:lnTo>
                    <a:pt x="962" y="564"/>
                  </a:lnTo>
                  <a:lnTo>
                    <a:pt x="928" y="574"/>
                  </a:lnTo>
                  <a:lnTo>
                    <a:pt x="893" y="581"/>
                  </a:lnTo>
                  <a:lnTo>
                    <a:pt x="859" y="587"/>
                  </a:lnTo>
                  <a:lnTo>
                    <a:pt x="824" y="593"/>
                  </a:lnTo>
                  <a:lnTo>
                    <a:pt x="789" y="599"/>
                  </a:lnTo>
                  <a:lnTo>
                    <a:pt x="755" y="600"/>
                  </a:lnTo>
                  <a:lnTo>
                    <a:pt x="718" y="602"/>
                  </a:lnTo>
                  <a:lnTo>
                    <a:pt x="684" y="602"/>
                  </a:lnTo>
                  <a:lnTo>
                    <a:pt x="649" y="602"/>
                  </a:lnTo>
                  <a:lnTo>
                    <a:pt x="613" y="600"/>
                  </a:lnTo>
                  <a:lnTo>
                    <a:pt x="578" y="600"/>
                  </a:lnTo>
                  <a:lnTo>
                    <a:pt x="542" y="597"/>
                  </a:lnTo>
                  <a:lnTo>
                    <a:pt x="505" y="591"/>
                  </a:lnTo>
                  <a:lnTo>
                    <a:pt x="469" y="583"/>
                  </a:lnTo>
                  <a:lnTo>
                    <a:pt x="432" y="574"/>
                  </a:lnTo>
                  <a:lnTo>
                    <a:pt x="396" y="564"/>
                  </a:lnTo>
                  <a:lnTo>
                    <a:pt x="361" y="551"/>
                  </a:lnTo>
                  <a:lnTo>
                    <a:pt x="327" y="537"/>
                  </a:lnTo>
                  <a:lnTo>
                    <a:pt x="267" y="514"/>
                  </a:lnTo>
                  <a:lnTo>
                    <a:pt x="209" y="485"/>
                  </a:lnTo>
                  <a:lnTo>
                    <a:pt x="183" y="470"/>
                  </a:lnTo>
                  <a:lnTo>
                    <a:pt x="156" y="455"/>
                  </a:lnTo>
                  <a:lnTo>
                    <a:pt x="127" y="437"/>
                  </a:lnTo>
                  <a:lnTo>
                    <a:pt x="100" y="418"/>
                  </a:lnTo>
                  <a:lnTo>
                    <a:pt x="102" y="416"/>
                  </a:lnTo>
                  <a:lnTo>
                    <a:pt x="100" y="414"/>
                  </a:lnTo>
                  <a:lnTo>
                    <a:pt x="96" y="413"/>
                  </a:lnTo>
                  <a:lnTo>
                    <a:pt x="10" y="541"/>
                  </a:lnTo>
                  <a:lnTo>
                    <a:pt x="0" y="109"/>
                  </a:lnTo>
                  <a:lnTo>
                    <a:pt x="50" y="96"/>
                  </a:lnTo>
                  <a:lnTo>
                    <a:pt x="98" y="83"/>
                  </a:lnTo>
                  <a:lnTo>
                    <a:pt x="148" y="69"/>
                  </a:lnTo>
                  <a:lnTo>
                    <a:pt x="198" y="56"/>
                  </a:lnTo>
                  <a:lnTo>
                    <a:pt x="246" y="42"/>
                  </a:lnTo>
                  <a:lnTo>
                    <a:pt x="296" y="29"/>
                  </a:lnTo>
                  <a:lnTo>
                    <a:pt x="344" y="14"/>
                  </a:lnTo>
                  <a:lnTo>
                    <a:pt x="394" y="0"/>
                  </a:lnTo>
                  <a:lnTo>
                    <a:pt x="329" y="106"/>
                  </a:lnTo>
                  <a:lnTo>
                    <a:pt x="346" y="117"/>
                  </a:lnTo>
                  <a:lnTo>
                    <a:pt x="365" y="131"/>
                  </a:lnTo>
                  <a:lnTo>
                    <a:pt x="384" y="144"/>
                  </a:lnTo>
                  <a:lnTo>
                    <a:pt x="405" y="155"/>
                  </a:lnTo>
                  <a:lnTo>
                    <a:pt x="438" y="171"/>
                  </a:lnTo>
                  <a:lnTo>
                    <a:pt x="471" y="184"/>
                  </a:lnTo>
                  <a:lnTo>
                    <a:pt x="505" y="196"/>
                  </a:lnTo>
                  <a:lnTo>
                    <a:pt x="540" y="205"/>
                  </a:lnTo>
                  <a:lnTo>
                    <a:pt x="574" y="213"/>
                  </a:lnTo>
                  <a:lnTo>
                    <a:pt x="609" y="217"/>
                  </a:lnTo>
                  <a:lnTo>
                    <a:pt x="643" y="221"/>
                  </a:lnTo>
                  <a:lnTo>
                    <a:pt x="678" y="221"/>
                  </a:lnTo>
                  <a:lnTo>
                    <a:pt x="713" y="221"/>
                  </a:lnTo>
                  <a:lnTo>
                    <a:pt x="747" y="217"/>
                  </a:lnTo>
                  <a:lnTo>
                    <a:pt x="782" y="213"/>
                  </a:lnTo>
                  <a:lnTo>
                    <a:pt x="816" y="205"/>
                  </a:lnTo>
                  <a:lnTo>
                    <a:pt x="849" y="196"/>
                  </a:lnTo>
                  <a:lnTo>
                    <a:pt x="883" y="186"/>
                  </a:lnTo>
                  <a:lnTo>
                    <a:pt x="916" y="173"/>
                  </a:lnTo>
                  <a:lnTo>
                    <a:pt x="947" y="159"/>
                  </a:lnTo>
                  <a:lnTo>
                    <a:pt x="941" y="420"/>
                  </a:lnTo>
                  <a:lnTo>
                    <a:pt x="1158" y="483"/>
                  </a:lnTo>
                  <a:close/>
                </a:path>
              </a:pathLst>
            </a:custGeom>
            <a:solidFill>
              <a:srgbClr val="07bd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58" name="Freeform 20"/>
            <p:cNvSpPr/>
            <p:nvPr/>
          </p:nvSpPr>
          <p:spPr>
            <a:xfrm>
              <a:off x="5409000" y="2841480"/>
              <a:ext cx="498960" cy="885240"/>
            </a:xfrm>
            <a:custGeom>
              <a:avLst/>
              <a:gdLst>
                <a:gd name="textAreaLeft" fmla="*/ 0 w 498960"/>
                <a:gd name="textAreaRight" fmla="*/ 499320 w 498960"/>
                <a:gd name="textAreaTop" fmla="*/ 0 h 885240"/>
                <a:gd name="textAreaBottom" fmla="*/ 885600 h 885240"/>
              </a:gdLst>
              <a:ahLst/>
              <a:rect l="textAreaLeft" t="textAreaTop" r="textAreaRight" b="textAreaBottom"/>
              <a:pathLst>
                <a:path w="664" h="1252">
                  <a:moveTo>
                    <a:pt x="422" y="1252"/>
                  </a:moveTo>
                  <a:lnTo>
                    <a:pt x="395" y="1226"/>
                  </a:lnTo>
                  <a:lnTo>
                    <a:pt x="368" y="1201"/>
                  </a:lnTo>
                  <a:lnTo>
                    <a:pt x="343" y="1172"/>
                  </a:lnTo>
                  <a:lnTo>
                    <a:pt x="320" y="1145"/>
                  </a:lnTo>
                  <a:lnTo>
                    <a:pt x="297" y="1116"/>
                  </a:lnTo>
                  <a:lnTo>
                    <a:pt x="276" y="1087"/>
                  </a:lnTo>
                  <a:lnTo>
                    <a:pt x="255" y="1057"/>
                  </a:lnTo>
                  <a:lnTo>
                    <a:pt x="236" y="1026"/>
                  </a:lnTo>
                  <a:lnTo>
                    <a:pt x="217" y="993"/>
                  </a:lnTo>
                  <a:lnTo>
                    <a:pt x="199" y="963"/>
                  </a:lnTo>
                  <a:lnTo>
                    <a:pt x="184" y="930"/>
                  </a:lnTo>
                  <a:lnTo>
                    <a:pt x="169" y="898"/>
                  </a:lnTo>
                  <a:lnTo>
                    <a:pt x="155" y="863"/>
                  </a:lnTo>
                  <a:lnTo>
                    <a:pt x="144" y="830"/>
                  </a:lnTo>
                  <a:lnTo>
                    <a:pt x="132" y="796"/>
                  </a:lnTo>
                  <a:lnTo>
                    <a:pt x="123" y="761"/>
                  </a:lnTo>
                  <a:lnTo>
                    <a:pt x="115" y="727"/>
                  </a:lnTo>
                  <a:lnTo>
                    <a:pt x="107" y="690"/>
                  </a:lnTo>
                  <a:lnTo>
                    <a:pt x="101" y="656"/>
                  </a:lnTo>
                  <a:lnTo>
                    <a:pt x="96" y="619"/>
                  </a:lnTo>
                  <a:lnTo>
                    <a:pt x="92" y="585"/>
                  </a:lnTo>
                  <a:lnTo>
                    <a:pt x="90" y="548"/>
                  </a:lnTo>
                  <a:lnTo>
                    <a:pt x="88" y="512"/>
                  </a:lnTo>
                  <a:lnTo>
                    <a:pt x="90" y="476"/>
                  </a:lnTo>
                  <a:lnTo>
                    <a:pt x="90" y="439"/>
                  </a:lnTo>
                  <a:lnTo>
                    <a:pt x="94" y="405"/>
                  </a:lnTo>
                  <a:lnTo>
                    <a:pt x="98" y="368"/>
                  </a:lnTo>
                  <a:lnTo>
                    <a:pt x="103" y="332"/>
                  </a:lnTo>
                  <a:lnTo>
                    <a:pt x="109" y="295"/>
                  </a:lnTo>
                  <a:lnTo>
                    <a:pt x="119" y="259"/>
                  </a:lnTo>
                  <a:lnTo>
                    <a:pt x="128" y="224"/>
                  </a:lnTo>
                  <a:lnTo>
                    <a:pt x="138" y="188"/>
                  </a:lnTo>
                  <a:lnTo>
                    <a:pt x="140" y="190"/>
                  </a:lnTo>
                  <a:lnTo>
                    <a:pt x="142" y="186"/>
                  </a:lnTo>
                  <a:lnTo>
                    <a:pt x="142" y="184"/>
                  </a:lnTo>
                  <a:lnTo>
                    <a:pt x="0" y="142"/>
                  </a:lnTo>
                  <a:lnTo>
                    <a:pt x="436" y="0"/>
                  </a:lnTo>
                  <a:lnTo>
                    <a:pt x="551" y="205"/>
                  </a:lnTo>
                  <a:lnTo>
                    <a:pt x="551" y="205"/>
                  </a:lnTo>
                  <a:lnTo>
                    <a:pt x="551" y="205"/>
                  </a:lnTo>
                  <a:lnTo>
                    <a:pt x="637" y="343"/>
                  </a:lnTo>
                  <a:lnTo>
                    <a:pt x="512" y="307"/>
                  </a:lnTo>
                  <a:lnTo>
                    <a:pt x="501" y="347"/>
                  </a:lnTo>
                  <a:lnTo>
                    <a:pt x="493" y="389"/>
                  </a:lnTo>
                  <a:lnTo>
                    <a:pt x="487" y="430"/>
                  </a:lnTo>
                  <a:lnTo>
                    <a:pt x="484" y="472"/>
                  </a:lnTo>
                  <a:lnTo>
                    <a:pt x="484" y="514"/>
                  </a:lnTo>
                  <a:lnTo>
                    <a:pt x="485" y="556"/>
                  </a:lnTo>
                  <a:lnTo>
                    <a:pt x="491" y="596"/>
                  </a:lnTo>
                  <a:lnTo>
                    <a:pt x="499" y="637"/>
                  </a:lnTo>
                  <a:lnTo>
                    <a:pt x="510" y="677"/>
                  </a:lnTo>
                  <a:lnTo>
                    <a:pt x="524" y="717"/>
                  </a:lnTo>
                  <a:lnTo>
                    <a:pt x="539" y="756"/>
                  </a:lnTo>
                  <a:lnTo>
                    <a:pt x="558" y="792"/>
                  </a:lnTo>
                  <a:lnTo>
                    <a:pt x="581" y="829"/>
                  </a:lnTo>
                  <a:lnTo>
                    <a:pt x="606" y="863"/>
                  </a:lnTo>
                  <a:lnTo>
                    <a:pt x="633" y="896"/>
                  </a:lnTo>
                  <a:lnTo>
                    <a:pt x="664" y="926"/>
                  </a:lnTo>
                  <a:lnTo>
                    <a:pt x="603" y="944"/>
                  </a:lnTo>
                  <a:lnTo>
                    <a:pt x="541" y="961"/>
                  </a:lnTo>
                  <a:lnTo>
                    <a:pt x="482" y="976"/>
                  </a:lnTo>
                  <a:lnTo>
                    <a:pt x="420" y="993"/>
                  </a:lnTo>
                  <a:lnTo>
                    <a:pt x="422" y="1252"/>
                  </a:lnTo>
                  <a:close/>
                </a:path>
              </a:pathLst>
            </a:custGeom>
            <a:solidFill>
              <a:srgbClr val="554ca7"/>
            </a:solidFill>
            <a:ln w="19050">
              <a:solidFill>
                <a:srgbClr val="ffffff"/>
              </a:solidFill>
              <a:round/>
            </a:ln>
          </p:spPr>
          <p:style>
            <a:lnRef idx="0"/>
            <a:fillRef idx="0"/>
            <a:effectRef idx="0"/>
            <a:fontRef idx="minor"/>
          </p:style>
          <p:txBody>
            <a:bodyPr lIns="54000" rIns="54000" tIns="54000" bIns="54000" anchor="ctr">
              <a:noAutofit/>
            </a:bodyPr>
            <a:p>
              <a:pPr>
                <a:lnSpc>
                  <a:spcPct val="100000"/>
                </a:lnSpc>
              </a:pPr>
              <a:endParaRPr b="0" lang="en-GB" sz="1800" spc="-1" strike="noStrike">
                <a:solidFill>
                  <a:srgbClr val="344246"/>
                </a:solidFill>
                <a:latin typeface="Calibri"/>
              </a:endParaRPr>
            </a:p>
          </p:txBody>
        </p:sp>
      </p:grpSp>
      <p:grpSp>
        <p:nvGrpSpPr>
          <p:cNvPr id="259" name="Groupe 35"/>
          <p:cNvGrpSpPr/>
          <p:nvPr/>
        </p:nvGrpSpPr>
        <p:grpSpPr>
          <a:xfrm>
            <a:off x="7168320" y="2341800"/>
            <a:ext cx="1526040" cy="1592280"/>
            <a:chOff x="7168320" y="2341800"/>
            <a:chExt cx="1526040" cy="1592280"/>
          </a:xfrm>
        </p:grpSpPr>
        <p:sp>
          <p:nvSpPr>
            <p:cNvPr id="260" name="Freeform 21"/>
            <p:cNvSpPr/>
            <p:nvPr/>
          </p:nvSpPr>
          <p:spPr>
            <a:xfrm>
              <a:off x="7740720" y="3387240"/>
              <a:ext cx="809280" cy="546840"/>
            </a:xfrm>
            <a:custGeom>
              <a:avLst/>
              <a:gdLst>
                <a:gd name="textAreaLeft" fmla="*/ 0 w 809280"/>
                <a:gd name="textAreaRight" fmla="*/ 809640 w 809280"/>
                <a:gd name="textAreaTop" fmla="*/ 0 h 546840"/>
                <a:gd name="textAreaBottom" fmla="*/ 547200 h 546840"/>
              </a:gdLst>
              <a:ahLst/>
              <a:rect l="textAreaLeft" t="textAreaTop" r="textAreaRight" b="textAreaBottom"/>
              <a:pathLst>
                <a:path w="1093" h="783">
                  <a:moveTo>
                    <a:pt x="1093" y="183"/>
                  </a:moveTo>
                  <a:lnTo>
                    <a:pt x="1075" y="210"/>
                  </a:lnTo>
                  <a:lnTo>
                    <a:pt x="1058" y="235"/>
                  </a:lnTo>
                  <a:lnTo>
                    <a:pt x="1037" y="261"/>
                  </a:lnTo>
                  <a:lnTo>
                    <a:pt x="1016" y="288"/>
                  </a:lnTo>
                  <a:lnTo>
                    <a:pt x="993" y="313"/>
                  </a:lnTo>
                  <a:lnTo>
                    <a:pt x="970" y="340"/>
                  </a:lnTo>
                  <a:lnTo>
                    <a:pt x="945" y="365"/>
                  </a:lnTo>
                  <a:lnTo>
                    <a:pt x="918" y="388"/>
                  </a:lnTo>
                  <a:lnTo>
                    <a:pt x="885" y="417"/>
                  </a:lnTo>
                  <a:lnTo>
                    <a:pt x="853" y="444"/>
                  </a:lnTo>
                  <a:lnTo>
                    <a:pt x="816" y="469"/>
                  </a:lnTo>
                  <a:lnTo>
                    <a:pt x="780" y="494"/>
                  </a:lnTo>
                  <a:lnTo>
                    <a:pt x="743" y="517"/>
                  </a:lnTo>
                  <a:lnTo>
                    <a:pt x="705" y="538"/>
                  </a:lnTo>
                  <a:lnTo>
                    <a:pt x="664" y="557"/>
                  </a:lnTo>
                  <a:lnTo>
                    <a:pt x="622" y="576"/>
                  </a:lnTo>
                  <a:lnTo>
                    <a:pt x="580" y="591"/>
                  </a:lnTo>
                  <a:lnTo>
                    <a:pt x="538" y="607"/>
                  </a:lnTo>
                  <a:lnTo>
                    <a:pt x="494" y="618"/>
                  </a:lnTo>
                  <a:lnTo>
                    <a:pt x="449" y="630"/>
                  </a:lnTo>
                  <a:lnTo>
                    <a:pt x="403" y="636"/>
                  </a:lnTo>
                  <a:lnTo>
                    <a:pt x="357" y="641"/>
                  </a:lnTo>
                  <a:lnTo>
                    <a:pt x="311" y="643"/>
                  </a:lnTo>
                  <a:lnTo>
                    <a:pt x="263" y="643"/>
                  </a:lnTo>
                  <a:lnTo>
                    <a:pt x="263" y="691"/>
                  </a:lnTo>
                  <a:lnTo>
                    <a:pt x="263" y="730"/>
                  </a:lnTo>
                  <a:lnTo>
                    <a:pt x="263" y="760"/>
                  </a:lnTo>
                  <a:lnTo>
                    <a:pt x="263" y="783"/>
                  </a:lnTo>
                  <a:lnTo>
                    <a:pt x="0" y="428"/>
                  </a:lnTo>
                  <a:lnTo>
                    <a:pt x="31" y="386"/>
                  </a:lnTo>
                  <a:lnTo>
                    <a:pt x="64" y="346"/>
                  </a:lnTo>
                  <a:lnTo>
                    <a:pt x="98" y="307"/>
                  </a:lnTo>
                  <a:lnTo>
                    <a:pt x="131" y="267"/>
                  </a:lnTo>
                  <a:lnTo>
                    <a:pt x="165" y="229"/>
                  </a:lnTo>
                  <a:lnTo>
                    <a:pt x="198" y="188"/>
                  </a:lnTo>
                  <a:lnTo>
                    <a:pt x="231" y="148"/>
                  </a:lnTo>
                  <a:lnTo>
                    <a:pt x="263" y="108"/>
                  </a:lnTo>
                  <a:lnTo>
                    <a:pt x="265" y="258"/>
                  </a:lnTo>
                  <a:lnTo>
                    <a:pt x="298" y="258"/>
                  </a:lnTo>
                  <a:lnTo>
                    <a:pt x="332" y="254"/>
                  </a:lnTo>
                  <a:lnTo>
                    <a:pt x="365" y="250"/>
                  </a:lnTo>
                  <a:lnTo>
                    <a:pt x="400" y="242"/>
                  </a:lnTo>
                  <a:lnTo>
                    <a:pt x="434" y="233"/>
                  </a:lnTo>
                  <a:lnTo>
                    <a:pt x="467" y="221"/>
                  </a:lnTo>
                  <a:lnTo>
                    <a:pt x="501" y="208"/>
                  </a:lnTo>
                  <a:lnTo>
                    <a:pt x="534" y="192"/>
                  </a:lnTo>
                  <a:lnTo>
                    <a:pt x="565" y="175"/>
                  </a:lnTo>
                  <a:lnTo>
                    <a:pt x="597" y="156"/>
                  </a:lnTo>
                  <a:lnTo>
                    <a:pt x="628" y="135"/>
                  </a:lnTo>
                  <a:lnTo>
                    <a:pt x="657" y="112"/>
                  </a:lnTo>
                  <a:lnTo>
                    <a:pt x="684" y="87"/>
                  </a:lnTo>
                  <a:lnTo>
                    <a:pt x="711" y="60"/>
                  </a:lnTo>
                  <a:lnTo>
                    <a:pt x="734" y="31"/>
                  </a:lnTo>
                  <a:lnTo>
                    <a:pt x="757" y="0"/>
                  </a:lnTo>
                  <a:lnTo>
                    <a:pt x="778" y="54"/>
                  </a:lnTo>
                  <a:lnTo>
                    <a:pt x="799" y="110"/>
                  </a:lnTo>
                  <a:lnTo>
                    <a:pt x="822" y="165"/>
                  </a:lnTo>
                  <a:lnTo>
                    <a:pt x="845" y="217"/>
                  </a:lnTo>
                  <a:lnTo>
                    <a:pt x="1093" y="183"/>
                  </a:lnTo>
                  <a:close/>
                </a:path>
              </a:pathLst>
            </a:custGeom>
            <a:solidFill>
              <a:srgbClr val="07bda7"/>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61" name="Freeform 22"/>
            <p:cNvSpPr/>
            <p:nvPr/>
          </p:nvSpPr>
          <p:spPr>
            <a:xfrm>
              <a:off x="8249040" y="2829600"/>
              <a:ext cx="445320" cy="709200"/>
            </a:xfrm>
            <a:custGeom>
              <a:avLst/>
              <a:gdLst>
                <a:gd name="textAreaLeft" fmla="*/ 0 w 445320"/>
                <a:gd name="textAreaRight" fmla="*/ 445680 w 445320"/>
                <a:gd name="textAreaTop" fmla="*/ 0 h 709200"/>
                <a:gd name="textAreaBottom" fmla="*/ 709560 h 709200"/>
              </a:gdLst>
              <a:ahLst/>
              <a:rect l="textAreaLeft" t="textAreaTop" r="textAreaRight" b="textAreaBottom"/>
              <a:pathLst>
                <a:path w="600" h="1017">
                  <a:moveTo>
                    <a:pt x="458" y="0"/>
                  </a:moveTo>
                  <a:lnTo>
                    <a:pt x="483" y="54"/>
                  </a:lnTo>
                  <a:lnTo>
                    <a:pt x="503" y="108"/>
                  </a:lnTo>
                  <a:lnTo>
                    <a:pt x="522" y="163"/>
                  </a:lnTo>
                  <a:lnTo>
                    <a:pt x="535" y="219"/>
                  </a:lnTo>
                  <a:lnTo>
                    <a:pt x="547" y="275"/>
                  </a:lnTo>
                  <a:lnTo>
                    <a:pt x="556" y="330"/>
                  </a:lnTo>
                  <a:lnTo>
                    <a:pt x="562" y="388"/>
                  </a:lnTo>
                  <a:lnTo>
                    <a:pt x="564" y="443"/>
                  </a:lnTo>
                  <a:lnTo>
                    <a:pt x="564" y="501"/>
                  </a:lnTo>
                  <a:lnTo>
                    <a:pt x="560" y="557"/>
                  </a:lnTo>
                  <a:lnTo>
                    <a:pt x="552" y="612"/>
                  </a:lnTo>
                  <a:lnTo>
                    <a:pt x="541" y="668"/>
                  </a:lnTo>
                  <a:lnTo>
                    <a:pt x="527" y="724"/>
                  </a:lnTo>
                  <a:lnTo>
                    <a:pt x="510" y="777"/>
                  </a:lnTo>
                  <a:lnTo>
                    <a:pt x="489" y="831"/>
                  </a:lnTo>
                  <a:lnTo>
                    <a:pt x="466" y="883"/>
                  </a:lnTo>
                  <a:lnTo>
                    <a:pt x="508" y="906"/>
                  </a:lnTo>
                  <a:lnTo>
                    <a:pt x="547" y="927"/>
                  </a:lnTo>
                  <a:lnTo>
                    <a:pt x="577" y="944"/>
                  </a:lnTo>
                  <a:lnTo>
                    <a:pt x="600" y="956"/>
                  </a:lnTo>
                  <a:lnTo>
                    <a:pt x="159" y="1017"/>
                  </a:lnTo>
                  <a:lnTo>
                    <a:pt x="138" y="971"/>
                  </a:lnTo>
                  <a:lnTo>
                    <a:pt x="119" y="921"/>
                  </a:lnTo>
                  <a:lnTo>
                    <a:pt x="99" y="873"/>
                  </a:lnTo>
                  <a:lnTo>
                    <a:pt x="80" y="823"/>
                  </a:lnTo>
                  <a:lnTo>
                    <a:pt x="61" y="774"/>
                  </a:lnTo>
                  <a:lnTo>
                    <a:pt x="42" y="726"/>
                  </a:lnTo>
                  <a:lnTo>
                    <a:pt x="23" y="676"/>
                  </a:lnTo>
                  <a:lnTo>
                    <a:pt x="0" y="628"/>
                  </a:lnTo>
                  <a:lnTo>
                    <a:pt x="128" y="697"/>
                  </a:lnTo>
                  <a:lnTo>
                    <a:pt x="138" y="680"/>
                  </a:lnTo>
                  <a:lnTo>
                    <a:pt x="144" y="660"/>
                  </a:lnTo>
                  <a:lnTo>
                    <a:pt x="151" y="643"/>
                  </a:lnTo>
                  <a:lnTo>
                    <a:pt x="157" y="622"/>
                  </a:lnTo>
                  <a:lnTo>
                    <a:pt x="165" y="595"/>
                  </a:lnTo>
                  <a:lnTo>
                    <a:pt x="170" y="568"/>
                  </a:lnTo>
                  <a:lnTo>
                    <a:pt x="176" y="539"/>
                  </a:lnTo>
                  <a:lnTo>
                    <a:pt x="178" y="513"/>
                  </a:lnTo>
                  <a:lnTo>
                    <a:pt x="182" y="486"/>
                  </a:lnTo>
                  <a:lnTo>
                    <a:pt x="182" y="457"/>
                  </a:lnTo>
                  <a:lnTo>
                    <a:pt x="182" y="430"/>
                  </a:lnTo>
                  <a:lnTo>
                    <a:pt x="180" y="401"/>
                  </a:lnTo>
                  <a:lnTo>
                    <a:pt x="176" y="374"/>
                  </a:lnTo>
                  <a:lnTo>
                    <a:pt x="172" y="348"/>
                  </a:lnTo>
                  <a:lnTo>
                    <a:pt x="167" y="319"/>
                  </a:lnTo>
                  <a:lnTo>
                    <a:pt x="161" y="292"/>
                  </a:lnTo>
                  <a:lnTo>
                    <a:pt x="153" y="267"/>
                  </a:lnTo>
                  <a:lnTo>
                    <a:pt x="144" y="240"/>
                  </a:lnTo>
                  <a:lnTo>
                    <a:pt x="134" y="215"/>
                  </a:lnTo>
                  <a:lnTo>
                    <a:pt x="122" y="190"/>
                  </a:lnTo>
                  <a:lnTo>
                    <a:pt x="186" y="202"/>
                  </a:lnTo>
                  <a:lnTo>
                    <a:pt x="249" y="211"/>
                  </a:lnTo>
                  <a:lnTo>
                    <a:pt x="314" y="221"/>
                  </a:lnTo>
                  <a:lnTo>
                    <a:pt x="378" y="230"/>
                  </a:lnTo>
                  <a:lnTo>
                    <a:pt x="458" y="0"/>
                  </a:lnTo>
                  <a:close/>
                </a:path>
              </a:pathLst>
            </a:custGeom>
            <a:solidFill>
              <a:schemeClr val="accent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62" name="Freeform 23"/>
            <p:cNvSpPr/>
            <p:nvPr/>
          </p:nvSpPr>
          <p:spPr>
            <a:xfrm>
              <a:off x="7168320" y="3223080"/>
              <a:ext cx="685440" cy="609480"/>
            </a:xfrm>
            <a:custGeom>
              <a:avLst/>
              <a:gdLst>
                <a:gd name="textAreaLeft" fmla="*/ 0 w 685440"/>
                <a:gd name="textAreaRight" fmla="*/ 685800 w 685440"/>
                <a:gd name="textAreaTop" fmla="*/ 0 h 609480"/>
                <a:gd name="textAreaBottom" fmla="*/ 609840 h 609480"/>
              </a:gdLst>
              <a:ahLst/>
              <a:rect l="textAreaLeft" t="textAreaTop" r="textAreaRight" b="textAreaBottom"/>
              <a:pathLst>
                <a:path w="923" h="874">
                  <a:moveTo>
                    <a:pt x="923" y="874"/>
                  </a:moveTo>
                  <a:lnTo>
                    <a:pt x="892" y="870"/>
                  </a:lnTo>
                  <a:lnTo>
                    <a:pt x="861" y="866"/>
                  </a:lnTo>
                  <a:lnTo>
                    <a:pt x="831" y="858"/>
                  </a:lnTo>
                  <a:lnTo>
                    <a:pt x="800" y="852"/>
                  </a:lnTo>
                  <a:lnTo>
                    <a:pt x="769" y="845"/>
                  </a:lnTo>
                  <a:lnTo>
                    <a:pt x="739" y="835"/>
                  </a:lnTo>
                  <a:lnTo>
                    <a:pt x="708" y="826"/>
                  </a:lnTo>
                  <a:lnTo>
                    <a:pt x="679" y="816"/>
                  </a:lnTo>
                  <a:lnTo>
                    <a:pt x="620" y="791"/>
                  </a:lnTo>
                  <a:lnTo>
                    <a:pt x="564" y="764"/>
                  </a:lnTo>
                  <a:lnTo>
                    <a:pt x="508" y="733"/>
                  </a:lnTo>
                  <a:lnTo>
                    <a:pt x="455" y="699"/>
                  </a:lnTo>
                  <a:lnTo>
                    <a:pt x="430" y="682"/>
                  </a:lnTo>
                  <a:lnTo>
                    <a:pt x="405" y="662"/>
                  </a:lnTo>
                  <a:lnTo>
                    <a:pt x="380" y="641"/>
                  </a:lnTo>
                  <a:lnTo>
                    <a:pt x="357" y="622"/>
                  </a:lnTo>
                  <a:lnTo>
                    <a:pt x="334" y="601"/>
                  </a:lnTo>
                  <a:lnTo>
                    <a:pt x="311" y="578"/>
                  </a:lnTo>
                  <a:lnTo>
                    <a:pt x="289" y="557"/>
                  </a:lnTo>
                  <a:lnTo>
                    <a:pt x="268" y="534"/>
                  </a:lnTo>
                  <a:lnTo>
                    <a:pt x="247" y="509"/>
                  </a:lnTo>
                  <a:lnTo>
                    <a:pt x="228" y="486"/>
                  </a:lnTo>
                  <a:lnTo>
                    <a:pt x="209" y="461"/>
                  </a:lnTo>
                  <a:lnTo>
                    <a:pt x="192" y="434"/>
                  </a:lnTo>
                  <a:lnTo>
                    <a:pt x="174" y="407"/>
                  </a:lnTo>
                  <a:lnTo>
                    <a:pt x="159" y="382"/>
                  </a:lnTo>
                  <a:lnTo>
                    <a:pt x="144" y="353"/>
                  </a:lnTo>
                  <a:lnTo>
                    <a:pt x="128" y="327"/>
                  </a:lnTo>
                  <a:lnTo>
                    <a:pt x="86" y="350"/>
                  </a:lnTo>
                  <a:lnTo>
                    <a:pt x="51" y="369"/>
                  </a:lnTo>
                  <a:lnTo>
                    <a:pt x="21" y="386"/>
                  </a:lnTo>
                  <a:lnTo>
                    <a:pt x="0" y="400"/>
                  </a:lnTo>
                  <a:lnTo>
                    <a:pt x="209" y="0"/>
                  </a:lnTo>
                  <a:lnTo>
                    <a:pt x="259" y="12"/>
                  </a:lnTo>
                  <a:lnTo>
                    <a:pt x="305" y="21"/>
                  </a:lnTo>
                  <a:lnTo>
                    <a:pt x="351" y="31"/>
                  </a:lnTo>
                  <a:lnTo>
                    <a:pt x="395" y="39"/>
                  </a:lnTo>
                  <a:lnTo>
                    <a:pt x="439" y="48"/>
                  </a:lnTo>
                  <a:lnTo>
                    <a:pt x="483" y="58"/>
                  </a:lnTo>
                  <a:lnTo>
                    <a:pt x="531" y="68"/>
                  </a:lnTo>
                  <a:lnTo>
                    <a:pt x="579" y="77"/>
                  </a:lnTo>
                  <a:lnTo>
                    <a:pt x="479" y="133"/>
                  </a:lnTo>
                  <a:lnTo>
                    <a:pt x="497" y="167"/>
                  </a:lnTo>
                  <a:lnTo>
                    <a:pt x="516" y="200"/>
                  </a:lnTo>
                  <a:lnTo>
                    <a:pt x="535" y="231"/>
                  </a:lnTo>
                  <a:lnTo>
                    <a:pt x="556" y="259"/>
                  </a:lnTo>
                  <a:lnTo>
                    <a:pt x="579" y="288"/>
                  </a:lnTo>
                  <a:lnTo>
                    <a:pt x="602" y="315"/>
                  </a:lnTo>
                  <a:lnTo>
                    <a:pt x="627" y="340"/>
                  </a:lnTo>
                  <a:lnTo>
                    <a:pt x="654" y="363"/>
                  </a:lnTo>
                  <a:lnTo>
                    <a:pt x="683" y="384"/>
                  </a:lnTo>
                  <a:lnTo>
                    <a:pt x="712" y="405"/>
                  </a:lnTo>
                  <a:lnTo>
                    <a:pt x="742" y="423"/>
                  </a:lnTo>
                  <a:lnTo>
                    <a:pt x="773" y="438"/>
                  </a:lnTo>
                  <a:lnTo>
                    <a:pt x="808" y="453"/>
                  </a:lnTo>
                  <a:lnTo>
                    <a:pt x="842" y="465"/>
                  </a:lnTo>
                  <a:lnTo>
                    <a:pt x="879" y="476"/>
                  </a:lnTo>
                  <a:lnTo>
                    <a:pt x="917" y="484"/>
                  </a:lnTo>
                  <a:lnTo>
                    <a:pt x="881" y="528"/>
                  </a:lnTo>
                  <a:lnTo>
                    <a:pt x="842" y="572"/>
                  </a:lnTo>
                  <a:lnTo>
                    <a:pt x="806" y="618"/>
                  </a:lnTo>
                  <a:lnTo>
                    <a:pt x="769" y="664"/>
                  </a:lnTo>
                  <a:lnTo>
                    <a:pt x="923" y="874"/>
                  </a:lnTo>
                  <a:close/>
                </a:path>
              </a:pathLst>
            </a:custGeom>
            <a:solidFill>
              <a:srgbClr val="554ca7"/>
            </a:solidFill>
            <a:ln w="19050">
              <a:solidFill>
                <a:srgbClr val="ffffff"/>
              </a:solidFill>
              <a:round/>
            </a:ln>
          </p:spPr>
          <p:style>
            <a:lnRef idx="0"/>
            <a:fillRef idx="0"/>
            <a:effectRef idx="0"/>
            <a:fontRef idx="minor"/>
          </p:style>
          <p:txBody>
            <a:bodyPr lIns="54000" rIns="54000" tIns="54000" bIns="54000" anchor="ctr">
              <a:noAutofit/>
            </a:bodyPr>
            <a:p>
              <a:pPr>
                <a:lnSpc>
                  <a:spcPct val="100000"/>
                </a:lnSpc>
              </a:pPr>
              <a:endParaRPr b="0" lang="en-GB" sz="1800" spc="-1" strike="noStrike">
                <a:solidFill>
                  <a:srgbClr val="344246"/>
                </a:solidFill>
                <a:latin typeface="Calibri"/>
              </a:endParaRPr>
            </a:p>
          </p:txBody>
        </p:sp>
        <p:sp>
          <p:nvSpPr>
            <p:cNvPr id="263" name="Freeform 24"/>
            <p:cNvSpPr/>
            <p:nvPr/>
          </p:nvSpPr>
          <p:spPr>
            <a:xfrm>
              <a:off x="7201080" y="2670120"/>
              <a:ext cx="446760" cy="704880"/>
            </a:xfrm>
            <a:custGeom>
              <a:avLst/>
              <a:gdLst>
                <a:gd name="textAreaLeft" fmla="*/ 0 w 446760"/>
                <a:gd name="textAreaRight" fmla="*/ 447120 w 446760"/>
                <a:gd name="textAreaTop" fmla="*/ 0 h 704880"/>
                <a:gd name="textAreaBottom" fmla="*/ 705240 h 704880"/>
              </a:gdLst>
              <a:ahLst/>
              <a:rect l="textAreaLeft" t="textAreaTop" r="textAreaRight" b="textAreaBottom"/>
              <a:pathLst>
                <a:path w="601" h="1009">
                  <a:moveTo>
                    <a:pt x="52" y="1009"/>
                  </a:moveTo>
                  <a:lnTo>
                    <a:pt x="32" y="948"/>
                  </a:lnTo>
                  <a:lnTo>
                    <a:pt x="19" y="886"/>
                  </a:lnTo>
                  <a:lnTo>
                    <a:pt x="9" y="827"/>
                  </a:lnTo>
                  <a:lnTo>
                    <a:pt x="2" y="765"/>
                  </a:lnTo>
                  <a:lnTo>
                    <a:pt x="0" y="704"/>
                  </a:lnTo>
                  <a:lnTo>
                    <a:pt x="0" y="645"/>
                  </a:lnTo>
                  <a:lnTo>
                    <a:pt x="4" y="585"/>
                  </a:lnTo>
                  <a:lnTo>
                    <a:pt x="9" y="528"/>
                  </a:lnTo>
                  <a:lnTo>
                    <a:pt x="19" y="470"/>
                  </a:lnTo>
                  <a:lnTo>
                    <a:pt x="32" y="414"/>
                  </a:lnTo>
                  <a:lnTo>
                    <a:pt x="48" y="359"/>
                  </a:lnTo>
                  <a:lnTo>
                    <a:pt x="67" y="307"/>
                  </a:lnTo>
                  <a:lnTo>
                    <a:pt x="88" y="257"/>
                  </a:lnTo>
                  <a:lnTo>
                    <a:pt x="113" y="207"/>
                  </a:lnTo>
                  <a:lnTo>
                    <a:pt x="142" y="161"/>
                  </a:lnTo>
                  <a:lnTo>
                    <a:pt x="171" y="119"/>
                  </a:lnTo>
                  <a:lnTo>
                    <a:pt x="126" y="92"/>
                  </a:lnTo>
                  <a:lnTo>
                    <a:pt x="86" y="69"/>
                  </a:lnTo>
                  <a:lnTo>
                    <a:pt x="52" y="50"/>
                  </a:lnTo>
                  <a:lnTo>
                    <a:pt x="27" y="34"/>
                  </a:lnTo>
                  <a:lnTo>
                    <a:pt x="470" y="0"/>
                  </a:lnTo>
                  <a:lnTo>
                    <a:pt x="487" y="48"/>
                  </a:lnTo>
                  <a:lnTo>
                    <a:pt x="505" y="98"/>
                  </a:lnTo>
                  <a:lnTo>
                    <a:pt x="520" y="146"/>
                  </a:lnTo>
                  <a:lnTo>
                    <a:pt x="535" y="192"/>
                  </a:lnTo>
                  <a:lnTo>
                    <a:pt x="551" y="240"/>
                  </a:lnTo>
                  <a:lnTo>
                    <a:pt x="568" y="288"/>
                  </a:lnTo>
                  <a:lnTo>
                    <a:pt x="583" y="338"/>
                  </a:lnTo>
                  <a:lnTo>
                    <a:pt x="601" y="386"/>
                  </a:lnTo>
                  <a:lnTo>
                    <a:pt x="495" y="316"/>
                  </a:lnTo>
                  <a:lnTo>
                    <a:pt x="476" y="341"/>
                  </a:lnTo>
                  <a:lnTo>
                    <a:pt x="459" y="368"/>
                  </a:lnTo>
                  <a:lnTo>
                    <a:pt x="443" y="395"/>
                  </a:lnTo>
                  <a:lnTo>
                    <a:pt x="430" y="426"/>
                  </a:lnTo>
                  <a:lnTo>
                    <a:pt x="416" y="457"/>
                  </a:lnTo>
                  <a:lnTo>
                    <a:pt x="407" y="489"/>
                  </a:lnTo>
                  <a:lnTo>
                    <a:pt x="397" y="524"/>
                  </a:lnTo>
                  <a:lnTo>
                    <a:pt x="389" y="558"/>
                  </a:lnTo>
                  <a:lnTo>
                    <a:pt x="384" y="593"/>
                  </a:lnTo>
                  <a:lnTo>
                    <a:pt x="380" y="629"/>
                  </a:lnTo>
                  <a:lnTo>
                    <a:pt x="378" y="666"/>
                  </a:lnTo>
                  <a:lnTo>
                    <a:pt x="380" y="700"/>
                  </a:lnTo>
                  <a:lnTo>
                    <a:pt x="382" y="737"/>
                  </a:lnTo>
                  <a:lnTo>
                    <a:pt x="386" y="773"/>
                  </a:lnTo>
                  <a:lnTo>
                    <a:pt x="391" y="808"/>
                  </a:lnTo>
                  <a:lnTo>
                    <a:pt x="399" y="840"/>
                  </a:lnTo>
                  <a:lnTo>
                    <a:pt x="343" y="829"/>
                  </a:lnTo>
                  <a:lnTo>
                    <a:pt x="286" y="817"/>
                  </a:lnTo>
                  <a:lnTo>
                    <a:pt x="228" y="806"/>
                  </a:lnTo>
                  <a:lnTo>
                    <a:pt x="165" y="792"/>
                  </a:lnTo>
                  <a:lnTo>
                    <a:pt x="52" y="1009"/>
                  </a:lnTo>
                  <a:close/>
                </a:path>
              </a:pathLst>
            </a:custGeom>
            <a:solidFill>
              <a:srgbClr val="cc3300"/>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sp>
          <p:nvSpPr>
            <p:cNvPr id="264" name="Freeform 25"/>
            <p:cNvSpPr/>
            <p:nvPr/>
          </p:nvSpPr>
          <p:spPr>
            <a:xfrm>
              <a:off x="7387560" y="2341800"/>
              <a:ext cx="734760" cy="594360"/>
            </a:xfrm>
            <a:custGeom>
              <a:avLst/>
              <a:gdLst>
                <a:gd name="textAreaLeft" fmla="*/ 0 w 734760"/>
                <a:gd name="textAreaRight" fmla="*/ 735120 w 734760"/>
                <a:gd name="textAreaTop" fmla="*/ 0 h 594360"/>
                <a:gd name="textAreaBottom" fmla="*/ 594720 h 594360"/>
              </a:gdLst>
              <a:ahLst/>
              <a:rect l="textAreaLeft" t="textAreaTop" r="textAreaRight" b="textAreaBottom"/>
              <a:pathLst>
                <a:path w="989" h="852">
                  <a:moveTo>
                    <a:pt x="0" y="487"/>
                  </a:moveTo>
                  <a:lnTo>
                    <a:pt x="25" y="462"/>
                  </a:lnTo>
                  <a:lnTo>
                    <a:pt x="50" y="435"/>
                  </a:lnTo>
                  <a:lnTo>
                    <a:pt x="77" y="412"/>
                  </a:lnTo>
                  <a:lnTo>
                    <a:pt x="104" y="389"/>
                  </a:lnTo>
                  <a:lnTo>
                    <a:pt x="131" y="366"/>
                  </a:lnTo>
                  <a:lnTo>
                    <a:pt x="160" y="345"/>
                  </a:lnTo>
                  <a:lnTo>
                    <a:pt x="188" y="324"/>
                  </a:lnTo>
                  <a:lnTo>
                    <a:pt x="219" y="305"/>
                  </a:lnTo>
                  <a:lnTo>
                    <a:pt x="248" y="287"/>
                  </a:lnTo>
                  <a:lnTo>
                    <a:pt x="279" y="270"/>
                  </a:lnTo>
                  <a:lnTo>
                    <a:pt x="311" y="255"/>
                  </a:lnTo>
                  <a:lnTo>
                    <a:pt x="342" y="239"/>
                  </a:lnTo>
                  <a:lnTo>
                    <a:pt x="375" y="226"/>
                  </a:lnTo>
                  <a:lnTo>
                    <a:pt x="407" y="215"/>
                  </a:lnTo>
                  <a:lnTo>
                    <a:pt x="442" y="203"/>
                  </a:lnTo>
                  <a:lnTo>
                    <a:pt x="474" y="195"/>
                  </a:lnTo>
                  <a:lnTo>
                    <a:pt x="505" y="186"/>
                  </a:lnTo>
                  <a:lnTo>
                    <a:pt x="536" y="180"/>
                  </a:lnTo>
                  <a:lnTo>
                    <a:pt x="568" y="174"/>
                  </a:lnTo>
                  <a:lnTo>
                    <a:pt x="601" y="168"/>
                  </a:lnTo>
                  <a:lnTo>
                    <a:pt x="632" y="165"/>
                  </a:lnTo>
                  <a:lnTo>
                    <a:pt x="664" y="163"/>
                  </a:lnTo>
                  <a:lnTo>
                    <a:pt x="699" y="161"/>
                  </a:lnTo>
                  <a:lnTo>
                    <a:pt x="732" y="161"/>
                  </a:lnTo>
                  <a:lnTo>
                    <a:pt x="732" y="163"/>
                  </a:lnTo>
                  <a:lnTo>
                    <a:pt x="733" y="163"/>
                  </a:lnTo>
                  <a:lnTo>
                    <a:pt x="737" y="163"/>
                  </a:lnTo>
                  <a:lnTo>
                    <a:pt x="737" y="0"/>
                  </a:lnTo>
                  <a:lnTo>
                    <a:pt x="989" y="351"/>
                  </a:lnTo>
                  <a:lnTo>
                    <a:pt x="833" y="547"/>
                  </a:lnTo>
                  <a:lnTo>
                    <a:pt x="833" y="547"/>
                  </a:lnTo>
                  <a:lnTo>
                    <a:pt x="833" y="547"/>
                  </a:lnTo>
                  <a:lnTo>
                    <a:pt x="737" y="669"/>
                  </a:lnTo>
                  <a:lnTo>
                    <a:pt x="737" y="539"/>
                  </a:lnTo>
                  <a:lnTo>
                    <a:pt x="714" y="539"/>
                  </a:lnTo>
                  <a:lnTo>
                    <a:pt x="691" y="541"/>
                  </a:lnTo>
                  <a:lnTo>
                    <a:pt x="668" y="543"/>
                  </a:lnTo>
                  <a:lnTo>
                    <a:pt x="643" y="547"/>
                  </a:lnTo>
                  <a:lnTo>
                    <a:pt x="620" y="550"/>
                  </a:lnTo>
                  <a:lnTo>
                    <a:pt x="595" y="554"/>
                  </a:lnTo>
                  <a:lnTo>
                    <a:pt x="572" y="562"/>
                  </a:lnTo>
                  <a:lnTo>
                    <a:pt x="547" y="568"/>
                  </a:lnTo>
                  <a:lnTo>
                    <a:pt x="524" y="577"/>
                  </a:lnTo>
                  <a:lnTo>
                    <a:pt x="503" y="585"/>
                  </a:lnTo>
                  <a:lnTo>
                    <a:pt x="480" y="595"/>
                  </a:lnTo>
                  <a:lnTo>
                    <a:pt x="459" y="606"/>
                  </a:lnTo>
                  <a:lnTo>
                    <a:pt x="417" y="629"/>
                  </a:lnTo>
                  <a:lnTo>
                    <a:pt x="376" y="656"/>
                  </a:lnTo>
                  <a:lnTo>
                    <a:pt x="338" y="687"/>
                  </a:lnTo>
                  <a:lnTo>
                    <a:pt x="303" y="719"/>
                  </a:lnTo>
                  <a:lnTo>
                    <a:pt x="282" y="658"/>
                  </a:lnTo>
                  <a:lnTo>
                    <a:pt x="263" y="595"/>
                  </a:lnTo>
                  <a:lnTo>
                    <a:pt x="242" y="533"/>
                  </a:lnTo>
                  <a:lnTo>
                    <a:pt x="219" y="470"/>
                  </a:lnTo>
                  <a:lnTo>
                    <a:pt x="0" y="487"/>
                  </a:lnTo>
                  <a:close/>
                  <a:moveTo>
                    <a:pt x="244" y="786"/>
                  </a:moveTo>
                  <a:lnTo>
                    <a:pt x="208" y="834"/>
                  </a:lnTo>
                  <a:lnTo>
                    <a:pt x="192" y="852"/>
                  </a:lnTo>
                  <a:lnTo>
                    <a:pt x="204" y="836"/>
                  </a:lnTo>
                  <a:lnTo>
                    <a:pt x="244" y="786"/>
                  </a:lnTo>
                  <a:lnTo>
                    <a:pt x="244" y="786"/>
                  </a:lnTo>
                  <a:close/>
                </a:path>
              </a:pathLst>
            </a:custGeom>
            <a:solidFill>
              <a:srgbClr val="ffbe2f"/>
            </a:solidFill>
            <a:ln w="19050">
              <a:solidFill>
                <a:srgbClr val="ffffff"/>
              </a:solidFill>
              <a:round/>
            </a:ln>
          </p:spPr>
          <p:style>
            <a:lnRef idx="0"/>
            <a:fillRef idx="0"/>
            <a:effectRef idx="0"/>
            <a:fontRef idx="minor"/>
          </p:style>
          <p:txBody>
            <a:bodyPr lIns="54000" rIns="54000" tIns="54000" bIns="54000" anchor="ctr">
              <a:noAutofit/>
            </a:bodyPr>
            <a:p>
              <a:pPr>
                <a:lnSpc>
                  <a:spcPct val="100000"/>
                </a:lnSpc>
              </a:pPr>
              <a:endParaRPr b="0" lang="en-GB" sz="1800" spc="-1" strike="noStrike">
                <a:solidFill>
                  <a:srgbClr val="344246"/>
                </a:solidFill>
                <a:latin typeface="Calibri"/>
              </a:endParaRPr>
            </a:p>
          </p:txBody>
        </p:sp>
        <p:sp>
          <p:nvSpPr>
            <p:cNvPr id="265" name="Freeform 26"/>
            <p:cNvSpPr/>
            <p:nvPr/>
          </p:nvSpPr>
          <p:spPr>
            <a:xfrm>
              <a:off x="8004600" y="2458440"/>
              <a:ext cx="634680" cy="530280"/>
            </a:xfrm>
            <a:custGeom>
              <a:avLst/>
              <a:gdLst>
                <a:gd name="textAreaLeft" fmla="*/ 0 w 634680"/>
                <a:gd name="textAreaRight" fmla="*/ 635040 w 634680"/>
                <a:gd name="textAreaTop" fmla="*/ 0 h 530280"/>
                <a:gd name="textAreaBottom" fmla="*/ 530640 h 530280"/>
              </a:gdLst>
              <a:ahLst/>
              <a:rect l="textAreaLeft" t="textAreaTop" r="textAreaRight" b="textAreaBottom"/>
              <a:pathLst>
                <a:path w="856" h="763">
                  <a:moveTo>
                    <a:pt x="25" y="0"/>
                  </a:moveTo>
                  <a:lnTo>
                    <a:pt x="62" y="5"/>
                  </a:lnTo>
                  <a:lnTo>
                    <a:pt x="98" y="11"/>
                  </a:lnTo>
                  <a:lnTo>
                    <a:pt x="135" y="19"/>
                  </a:lnTo>
                  <a:lnTo>
                    <a:pt x="171" y="27"/>
                  </a:lnTo>
                  <a:lnTo>
                    <a:pt x="206" y="36"/>
                  </a:lnTo>
                  <a:lnTo>
                    <a:pt x="242" y="48"/>
                  </a:lnTo>
                  <a:lnTo>
                    <a:pt x="277" y="61"/>
                  </a:lnTo>
                  <a:lnTo>
                    <a:pt x="311" y="74"/>
                  </a:lnTo>
                  <a:lnTo>
                    <a:pt x="346" y="90"/>
                  </a:lnTo>
                  <a:lnTo>
                    <a:pt x="379" y="105"/>
                  </a:lnTo>
                  <a:lnTo>
                    <a:pt x="413" y="124"/>
                  </a:lnTo>
                  <a:lnTo>
                    <a:pt x="444" y="144"/>
                  </a:lnTo>
                  <a:lnTo>
                    <a:pt x="476" y="163"/>
                  </a:lnTo>
                  <a:lnTo>
                    <a:pt x="505" y="186"/>
                  </a:lnTo>
                  <a:lnTo>
                    <a:pt x="536" y="209"/>
                  </a:lnTo>
                  <a:lnTo>
                    <a:pt x="563" y="232"/>
                  </a:lnTo>
                  <a:lnTo>
                    <a:pt x="588" y="253"/>
                  </a:lnTo>
                  <a:lnTo>
                    <a:pt x="609" y="274"/>
                  </a:lnTo>
                  <a:lnTo>
                    <a:pt x="632" y="297"/>
                  </a:lnTo>
                  <a:lnTo>
                    <a:pt x="651" y="320"/>
                  </a:lnTo>
                  <a:lnTo>
                    <a:pt x="672" y="343"/>
                  </a:lnTo>
                  <a:lnTo>
                    <a:pt x="691" y="368"/>
                  </a:lnTo>
                  <a:lnTo>
                    <a:pt x="711" y="393"/>
                  </a:lnTo>
                  <a:lnTo>
                    <a:pt x="728" y="420"/>
                  </a:lnTo>
                  <a:lnTo>
                    <a:pt x="751" y="408"/>
                  </a:lnTo>
                  <a:lnTo>
                    <a:pt x="787" y="383"/>
                  </a:lnTo>
                  <a:lnTo>
                    <a:pt x="828" y="359"/>
                  </a:lnTo>
                  <a:lnTo>
                    <a:pt x="856" y="341"/>
                  </a:lnTo>
                  <a:lnTo>
                    <a:pt x="707" y="763"/>
                  </a:lnTo>
                  <a:lnTo>
                    <a:pt x="653" y="756"/>
                  </a:lnTo>
                  <a:lnTo>
                    <a:pt x="599" y="748"/>
                  </a:lnTo>
                  <a:lnTo>
                    <a:pt x="545" y="738"/>
                  </a:lnTo>
                  <a:lnTo>
                    <a:pt x="494" y="731"/>
                  </a:lnTo>
                  <a:lnTo>
                    <a:pt x="440" y="721"/>
                  </a:lnTo>
                  <a:lnTo>
                    <a:pt x="388" y="712"/>
                  </a:lnTo>
                  <a:lnTo>
                    <a:pt x="338" y="702"/>
                  </a:lnTo>
                  <a:lnTo>
                    <a:pt x="290" y="692"/>
                  </a:lnTo>
                  <a:lnTo>
                    <a:pt x="392" y="627"/>
                  </a:lnTo>
                  <a:lnTo>
                    <a:pt x="373" y="600"/>
                  </a:lnTo>
                  <a:lnTo>
                    <a:pt x="350" y="572"/>
                  </a:lnTo>
                  <a:lnTo>
                    <a:pt x="331" y="552"/>
                  </a:lnTo>
                  <a:lnTo>
                    <a:pt x="313" y="535"/>
                  </a:lnTo>
                  <a:lnTo>
                    <a:pt x="294" y="518"/>
                  </a:lnTo>
                  <a:lnTo>
                    <a:pt x="273" y="502"/>
                  </a:lnTo>
                  <a:lnTo>
                    <a:pt x="254" y="487"/>
                  </a:lnTo>
                  <a:lnTo>
                    <a:pt x="233" y="472"/>
                  </a:lnTo>
                  <a:lnTo>
                    <a:pt x="212" y="458"/>
                  </a:lnTo>
                  <a:lnTo>
                    <a:pt x="188" y="447"/>
                  </a:lnTo>
                  <a:lnTo>
                    <a:pt x="167" y="435"/>
                  </a:lnTo>
                  <a:lnTo>
                    <a:pt x="144" y="424"/>
                  </a:lnTo>
                  <a:lnTo>
                    <a:pt x="121" y="414"/>
                  </a:lnTo>
                  <a:lnTo>
                    <a:pt x="98" y="406"/>
                  </a:lnTo>
                  <a:lnTo>
                    <a:pt x="73" y="399"/>
                  </a:lnTo>
                  <a:lnTo>
                    <a:pt x="50" y="393"/>
                  </a:lnTo>
                  <a:lnTo>
                    <a:pt x="25" y="387"/>
                  </a:lnTo>
                  <a:lnTo>
                    <a:pt x="0" y="382"/>
                  </a:lnTo>
                  <a:lnTo>
                    <a:pt x="2" y="382"/>
                  </a:lnTo>
                  <a:lnTo>
                    <a:pt x="2" y="382"/>
                  </a:lnTo>
                  <a:lnTo>
                    <a:pt x="2" y="382"/>
                  </a:lnTo>
                  <a:lnTo>
                    <a:pt x="158" y="186"/>
                  </a:lnTo>
                  <a:lnTo>
                    <a:pt x="25" y="0"/>
                  </a:lnTo>
                  <a:close/>
                </a:path>
              </a:pathLst>
            </a:custGeom>
            <a:solidFill>
              <a:schemeClr val="tx2"/>
            </a:solidFill>
            <a:ln w="1905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344246"/>
                </a:solidFill>
                <a:latin typeface="Calibri"/>
              </a:endParaRPr>
            </a:p>
          </p:txBody>
        </p:sp>
      </p:grpSp>
      <p:sp>
        <p:nvSpPr>
          <p:cNvPr id="266" name="AutoShape 3"/>
          <p:cNvSpPr/>
          <p:nvPr/>
        </p:nvSpPr>
        <p:spPr>
          <a:xfrm>
            <a:off x="2444760" y="4149000"/>
            <a:ext cx="2266560" cy="902880"/>
          </a:xfrm>
          <a:prstGeom prst="chevron">
            <a:avLst>
              <a:gd name="adj" fmla="val 29512"/>
            </a:avLst>
          </a:prstGeom>
          <a:solidFill>
            <a:schemeClr val="accent2"/>
          </a:solidFill>
          <a:ln w="9525">
            <a:noFill/>
          </a:ln>
        </p:spPr>
        <p:style>
          <a:lnRef idx="0"/>
          <a:fillRef idx="0"/>
          <a:effectRef idx="0"/>
          <a:fontRef idx="minor"/>
        </p:style>
        <p:txBody>
          <a:bodyPr lIns="72000" rIns="0" tIns="72000" bIns="72000" anchor="ctr">
            <a:noAutofit/>
          </a:bodyPr>
          <a:p>
            <a:pPr algn="ctr">
              <a:lnSpc>
                <a:spcPct val="100000"/>
              </a:lnSpc>
            </a:pPr>
            <a:r>
              <a:rPr b="1" lang="en-GB" sz="1800" spc="-1" strike="noStrike">
                <a:solidFill>
                  <a:srgbClr val="ffffff"/>
                </a:solidFill>
                <a:latin typeface="Calibri"/>
              </a:rPr>
              <a:t>Your text here</a:t>
            </a:r>
            <a:endParaRPr b="0" lang="en-US" sz="1800" spc="-1" strike="noStrike">
              <a:solidFill>
                <a:srgbClr val="000000"/>
              </a:solidFill>
              <a:latin typeface="Arial"/>
            </a:endParaRPr>
          </a:p>
        </p:txBody>
      </p:sp>
      <p:sp>
        <p:nvSpPr>
          <p:cNvPr id="267" name="AutoShape 4"/>
          <p:cNvSpPr/>
          <p:nvPr/>
        </p:nvSpPr>
        <p:spPr>
          <a:xfrm>
            <a:off x="390600" y="4149000"/>
            <a:ext cx="2265120" cy="902880"/>
          </a:xfrm>
          <a:prstGeom prst="homePlate">
            <a:avLst>
              <a:gd name="adj" fmla="val 30257"/>
            </a:avLst>
          </a:prstGeom>
          <a:solidFill>
            <a:schemeClr val="tx2"/>
          </a:solidFill>
          <a:ln w="9525">
            <a:noFill/>
          </a:ln>
        </p:spPr>
        <p:style>
          <a:lnRef idx="0"/>
          <a:fillRef idx="0"/>
          <a:effectRef idx="0"/>
          <a:fontRef idx="minor"/>
        </p:style>
        <p:txBody>
          <a:bodyPr lIns="72000" rIns="0" tIns="72000" bIns="72000" anchor="ctr">
            <a:noAutofit/>
          </a:bodyPr>
          <a:p>
            <a:pPr algn="ctr">
              <a:lnSpc>
                <a:spcPct val="100000"/>
              </a:lnSpc>
            </a:pPr>
            <a:r>
              <a:rPr b="1" lang="en-GB" sz="1800" spc="-1" strike="noStrike">
                <a:solidFill>
                  <a:srgbClr val="ffffff"/>
                </a:solidFill>
                <a:latin typeface="Calibri"/>
              </a:rPr>
              <a:t>Your text here</a:t>
            </a:r>
            <a:endParaRPr b="0" lang="en-US" sz="1800" spc="-1" strike="noStrike">
              <a:solidFill>
                <a:srgbClr val="ffffff"/>
              </a:solidFill>
              <a:latin typeface="Arial"/>
            </a:endParaRPr>
          </a:p>
        </p:txBody>
      </p:sp>
      <p:sp>
        <p:nvSpPr>
          <p:cNvPr id="268" name="AutoShape 5"/>
          <p:cNvSpPr/>
          <p:nvPr/>
        </p:nvSpPr>
        <p:spPr>
          <a:xfrm>
            <a:off x="4497480" y="4149000"/>
            <a:ext cx="2265120" cy="902880"/>
          </a:xfrm>
          <a:prstGeom prst="chevron">
            <a:avLst>
              <a:gd name="adj" fmla="val 29491"/>
            </a:avLst>
          </a:prstGeom>
          <a:solidFill>
            <a:srgbClr val="07bda7"/>
          </a:solidFill>
          <a:ln w="9525">
            <a:noFill/>
          </a:ln>
        </p:spPr>
        <p:style>
          <a:lnRef idx="0"/>
          <a:fillRef idx="0"/>
          <a:effectRef idx="0"/>
          <a:fontRef idx="minor"/>
        </p:style>
        <p:txBody>
          <a:bodyPr lIns="72000" rIns="0" tIns="72000" bIns="72000" anchor="ctr">
            <a:noAutofit/>
          </a:bodyPr>
          <a:p>
            <a:pPr algn="ctr">
              <a:lnSpc>
                <a:spcPct val="100000"/>
              </a:lnSpc>
            </a:pPr>
            <a:r>
              <a:rPr b="1" lang="en-GB" sz="1800" spc="-1" strike="noStrike">
                <a:solidFill>
                  <a:srgbClr val="ffffff"/>
                </a:solidFill>
                <a:latin typeface="Calibri"/>
              </a:rPr>
              <a:t>Your text here</a:t>
            </a:r>
            <a:endParaRPr b="0" lang="en-US" sz="1800" spc="-1" strike="noStrike">
              <a:solidFill>
                <a:srgbClr val="000000"/>
              </a:solidFill>
              <a:latin typeface="Arial"/>
            </a:endParaRPr>
          </a:p>
        </p:txBody>
      </p:sp>
      <p:sp>
        <p:nvSpPr>
          <p:cNvPr id="269" name="AutoShape 6"/>
          <p:cNvSpPr/>
          <p:nvPr/>
        </p:nvSpPr>
        <p:spPr>
          <a:xfrm>
            <a:off x="6548400" y="4149000"/>
            <a:ext cx="2266560" cy="902880"/>
          </a:xfrm>
          <a:prstGeom prst="chevron">
            <a:avLst>
              <a:gd name="adj" fmla="val 29512"/>
            </a:avLst>
          </a:prstGeom>
          <a:solidFill>
            <a:srgbClr val="554ca7"/>
          </a:solidFill>
          <a:ln w="9525">
            <a:noFill/>
          </a:ln>
        </p:spPr>
        <p:style>
          <a:lnRef idx="0"/>
          <a:fillRef idx="0"/>
          <a:effectRef idx="0"/>
          <a:fontRef idx="minor"/>
        </p:style>
        <p:txBody>
          <a:bodyPr lIns="72000" rIns="0" tIns="72000" bIns="72000" anchor="ctr">
            <a:noAutofit/>
          </a:bodyPr>
          <a:p>
            <a:pPr algn="ctr">
              <a:lnSpc>
                <a:spcPct val="100000"/>
              </a:lnSpc>
            </a:pPr>
            <a:r>
              <a:rPr b="1" lang="en-GB" sz="1800" spc="-1" strike="noStrike">
                <a:solidFill>
                  <a:srgbClr val="ffffff"/>
                </a:solidFill>
                <a:latin typeface="Calibri"/>
              </a:rPr>
              <a:t>Your text her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Your footer here</a:t>
            </a:r>
          </a:p>
        </p:txBody>
      </p:sp>
      <p:sp>
        <p:nvSpPr>
          <p:cNvPr id="4" name="PlaceHolder 3"/>
          <p:cNvSpPr>
            <a:spLocks noGrp="1"/>
          </p:cNvSpPr>
          <p:nvPr>
            <p:ph type="sldNum" idx="3"/>
          </p:nvPr>
        </p:nvSpPr>
        <p:spPr/>
        <p:txBody>
          <a:bodyPr/>
          <a:p>
            <a:fld id="{1087FA2B-16BE-414C-A704-912AFC2537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6490800" cy="1142640"/>
          </a:xfrm>
          <a:prstGeom prst="rect">
            <a:avLst/>
          </a:prstGeom>
          <a:noFill/>
          <a:ln w="0">
            <a:noFill/>
          </a:ln>
        </p:spPr>
        <p:txBody>
          <a:bodyPr anchor="ctr">
            <a:noAutofit/>
          </a:bodyPr>
          <a:p>
            <a:pPr indent="0">
              <a:lnSpc>
                <a:spcPct val="100000"/>
              </a:lnSpc>
              <a:buNone/>
            </a:pPr>
            <a:r>
              <a:rPr b="0" lang="en-GB" sz="3200" spc="-1" strike="noStrike">
                <a:solidFill>
                  <a:srgbClr val="344246"/>
                </a:solidFill>
                <a:latin typeface="Verdana"/>
                <a:ea typeface="Verdana"/>
              </a:rPr>
              <a:t>Example with a table</a:t>
            </a:r>
            <a:endParaRPr b="0" lang="en-US" sz="3200" spc="-1" strike="noStrike">
              <a:solidFill>
                <a:srgbClr val="344246"/>
              </a:solidFill>
              <a:latin typeface="Calibri"/>
            </a:endParaRPr>
          </a:p>
        </p:txBody>
      </p:sp>
      <p:sp>
        <p:nvSpPr>
          <p:cNvPr id="271" name="PlaceHolder 2"/>
          <p:cNvSpPr>
            <a:spLocks noGrp="1"/>
          </p:cNvSpPr>
          <p:nvPr>
            <p:ph/>
          </p:nvPr>
        </p:nvSpPr>
        <p:spPr>
          <a:xfrm>
            <a:off x="467640" y="1772640"/>
            <a:ext cx="7200360" cy="4320000"/>
          </a:xfrm>
          <a:prstGeom prst="rect">
            <a:avLst/>
          </a:prstGeom>
          <a:noFill/>
          <a:ln w="0">
            <a:noFill/>
          </a:ln>
        </p:spPr>
        <p:txBody>
          <a:bodyPr anchor="t">
            <a:normAutofit/>
          </a:bodyPr>
          <a:p>
            <a:pPr marL="343080" indent="-343080">
              <a:lnSpc>
                <a:spcPct val="100000"/>
              </a:lnSpc>
              <a:spcBef>
                <a:spcPts val="400"/>
              </a:spcBef>
              <a:buClr>
                <a:srgbClr val="343846"/>
              </a:buClr>
              <a:buFont typeface="Symbol" charset="2"/>
              <a:buChar char=""/>
            </a:pPr>
            <a:r>
              <a:rPr b="0" lang="fr-FR" sz="2000" spc="-1" strike="noStrike">
                <a:solidFill>
                  <a:srgbClr val="343846"/>
                </a:solidFill>
                <a:latin typeface="Verdana"/>
                <a:ea typeface="Verdana"/>
              </a:rPr>
              <a:t>Lorem ipsum dolor sit amet, in nec erat ac et, integer diam ultrices ut nec</a:t>
            </a:r>
            <a:endParaRPr b="0" lang="en-US" sz="2000" spc="-1" strike="noStrike">
              <a:solidFill>
                <a:srgbClr val="344246"/>
              </a:solidFill>
              <a:latin typeface="Verdana"/>
            </a:endParaRPr>
          </a:p>
        </p:txBody>
      </p:sp>
      <p:graphicFrame>
        <p:nvGraphicFramePr>
          <p:cNvPr id="272" name="Tableau 1"/>
          <p:cNvGraphicFramePr/>
          <p:nvPr/>
        </p:nvGraphicFramePr>
        <p:xfrm>
          <a:off x="1523880" y="2637000"/>
          <a:ext cx="6095520" cy="1483200"/>
        </p:xfrm>
        <a:graphic>
          <a:graphicData uri="http://schemas.openxmlformats.org/drawingml/2006/table">
            <a:tbl>
              <a:tblPr/>
              <a:tblGrid>
                <a:gridCol w="1523880"/>
                <a:gridCol w="1523880"/>
                <a:gridCol w="1523880"/>
                <a:gridCol w="1523880"/>
              </a:tblGrid>
              <a:tr h="370800">
                <a:tc>
                  <a:txBody>
                    <a:bodyPr anchor="ctr">
                      <a:noAutofit/>
                    </a:bodyPr>
                    <a:p>
                      <a:pPr>
                        <a:lnSpc>
                          <a:spcPct val="100000"/>
                        </a:lnSpc>
                      </a:pPr>
                      <a:r>
                        <a:rPr b="1" lang="en-US" sz="1600" spc="-1" strike="noStrike">
                          <a:solidFill>
                            <a:schemeClr val="lt1"/>
                          </a:solidFill>
                          <a:latin typeface="Verdana"/>
                          <a:ea typeface="Verdana"/>
                        </a:rPr>
                        <a:t>Column 1</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nSpc>
                          <a:spcPct val="100000"/>
                        </a:lnSpc>
                      </a:pPr>
                      <a:r>
                        <a:rPr b="1" lang="en-US" sz="1600" spc="-1" strike="noStrike">
                          <a:solidFill>
                            <a:schemeClr val="lt1"/>
                          </a:solidFill>
                          <a:latin typeface="Verdana"/>
                          <a:ea typeface="Verdana"/>
                        </a:rPr>
                        <a:t>Column 2</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nSpc>
                          <a:spcPct val="100000"/>
                        </a:lnSpc>
                      </a:pPr>
                      <a:r>
                        <a:rPr b="1" lang="en-US" sz="1600" spc="-1" strike="noStrike">
                          <a:solidFill>
                            <a:schemeClr val="lt1"/>
                          </a:solidFill>
                          <a:latin typeface="Verdana"/>
                          <a:ea typeface="Verdana"/>
                        </a:rPr>
                        <a:t>Column 3</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nSpc>
                          <a:spcPct val="100000"/>
                        </a:lnSpc>
                      </a:pPr>
                      <a:r>
                        <a:rPr b="1" lang="en-US" sz="1600" spc="-1" strike="noStrike">
                          <a:solidFill>
                            <a:schemeClr val="lt1"/>
                          </a:solidFill>
                          <a:latin typeface="Verdana"/>
                          <a:ea typeface="Verdana"/>
                        </a:rPr>
                        <a:t>Column 4</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r>
              <a:tr h="370800">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8e8"/>
                    </a:solidFill>
                  </a:tcPr>
                </a:tc>
              </a:tr>
              <a:tr h="370800">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c>
                  <a:txBody>
                    <a:bodyPr anchor="ctr">
                      <a:noAutofit/>
                    </a:bodyPr>
                    <a:p>
                      <a:pPr marL="285840" indent="-285840">
                        <a:lnSpc>
                          <a:spcPct val="100000"/>
                        </a:lnSpc>
                        <a:buClr>
                          <a:srgbClr val="343846"/>
                        </a:buClr>
                        <a:buFont typeface="Wingdings" charset="2"/>
                        <a:buChar char=""/>
                      </a:pPr>
                      <a:r>
                        <a:rPr b="0" lang="fr-FR" sz="1200" spc="-1" strike="noStrike">
                          <a:solidFill>
                            <a:srgbClr val="343846"/>
                          </a:solidFill>
                          <a:latin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cecf"/>
                    </a:solidFill>
                  </a:tcPr>
                </a:tc>
              </a:tr>
            </a:tbl>
          </a:graphicData>
        </a:graphic>
      </p:graphicFrame>
      <p:graphicFrame>
        <p:nvGraphicFramePr>
          <p:cNvPr id="273" name="Tableau 24"/>
          <p:cNvGraphicFramePr/>
          <p:nvPr/>
        </p:nvGraphicFramePr>
        <p:xfrm>
          <a:off x="1523880" y="4293000"/>
          <a:ext cx="6095520" cy="1483200"/>
        </p:xfrm>
        <a:graphic>
          <a:graphicData uri="http://schemas.openxmlformats.org/drawingml/2006/table">
            <a:tbl>
              <a:tblPr/>
              <a:tblGrid>
                <a:gridCol w="1523880"/>
                <a:gridCol w="1523880"/>
                <a:gridCol w="1523880"/>
                <a:gridCol w="1523880"/>
              </a:tblGrid>
              <a:tr h="370800">
                <a:tc>
                  <a:txBody>
                    <a:bodyPr anchor="ctr">
                      <a:noAutofit/>
                    </a:bodyPr>
                    <a:p>
                      <a:pPr>
                        <a:lnSpc>
                          <a:spcPct val="100000"/>
                        </a:lnSpc>
                      </a:pPr>
                      <a:r>
                        <a:rPr b="1" lang="en-US" sz="1600" spc="-1" strike="noStrike">
                          <a:solidFill>
                            <a:schemeClr val="lt1"/>
                          </a:solidFill>
                          <a:latin typeface="Verdana"/>
                          <a:ea typeface="Verdana"/>
                        </a:rPr>
                        <a:t>Column 1</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anchor="ctr">
                      <a:noAutofit/>
                    </a:bodyPr>
                    <a:p>
                      <a:pPr>
                        <a:lnSpc>
                          <a:spcPct val="100000"/>
                        </a:lnSpc>
                      </a:pPr>
                      <a:r>
                        <a:rPr b="1" lang="en-US" sz="1600" spc="-1" strike="noStrike">
                          <a:solidFill>
                            <a:schemeClr val="lt1"/>
                          </a:solidFill>
                          <a:latin typeface="Verdana"/>
                          <a:ea typeface="Verdana"/>
                        </a:rPr>
                        <a:t>Column 2</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344246"/>
                    </a:solidFill>
                  </a:tcPr>
                </a:tc>
                <a:tc>
                  <a:txBody>
                    <a:bodyPr anchor="ctr">
                      <a:noAutofit/>
                    </a:bodyPr>
                    <a:p>
                      <a:pPr>
                        <a:lnSpc>
                          <a:spcPct val="100000"/>
                        </a:lnSpc>
                      </a:pPr>
                      <a:r>
                        <a:rPr b="1" lang="en-US" sz="1600" spc="-1" strike="noStrike">
                          <a:solidFill>
                            <a:schemeClr val="lt1"/>
                          </a:solidFill>
                          <a:latin typeface="Verdana"/>
                          <a:ea typeface="Verdana"/>
                        </a:rPr>
                        <a:t>Column 3</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anchor="ctr">
                      <a:noAutofit/>
                    </a:bodyPr>
                    <a:p>
                      <a:pPr>
                        <a:lnSpc>
                          <a:spcPct val="100000"/>
                        </a:lnSpc>
                      </a:pPr>
                      <a:r>
                        <a:rPr b="1" lang="en-US" sz="1600" spc="-1" strike="noStrike">
                          <a:solidFill>
                            <a:schemeClr val="lt1"/>
                          </a:solidFill>
                          <a:latin typeface="Verdana"/>
                          <a:ea typeface="Verdana"/>
                        </a:rPr>
                        <a:t>Column 4</a:t>
                      </a:r>
                      <a:endParaRPr b="0" lang="en-US" sz="16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344246"/>
                    </a:solidFill>
                  </a:tcPr>
                </a:tc>
              </a:tr>
              <a:tr h="370800">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5cdd0"/>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5cdd0"/>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70800">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r>
              <a:tr h="370800">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5cdd0"/>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5cdd0"/>
                    </a:solidFill>
                  </a:tcPr>
                </a:tc>
                <a:tc>
                  <a:txBody>
                    <a:bodyPr anchor="ctr">
                      <a:noAutofit/>
                    </a:bodyPr>
                    <a:p>
                      <a:pPr marL="285840" indent="-285840">
                        <a:lnSpc>
                          <a:spcPct val="100000"/>
                        </a:lnSpc>
                        <a:buClr>
                          <a:srgbClr val="344246"/>
                        </a:buClr>
                        <a:buFont typeface="Wingdings" charset="2"/>
                        <a:buChar char=""/>
                      </a:pPr>
                      <a:r>
                        <a:rPr b="0" lang="fr-FR" sz="1200" spc="-1" strike="noStrike">
                          <a:solidFill>
                            <a:schemeClr val="dk1"/>
                          </a:solidFill>
                          <a:latin typeface="Verdana"/>
                          <a:ea typeface="Verdana"/>
                        </a:rPr>
                        <a:t>Lorem ipsum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bl>
          </a:graphicData>
        </a:graphic>
      </p:graphicFrame>
      <p:sp>
        <p:nvSpPr>
          <p:cNvPr id="4" name="PlaceHolder 3"/>
          <p:cNvSpPr>
            <a:spLocks noGrp="1"/>
          </p:cNvSpPr>
          <p:nvPr>
            <p:ph type="ftr" idx="2"/>
          </p:nvPr>
        </p:nvSpPr>
        <p:spPr/>
        <p:txBody>
          <a:bodyPr/>
          <a:p>
            <a:r>
              <a:t>Your footer here</a:t>
            </a:r>
          </a:p>
        </p:txBody>
      </p:sp>
      <p:sp>
        <p:nvSpPr>
          <p:cNvPr id="5" name="PlaceHolder 4"/>
          <p:cNvSpPr>
            <a:spLocks noGrp="1"/>
          </p:cNvSpPr>
          <p:nvPr>
            <p:ph type="sldNum" idx="3"/>
          </p:nvPr>
        </p:nvSpPr>
        <p:spPr/>
        <p:txBody>
          <a:bodyPr/>
          <a:p>
            <a:fld id="{1D89E52B-3C33-4F09-887B-2784604277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rops [Showeet.com]">
  <a:themeElements>
    <a:clrScheme name="Drop">
      <a:dk1>
        <a:srgbClr val="344246"/>
      </a:dk1>
      <a:lt1>
        <a:srgbClr val="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rops [Showeet.com]">
  <a:themeElements>
    <a:clrScheme name="Drop">
      <a:dk1>
        <a:srgbClr val="344246"/>
      </a:dk1>
      <a:lt1>
        <a:srgbClr val="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rops [Showeet.com]">
  <a:themeElements>
    <a:clrScheme name="Drop">
      <a:dk1>
        <a:srgbClr val="344246"/>
      </a:dk1>
      <a:lt1>
        <a:srgbClr val="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rops [Showeet.com]">
  <a:themeElements>
    <a:clrScheme name="Drop">
      <a:dk1>
        <a:srgbClr val="344246"/>
      </a:dk1>
      <a:lt1>
        <a:srgbClr val="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344246"/>
      </a:dk2>
      <a:lt2>
        <a:srgbClr val="eeece1"/>
      </a:lt2>
      <a:accent1>
        <a:srgbClr val="344246"/>
      </a:accent1>
      <a:accent2>
        <a:srgbClr val="e52c50"/>
      </a:accent2>
      <a:accent3>
        <a:srgbClr val="7bc5d2"/>
      </a:accent3>
      <a:accent4>
        <a:srgbClr val="f0ee97"/>
      </a:accent4>
      <a:accent5>
        <a:srgbClr val="921010"/>
      </a:accent5>
      <a:accent6>
        <a:srgbClr val="e2de32"/>
      </a:accent6>
      <a:hlink>
        <a:srgbClr val="00b0f0"/>
      </a:hlink>
      <a:folHlink>
        <a:srgbClr val="00b0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0</TotalTime>
  <Application>LibreOffice/7.4.7.2$Linux_X86_64 LibreOffice_project/40$Build-2</Application>
  <AppVersion>15.0000</AppVersion>
  <Words>1082</Words>
  <Paragraphs>2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emplates</cp:category>
  <dcterms:created xsi:type="dcterms:W3CDTF">2012-01-16T12:17:13Z</dcterms:created>
  <dc:creator>showeet.com</dc:creator>
  <dc:description/>
  <dc:language>en-US</dc:language>
  <cp:lastModifiedBy>王玉清</cp:lastModifiedBy>
  <dcterms:modified xsi:type="dcterms:W3CDTF">2016-02-29T07:45:38Z</dcterms:modified>
  <cp:revision>4</cp:revision>
  <dc:subject/>
  <dc:title>Template - Dro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全屏显示(4:3)</vt:lpwstr>
  </property>
  <property fmtid="{D5CDD505-2E9C-101B-9397-08002B2CF9AE}" pid="4" name="Slides">
    <vt:r8>15</vt:r8>
  </property>
</Properties>
</file>