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0A98-2675-49F2-8240-C51B4590C8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E306-2C82-413E-930E-376BB3831448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BDD3-C9C6-4E90-A955-DC807A3AB3F8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DD78-B1AE-4ADB-BCB6-414B6D7DDD22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60E3-63B8-434B-BCF1-4E7EFE5DAA01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9567-E3A8-4EE8-822E-CE2848DE7825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18F8-A3CB-49B6-80EC-66979E73172C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2ADE-16E3-4B9F-932F-034EB22D52C6}" type="slidenum">
              <a:rPr b="0" lang="en-GB" sz="1200" spc="-1" strike="noStrike">
                <a:solidFill>
                  <a:srgbClr val="523e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C1D-0BE8-4E1B-9FDA-82F9E4CB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8CB-390A-41D0-B99A-0221AAD6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652-8140-4E19-AB11-180F69B5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9A8-C838-4C4D-8178-9888B8F7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A28-0AA5-49F7-9018-9DCD7A4F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5F67-20E6-43A2-A12C-0581F3A0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86C5-A1F9-47A0-B914-E4317E3E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7D3C-CEAE-481F-86CD-309C8EBF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DDE8-7BB3-4CA4-B807-DBFD0B94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52A0-DF2D-4ED5-9F81-39B68C62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619-C060-4D61-A76F-55DB6826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F662-1E35-4F16-97CD-311A7DAE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FE0F-E4EC-4278-8485-FF1BF521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308A-6F3A-4D5A-9ED4-7D214A9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995E-048A-4626-B6E8-7709F5F3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636D-5178-4FB8-BD9A-FED4E995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98EA-07E7-4D91-89B3-B6C34B9A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B55D-8AC8-4847-BC8F-BABD0ADA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159-8A53-4CCC-A819-131F906D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ABE-C1E2-4D00-BA74-97892D1E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837-5A6A-4A94-A2EA-8F670E2C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191-50F5-4CB1-82F8-097B9508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DA3-35D0-4E92-A13D-3FDACEE8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245-0B20-463B-A831-D10BAD13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IMG_300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61C9-023D-4E95-AC9A-CEDAD812CA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IMG_3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1"/>
          <p:cNvSpPr/>
          <p:nvPr/>
        </p:nvSpPr>
        <p:spPr>
          <a:xfrm>
            <a:off x="0" y="4568760"/>
            <a:ext cx="9144000" cy="1892520"/>
          </a:xfrm>
          <a:prstGeom prst="rect">
            <a:avLst/>
          </a:prstGeom>
          <a:solidFill>
            <a:srgbClr val="8c7b7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4D5-E445-4E0B-B4CB-B084F16BEABF}" type="slidenum">
              <a:rPr b="0" lang="en-GB" sz="1400" spc="-1" strike="noStrike">
                <a:solidFill>
                  <a:srgbClr val="523e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9160" y="486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glets templat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42600" y="45068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d2015"/>
                </a:solidFill>
                <a:latin typeface="Arial"/>
              </a:rPr>
              <a:t>呆萌的小猪通用</a:t>
            </a:r>
            <a:r>
              <a:rPr b="0" lang="en-US" sz="4000" spc="-1" strike="noStrike">
                <a:solidFill>
                  <a:srgbClr val="2d2015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2d2015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23e2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23e2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23e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3e26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a27a"/>
                </a:solidFill>
                <a:latin typeface="Arial"/>
              </a:rPr>
              <a:t>Example bullet point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Colour schem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686040" y="2739960"/>
            <a:ext cx="827280" cy="611280"/>
          </a:xfrm>
          <a:prstGeom prst="rect">
            <a:avLst/>
          </a:prstGeom>
          <a:solidFill>
            <a:srgbClr val="523e26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762440" y="2739960"/>
            <a:ext cx="827280" cy="611280"/>
          </a:xfrm>
          <a:prstGeom prst="rect">
            <a:avLst/>
          </a:prstGeom>
          <a:solidFill>
            <a:srgbClr val="2d2015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633760" y="4354560"/>
            <a:ext cx="826920" cy="611280"/>
          </a:xfrm>
          <a:prstGeom prst="rect">
            <a:avLst/>
          </a:prstGeom>
          <a:solidFill>
            <a:srgbClr val="8c7b70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701880" y="4354560"/>
            <a:ext cx="827280" cy="611280"/>
          </a:xfrm>
          <a:prstGeom prst="rect">
            <a:avLst/>
          </a:prstGeom>
          <a:solidFill>
            <a:srgbClr val="8f5f2f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770360" y="4354560"/>
            <a:ext cx="827280" cy="611280"/>
          </a:xfrm>
          <a:prstGeom prst="rect">
            <a:avLst/>
          </a:prstGeom>
          <a:solidFill>
            <a:srgbClr val="ccb400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840280" y="4354560"/>
            <a:ext cx="827280" cy="611280"/>
          </a:xfrm>
          <a:prstGeom prst="rect">
            <a:avLst/>
          </a:prstGeom>
          <a:solidFill>
            <a:srgbClr val="8c9ea0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823000" y="2739960"/>
            <a:ext cx="826920" cy="611280"/>
          </a:xfrm>
          <a:prstGeom prst="rect">
            <a:avLst/>
          </a:prstGeom>
          <a:solidFill>
            <a:srgbClr val="caa27a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2617920" y="273996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00480" y="210024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3718080" y="197820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668120" y="21002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948640" y="197820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812680" y="37148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708000" y="371484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694400" y="35924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75480" y="35910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23e26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952640" y="1847880"/>
            <a:ext cx="5441760" cy="3560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Sample Graph (3 colours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1673280" y="1749600"/>
          <a:ext cx="6726240" cy="37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3280" y="1749600"/>
                    <a:ext cx="6726240" cy="37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4320" y="1600200"/>
            <a:ext cx="498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23e2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23e26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158" name="Picture 7" descr="IMG_3005-2"/>
          <p:cNvPicPr/>
          <p:nvPr/>
        </p:nvPicPr>
        <p:blipFill>
          <a:blip r:embed="rId1"/>
          <a:stretch/>
        </p:blipFill>
        <p:spPr>
          <a:xfrm>
            <a:off x="6400800" y="1596960"/>
            <a:ext cx="1981080" cy="2340000"/>
          </a:xfrm>
          <a:prstGeom prst="rect">
            <a:avLst/>
          </a:prstGeom>
          <a:ln w="57240">
            <a:solidFill>
              <a:srgbClr val="523e26"/>
            </a:solidFill>
            <a:miter/>
          </a:ln>
        </p:spPr>
      </p:pic>
      <p:sp>
        <p:nvSpPr>
          <p:cNvPr id="159" name="Text Box 4"/>
          <p:cNvSpPr/>
          <p:nvPr/>
        </p:nvSpPr>
        <p:spPr>
          <a:xfrm>
            <a:off x="239760" y="63086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3e26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523e26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ccb4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Process Flow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748ed6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796080" y="3079800"/>
            <a:ext cx="1376280" cy="2354040"/>
          </a:xfrm>
          <a:prstGeom prst="rect">
            <a:avLst/>
          </a:prstGeom>
          <a:solidFill>
            <a:srgbClr val="ffc993"/>
          </a:solidFill>
          <a:ln w="1260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23e26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  <a:p>
            <a:pPr marL="181080" indent="-181080"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8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9" name="Freeform 11"/>
          <p:cNvSpPr/>
          <p:nvPr/>
        </p:nvSpPr>
        <p:spPr>
          <a:xfrm>
            <a:off x="5284800" y="1606680"/>
            <a:ext cx="1857240" cy="12697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0" name="Freeform 1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523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Build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960880" y="205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Test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7368480" y="20588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Evaluat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Example of a tabl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25360" y="1538280"/>
          <a:ext cx="7402680" cy="3267000"/>
        </p:xfrm>
        <a:graphic>
          <a:graphicData uri="http://schemas.openxmlformats.org/drawingml/2006/table">
            <a:tbl>
              <a:tblPr/>
              <a:tblGrid>
                <a:gridCol w="3702240"/>
                <a:gridCol w="3700440"/>
              </a:tblGrid>
              <a:tr h="509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solidFill>
                      <a:srgbClr val="8c7b7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solidFill>
                      <a:srgbClr val="8c7b7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aa27a"/>
                      </a:solidFill>
                    </a:lnL>
                    <a:lnR w="5760">
                      <a:solidFill>
                        <a:srgbClr val="caa27a"/>
                      </a:solidFill>
                    </a:lnR>
                    <a:lnT w="5760">
                      <a:solidFill>
                        <a:srgbClr val="caa27a"/>
                      </a:solidFill>
                    </a:lnT>
                    <a:lnB w="5760">
                      <a:solidFill>
                        <a:srgbClr val="caa27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9"/>
          <p:cNvSpPr/>
          <p:nvPr/>
        </p:nvSpPr>
        <p:spPr>
          <a:xfrm>
            <a:off x="1695600" y="4897440"/>
            <a:ext cx="6519600" cy="776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760400" y="4897440"/>
            <a:ext cx="61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PowerPoint does not allow you to have nice </a:t>
            </a:r>
            <a:br>
              <a:rPr sz="1800"/>
            </a:br>
            <a:r>
              <a:rPr b="0" lang="en-GB" sz="1800" spc="-1" strike="noStrike">
                <a:solidFill>
                  <a:srgbClr val="523e26"/>
                </a:solidFill>
                <a:latin typeface="Arial"/>
                <a:ea typeface="Arial"/>
              </a:rPr>
              <a:t>default tables - but you can cut and paste this one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aa27a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8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23e26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b40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9e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8c9ea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446800" y="1781280"/>
          <a:ext cx="3171600" cy="1735200"/>
        </p:xfrm>
        <a:graphic>
          <a:graphicData uri="http://schemas.openxmlformats.org/drawingml/2006/table">
            <a:tbl>
              <a:tblPr/>
              <a:tblGrid>
                <a:gridCol w="1585800"/>
                <a:gridCol w="158580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523e26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23e26"/>
                      </a:solidFill>
                    </a:lnL>
                    <a:lnR w="5760">
                      <a:solidFill>
                        <a:srgbClr val="523e26"/>
                      </a:solidFill>
                    </a:lnR>
                    <a:lnT w="13680">
                      <a:solidFill>
                        <a:srgbClr val="523e26"/>
                      </a:solidFill>
                    </a:lnT>
                    <a:lnB w="5760">
                      <a:solidFill>
                        <a:srgbClr val="523e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23e26"/>
                      </a:solidFill>
                    </a:lnL>
                    <a:lnR w="13680">
                      <a:solidFill>
                        <a:srgbClr val="523e26"/>
                      </a:solidFill>
                    </a:lnR>
                    <a:lnT w="13680">
                      <a:solidFill>
                        <a:srgbClr val="523e26"/>
                      </a:solidFill>
                    </a:lnT>
                    <a:lnB w="5760">
                      <a:solidFill>
                        <a:srgbClr val="523e26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23e26"/>
                      </a:solidFill>
                    </a:lnL>
                    <a:lnR w="5760">
                      <a:solidFill>
                        <a:srgbClr val="523e26"/>
                      </a:solidFill>
                    </a:lnR>
                    <a:lnT w="5760">
                      <a:solidFill>
                        <a:srgbClr val="523e26"/>
                      </a:solidFill>
                    </a:lnT>
                    <a:lnB w="13680">
                      <a:solidFill>
                        <a:srgbClr val="523e2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23e2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23e26"/>
                      </a:solidFill>
                    </a:lnL>
                    <a:lnR w="13680">
                      <a:solidFill>
                        <a:srgbClr val="523e26"/>
                      </a:solidFill>
                    </a:lnR>
                    <a:lnT w="5760">
                      <a:solidFill>
                        <a:srgbClr val="523e26"/>
                      </a:solidFill>
                    </a:lnT>
                    <a:lnB w="13680">
                      <a:solidFill>
                        <a:srgbClr val="523e2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15"/>
          <p:cNvSpPr/>
          <p:nvPr/>
        </p:nvSpPr>
        <p:spPr>
          <a:xfrm>
            <a:off x="2101680" y="3948120"/>
            <a:ext cx="2232360" cy="1368360"/>
          </a:xfrm>
          <a:prstGeom prst="rect">
            <a:avLst/>
          </a:prstGeom>
          <a:solidFill>
            <a:srgbClr val="8c7b70"/>
          </a:solidFill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4981680" y="3948120"/>
            <a:ext cx="2232000" cy="1368360"/>
          </a:xfrm>
          <a:prstGeom prst="rect">
            <a:avLst/>
          </a:prstGeom>
          <a:solidFill>
            <a:srgbClr val="8c7b70"/>
          </a:solidFill>
          <a:ln w="9360">
            <a:solidFill>
              <a:srgbClr val="523e26"/>
            </a:solidFill>
            <a:miter/>
          </a:ln>
          <a:effectLst>
            <a:outerShdw dist="107932" dir="2700000" blurRad="0" rotWithShape="0">
              <a:srgbClr val="2d201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21:45:52Z</dcterms:created>
  <dc:creator>Presentation Magazine</dc:creator>
  <dc:description/>
  <dc:language>en-US</dc:language>
  <cp:lastModifiedBy>王玉清</cp:lastModifiedBy>
  <dcterms:modified xsi:type="dcterms:W3CDTF">2016-03-02T07:24:01Z</dcterms:modified>
  <cp:revision>85</cp:revision>
  <dc:subject/>
  <dc:title>Piglets template</dc:title>
</cp:coreProperties>
</file>