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B369-B245-45E7-8E2A-FA14C85483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A0C1-0C84-4DF1-930C-9AA3D738E26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8871-812E-416F-B047-1529CCBAC75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0CDC-D913-4A99-84A6-2173C152AE8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2EA5-8E61-4374-819A-2367C3D86C1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CBA6-1B6A-462A-AF5C-2D9F55FF56A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504-C6FE-490A-9E3F-33CD0030796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D384-1B1A-4EE6-805E-AC31A922F4E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48B-28B0-4578-B506-831E5E47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4D1-7232-40A0-BB2D-6611E3E2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9E6-DC8B-44E5-A487-9A12569B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C04-FB3C-43C8-B89D-EDDF73A7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7A66-9742-4324-BF26-85129B92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1909-810F-475E-8470-32B754F5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463E-69E4-4ECD-B898-90886DDF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611D-5FF8-4AE5-AEE6-9D897D33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58A7-786C-4874-B60F-B966623D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F2CD-7767-4D32-8419-AA159F27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C4D8-4066-443E-ADFB-60E2DCB2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92F-B7F1-4D6C-B020-D9D32949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B297-A1E7-4ABE-8140-EF9EFC6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663D-2EB5-43D2-918D-C92AABD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0AC7-7F9B-4B9E-B900-95D1E059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FCB4-5930-404B-A7ED-A812C6A5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279E-9A87-466D-8522-47AB6E99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5FD-C288-4C1C-9710-E57DE3EE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8BA-5029-42D5-821D-E9F61500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6AE-79DF-4F8D-AC91-6779098C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D8E-C5C1-4861-9DDD-CA7D0009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133-EBAF-4DC9-B831-86FB213D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3E6-5484-4CD4-A439-3E6A2D9B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65A-2FA9-4ED9-ABEB-58339CF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FD1-F9D7-4D39-A90C-C8F1C84F12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Users\dell\Documents\Pictures\photos for template\NorthEast 060.JPG"/>
          <p:cNvPicPr/>
          <p:nvPr/>
        </p:nvPicPr>
        <p:blipFill>
          <a:blip r:embed="rId2"/>
          <a:stretch/>
        </p:blipFill>
        <p:spPr>
          <a:xfrm>
            <a:off x="5505480" y="4200480"/>
            <a:ext cx="3638520" cy="26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dell\Documents\Pictures\photos for template\NorthEast 060.JPG"/>
          <p:cNvPicPr/>
          <p:nvPr/>
        </p:nvPicPr>
        <p:blipFill>
          <a:blip r:embed="rId2"/>
          <a:stretch/>
        </p:blipFill>
        <p:spPr>
          <a:xfrm>
            <a:off x="5505480" y="4200480"/>
            <a:ext cx="3638520" cy="26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dell\Documents\Pictures\photos for template\NorthEast 060.JPG"/>
          <p:cNvPicPr/>
          <p:nvPr/>
        </p:nvPicPr>
        <p:blipFill>
          <a:blip r:embed="rId3"/>
          <a:srcRect l="0" t="0" r="9620" b="0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AFC3-D95A-4147-9BA4-7E85EC5F78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568760"/>
            <a:ext cx="8058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物猫咪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6574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Example Bullet Poin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Colour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049480" y="2496960"/>
            <a:ext cx="8287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125880" y="2496960"/>
            <a:ext cx="828720" cy="6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98640" y="4111560"/>
            <a:ext cx="82548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065320" y="4111560"/>
            <a:ext cx="828720" cy="6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135240" y="4111560"/>
            <a:ext cx="825480" cy="611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205160" y="4111560"/>
            <a:ext cx="825480" cy="61128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186080" y="2496960"/>
            <a:ext cx="8287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982800" y="2496960"/>
            <a:ext cx="8254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64640" y="185724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082960" y="173520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031920" y="18572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312800" y="173520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41200" y="34718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088000" y="3471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3021120" y="33498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4104000" y="33480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Sample Graph (3 colou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297000" y="1589040"/>
          <a:ext cx="6732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589040"/>
                    <a:ext cx="6732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33800" y="1805040"/>
            <a:ext cx="402768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IMG_9271"/>
          <p:cNvPicPr/>
          <p:nvPr/>
        </p:nvPicPr>
        <p:blipFill>
          <a:blip r:embed="rId1"/>
          <a:stretch/>
        </p:blipFill>
        <p:spPr>
          <a:xfrm>
            <a:off x="722160" y="1805040"/>
            <a:ext cx="3097440" cy="385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195120" y="65232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Process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31880" y="3087720"/>
            <a:ext cx="1376280" cy="1598760"/>
          </a:xfrm>
          <a:prstGeom prst="rect">
            <a:avLst/>
          </a:prstGeom>
          <a:solidFill>
            <a:srgbClr val="748e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66920" y="3087720"/>
            <a:ext cx="1376280" cy="1598760"/>
          </a:xfrm>
          <a:prstGeom prst="rect">
            <a:avLst/>
          </a:prstGeom>
          <a:solidFill>
            <a:srgbClr val="0091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776760" y="3087720"/>
            <a:ext cx="1376280" cy="15987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284800" y="3087720"/>
            <a:ext cx="1376280" cy="1598760"/>
          </a:xfrm>
          <a:prstGeom prst="rect">
            <a:avLst/>
          </a:prstGeom>
          <a:solidFill>
            <a:srgbClr val="ffab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796080" y="3087720"/>
            <a:ext cx="1376280" cy="1598760"/>
          </a:xfrm>
          <a:prstGeom prst="rect">
            <a:avLst/>
          </a:prstGeom>
          <a:solidFill>
            <a:srgbClr val="ffc9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Example of 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44480" y="1592280"/>
          <a:ext cx="7402680" cy="3441600"/>
        </p:xfrm>
        <a:graphic>
          <a:graphicData uri="http://schemas.openxmlformats.org/drawingml/2006/table">
            <a:tbl>
              <a:tblPr/>
              <a:tblGrid>
                <a:gridCol w="3702240"/>
                <a:gridCol w="3700440"/>
              </a:tblGrid>
              <a:tr h="54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29"/>
          <p:cNvSpPr/>
          <p:nvPr/>
        </p:nvSpPr>
        <p:spPr>
          <a:xfrm>
            <a:off x="723960" y="5397480"/>
            <a:ext cx="56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Examples of default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33040"/>
            <a:ext cx="4689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f6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f67ff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46800" y="1914480"/>
          <a:ext cx="3171600" cy="1735200"/>
        </p:xfrm>
        <a:graphic>
          <a:graphicData uri="http://schemas.openxmlformats.org/drawingml/2006/table">
            <a:tbl>
              <a:tblPr/>
              <a:tblGrid>
                <a:gridCol w="1585800"/>
                <a:gridCol w="158580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5"/>
          <p:cNvSpPr/>
          <p:nvPr/>
        </p:nvSpPr>
        <p:spPr>
          <a:xfrm>
            <a:off x="763560" y="3897360"/>
            <a:ext cx="2232000" cy="136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643200" y="3897360"/>
            <a:ext cx="2232000" cy="136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王玉清</cp:lastModifiedBy>
  <dcterms:modified xsi:type="dcterms:W3CDTF">2016-03-02T10:29:55Z</dcterms:modified>
  <cp:revision>12</cp:revision>
  <dc:subject/>
  <dc:title>Standard PowerPoint Template</dc:title>
</cp:coreProperties>
</file>