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71A-9AD1-4B58-8684-CD6A521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5D1-A973-409B-AC8D-6C5D8792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35A639-E848-4644-8355-D56F0A3C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68D65-BA11-4F59-B786-FD315EA2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B22A2A-278E-4941-BA53-57EA0FBA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EE6DDE-96E4-4A1B-8A27-EA33B93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39F7E0-CC0E-4530-A045-2C1B3B9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09457E-06AE-4313-982D-6F92C1F9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3A614B-7B5D-4B3F-955B-E156DFE1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55CF4-3888-4734-BF73-D5939187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BDE815-A36E-4A8B-A26F-4FD439E8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49480D-797D-4E9C-A402-351149B2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9EE-6259-4CF1-9F85-F77DE80A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6ED937-FA65-4607-99A0-684AA2C3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2C3906-8153-4635-81FD-EDD7F20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89D4A-72C0-40E4-97AB-2ADC6DE9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B0E82F-FA8A-43FA-93F8-FD5C6DB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EF321D-0B30-4B1B-B0A6-1644A93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EE0423-42D0-486E-AB41-5C9A370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357F5B-5FC6-479A-9FB4-B56FBAEC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523A00-4151-47F0-BAA6-EC463A5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2BB3E-9211-4CC8-A235-10BC7F3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05CA43-D6F9-483D-A026-B0F75F5A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F66-38E5-4E68-ADC4-223DCCE1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27C6AA-F0D4-4CC6-BFDF-4461EA04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5C2464-D86A-40EA-907E-18B3BF73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C3EEA7-7B0C-4E11-B924-EE72BC7F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36C3AA-D185-4D0B-A413-05156AD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432322-A1AC-4A66-A749-9786418E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EAD0C5-F431-41CA-A95B-8E17F0A7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9F9CAA-8094-40E4-8F11-86A5587C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7F7AF4-92E1-4799-B738-C6B9419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00C45D-B66C-4D17-91BF-8D86B3D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508841-8448-4983-84CA-0441177C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85459-122B-4E1C-89C5-E42B8AAA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8297F-AC67-4FB1-B568-ABF726F0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417C4B-1200-4378-A5EB-6E2198E1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0E0AC1-D73D-46E2-B603-53609640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A851BE-8C31-4051-91C0-A08DBC4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F57956-F845-415D-ABED-4533DF91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BBF001-27EC-4527-B6FA-07B9E3D4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47BA8A-3A34-4271-B42A-7614AB57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58F3C1-C4BD-4591-A421-14D5556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A1FAF7-9E43-46B6-9A09-38D5BFB6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ACC68F-ABA9-4821-9E14-DE89D49C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F47C2-C76E-409C-90C2-6360BF2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B563FD-B2B4-49EA-994B-87EBC29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E4AA6D-621A-49D8-8E68-B62A496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A58131-A125-4832-9131-0DD7A8DD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E10DC3-F239-460A-AFB5-FE5E6097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181F34-42F5-4BE1-BC9B-D0E83985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7FE3F-00C9-4A25-9A13-39F6E57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03037-06F1-48C2-9EDF-FD55D01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E0E24-C6E1-4A74-9936-3DCAFC7F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96249-1165-41BD-AE37-8AB94019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ABC0D-2E31-4D8F-A14D-967AB8E0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349-9DE5-4E45-9EB0-667536A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C70A2-2E10-4A07-BE27-84BABC51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D46B-6D81-4087-97E2-CA9BE4C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A24F8-7EA8-47A4-8656-30823129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0D624-A7F0-48B7-A90E-FB889CA3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E70C9-73FA-4A1E-B9FE-2B219227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86119-9B6E-48D0-85A1-886609B05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2DE9E-A325-4796-8815-3B6A34EC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E4D03-F023-4F1C-9B9E-C0BDD01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6326A-A9AF-484A-B1EF-AFC16177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063BB-3096-4322-A15E-C27D4C30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4AC-19C0-4F63-8F03-BABD12B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EA54B-E7C3-4BD4-BC57-00B3863D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1C0B5-5AEC-4B94-826E-8D28A157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45462-ACFE-4CC7-AFBE-AF2C09A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44D6B-EC14-4EB9-B30E-B6E30E3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F149B-1EF4-4DD0-BE18-693CB93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59B5A-701F-4E35-BE84-F1A2C69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F3520-CFB7-4759-BA83-368D9E20AA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7AB22-D64C-4B5A-83C1-B7F9001A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2AFB0-BF1B-4059-B9C4-4D80E6C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99410-45EC-4374-B108-7E284513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04E-1AD4-47A7-9047-CD88A76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4467C-5C34-4AA7-9FB3-61CCB14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40D70-60F2-4266-9E47-3A79E662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B1513-33FC-460F-9BF4-368CC092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05127-C3E3-48A3-985B-B2F8CA49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9264A-3CDC-42BC-B53E-B6D2EEA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DB568-3D20-454C-BB17-2B128BC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F2F62-6938-4207-B6FF-B75E0215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7FC68-92A5-479D-BE19-2075B416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2C74B-BD85-4906-AF2B-74BE371E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12443-0328-46FC-BFDF-61C0EA33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7D6-8527-4BEE-A306-4FBCC99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7657D-265C-4876-9E62-7344DEFF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5806F-69EA-408F-8364-3129B4E8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8A2EA-4CA1-4996-AFA3-44D6509F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5AE6B-C6B0-4915-B35E-108FE79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35AB1-A668-43A4-929E-37A3418C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24F42-C81C-4D33-B0E1-5952BA6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4AF95-B79B-4920-BDDE-279C9F3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724B7-61F6-4575-A9D1-7502D08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DF36C-47D6-48EE-927E-9AF82E62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6D1C5-5E95-4028-806F-840403BD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E43-B96A-4457-801B-A4CDFA60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6389E-287A-4C8E-9DE8-39BA8E21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F1C59-AFB2-4C64-8470-7CB94977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90895-A72E-46F5-A117-8C9A848A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E874A-0D5E-4C87-8B11-AA69ACE7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61392-B96C-4E40-9F8E-621FB0EA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F97C0-DAD7-4F6E-8097-29DF6A3C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47D97-4332-4C96-80B7-4EE2553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72799-56A5-4711-AE0A-6A9BB20D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BD183-90C8-42A1-A911-C6FA3B40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CD972-7789-4A39-A408-74CBF9D2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FDF-9B82-42E6-84B6-F1D8F7C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B125A-4C15-4BA7-813A-B2E3AA2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965BE-F4FC-4B03-9A72-82E152F4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00B85-E71D-4978-A83F-77A5A8A6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DF8F8-0E3B-497C-9E56-A960260D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BA5C6-FEDC-4B4B-8088-7C1A8D5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AE7F5-14A6-4BA3-A0CC-27C70D6E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BB9FD-907E-4E47-998F-5471BD0B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04D6A-4F55-48F6-80D5-493D70F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ABB23-810C-42B8-945C-9951AD5A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B90B8-2250-4EFB-AAA1-7748312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931-0644-4F60-8C5B-6A936653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3FC67-9EE6-4354-8609-6478BCA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F466A-E722-442C-9376-A7B4374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A89AD-A650-4C7A-A655-5AAAF70C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2E03F-8DD4-4166-83D2-635A32AB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A4D99-AD55-4A9F-A6D7-11350270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BEC3A3-1C95-435D-AC08-05B2D67F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6FB18-7C0D-42CD-B8A8-0528C25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84E9D8-E303-4621-8B2F-D13D62CB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ECF441-ED3D-49D9-B0B0-9E7894A7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42CD3-E670-4192-94C4-8C12014F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EE2-D3C2-4B60-9E73-5AE4A075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4495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29EF8-5E9A-4B65-A36C-98CA89C2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46F5A-4FFD-4461-BDB2-A24EC438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17DE8-F6C7-4178-85FF-62D3B8D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5A5C84-9CF9-4C4C-BD3B-F9DB245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9414D-85AF-4DE3-8DE2-15AFF1B5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32D52-70AC-4257-A463-6CD243C3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C032D-8667-4149-B0EE-5D9035A0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59F9C9-DBB0-4A03-B0B3-03568A46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6B6FC-5464-433C-AF85-432C0670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372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9190A-4D69-43A7-9818-CE2918B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2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5792-0E15-42E5-9A8B-7C094BFCA50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15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416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7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8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9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4D0-4FD1-4190-BFC3-D7B26A3F3BF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60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461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0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1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2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9D1-73DA-44D3-A24B-182D605177C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5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506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3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4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5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3E4C-22B5-41AE-B129-7DCD325B4DB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58"/>
          <p:cNvSpPr/>
          <p:nvPr/>
        </p:nvSpPr>
        <p:spPr>
          <a:xfrm>
            <a:off x="-1440" y="0"/>
            <a:ext cx="9145440" cy="6316560"/>
          </a:xfrm>
          <a:custGeom>
            <a:avLst/>
            <a:gdLst/>
            <a:ahLst/>
            <a:rect l="l" t="t" r="r" b="b"/>
            <a:pathLst>
              <a:path w="5761" h="3979">
                <a:moveTo>
                  <a:pt x="1193" y="2909"/>
                </a:moveTo>
                <a:cubicBezTo>
                  <a:pt x="1793" y="2765"/>
                  <a:pt x="1688" y="2790"/>
                  <a:pt x="2737" y="2700"/>
                </a:cubicBezTo>
                <a:cubicBezTo>
                  <a:pt x="3842" y="2658"/>
                  <a:pt x="3903" y="2652"/>
                  <a:pt x="4345" y="2640"/>
                </a:cubicBezTo>
                <a:cubicBezTo>
                  <a:pt x="4789" y="2627"/>
                  <a:pt x="5165" y="2638"/>
                  <a:pt x="5401" y="2622"/>
                </a:cubicBezTo>
                <a:cubicBezTo>
                  <a:pt x="5587" y="2598"/>
                  <a:pt x="5681" y="2573"/>
                  <a:pt x="5761" y="2544"/>
                </a:cubicBezTo>
                <a:cubicBezTo>
                  <a:pt x="5761" y="1295"/>
                  <a:pt x="5761" y="0"/>
                  <a:pt x="5761" y="0"/>
                </a:cubicBezTo>
                <a:lnTo>
                  <a:pt x="0" y="0"/>
                </a:lnTo>
                <a:cubicBezTo>
                  <a:pt x="0" y="0"/>
                  <a:pt x="2" y="1989"/>
                  <a:pt x="5" y="3979"/>
                </a:cubicBezTo>
                <a:cubicBezTo>
                  <a:pt x="61" y="3716"/>
                  <a:pt x="145" y="3216"/>
                  <a:pt x="1193" y="2909"/>
                </a:cubicBezTo>
                <a:close/>
              </a:path>
            </a:pathLst>
          </a:custGeom>
          <a:solidFill>
            <a:srgbClr val="de925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6" name="Freeform 59"/>
          <p:cNvSpPr/>
          <p:nvPr/>
        </p:nvSpPr>
        <p:spPr>
          <a:xfrm>
            <a:off x="0" y="457200"/>
            <a:ext cx="9147240" cy="5580000"/>
          </a:xfrm>
          <a:custGeom>
            <a:avLst/>
            <a:gdLst/>
            <a:ahLst/>
            <a:rect l="l" t="t" r="r" b="b"/>
            <a:pathLst>
              <a:path w="5762" h="3515">
                <a:moveTo>
                  <a:pt x="0" y="3480"/>
                </a:moveTo>
                <a:lnTo>
                  <a:pt x="0" y="83"/>
                </a:lnTo>
                <a:cubicBezTo>
                  <a:pt x="561" y="0"/>
                  <a:pt x="1234" y="154"/>
                  <a:pt x="1482" y="270"/>
                </a:cubicBezTo>
                <a:cubicBezTo>
                  <a:pt x="1951" y="436"/>
                  <a:pt x="2457" y="756"/>
                  <a:pt x="2844" y="1062"/>
                </a:cubicBezTo>
                <a:cubicBezTo>
                  <a:pt x="3231" y="1368"/>
                  <a:pt x="3850" y="1716"/>
                  <a:pt x="4241" y="1897"/>
                </a:cubicBezTo>
                <a:cubicBezTo>
                  <a:pt x="4620" y="2075"/>
                  <a:pt x="4864" y="2095"/>
                  <a:pt x="5117" y="2133"/>
                </a:cubicBezTo>
                <a:cubicBezTo>
                  <a:pt x="5366" y="2171"/>
                  <a:pt x="5757" y="2110"/>
                  <a:pt x="5758" y="2128"/>
                </a:cubicBezTo>
                <a:cubicBezTo>
                  <a:pt x="5762" y="2180"/>
                  <a:pt x="5760" y="2273"/>
                  <a:pt x="5760" y="2273"/>
                </a:cubicBezTo>
                <a:cubicBezTo>
                  <a:pt x="5747" y="2273"/>
                  <a:pt x="5579" y="2344"/>
                  <a:pt x="5003" y="2358"/>
                </a:cubicBezTo>
                <a:cubicBezTo>
                  <a:pt x="4427" y="2372"/>
                  <a:pt x="3207" y="2407"/>
                  <a:pt x="2949" y="2400"/>
                </a:cubicBezTo>
                <a:cubicBezTo>
                  <a:pt x="2283" y="2433"/>
                  <a:pt x="1854" y="2492"/>
                  <a:pt x="1425" y="2591"/>
                </a:cubicBezTo>
                <a:cubicBezTo>
                  <a:pt x="996" y="2690"/>
                  <a:pt x="611" y="2875"/>
                  <a:pt x="378" y="3027"/>
                </a:cubicBezTo>
                <a:cubicBezTo>
                  <a:pt x="145" y="3179"/>
                  <a:pt x="85" y="3409"/>
                  <a:pt x="0" y="3515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47" name="Picture 47" descr="화살_2"/>
          <p:cNvPicPr/>
          <p:nvPr/>
        </p:nvPicPr>
        <p:blipFill>
          <a:blip r:embed="rId3"/>
          <a:stretch/>
        </p:blipFill>
        <p:spPr>
          <a:xfrm>
            <a:off x="5168880" y="152280"/>
            <a:ext cx="3898800" cy="3697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63360" y="763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49" name="AutoShape 48"/>
          <p:cNvSpPr/>
          <p:nvPr/>
        </p:nvSpPr>
        <p:spPr>
          <a:xfrm>
            <a:off x="8240760" y="966960"/>
            <a:ext cx="647640" cy="6490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0" name="AutoShape 49"/>
          <p:cNvSpPr/>
          <p:nvPr/>
        </p:nvSpPr>
        <p:spPr>
          <a:xfrm>
            <a:off x="6792840" y="95724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1" name="AutoShape 50"/>
          <p:cNvSpPr/>
          <p:nvPr/>
        </p:nvSpPr>
        <p:spPr>
          <a:xfrm>
            <a:off x="6078600" y="95724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2" name="AutoShape 51"/>
          <p:cNvSpPr/>
          <p:nvPr/>
        </p:nvSpPr>
        <p:spPr>
          <a:xfrm>
            <a:off x="6802560" y="169056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3" name="AutoShape 52"/>
          <p:cNvSpPr/>
          <p:nvPr/>
        </p:nvSpPr>
        <p:spPr>
          <a:xfrm>
            <a:off x="5345280" y="1690560"/>
            <a:ext cx="647640" cy="64944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60">
                <a:moveTo>
                  <a:pt x="3600" y="0"/>
                </a:moveTo>
                <a:arcTo wR="3600" hR="3600" stAng="16200000" swAng="-5400000"/>
                <a:lnTo>
                  <a:pt x="0" y="18060"/>
                </a:lnTo>
                <a:arcTo wR="3600" hR="3600" stAng="10800000" swAng="-5400000"/>
                <a:lnTo>
                  <a:pt x="18000" y="21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7696080" y="3008160"/>
            <a:ext cx="648000" cy="64944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49440"/>
              <a:gd name="textAreaBottom" fmla="*/ 618120 h 64944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" name="AutoShape 57"/>
          <p:cNvSpPr/>
          <p:nvPr/>
        </p:nvSpPr>
        <p:spPr>
          <a:xfrm>
            <a:off x="7696080" y="2284560"/>
            <a:ext cx="648000" cy="64908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49080"/>
              <a:gd name="textAreaBottom" fmla="*/ 617760 h 6490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cd280d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" name="Freeform 60"/>
          <p:cNvSpPr/>
          <p:nvPr/>
        </p:nvSpPr>
        <p:spPr>
          <a:xfrm>
            <a:off x="380880" y="4238640"/>
            <a:ext cx="7782120" cy="2619360"/>
          </a:xfrm>
          <a:custGeom>
            <a:avLst/>
            <a:gdLst/>
            <a:ahLst/>
            <a:rect l="l" t="t" r="r" b="b"/>
            <a:pathLst>
              <a:path w="4902" h="1650">
                <a:moveTo>
                  <a:pt x="432" y="1650"/>
                </a:moveTo>
                <a:cubicBezTo>
                  <a:pt x="432" y="1650"/>
                  <a:pt x="624" y="1650"/>
                  <a:pt x="816" y="1650"/>
                </a:cubicBezTo>
                <a:cubicBezTo>
                  <a:pt x="816" y="1650"/>
                  <a:pt x="384" y="1170"/>
                  <a:pt x="1056" y="642"/>
                </a:cubicBezTo>
                <a:cubicBezTo>
                  <a:pt x="1356" y="408"/>
                  <a:pt x="1711" y="269"/>
                  <a:pt x="2352" y="162"/>
                </a:cubicBezTo>
                <a:cubicBezTo>
                  <a:pt x="2993" y="55"/>
                  <a:pt x="4894" y="16"/>
                  <a:pt x="4902" y="0"/>
                </a:cubicBezTo>
                <a:lnTo>
                  <a:pt x="2400" y="66"/>
                </a:lnTo>
                <a:cubicBezTo>
                  <a:pt x="1727" y="141"/>
                  <a:pt x="1264" y="186"/>
                  <a:pt x="864" y="450"/>
                </a:cubicBezTo>
                <a:cubicBezTo>
                  <a:pt x="464" y="714"/>
                  <a:pt x="8" y="1450"/>
                  <a:pt x="0" y="1650"/>
                </a:cubicBezTo>
                <a:lnTo>
                  <a:pt x="816" y="1650"/>
                </a:lnTo>
                <a:lnTo>
                  <a:pt x="144" y="1650"/>
                </a:lnTo>
                <a:lnTo>
                  <a:pt x="576" y="1650"/>
                </a:lnTo>
                <a:lnTo>
                  <a:pt x="432" y="165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0" y="4038480"/>
            <a:ext cx="9161640" cy="2819520"/>
          </a:xfrm>
          <a:custGeom>
            <a:avLst/>
            <a:gdLst/>
            <a:ahLst/>
            <a:rect l="l" t="t" r="r" b="b"/>
            <a:pathLst>
              <a:path w="5771" h="1776">
                <a:moveTo>
                  <a:pt x="0" y="1248"/>
                </a:moveTo>
                <a:cubicBezTo>
                  <a:pt x="157" y="883"/>
                  <a:pt x="482" y="625"/>
                  <a:pt x="954" y="441"/>
                </a:cubicBezTo>
                <a:cubicBezTo>
                  <a:pt x="1426" y="257"/>
                  <a:pt x="2096" y="208"/>
                  <a:pt x="2832" y="144"/>
                </a:cubicBezTo>
                <a:cubicBezTo>
                  <a:pt x="3563" y="84"/>
                  <a:pt x="4854" y="107"/>
                  <a:pt x="5343" y="83"/>
                </a:cubicBezTo>
                <a:cubicBezTo>
                  <a:pt x="5500" y="71"/>
                  <a:pt x="5732" y="23"/>
                  <a:pt x="5769" y="0"/>
                </a:cubicBezTo>
                <a:lnTo>
                  <a:pt x="5771" y="28"/>
                </a:lnTo>
                <a:cubicBezTo>
                  <a:pt x="5743" y="51"/>
                  <a:pt x="5593" y="111"/>
                  <a:pt x="5103" y="146"/>
                </a:cubicBezTo>
                <a:cubicBezTo>
                  <a:pt x="4638" y="179"/>
                  <a:pt x="3544" y="144"/>
                  <a:pt x="2832" y="240"/>
                </a:cubicBezTo>
                <a:cubicBezTo>
                  <a:pt x="2120" y="336"/>
                  <a:pt x="1464" y="464"/>
                  <a:pt x="1104" y="720"/>
                </a:cubicBezTo>
                <a:cubicBezTo>
                  <a:pt x="744" y="976"/>
                  <a:pt x="588" y="1407"/>
                  <a:pt x="672" y="1776"/>
                </a:cubicBezTo>
                <a:cubicBezTo>
                  <a:pt x="336" y="1776"/>
                  <a:pt x="0" y="1776"/>
                  <a:pt x="0" y="1776"/>
                </a:cubicBezTo>
                <a:cubicBezTo>
                  <a:pt x="0" y="1776"/>
                  <a:pt x="0" y="1248"/>
                  <a:pt x="0" y="1248"/>
                </a:cubicBezTo>
                <a:close/>
              </a:path>
            </a:pathLst>
          </a:custGeom>
          <a:solidFill>
            <a:srgbClr val="005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58" name="Picture 45" descr="화살_1"/>
          <p:cNvPicPr/>
          <p:nvPr/>
        </p:nvPicPr>
        <p:blipFill>
          <a:blip r:embed="rId4"/>
          <a:stretch/>
        </p:blipFill>
        <p:spPr>
          <a:xfrm>
            <a:off x="3059280" y="0"/>
            <a:ext cx="2435040" cy="2435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449-DD61-4906-A057-96E8EEC0D71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dt" idx="6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01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102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0F4B-EDCD-408C-962F-B001C1E1EE8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45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146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9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0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1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DD4D-144A-43A5-B793-7E4A70C7FAA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0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191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074F-79D0-496C-948B-FB40CA51C9D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35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236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5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6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7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86DE-E1DD-4829-AD28-484DD4DD559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0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281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1C2B-C2BA-4BAD-9B54-F1803560056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25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326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FA00-BF34-472D-BE43-BA2C2C12799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82"/>
          <p:cNvSpPr/>
          <p:nvPr/>
        </p:nvSpPr>
        <p:spPr>
          <a:xfrm>
            <a:off x="-3240" y="4680"/>
            <a:ext cx="9151920" cy="1062000"/>
          </a:xfrm>
          <a:custGeom>
            <a:avLst/>
            <a:gdLst/>
            <a:ahLst/>
            <a:rect l="l" t="t" r="r" b="b"/>
            <a:pathLst>
              <a:path w="5765" h="669">
                <a:moveTo>
                  <a:pt x="2" y="555"/>
                </a:moveTo>
                <a:cubicBezTo>
                  <a:pt x="371" y="212"/>
                  <a:pt x="1393" y="131"/>
                  <a:pt x="1937" y="158"/>
                </a:cubicBezTo>
                <a:cubicBezTo>
                  <a:pt x="2481" y="185"/>
                  <a:pt x="2627" y="192"/>
                  <a:pt x="3102" y="249"/>
                </a:cubicBezTo>
                <a:cubicBezTo>
                  <a:pt x="3563" y="324"/>
                  <a:pt x="4228" y="541"/>
                  <a:pt x="4706" y="605"/>
                </a:cubicBezTo>
                <a:cubicBezTo>
                  <a:pt x="5186" y="669"/>
                  <a:pt x="5368" y="641"/>
                  <a:pt x="5761" y="636"/>
                </a:cubicBezTo>
                <a:cubicBezTo>
                  <a:pt x="5765" y="336"/>
                  <a:pt x="5757" y="0"/>
                  <a:pt x="5751" y="4"/>
                </a:cubicBezTo>
                <a:cubicBezTo>
                  <a:pt x="2891" y="4"/>
                  <a:pt x="47" y="5"/>
                  <a:pt x="47" y="5"/>
                </a:cubicBezTo>
                <a:lnTo>
                  <a:pt x="8" y="5"/>
                </a:lnTo>
                <a:cubicBezTo>
                  <a:pt x="0" y="97"/>
                  <a:pt x="2" y="442"/>
                  <a:pt x="2" y="555"/>
                </a:cubicBezTo>
                <a:close/>
              </a:path>
            </a:pathLst>
          </a:custGeom>
          <a:solidFill>
            <a:srgbClr val="c1b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70" name="Freeform 83"/>
          <p:cNvSpPr/>
          <p:nvPr/>
        </p:nvSpPr>
        <p:spPr>
          <a:xfrm>
            <a:off x="-3240" y="-9360"/>
            <a:ext cx="9153720" cy="1025280"/>
          </a:xfrm>
          <a:custGeom>
            <a:avLst/>
            <a:gdLst/>
            <a:ahLst/>
            <a:rect l="l" t="t" r="r" b="b"/>
            <a:pathLst>
              <a:path w="5766" h="646">
                <a:moveTo>
                  <a:pt x="2" y="249"/>
                </a:moveTo>
                <a:cubicBezTo>
                  <a:pt x="3" y="251"/>
                  <a:pt x="241" y="180"/>
                  <a:pt x="866" y="140"/>
                </a:cubicBezTo>
                <a:cubicBezTo>
                  <a:pt x="1491" y="100"/>
                  <a:pt x="2404" y="136"/>
                  <a:pt x="3057" y="233"/>
                </a:cubicBezTo>
                <a:cubicBezTo>
                  <a:pt x="3710" y="330"/>
                  <a:pt x="4209" y="518"/>
                  <a:pt x="4688" y="582"/>
                </a:cubicBezTo>
                <a:cubicBezTo>
                  <a:pt x="5168" y="646"/>
                  <a:pt x="5369" y="613"/>
                  <a:pt x="5762" y="608"/>
                </a:cubicBezTo>
                <a:cubicBezTo>
                  <a:pt x="5766" y="308"/>
                  <a:pt x="5764" y="0"/>
                  <a:pt x="5758" y="4"/>
                </a:cubicBezTo>
                <a:cubicBezTo>
                  <a:pt x="2895" y="4"/>
                  <a:pt x="47" y="5"/>
                  <a:pt x="47" y="5"/>
                </a:cubicBezTo>
                <a:cubicBezTo>
                  <a:pt x="47" y="5"/>
                  <a:pt x="5" y="8"/>
                  <a:pt x="4" y="3"/>
                </a:cubicBezTo>
                <a:cubicBezTo>
                  <a:pt x="0" y="41"/>
                  <a:pt x="2" y="198"/>
                  <a:pt x="2" y="24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371" name="Picture 84" descr="06_icon_f"/>
          <p:cNvPicPr/>
          <p:nvPr/>
        </p:nvPicPr>
        <p:blipFill>
          <a:blip r:embed="rId3"/>
          <a:stretch/>
        </p:blipFill>
        <p:spPr>
          <a:xfrm>
            <a:off x="0" y="76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5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a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87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a487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5866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0E41-B92F-4CC5-B988-4711B29D545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703240" y="528012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487e"/>
                </a:solidFill>
                <a:latin typeface="Arial Unicode MS"/>
                <a:ea typeface="Arial Unicode MS"/>
              </a:rPr>
              <a:t>儿童通用</a:t>
            </a:r>
            <a:r>
              <a:rPr b="0" lang="en-US" sz="4000" spc="-1" strike="noStrike">
                <a:solidFill>
                  <a:srgbClr val="2a487e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2a487e"/>
                </a:solidFill>
                <a:latin typeface="Arial Unicode MS"/>
                <a:ea typeface="Arial Unicode MS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10" descr="06_icon_f"/>
          <p:cNvPicPr/>
          <p:nvPr/>
        </p:nvPicPr>
        <p:blipFill>
          <a:blip r:embed="rId1"/>
          <a:stretch/>
        </p:blipFill>
        <p:spPr>
          <a:xfrm>
            <a:off x="1882800" y="4648320"/>
            <a:ext cx="1317600" cy="1317600"/>
          </a:xfrm>
          <a:prstGeom prst="rect">
            <a:avLst/>
          </a:prstGeom>
          <a:ln w="0">
            <a:noFill/>
          </a:ln>
        </p:spPr>
      </p:pic>
      <p:sp>
        <p:nvSpPr>
          <p:cNvPr id="551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a487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a487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2133720" y="220968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5" name="AutoShape 6"/>
          <p:cNvSpPr/>
          <p:nvPr/>
        </p:nvSpPr>
        <p:spPr>
          <a:xfrm>
            <a:off x="1828800" y="20908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1984680" y="21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2133720" y="30481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de9254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59" name="AutoShape 10"/>
          <p:cNvSpPr/>
          <p:nvPr/>
        </p:nvSpPr>
        <p:spPr>
          <a:xfrm>
            <a:off x="1828800" y="2928960"/>
            <a:ext cx="685800" cy="685800"/>
          </a:xfrm>
          <a:prstGeom prst="diamond">
            <a:avLst/>
          </a:prstGeom>
          <a:solidFill>
            <a:srgbClr val="de925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2666880" y="3103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1984680" y="302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2" name="AutoShape 13"/>
          <p:cNvSpPr/>
          <p:nvPr/>
        </p:nvSpPr>
        <p:spPr>
          <a:xfrm>
            <a:off x="2133720" y="38862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005ab4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3" name="AutoShape 14"/>
          <p:cNvSpPr/>
          <p:nvPr/>
        </p:nvSpPr>
        <p:spPr>
          <a:xfrm>
            <a:off x="1828800" y="3767040"/>
            <a:ext cx="685800" cy="685800"/>
          </a:xfrm>
          <a:prstGeom prst="diamond">
            <a:avLst/>
          </a:prstGeom>
          <a:solidFill>
            <a:srgbClr val="005ab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1984680" y="386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6" name="AutoShape 17"/>
          <p:cNvSpPr/>
          <p:nvPr/>
        </p:nvSpPr>
        <p:spPr>
          <a:xfrm>
            <a:off x="2131920" y="476712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c1be3f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7" name="AutoShape 18"/>
          <p:cNvSpPr/>
          <p:nvPr/>
        </p:nvSpPr>
        <p:spPr>
          <a:xfrm>
            <a:off x="1827360" y="4648320"/>
            <a:ext cx="685800" cy="685800"/>
          </a:xfrm>
          <a:prstGeom prst="diamond">
            <a:avLst/>
          </a:prstGeom>
          <a:solidFill>
            <a:srgbClr val="c1be3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1983240" y="4746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4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c1be3f"/>
              </a:gs>
              <a:gs pos="100000">
                <a:srgbClr val="59581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005ab4"/>
              </a:gs>
              <a:gs pos="100000">
                <a:srgbClr val="002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7ca7ce"/>
              </a:gs>
              <a:gs pos="100000">
                <a:srgbClr val="394d5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0" name="Line 13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1" name="Line 14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2" name="Line 15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b4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92d365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2a487e"/>
                </a:solidFill>
                <a:latin typeface="Arial"/>
                <a:ea typeface="宋体"/>
              </a:rPr>
              <a:t>History</a:t>
            </a:r>
            <a:endParaRPr b="0" lang="en-US" sz="2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8" name="Group 4"/>
          <p:cNvGrpSpPr/>
          <p:nvPr/>
        </p:nvGrpSpPr>
        <p:grpSpPr>
          <a:xfrm>
            <a:off x="1828800" y="1828800"/>
            <a:ext cx="5486400" cy="3962160"/>
            <a:chOff x="1828800" y="1828800"/>
            <a:chExt cx="5486400" cy="3962160"/>
          </a:xfrm>
        </p:grpSpPr>
        <p:sp>
          <p:nvSpPr>
            <p:cNvPr id="589" name="AutoShape 5"/>
            <p:cNvSpPr/>
            <p:nvPr/>
          </p:nvSpPr>
          <p:spPr>
            <a:xfrm>
              <a:off x="1828800" y="1828800"/>
              <a:ext cx="5486400" cy="1229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0" name="AutoShape 6"/>
            <p:cNvSpPr/>
            <p:nvPr/>
          </p:nvSpPr>
          <p:spPr>
            <a:xfrm>
              <a:off x="1949040" y="194364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5ab4"/>
                </a:gs>
                <a:gs pos="100000">
                  <a:srgbClr val="003f7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>
              <a:off x="2014560" y="2007000"/>
              <a:ext cx="528120" cy="50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5d6"/>
                </a:gs>
                <a:gs pos="50000">
                  <a:srgbClr val="005ab4">
                    <a:alpha val="0"/>
                  </a:srgbClr>
                </a:gs>
                <a:gs pos="100000">
                  <a:srgbClr val="74a5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2" name="Text Box 8"/>
            <p:cNvSpPr/>
            <p:nvPr/>
          </p:nvSpPr>
          <p:spPr>
            <a:xfrm>
              <a:off x="2040480" y="2216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151080" y="20188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1828800" y="3187800"/>
              <a:ext cx="5486400" cy="12276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5" name="AutoShape 11"/>
            <p:cNvSpPr/>
            <p:nvPr/>
          </p:nvSpPr>
          <p:spPr>
            <a:xfrm>
              <a:off x="1949040" y="3299760"/>
              <a:ext cx="105660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1be3f"/>
                </a:gs>
                <a:gs pos="100000">
                  <a:srgbClr val="87852c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2014560" y="3364920"/>
              <a:ext cx="528120" cy="5011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3ae"/>
                </a:gs>
                <a:gs pos="100000">
                  <a:srgbClr val="c1be3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7" name="Text Box 13"/>
            <p:cNvSpPr/>
            <p:nvPr/>
          </p:nvSpPr>
          <p:spPr>
            <a:xfrm>
              <a:off x="2040480" y="35769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8" name="Text Box 14"/>
            <p:cNvSpPr/>
            <p:nvPr/>
          </p:nvSpPr>
          <p:spPr>
            <a:xfrm>
              <a:off x="3151080" y="33544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599" name="AutoShape 15"/>
            <p:cNvSpPr/>
            <p:nvPr/>
          </p:nvSpPr>
          <p:spPr>
            <a:xfrm>
              <a:off x="1828800" y="4561920"/>
              <a:ext cx="548640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00" name="AutoShape 16"/>
            <p:cNvSpPr/>
            <p:nvPr/>
          </p:nvSpPr>
          <p:spPr>
            <a:xfrm>
              <a:off x="1949040" y="4675320"/>
              <a:ext cx="1056600" cy="1005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ca7ce"/>
                </a:gs>
                <a:gs pos="100000">
                  <a:srgbClr val="57759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01" name="Freeform 17"/>
            <p:cNvSpPr/>
            <p:nvPr/>
          </p:nvSpPr>
          <p:spPr>
            <a:xfrm>
              <a:off x="2014560" y="4740120"/>
              <a:ext cx="52812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d4e7"/>
                </a:gs>
                <a:gs pos="100000">
                  <a:srgbClr val="7ca7c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02" name="Text Box 18"/>
            <p:cNvSpPr/>
            <p:nvPr/>
          </p:nvSpPr>
          <p:spPr>
            <a:xfrm>
              <a:off x="2040480" y="4949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2a487e"/>
                </a:solidFill>
                <a:latin typeface="Arial"/>
              </a:endParaRPr>
            </a:p>
          </p:txBody>
        </p:sp>
        <p:sp>
          <p:nvSpPr>
            <p:cNvPr id="603" name="Text Box 19"/>
            <p:cNvSpPr/>
            <p:nvPr/>
          </p:nvSpPr>
          <p:spPr>
            <a:xfrm>
              <a:off x="3151080" y="4729680"/>
              <a:ext cx="403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8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495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48960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c1be3f"/>
              </a:gs>
              <a:gs pos="100000">
                <a:srgbClr val="c7c55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30891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005ab4"/>
              </a:gs>
              <a:gs pos="100000">
                <a:srgbClr val="1a6b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12603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c1be3f">
                  <a:alpha val="6117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 flipH="1">
            <a:off x="6566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ddc96">
                  <a:alpha val="82352"/>
                </a:srgbClr>
              </a:gs>
              <a:gs pos="100000">
                <a:srgbClr val="c1be3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flipH="1">
            <a:off x="2470320" y="345744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005ab4"/>
              </a:gs>
              <a:gs pos="100000">
                <a:srgbClr val="76a6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0" name="Freeform 9"/>
          <p:cNvSpPr/>
          <p:nvPr/>
        </p:nvSpPr>
        <p:spPr>
          <a:xfrm>
            <a:off x="2476440" y="345924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002a53"/>
              </a:gs>
              <a:gs pos="100000">
                <a:srgbClr val="005ab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1" name="AutoShape 10"/>
          <p:cNvSpPr/>
          <p:nvPr/>
        </p:nvSpPr>
        <p:spPr>
          <a:xfrm flipH="1">
            <a:off x="4282920" y="2941560"/>
            <a:ext cx="2438640" cy="657360"/>
          </a:xfrm>
          <a:prstGeom prst="parallelogram">
            <a:avLst>
              <a:gd name="adj" fmla="val 92245"/>
            </a:avLst>
          </a:prstGeom>
          <a:gradFill rotWithShape="0">
            <a:gsLst>
              <a:gs pos="0">
                <a:srgbClr val="c1be3f"/>
              </a:gs>
              <a:gs pos="100000">
                <a:srgbClr val="dedc9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2" name="Freeform 11"/>
          <p:cNvSpPr/>
          <p:nvPr/>
        </p:nvSpPr>
        <p:spPr>
          <a:xfrm>
            <a:off x="4280040" y="293688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9581d"/>
              </a:gs>
              <a:gs pos="100000">
                <a:srgbClr val="c1be3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613" name="Picture 12" descr="light_shadow"/>
          <p:cNvPicPr/>
          <p:nvPr/>
        </p:nvPicPr>
        <p:blipFill>
          <a:blip r:embed="rId1"/>
          <a:stretch/>
        </p:blipFill>
        <p:spPr>
          <a:xfrm>
            <a:off x="1276200" y="4121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3" descr="circuler_1"/>
          <p:cNvPicPr/>
          <p:nvPr/>
        </p:nvPicPr>
        <p:blipFill>
          <a:blip r:embed="rId2"/>
          <a:stretch/>
        </p:blipFill>
        <p:spPr>
          <a:xfrm>
            <a:off x="11890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15" name="Oval 14"/>
          <p:cNvSpPr/>
          <p:nvPr/>
        </p:nvSpPr>
        <p:spPr>
          <a:xfrm>
            <a:off x="11890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c1be3f">
                  <a:alpha val="45098"/>
                </a:srgbClr>
              </a:gs>
              <a:gs pos="50000">
                <a:srgbClr val="dddc96">
                  <a:alpha val="90196"/>
                </a:srgbClr>
              </a:gs>
              <a:gs pos="100000">
                <a:srgbClr val="c1be3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1308240" y="31845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be3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617" name="Picture 16" descr="light_shadow"/>
          <p:cNvPicPr/>
          <p:nvPr/>
        </p:nvPicPr>
        <p:blipFill>
          <a:blip r:embed="rId3"/>
          <a:stretch/>
        </p:blipFill>
        <p:spPr>
          <a:xfrm>
            <a:off x="3119400" y="3618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7" descr="circuler_1"/>
          <p:cNvPicPr/>
          <p:nvPr/>
        </p:nvPicPr>
        <p:blipFill>
          <a:blip r:embed="rId4"/>
          <a:stretch/>
        </p:blipFill>
        <p:spPr>
          <a:xfrm>
            <a:off x="30322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19" name="Oval 18"/>
          <p:cNvSpPr/>
          <p:nvPr/>
        </p:nvSpPr>
        <p:spPr>
          <a:xfrm>
            <a:off x="30322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00182f">
                  <a:alpha val="90196"/>
                </a:srgbClr>
              </a:gs>
              <a:gs pos="50000">
                <a:srgbClr val="005ab4">
                  <a:alpha val="45098"/>
                </a:srgbClr>
              </a:gs>
              <a:gs pos="100000">
                <a:srgbClr val="0018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51080" y="2681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ca7ce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621" name="Picture 20" descr="light_shadow"/>
          <p:cNvPicPr/>
          <p:nvPr/>
        </p:nvPicPr>
        <p:blipFill>
          <a:blip r:embed="rId5"/>
          <a:stretch/>
        </p:blipFill>
        <p:spPr>
          <a:xfrm>
            <a:off x="5040360" y="313056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1" descr="circuler_1"/>
          <p:cNvPicPr/>
          <p:nvPr/>
        </p:nvPicPr>
        <p:blipFill>
          <a:blip r:embed="rId6"/>
          <a:stretch/>
        </p:blipFill>
        <p:spPr>
          <a:xfrm>
            <a:off x="49528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23" name="Oval 22"/>
          <p:cNvSpPr/>
          <p:nvPr/>
        </p:nvSpPr>
        <p:spPr>
          <a:xfrm>
            <a:off x="49528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33211">
                  <a:alpha val="90196"/>
                </a:srgbClr>
              </a:gs>
              <a:gs pos="50000">
                <a:srgbClr val="c1be3f">
                  <a:alpha val="45098"/>
                </a:srgbClr>
              </a:gs>
              <a:gs pos="100000">
                <a:srgbClr val="33321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5072040" y="219384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be3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5" name="Text Box 24"/>
          <p:cNvSpPr/>
          <p:nvPr/>
        </p:nvSpPr>
        <p:spPr>
          <a:xfrm>
            <a:off x="1338120" y="35942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31766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7" name="Text Box 26"/>
          <p:cNvSpPr/>
          <p:nvPr/>
        </p:nvSpPr>
        <p:spPr>
          <a:xfrm>
            <a:off x="51022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13320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487e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31543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487e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49593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631" name="Group 30"/>
          <p:cNvGrpSpPr/>
          <p:nvPr/>
        </p:nvGrpSpPr>
        <p:grpSpPr>
          <a:xfrm>
            <a:off x="1249560" y="3893400"/>
            <a:ext cx="1075320" cy="429120"/>
            <a:chOff x="1249560" y="3893400"/>
            <a:chExt cx="1075320" cy="429120"/>
          </a:xfrm>
        </p:grpSpPr>
        <p:grpSp>
          <p:nvGrpSpPr>
            <p:cNvPr id="632" name="Group 31"/>
            <p:cNvGrpSpPr/>
            <p:nvPr/>
          </p:nvGrpSpPr>
          <p:grpSpPr>
            <a:xfrm>
              <a:off x="1437120" y="3893400"/>
              <a:ext cx="887760" cy="403560"/>
              <a:chOff x="1437120" y="3893400"/>
              <a:chExt cx="887760" cy="403560"/>
            </a:xfrm>
          </p:grpSpPr>
          <p:sp>
            <p:nvSpPr>
              <p:cNvPr id="633" name="AutoShape 32"/>
              <p:cNvSpPr/>
              <p:nvPr/>
            </p:nvSpPr>
            <p:spPr>
              <a:xfrm flipH="1" flipV="1" rot="3964800">
                <a:off x="1920240" y="3772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34" name="AutoShape 33"/>
              <p:cNvSpPr/>
              <p:nvPr/>
            </p:nvSpPr>
            <p:spPr>
              <a:xfrm flipH="1" flipV="1" rot="4780200">
                <a:off x="1820520" y="38124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35" name="AutoShape 34"/>
              <p:cNvSpPr/>
              <p:nvPr/>
            </p:nvSpPr>
            <p:spPr>
              <a:xfrm flipH="1" flipV="1" rot="5076000">
                <a:off x="1758960" y="38203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36" name="AutoShape 35"/>
              <p:cNvSpPr/>
              <p:nvPr/>
            </p:nvSpPr>
            <p:spPr>
              <a:xfrm flipH="1" flipV="1" rot="5608200">
                <a:off x="1685520" y="38271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36"/>
            <p:cNvGrpSpPr/>
            <p:nvPr/>
          </p:nvGrpSpPr>
          <p:grpSpPr>
            <a:xfrm>
              <a:off x="1249560" y="3898800"/>
              <a:ext cx="886680" cy="423720"/>
              <a:chOff x="1249560" y="3898800"/>
              <a:chExt cx="886680" cy="423720"/>
            </a:xfrm>
          </p:grpSpPr>
          <p:sp>
            <p:nvSpPr>
              <p:cNvPr id="638" name="AutoShape 37"/>
              <p:cNvSpPr/>
              <p:nvPr/>
            </p:nvSpPr>
            <p:spPr>
              <a:xfrm flipH="1" flipV="1" rot="5317800">
                <a:off x="1733400" y="38275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39" name="AutoShape 38"/>
              <p:cNvSpPr/>
              <p:nvPr/>
            </p:nvSpPr>
            <p:spPr>
              <a:xfrm flipH="1" flipV="1" rot="6133800">
                <a:off x="1625760" y="3825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40" name="AutoShape 39"/>
              <p:cNvSpPr/>
              <p:nvPr/>
            </p:nvSpPr>
            <p:spPr>
              <a:xfrm flipH="1" flipV="1" rot="6429000">
                <a:off x="1566720" y="38084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41" name="AutoShape 40"/>
              <p:cNvSpPr/>
              <p:nvPr/>
            </p:nvSpPr>
            <p:spPr>
              <a:xfrm flipH="1" flipV="1" rot="6961200">
                <a:off x="1495080" y="3787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grpSp>
        <p:nvGrpSpPr>
          <p:cNvPr id="642" name="Group 41"/>
          <p:cNvGrpSpPr/>
          <p:nvPr/>
        </p:nvGrpSpPr>
        <p:grpSpPr>
          <a:xfrm>
            <a:off x="3140640" y="3418200"/>
            <a:ext cx="1074960" cy="429120"/>
            <a:chOff x="3140640" y="3418200"/>
            <a:chExt cx="1074960" cy="429120"/>
          </a:xfrm>
        </p:grpSpPr>
        <p:grpSp>
          <p:nvGrpSpPr>
            <p:cNvPr id="643" name="Group 42"/>
            <p:cNvGrpSpPr/>
            <p:nvPr/>
          </p:nvGrpSpPr>
          <p:grpSpPr>
            <a:xfrm>
              <a:off x="3327840" y="3418200"/>
              <a:ext cx="887760" cy="403560"/>
              <a:chOff x="3327840" y="3418200"/>
              <a:chExt cx="887760" cy="403560"/>
            </a:xfrm>
          </p:grpSpPr>
          <p:sp>
            <p:nvSpPr>
              <p:cNvPr id="644" name="AutoShape 43"/>
              <p:cNvSpPr/>
              <p:nvPr/>
            </p:nvSpPr>
            <p:spPr>
              <a:xfrm flipH="1" flipV="1" rot="3964800">
                <a:off x="3811320" y="3296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45" name="AutoShape 44"/>
              <p:cNvSpPr/>
              <p:nvPr/>
            </p:nvSpPr>
            <p:spPr>
              <a:xfrm flipH="1" flipV="1" rot="4780200">
                <a:off x="3711600" y="33372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46" name="AutoShape 45"/>
              <p:cNvSpPr/>
              <p:nvPr/>
            </p:nvSpPr>
            <p:spPr>
              <a:xfrm flipH="1" flipV="1" rot="5076000">
                <a:off x="3650400" y="3344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47" name="AutoShape 46"/>
              <p:cNvSpPr/>
              <p:nvPr/>
            </p:nvSpPr>
            <p:spPr>
              <a:xfrm flipH="1" flipV="1" rot="5608200">
                <a:off x="3576600" y="33526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47"/>
            <p:cNvGrpSpPr/>
            <p:nvPr/>
          </p:nvGrpSpPr>
          <p:grpSpPr>
            <a:xfrm>
              <a:off x="3140640" y="3424320"/>
              <a:ext cx="886680" cy="423000"/>
              <a:chOff x="3140640" y="3424320"/>
              <a:chExt cx="886680" cy="423000"/>
            </a:xfrm>
          </p:grpSpPr>
          <p:sp>
            <p:nvSpPr>
              <p:cNvPr id="649" name="AutoShape 48"/>
              <p:cNvSpPr/>
              <p:nvPr/>
            </p:nvSpPr>
            <p:spPr>
              <a:xfrm flipH="1" flipV="1" rot="5317800">
                <a:off x="3624480" y="33526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50" name="AutoShape 49"/>
              <p:cNvSpPr/>
              <p:nvPr/>
            </p:nvSpPr>
            <p:spPr>
              <a:xfrm flipH="1" flipV="1" rot="6133800">
                <a:off x="3517200" y="3350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51" name="AutoShape 50"/>
              <p:cNvSpPr/>
              <p:nvPr/>
            </p:nvSpPr>
            <p:spPr>
              <a:xfrm flipH="1" flipV="1" rot="6429000">
                <a:off x="3457440" y="33339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52" name="AutoShape 51"/>
              <p:cNvSpPr/>
              <p:nvPr/>
            </p:nvSpPr>
            <p:spPr>
              <a:xfrm flipH="1" flipV="1" rot="6961200">
                <a:off x="3386160" y="3312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grpSp>
        <p:nvGrpSpPr>
          <p:cNvPr id="653" name="Group 52"/>
          <p:cNvGrpSpPr/>
          <p:nvPr/>
        </p:nvGrpSpPr>
        <p:grpSpPr>
          <a:xfrm>
            <a:off x="4989240" y="2914920"/>
            <a:ext cx="1075680" cy="428400"/>
            <a:chOff x="4989240" y="2914920"/>
            <a:chExt cx="1075680" cy="428400"/>
          </a:xfrm>
        </p:grpSpPr>
        <p:grpSp>
          <p:nvGrpSpPr>
            <p:cNvPr id="654" name="Group 53"/>
            <p:cNvGrpSpPr/>
            <p:nvPr/>
          </p:nvGrpSpPr>
          <p:grpSpPr>
            <a:xfrm>
              <a:off x="5177160" y="2914920"/>
              <a:ext cx="887760" cy="403560"/>
              <a:chOff x="5177160" y="2914920"/>
              <a:chExt cx="887760" cy="403560"/>
            </a:xfrm>
          </p:grpSpPr>
          <p:sp>
            <p:nvSpPr>
              <p:cNvPr id="655" name="AutoShape 54"/>
              <p:cNvSpPr/>
              <p:nvPr/>
            </p:nvSpPr>
            <p:spPr>
              <a:xfrm flipH="1" flipV="1" rot="3964800">
                <a:off x="5660640" y="2793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56" name="AutoShape 55"/>
              <p:cNvSpPr/>
              <p:nvPr/>
            </p:nvSpPr>
            <p:spPr>
              <a:xfrm flipH="1" flipV="1" rot="4780200">
                <a:off x="5560920" y="28339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57" name="AutoShape 56"/>
              <p:cNvSpPr/>
              <p:nvPr/>
            </p:nvSpPr>
            <p:spPr>
              <a:xfrm flipH="1" flipV="1" rot="5076000">
                <a:off x="5499720" y="28411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58" name="AutoShape 57"/>
              <p:cNvSpPr/>
              <p:nvPr/>
            </p:nvSpPr>
            <p:spPr>
              <a:xfrm flipH="1" flipV="1" rot="5608200">
                <a:off x="5425920" y="284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58"/>
            <p:cNvGrpSpPr/>
            <p:nvPr/>
          </p:nvGrpSpPr>
          <p:grpSpPr>
            <a:xfrm>
              <a:off x="4989240" y="2920320"/>
              <a:ext cx="886680" cy="423000"/>
              <a:chOff x="4989240" y="2920320"/>
              <a:chExt cx="886680" cy="423000"/>
            </a:xfrm>
          </p:grpSpPr>
          <p:sp>
            <p:nvSpPr>
              <p:cNvPr id="660" name="AutoShape 59"/>
              <p:cNvSpPr/>
              <p:nvPr/>
            </p:nvSpPr>
            <p:spPr>
              <a:xfrm flipH="1" flipV="1" rot="5317800">
                <a:off x="5473440" y="28494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61" name="AutoShape 60"/>
              <p:cNvSpPr/>
              <p:nvPr/>
            </p:nvSpPr>
            <p:spPr>
              <a:xfrm flipH="1" flipV="1" rot="6133800">
                <a:off x="5365440" y="28476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62" name="AutoShape 61"/>
              <p:cNvSpPr/>
              <p:nvPr/>
            </p:nvSpPr>
            <p:spPr>
              <a:xfrm flipH="1" flipV="1" rot="6429000">
                <a:off x="5305680" y="28310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63" name="AutoShape 62"/>
              <p:cNvSpPr/>
              <p:nvPr/>
            </p:nvSpPr>
            <p:spPr>
              <a:xfrm flipH="1" flipV="1" rot="6961200">
                <a:off x="5235480" y="28087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Rectangle 63"/>
          <p:cNvSpPr/>
          <p:nvPr/>
        </p:nvSpPr>
        <p:spPr>
          <a:xfrm>
            <a:off x="60948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67309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005ab4"/>
              </a:gs>
              <a:gs pos="100000">
                <a:srgbClr val="1a6b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66" name="AutoShape 65"/>
          <p:cNvSpPr/>
          <p:nvPr/>
        </p:nvSpPr>
        <p:spPr>
          <a:xfrm flipH="1">
            <a:off x="6117480" y="244800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005ab4"/>
              </a:gs>
              <a:gs pos="100000">
                <a:srgbClr val="76a6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67" name="Freeform 66"/>
          <p:cNvSpPr/>
          <p:nvPr/>
        </p:nvSpPr>
        <p:spPr>
          <a:xfrm>
            <a:off x="6114960" y="244332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002a53"/>
              </a:gs>
              <a:gs pos="100000">
                <a:srgbClr val="005ab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pic>
        <p:nvPicPr>
          <p:cNvPr id="668" name="Picture 67" descr="light_shadow"/>
          <p:cNvPicPr/>
          <p:nvPr/>
        </p:nvPicPr>
        <p:blipFill>
          <a:blip r:embed="rId7"/>
          <a:stretch/>
        </p:blipFill>
        <p:spPr>
          <a:xfrm>
            <a:off x="6875640" y="2637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8" descr="circuler_1"/>
          <p:cNvPicPr/>
          <p:nvPr/>
        </p:nvPicPr>
        <p:blipFill>
          <a:blip r:embed="rId8"/>
          <a:stretch/>
        </p:blipFill>
        <p:spPr>
          <a:xfrm>
            <a:off x="6788160" y="1676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70" name="Oval 69"/>
          <p:cNvSpPr/>
          <p:nvPr/>
        </p:nvSpPr>
        <p:spPr>
          <a:xfrm>
            <a:off x="6788160" y="1676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00182f">
                  <a:alpha val="90196"/>
                </a:srgbClr>
              </a:gs>
              <a:gs pos="50000">
                <a:srgbClr val="005ab4">
                  <a:alpha val="45098"/>
                </a:srgbClr>
              </a:gs>
              <a:gs pos="100000">
                <a:srgbClr val="0018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71" name="Freeform 70"/>
          <p:cNvSpPr/>
          <p:nvPr/>
        </p:nvSpPr>
        <p:spPr>
          <a:xfrm>
            <a:off x="6907320" y="1700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5ab4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72" name="Text Box 71"/>
          <p:cNvSpPr/>
          <p:nvPr/>
        </p:nvSpPr>
        <p:spPr>
          <a:xfrm>
            <a:off x="6937200" y="20988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2a4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73" name="Text Box 72"/>
          <p:cNvSpPr/>
          <p:nvPr/>
        </p:nvSpPr>
        <p:spPr>
          <a:xfrm>
            <a:off x="6794640" y="343692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000" spc="-1" strike="noStrike">
              <a:solidFill>
                <a:srgbClr val="2a487e"/>
              </a:solidFill>
              <a:latin typeface="Arial"/>
            </a:endParaRPr>
          </a:p>
        </p:txBody>
      </p:sp>
      <p:grpSp>
        <p:nvGrpSpPr>
          <p:cNvPr id="674" name="Group 73"/>
          <p:cNvGrpSpPr/>
          <p:nvPr/>
        </p:nvGrpSpPr>
        <p:grpSpPr>
          <a:xfrm>
            <a:off x="6824880" y="2421720"/>
            <a:ext cx="1075320" cy="429120"/>
            <a:chOff x="6824880" y="2421720"/>
            <a:chExt cx="1075320" cy="429120"/>
          </a:xfrm>
        </p:grpSpPr>
        <p:grpSp>
          <p:nvGrpSpPr>
            <p:cNvPr id="675" name="Group 74"/>
            <p:cNvGrpSpPr/>
            <p:nvPr/>
          </p:nvGrpSpPr>
          <p:grpSpPr>
            <a:xfrm>
              <a:off x="7012440" y="2421720"/>
              <a:ext cx="887760" cy="403560"/>
              <a:chOff x="7012440" y="2421720"/>
              <a:chExt cx="887760" cy="403560"/>
            </a:xfrm>
          </p:grpSpPr>
          <p:sp>
            <p:nvSpPr>
              <p:cNvPr id="676" name="AutoShape 75"/>
              <p:cNvSpPr/>
              <p:nvPr/>
            </p:nvSpPr>
            <p:spPr>
              <a:xfrm flipH="1" flipV="1" rot="3964800">
                <a:off x="7495560" y="23004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77" name="AutoShape 76"/>
              <p:cNvSpPr/>
              <p:nvPr/>
            </p:nvSpPr>
            <p:spPr>
              <a:xfrm flipH="1" flipV="1" rot="4780200">
                <a:off x="7395840" y="2340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78" name="AutoShape 77"/>
              <p:cNvSpPr/>
              <p:nvPr/>
            </p:nvSpPr>
            <p:spPr>
              <a:xfrm flipH="1" flipV="1" rot="5076000">
                <a:off x="7334280" y="23486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79" name="AutoShape 78"/>
              <p:cNvSpPr/>
              <p:nvPr/>
            </p:nvSpPr>
            <p:spPr>
              <a:xfrm flipH="1" flipV="1" rot="5608200">
                <a:off x="7260840" y="23554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79"/>
            <p:cNvGrpSpPr/>
            <p:nvPr/>
          </p:nvGrpSpPr>
          <p:grpSpPr>
            <a:xfrm>
              <a:off x="6824880" y="2427120"/>
              <a:ext cx="886680" cy="423720"/>
              <a:chOff x="6824880" y="2427120"/>
              <a:chExt cx="886680" cy="423720"/>
            </a:xfrm>
          </p:grpSpPr>
          <p:sp>
            <p:nvSpPr>
              <p:cNvPr id="681" name="AutoShape 80"/>
              <p:cNvSpPr/>
              <p:nvPr/>
            </p:nvSpPr>
            <p:spPr>
              <a:xfrm flipH="1" flipV="1" rot="5317800">
                <a:off x="7308720" y="23558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82" name="AutoShape 81"/>
              <p:cNvSpPr/>
              <p:nvPr/>
            </p:nvSpPr>
            <p:spPr>
              <a:xfrm flipH="1" flipV="1" rot="6133800">
                <a:off x="7201080" y="23536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83" name="AutoShape 82"/>
              <p:cNvSpPr/>
              <p:nvPr/>
            </p:nvSpPr>
            <p:spPr>
              <a:xfrm flipH="1" flipV="1" rot="6429000">
                <a:off x="7142040" y="23367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  <p:sp>
            <p:nvSpPr>
              <p:cNvPr id="684" name="AutoShape 83"/>
              <p:cNvSpPr/>
              <p:nvPr/>
            </p:nvSpPr>
            <p:spPr>
              <a:xfrm flipH="1" flipV="1" rot="6961200">
                <a:off x="7070400" y="23158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87e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Freeform 84"/>
          <p:cNvSpPr/>
          <p:nvPr/>
        </p:nvSpPr>
        <p:spPr>
          <a:xfrm>
            <a:off x="657360" y="395136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c1be3f">
                  <a:alpha val="80000"/>
                </a:srgbClr>
              </a:gs>
              <a:gs pos="100000">
                <a:srgbClr val="e1dfa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87e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42920" y="6553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a487e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7ca7ce"/>
                </a:solidFill>
                <a:uFillTx/>
                <a:latin typeface="Arial"/>
                <a:ea typeface="宋体"/>
                <a:hlinkClick r:id="rId9"/>
              </a:rPr>
              <a:t>http://www.eeppt.com/moban/</a:t>
            </a:r>
            <a:endParaRPr b="0" lang="en-US" sz="1600" spc="-1" strike="noStrike">
              <a:solidFill>
                <a:srgbClr val="2a4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343040" y="565380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688" name="WordArt 3"/>
          <p:cNvSpPr txBox="1"/>
          <p:nvPr/>
        </p:nvSpPr>
        <p:spPr>
          <a:xfrm>
            <a:off x="4267080" y="4952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ca7ce"/>
                    </a:gs>
                    <a:gs pos="100000">
                      <a:srgbClr val="2a487e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ca7ce"/>
                  </a:gs>
                  <a:gs pos="100000">
                    <a:srgbClr val="2a487e"/>
                  </a:gs>
                </a:gsLst>
                <a:lin ang="5400000"/>
              </a:gradFill>
              <a:effectLst>
                <a:outerShdw dist="71785" dir="2700000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6:35:29Z</dcterms:created>
  <dc:creator>keke</dc:creator>
  <dc:description/>
  <dc:language>en-US</dc:language>
  <cp:lastModifiedBy>王玉清</cp:lastModifiedBy>
  <dcterms:modified xsi:type="dcterms:W3CDTF">2016-02-21T04:12:38Z</dcterms:modified>
  <cp:revision>4</cp:revision>
  <dc:subject/>
  <dc:title>站长站素材 SC.chinaz.COM</dc:title>
</cp:coreProperties>
</file>