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D05-EA2D-4807-838B-8E497764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A98-CA64-4C38-8BC7-BCCC07B8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716-7DD0-4E29-A14C-8EED80F8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EA2-24F1-456A-866E-2BE3606E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65A-922B-454F-A444-F0825513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421-EAC1-4865-B8D2-2523AAB0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AD51-C36A-4E1B-9B88-2AD470D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F9E-3B9D-4451-8169-5397567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969-67B7-4A8F-B560-5B3597E6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C7B-C576-47B3-9BCE-93426AF4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3E8B-40A0-47E2-AB81-E6A3F1B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7EB-D10B-4609-AD20-21FA4DB7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D9C-D75E-4D48-9C4C-74B54EC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542-8057-443D-896F-1E919E3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961-E177-4B64-BE58-85B20829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BD1-171A-457D-94CD-9AE4735A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C6B-A1FE-4827-8103-A80AD78B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430-8239-42F0-B646-8ABAA1D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69D-0D51-4D8F-9DD6-8637084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8A9-EA70-4F24-AD20-A0F91CB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086-B11A-4FF2-802B-7D6FA32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153-7A9D-49D0-B78C-C2D6672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E85-1CA4-4E27-85F0-185C4F1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AF4-B31A-44F6-ACA6-188F61F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90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49B-9E8D-4A95-8747-650A5AF96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90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DFF6-229B-473A-8CDE-2B170500B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工程商务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99"/>
              </a:solidFill>
              <a:latin typeface="Times New Roman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22:12:06Z</dcterms:created>
  <dc:creator>ppt宝藏</dc:creator>
  <dc:description/>
  <dc:language>en-US</dc:language>
  <cp:lastModifiedBy>a</cp:lastModifiedBy>
  <dcterms:modified xsi:type="dcterms:W3CDTF">2015-07-25T07:14:23Z</dcterms:modified>
  <cp:revision>3</cp:revision>
  <dc:subject/>
  <dc:title>www.pptbz.com</dc:title>
</cp:coreProperties>
</file>