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F93-FD15-442D-94DA-71F0A30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2CC-0580-4A25-AB93-06FFF69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644-9164-417E-8B76-D4F573EF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021-5F96-4FBE-A95F-A81937E5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23D-0B71-45D3-9754-D02B45DF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7E9-3F9D-46F8-96AD-62314C3D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419-BADF-443A-8A8F-77A1513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A4B-3304-415E-BBE1-BBDAA86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9AE-778D-4163-A422-6AA8CB3F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269-8727-4D5E-8322-A3EF207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C0C-33C2-4538-B8E4-96B34DE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A2C-F491-4893-8AA6-1980F008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360-CCBB-46CD-955E-1598C723DA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2109960" y="10526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古典迈克通用</a:t>
            </a:r>
            <a:r>
              <a:rPr b="0" lang="en-US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6:27:34Z</dcterms:created>
  <dc:creator>User</dc:creator>
  <dc:description/>
  <dc:language>en-US</dc:language>
  <cp:lastModifiedBy>王玉清</cp:lastModifiedBy>
  <dcterms:modified xsi:type="dcterms:W3CDTF">2016-02-21T07:20:05Z</dcterms:modified>
  <cp:revision>2</cp:revision>
  <dc:subject/>
  <dc:title>幻灯片 1</dc:title>
</cp:coreProperties>
</file>