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DED-C7D0-4323-A8CD-89C9154B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0D2-EA70-4A64-88B6-C5DC64DC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455-D6B7-43ED-B5C0-8851889E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94C-9BEE-4692-B13D-17B1023F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356-443C-4AA8-A274-9A56F81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7D9-DD28-45EE-B40A-FA674E2C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1FA-1F6D-481E-8431-60ADEB26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8F2-1685-49A6-A4CE-4588FAB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872-7E50-45E5-B907-11B83834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74F-4823-4962-9834-E947A7E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203-D4EC-4695-9F9A-8B2E891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8E9-5CC0-4E52-A68F-B8A4E56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24AC-F1ED-40AB-A45A-5304E7BB20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488-F6B3-4F4F-9F59-6B9682C973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7269" r="0" b="0"/>
          <a:stretch/>
        </p:blipFill>
        <p:spPr>
          <a:xfrm>
            <a:off x="-6480" y="0"/>
            <a:ext cx="9150480" cy="571968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7" name="图片 8" descr=""/>
          <p:cNvPicPr/>
          <p:nvPr/>
        </p:nvPicPr>
        <p:blipFill>
          <a:blip r:embed="rId4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"/>
          <p:cNvSpPr/>
          <p:nvPr/>
        </p:nvSpPr>
        <p:spPr>
          <a:xfrm>
            <a:off x="553320" y="63324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"/>
          <p:cNvPicPr/>
          <p:nvPr/>
        </p:nvPicPr>
        <p:blipFill>
          <a:blip r:embed="rId2"/>
          <a:srcRect l="0" t="6899" r="0" b="0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1704960"/>
            <a:ext cx="74152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功夫通用</a:t>
            </a:r>
            <a:r>
              <a:rPr b="1" lang="en-US" sz="40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9688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 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2340000" y="1346040"/>
            <a:ext cx="4929120" cy="787680"/>
            <a:chOff x="2340000" y="1346040"/>
            <a:chExt cx="4929120" cy="787680"/>
          </a:xfrm>
        </p:grpSpPr>
        <p:sp>
          <p:nvSpPr>
            <p:cNvPr id="50" name="圆角矩形 5"/>
            <p:cNvSpPr/>
            <p:nvPr/>
          </p:nvSpPr>
          <p:spPr>
            <a:xfrm>
              <a:off x="2340000" y="1489680"/>
              <a:ext cx="4929120" cy="504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标题 1"/>
            <p:cNvSpPr/>
            <p:nvPr/>
          </p:nvSpPr>
          <p:spPr>
            <a:xfrm>
              <a:off x="3220200" y="1346040"/>
              <a:ext cx="31687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研究</a:t>
              </a:r>
              <a:r>
                <a:rPr b="0" lang="en-US" sz="1800" spc="-1" strike="noStrike">
                  <a:solidFill>
                    <a:srgbClr val="e36c09"/>
                  </a:solidFill>
                  <a:latin typeface="微软雅黑"/>
                </a:rPr>
                <a:t>PPT</a:t>
              </a: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模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2340000" y="2162160"/>
            <a:ext cx="4929120" cy="787320"/>
            <a:chOff x="2340000" y="2162160"/>
            <a:chExt cx="4929120" cy="787320"/>
          </a:xfrm>
        </p:grpSpPr>
        <p:sp>
          <p:nvSpPr>
            <p:cNvPr id="53" name="圆角矩形 8"/>
            <p:cNvSpPr/>
            <p:nvPr/>
          </p:nvSpPr>
          <p:spPr>
            <a:xfrm>
              <a:off x="2340000" y="230580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标题 1"/>
            <p:cNvSpPr/>
            <p:nvPr/>
          </p:nvSpPr>
          <p:spPr>
            <a:xfrm>
              <a:off x="3220200" y="216216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不变的风格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2340000" y="2978280"/>
            <a:ext cx="4929120" cy="787320"/>
            <a:chOff x="2340000" y="2978280"/>
            <a:chExt cx="4929120" cy="787320"/>
          </a:xfrm>
        </p:grpSpPr>
        <p:sp>
          <p:nvSpPr>
            <p:cNvPr id="56" name="圆角矩形 11"/>
            <p:cNvSpPr/>
            <p:nvPr/>
          </p:nvSpPr>
          <p:spPr>
            <a:xfrm>
              <a:off x="2340000" y="312192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标题 1"/>
            <p:cNvSpPr/>
            <p:nvPr/>
          </p:nvSpPr>
          <p:spPr>
            <a:xfrm>
              <a:off x="3220200" y="297828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求变求创新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2359080" y="3794040"/>
            <a:ext cx="4929120" cy="787320"/>
            <a:chOff x="2359080" y="3794040"/>
            <a:chExt cx="4929120" cy="787320"/>
          </a:xfrm>
        </p:grpSpPr>
        <p:sp>
          <p:nvSpPr>
            <p:cNvPr id="59" name="圆角矩形 14"/>
            <p:cNvSpPr/>
            <p:nvPr/>
          </p:nvSpPr>
          <p:spPr>
            <a:xfrm>
              <a:off x="2359080" y="3937680"/>
              <a:ext cx="4929120" cy="504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25000"/>
              </a:srgbClr>
            </a:solidFill>
            <a:ln w="19080">
              <a:solidFill>
                <a:srgbClr val="ffffff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标题 1"/>
            <p:cNvSpPr/>
            <p:nvPr/>
          </p:nvSpPr>
          <p:spPr>
            <a:xfrm>
              <a:off x="3239280" y="3794040"/>
              <a:ext cx="316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6c09"/>
                  </a:solidFill>
                  <a:latin typeface="微软雅黑"/>
                </a:rPr>
                <a:t>一天怎么这么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25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4"/>
          <p:cNvSpPr/>
          <p:nvPr/>
        </p:nvSpPr>
        <p:spPr>
          <a:xfrm>
            <a:off x="324000" y="912960"/>
            <a:ext cx="8496000" cy="4608360"/>
          </a:xfrm>
          <a:prstGeom prst="roundRect">
            <a:avLst>
              <a:gd name="adj" fmla="val 2394"/>
            </a:avLst>
          </a:prstGeom>
          <a:solidFill>
            <a:srgbClr val="ffffff">
              <a:alpha val="25000"/>
            </a:srgbClr>
          </a:solidFill>
          <a:ln w="9360">
            <a:solidFill>
              <a:srgbClr val="ffffff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1104840" y="148896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书到用时方恨少，年少有空的时间多积累些东西，待到用时信手拈来，即为快哉，图表这东西很多的了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做了没用究竟有没有意义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65" name="Group 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66" name="Group 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67" name="Group 1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8" name="Group 12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69" name="Group 1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0" name="Group 2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1" name="Group 2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2" name="Group 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3" name="Group 3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74" name="Group 3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5" name="Group 4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76" name="Group 4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77" name="Group 4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8" name="Group 4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9" name="Group 4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80" name="Group 5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1" name="Group 5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2" name="Group 6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3" name="Group 6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84" name="Group 7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85" name="Group 7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6" name="Group 7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87" name="Group 8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88" name="Group 8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9" name="Group 8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90" name="Group 87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91" name="Group 9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2" name="Group 9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3" name="Group 10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4" name="Group 10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95" name="Group 10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96" name="Group 11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7" name="Group 11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98" name="Group 1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99" name="Group 12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0" name="Group 1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01" name="Group 12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02" name="Group 1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3" name="Group 1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4" name="Group 14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5" name="Group 14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06" name="Group 14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07" name="Group 15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08" name="Group 1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09" name="Group 15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110" name="Group 15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1" name="Group 16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12" name="Group 16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13" name="Group 16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4" name="Group 17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5" name="Group 17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6" name="Group 18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17" name="Group 18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18" name="Group 18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9" name="Group 19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sp>
        <p:nvSpPr>
          <p:cNvPr id="120" name="TextBox 198"/>
          <p:cNvSpPr/>
          <p:nvPr/>
        </p:nvSpPr>
        <p:spPr>
          <a:xfrm>
            <a:off x="4822920" y="25304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9"/>
          <p:cNvSpPr/>
          <p:nvPr/>
        </p:nvSpPr>
        <p:spPr>
          <a:xfrm>
            <a:off x="6665760" y="4481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0"/>
          <p:cNvSpPr/>
          <p:nvPr/>
        </p:nvSpPr>
        <p:spPr>
          <a:xfrm>
            <a:off x="7093080" y="324180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1"/>
          <p:cNvSpPr/>
          <p:nvPr/>
        </p:nvSpPr>
        <p:spPr>
          <a:xfrm>
            <a:off x="3386160" y="45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2"/>
          <p:cNvSpPr/>
          <p:nvPr/>
        </p:nvSpPr>
        <p:spPr>
          <a:xfrm>
            <a:off x="3475080" y="3429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03" descr=""/>
          <p:cNvPicPr/>
          <p:nvPr/>
        </p:nvPicPr>
        <p:blipFill>
          <a:blip r:embed="rId1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04" descr=""/>
          <p:cNvPicPr/>
          <p:nvPr/>
        </p:nvPicPr>
        <p:blipFill>
          <a:blip r:embed="rId2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 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 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4765680" y="2473200"/>
            <a:ext cx="1933560" cy="1933560"/>
            <a:chOff x="4765680" y="2473200"/>
            <a:chExt cx="1933560" cy="1933560"/>
          </a:xfrm>
        </p:grpSpPr>
        <p:sp>
          <p:nvSpPr>
            <p:cNvPr id="129" name="Oval 14"/>
            <p:cNvSpPr/>
            <p:nvPr/>
          </p:nvSpPr>
          <p:spPr>
            <a:xfrm>
              <a:off x="4765680" y="2473200"/>
              <a:ext cx="1933560" cy="19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3"/>
            <p:cNvGrpSpPr/>
            <p:nvPr/>
          </p:nvGrpSpPr>
          <p:grpSpPr>
            <a:xfrm>
              <a:off x="5519520" y="2512800"/>
              <a:ext cx="420480" cy="377280"/>
              <a:chOff x="5519520" y="2512800"/>
              <a:chExt cx="420480" cy="377280"/>
            </a:xfrm>
          </p:grpSpPr>
          <p:sp>
            <p:nvSpPr>
              <p:cNvPr id="131" name="Oval 17"/>
              <p:cNvSpPr/>
              <p:nvPr/>
            </p:nvSpPr>
            <p:spPr>
              <a:xfrm>
                <a:off x="5519520" y="2512800"/>
                <a:ext cx="420480" cy="37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18"/>
            <p:cNvSpPr/>
            <p:nvPr/>
          </p:nvSpPr>
          <p:spPr>
            <a:xfrm>
              <a:off x="4958640" y="2927160"/>
              <a:ext cx="168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</a:rPr>
                <a:t>是否有点无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9"/>
          <p:cNvSpPr/>
          <p:nvPr/>
        </p:nvSpPr>
        <p:spPr>
          <a:xfrm>
            <a:off x="5940360" y="4562640"/>
            <a:ext cx="78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spi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4745160" y="4632480"/>
            <a:ext cx="66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rem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4027320" y="3666960"/>
            <a:ext cx="52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ub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4070520" y="2473200"/>
            <a:ext cx="55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Styl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842160" y="3699000"/>
            <a:ext cx="56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Vis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 rot="1390800">
            <a:off x="5749920" y="1809720"/>
            <a:ext cx="118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amp;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6927840" y="262080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4784760" y="1733400"/>
            <a:ext cx="70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Univer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611280" y="1241280"/>
            <a:ext cx="188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</a:rPr>
              <a:t>主要原因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反正闲着也是闲着，让无聊进行到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</a:rPr>
              <a:t>主要原因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身在异地见不到女朋友，连女朋友生气了也没法哄，想发泄下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8"/>
          <p:cNvSpPr/>
          <p:nvPr/>
        </p:nvSpPr>
        <p:spPr>
          <a:xfrm>
            <a:off x="2843280" y="1417680"/>
            <a:ext cx="1440" cy="224928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3" descr=""/>
          <p:cNvPicPr/>
          <p:nvPr/>
        </p:nvPicPr>
        <p:blipFill>
          <a:blip r:embed="rId1"/>
          <a:srcRect l="0" t="6899" r="0" b="0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1704960"/>
            <a:ext cx="74152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1960" y="51973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01:34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2-21T04:04:27Z</dcterms:modified>
  <cp:revision>7</cp:revision>
  <dc:subject/>
  <dc:title>Power Point  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