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e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e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8e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8e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b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8e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3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b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b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6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a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7000"/>
            <a:ext cx="9144000" cy="6858000"/>
            <a:chOff x="0" y="2700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ea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717560"/>
              <a:ext cx="7427880" cy="2533680"/>
            </a:xfrm>
            <a:prstGeom prst="rect">
              <a:avLst/>
            </a:prstGeom>
            <a:solidFill>
              <a:srgbClr val="006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93680"/>
              <a:ext cx="2867040" cy="3157560"/>
              <a:chOff x="0" y="1093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609720"/>
                <a:ext cx="576360" cy="641520"/>
              </a:xfrm>
              <a:prstGeom prst="rect">
                <a:avLst/>
              </a:prstGeom>
              <a:solidFill>
                <a:srgbClr val="00b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717560"/>
                <a:ext cx="574560" cy="642960"/>
              </a:xfrm>
              <a:prstGeom prst="rect">
                <a:avLst/>
              </a:prstGeom>
              <a:solidFill>
                <a:srgbClr val="c8e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93680"/>
                <a:ext cx="585720" cy="635040"/>
              </a:xfrm>
              <a:prstGeom prst="rect">
                <a:avLst/>
              </a:prstGeom>
              <a:solidFill>
                <a:srgbClr val="c8e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609720"/>
                <a:ext cx="583920" cy="641520"/>
              </a:xfrm>
              <a:prstGeom prst="rect">
                <a:avLst/>
              </a:prstGeom>
              <a:solidFill>
                <a:srgbClr val="003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717560"/>
                <a:ext cx="585720" cy="642960"/>
              </a:xfrm>
              <a:prstGeom prst="rect">
                <a:avLst/>
              </a:prstGeom>
              <a:solidFill>
                <a:srgbClr val="00b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51160"/>
                <a:ext cx="583920" cy="633240"/>
              </a:xfrm>
              <a:prstGeom prst="rect">
                <a:avLst/>
              </a:prstGeom>
              <a:solidFill>
                <a:srgbClr val="c8e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51160"/>
                <a:ext cx="582480" cy="633240"/>
              </a:xfrm>
              <a:prstGeom prst="rect">
                <a:avLst/>
              </a:prstGeom>
              <a:solidFill>
                <a:srgbClr val="003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51160"/>
                <a:ext cx="574560" cy="633240"/>
              </a:xfrm>
              <a:prstGeom prst="rect">
                <a:avLst/>
              </a:prstGeom>
              <a:solidFill>
                <a:srgbClr val="00b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75040"/>
                <a:ext cx="576360" cy="644400"/>
              </a:xfrm>
              <a:prstGeom prst="rect">
                <a:avLst/>
              </a:prstGeom>
              <a:solidFill>
                <a:srgbClr val="c8e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75040"/>
                <a:ext cx="583920" cy="644400"/>
              </a:xfrm>
              <a:prstGeom prst="rect">
                <a:avLst/>
              </a:prstGeom>
              <a:solidFill>
                <a:srgbClr val="00b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77080" y="5948280"/>
            <a:ext cx="2158920" cy="79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4760" y="30240"/>
            <a:ext cx="3746520" cy="1100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a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a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6000" y="2420640"/>
            <a:ext cx="583236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22936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1:18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30:51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