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7CE-5224-4698-BE70-656BBDD3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2ED-5699-4F50-8024-D469E81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963-C498-4843-80C4-3F554970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515-5591-4ED8-923C-5544DCF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4B6-9EEC-4785-81A3-58FDCD98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BDA-0545-4702-8F7A-2006863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12A-2C99-4022-A18B-25928B6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2C8-158C-4B19-BBBC-7F3B791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22B-8E6A-4497-8625-7CB7A1C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29D-97CC-461E-B673-DE58018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CAB-D971-49F4-B2C7-C98F368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8C8-8522-4A54-BF24-670D130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41C7-CE22-499F-93E7-B4F1505491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7062-2485-45B8-842B-60E474EFE8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009800" y="895320"/>
            <a:ext cx="728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1c61b"/>
                </a:solidFill>
                <a:latin typeface="方正正中黑简体"/>
                <a:ea typeface="华康简综艺"/>
              </a:rPr>
              <a:t>辛苦工作一辈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1c61b"/>
                </a:solidFill>
                <a:latin typeface="方正正中黑简体"/>
                <a:ea typeface="华康简综艺"/>
              </a:rPr>
              <a:t>你的养老金够养老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498680" y="1803240"/>
            <a:ext cx="3733560" cy="288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80708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6120" y="1969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完整版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646200" y="225360"/>
            <a:ext cx="80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“用工劳动合同”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89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94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104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520" y="4737240"/>
            <a:ext cx="564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120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124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134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145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147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lnTo>
                      <a:pt x="356663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71A-2D8E-4053-88C8-BC2609F3F8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56:11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