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9AB-E780-4551-9DBF-139EE6DE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9BB-F9FF-4D68-BFAB-082322CA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F46-1F8C-4BE2-B6F2-B2E956D0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8C8-00ED-4DF1-BF8B-3840D02D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E02-B70B-4BA4-9D93-7AC7ED28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C77-D88F-4A21-A155-38259457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711-FA60-485F-8FFD-1D888B1D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A53-5E7A-431E-AE17-0D76F9DB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71C-A049-4708-A16A-AEB9D3DD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A6F6-BFE0-49B7-A9DE-D5EA4599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710-C746-49D4-8BCE-345D0B9B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695-8083-4F76-B6D5-E2916E12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13DD-114E-4B05-A230-E39CF79541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花纹四套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花纹四套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pthi-hoo.com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pthi-hoo.com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pthi-hoo.com/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E:\新模板\花纹四套\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3"/>
          <p:cNvSpPr/>
          <p:nvPr/>
        </p:nvSpPr>
        <p:spPr>
          <a:xfrm>
            <a:off x="1738440" y="1239840"/>
            <a:ext cx="55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力色彩简约时尚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6570360" y="235260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副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8709120" y="912960"/>
            <a:ext cx="183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206280" y="5410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10"/>
          <p:cNvSpPr/>
          <p:nvPr/>
        </p:nvSpPr>
        <p:spPr>
          <a:xfrm>
            <a:off x="179280" y="4991040"/>
            <a:ext cx="350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模板下载及</a:t>
            </a: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，敬请访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ppthi-hoo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7"/>
          <p:cNvSpPr/>
          <p:nvPr/>
        </p:nvSpPr>
        <p:spPr>
          <a:xfrm>
            <a:off x="6444720" y="13572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9"/>
          <p:cNvSpPr/>
          <p:nvPr/>
        </p:nvSpPr>
        <p:spPr>
          <a:xfrm>
            <a:off x="7052040" y="9414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BatangChe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1"/>
          <p:cNvGrpSpPr/>
          <p:nvPr/>
        </p:nvGrpSpPr>
        <p:grpSpPr>
          <a:xfrm>
            <a:off x="809640" y="1428840"/>
            <a:ext cx="7524720" cy="2490840"/>
            <a:chOff x="809640" y="1428840"/>
            <a:chExt cx="7524720" cy="2490840"/>
          </a:xfrm>
        </p:grpSpPr>
        <p:sp>
          <p:nvSpPr>
            <p:cNvPr id="163" name="AutoShape 3"/>
            <p:cNvSpPr/>
            <p:nvPr/>
          </p:nvSpPr>
          <p:spPr>
            <a:xfrm>
              <a:off x="809640" y="1571400"/>
              <a:ext cx="7524720" cy="2348280"/>
            </a:xfrm>
            <a:prstGeom prst="rect">
              <a:avLst/>
            </a:prstGeom>
            <a:solidFill>
              <a:srgbClr val="595959">
                <a:alpha val="7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"/>
            <p:cNvSpPr/>
            <p:nvPr/>
          </p:nvSpPr>
          <p:spPr>
            <a:xfrm>
              <a:off x="914040" y="1428840"/>
              <a:ext cx="7315920" cy="2377440"/>
            </a:xfrm>
            <a:prstGeom prst="rect">
              <a:avLst/>
            </a:prstGeom>
            <a:solidFill>
              <a:srgbClr val="1e8fb2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3"/>
          <p:cNvSpPr/>
          <p:nvPr/>
        </p:nvSpPr>
        <p:spPr>
          <a:xfrm>
            <a:off x="7380360" y="90360"/>
            <a:ext cx="151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>
            <a:hlinkClick r:id="rId1"/>
          </p:cNvPr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3"/>
          <p:cNvSpPr/>
          <p:nvPr/>
        </p:nvSpPr>
        <p:spPr>
          <a:xfrm>
            <a:off x="1290600" y="140652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1355760" y="1214280"/>
            <a:ext cx="6432480" cy="482760"/>
          </a:xfrm>
          <a:prstGeom prst="rect">
            <a:avLst/>
          </a:pr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3151080" y="130032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65"/>
          <p:cNvGrpSpPr/>
          <p:nvPr/>
        </p:nvGrpSpPr>
        <p:grpSpPr>
          <a:xfrm>
            <a:off x="1290600" y="2085840"/>
            <a:ext cx="6562800" cy="546120"/>
            <a:chOff x="1290600" y="2085840"/>
            <a:chExt cx="6562800" cy="546120"/>
          </a:xfrm>
        </p:grpSpPr>
        <p:sp>
          <p:nvSpPr>
            <p:cNvPr id="171" name="AutoShape 3"/>
            <p:cNvSpPr/>
            <p:nvPr/>
          </p:nvSpPr>
          <p:spPr>
            <a:xfrm>
              <a:off x="1290600" y="227772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3"/>
            <p:cNvSpPr/>
            <p:nvPr/>
          </p:nvSpPr>
          <p:spPr>
            <a:xfrm>
              <a:off x="1355400" y="2085840"/>
              <a:ext cx="6432840" cy="482760"/>
            </a:xfrm>
            <a:prstGeom prst="rect">
              <a:avLst/>
            </a:prstGeom>
            <a:solidFill>
              <a:srgbClr val="7f7f7f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13"/>
          <p:cNvSpPr/>
          <p:nvPr/>
        </p:nvSpPr>
        <p:spPr>
          <a:xfrm>
            <a:off x="3151080" y="217188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1290600" y="315108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1355760" y="2959200"/>
            <a:ext cx="6432480" cy="482400"/>
          </a:xfrm>
          <a:prstGeom prst="rect">
            <a:avLst/>
          </a:pr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3151080" y="304488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60"/>
          <p:cNvGrpSpPr/>
          <p:nvPr/>
        </p:nvGrpSpPr>
        <p:grpSpPr>
          <a:xfrm>
            <a:off x="1290600" y="3830760"/>
            <a:ext cx="6562800" cy="546120"/>
            <a:chOff x="1290600" y="3830760"/>
            <a:chExt cx="6562800" cy="546120"/>
          </a:xfrm>
        </p:grpSpPr>
        <p:sp>
          <p:nvSpPr>
            <p:cNvPr id="178" name="AutoShape 3"/>
            <p:cNvSpPr/>
            <p:nvPr/>
          </p:nvSpPr>
          <p:spPr>
            <a:xfrm>
              <a:off x="1290600" y="40226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3"/>
            <p:cNvSpPr/>
            <p:nvPr/>
          </p:nvSpPr>
          <p:spPr>
            <a:xfrm>
              <a:off x="1355400" y="3830760"/>
              <a:ext cx="6432840" cy="482760"/>
            </a:xfrm>
            <a:prstGeom prst="rect">
              <a:avLst/>
            </a:prstGeom>
            <a:solidFill>
              <a:srgbClr val="7f7f7f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13"/>
          <p:cNvSpPr/>
          <p:nvPr/>
        </p:nvSpPr>
        <p:spPr>
          <a:xfrm>
            <a:off x="3151080" y="391644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7380360" y="90360"/>
            <a:ext cx="151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>
            <a:hlinkClick r:id="rId1"/>
          </p:cNvPr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3"/>
          <p:cNvSpPr/>
          <p:nvPr/>
        </p:nvSpPr>
        <p:spPr>
          <a:xfrm>
            <a:off x="1290600" y="276228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1355760" y="2570040"/>
            <a:ext cx="6432480" cy="480960"/>
          </a:xfrm>
          <a:prstGeom prst="rect">
            <a:avLst/>
          </a:pr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3151080" y="265428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7380360" y="90360"/>
            <a:ext cx="151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>
            <a:hlinkClick r:id="rId1"/>
          </p:cNvPr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"/>
          <p:cNvSpPr/>
          <p:nvPr/>
        </p:nvSpPr>
        <p:spPr>
          <a:xfrm>
            <a:off x="1033560" y="2508120"/>
            <a:ext cx="1684080" cy="24307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空心弧 2"/>
          <p:cNvSpPr/>
          <p:nvPr/>
        </p:nvSpPr>
        <p:spPr>
          <a:xfrm>
            <a:off x="1357200" y="985680"/>
            <a:ext cx="1036800" cy="1036800"/>
          </a:xfrm>
          <a:custGeom>
            <a:avLst/>
            <a:gdLst/>
            <a:ahLst/>
            <a:rect l="l" t="t" r="r" b="b"/>
            <a:pathLst>
              <a:path w="1036637" h="1036637">
                <a:moveTo>
                  <a:pt x="1036636" y="519065"/>
                </a:moveTo>
                <a:cubicBezTo>
                  <a:pt x="1036224" y="805202"/>
                  <a:pt x="804021" y="1036876"/>
                  <a:pt x="517884" y="1036637"/>
                </a:cubicBezTo>
                <a:cubicBezTo>
                  <a:pt x="231747" y="1036398"/>
                  <a:pt x="-68" y="804335"/>
                  <a:pt x="-2" y="518198"/>
                </a:cubicBezTo>
                <a:cubicBezTo>
                  <a:pt x="64" y="232061"/>
                  <a:pt x="231986" y="106"/>
                  <a:pt x="518124" y="-1"/>
                </a:cubicBezTo>
                <a:cubicBezTo>
                  <a:pt x="518157" y="87008"/>
                  <a:pt x="518190" y="174016"/>
                  <a:pt x="518223" y="261025"/>
                </a:cubicBezTo>
                <a:cubicBezTo>
                  <a:pt x="376185" y="261078"/>
                  <a:pt x="261059" y="376220"/>
                  <a:pt x="261026" y="518258"/>
                </a:cubicBezTo>
                <a:cubicBezTo>
                  <a:pt x="260993" y="660296"/>
                  <a:pt x="376066" y="775492"/>
                  <a:pt x="518104" y="775610"/>
                </a:cubicBezTo>
                <a:cubicBezTo>
                  <a:pt x="660142" y="775729"/>
                  <a:pt x="775407" y="660726"/>
                  <a:pt x="775612" y="518688"/>
                </a:cubicBezTo>
                <a:lnTo>
                  <a:pt x="1036636" y="519065"/>
                </a:lnTo>
                <a:close/>
              </a:path>
            </a:pathLst>
          </a:custGeom>
          <a:solidFill>
            <a:srgbClr val="7f7f7f">
              <a:alpha val="8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空心弧 3"/>
          <p:cNvSpPr/>
          <p:nvPr/>
        </p:nvSpPr>
        <p:spPr>
          <a:xfrm>
            <a:off x="1357200" y="985680"/>
            <a:ext cx="1036800" cy="1036800"/>
          </a:xfrm>
          <a:custGeom>
            <a:avLst/>
            <a:gdLst/>
            <a:ahLst/>
            <a:rect l="l" t="t" r="r" b="b"/>
            <a:pathLst>
              <a:path w="1036637" h="1036637">
                <a:moveTo>
                  <a:pt x="519555" y="1"/>
                </a:moveTo>
                <a:cubicBezTo>
                  <a:pt x="805331" y="682"/>
                  <a:pt x="1036638" y="232541"/>
                  <a:pt x="1036638" y="518319"/>
                </a:cubicBezTo>
                <a:lnTo>
                  <a:pt x="777478" y="518319"/>
                </a:lnTo>
                <a:cubicBezTo>
                  <a:pt x="777478" y="375431"/>
                  <a:pt x="661825" y="259501"/>
                  <a:pt x="518937" y="259161"/>
                </a:cubicBezTo>
                <a:lnTo>
                  <a:pt x="519555" y="1"/>
                </a:lnTo>
                <a:close/>
              </a:path>
            </a:pathLst>
          </a:custGeom>
          <a:solidFill>
            <a:srgbClr val="1e8fb2">
              <a:alpha val="80000"/>
            </a:srgbClr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空心弧 4"/>
          <p:cNvSpPr/>
          <p:nvPr/>
        </p:nvSpPr>
        <p:spPr>
          <a:xfrm>
            <a:off x="3154320" y="985680"/>
            <a:ext cx="1036800" cy="1036800"/>
          </a:xfrm>
          <a:custGeom>
            <a:avLst/>
            <a:gdLst/>
            <a:ahLst/>
            <a:rect l="l" t="t" r="r" b="b"/>
            <a:pathLst>
              <a:path w="1036637" h="1036637">
                <a:moveTo>
                  <a:pt x="517825" y="1036637"/>
                </a:moveTo>
                <a:cubicBezTo>
                  <a:pt x="231700" y="1036365"/>
                  <a:pt x="-83" y="804294"/>
                  <a:pt x="0" y="518168"/>
                </a:cubicBezTo>
                <a:cubicBezTo>
                  <a:pt x="83" y="232042"/>
                  <a:pt x="232000" y="106"/>
                  <a:pt x="518126" y="-1"/>
                </a:cubicBezTo>
                <a:cubicBezTo>
                  <a:pt x="518158" y="87008"/>
                  <a:pt x="518191" y="174016"/>
                  <a:pt x="518223" y="261025"/>
                </a:cubicBezTo>
                <a:cubicBezTo>
                  <a:pt x="376191" y="261078"/>
                  <a:pt x="261067" y="376211"/>
                  <a:pt x="261026" y="518243"/>
                </a:cubicBezTo>
                <a:cubicBezTo>
                  <a:pt x="260985" y="660275"/>
                  <a:pt x="376042" y="775475"/>
                  <a:pt x="518074" y="775610"/>
                </a:cubicBezTo>
                <a:lnTo>
                  <a:pt x="517825" y="1036637"/>
                </a:lnTo>
                <a:close/>
              </a:path>
            </a:pathLst>
          </a:custGeom>
          <a:solidFill>
            <a:srgbClr val="7f7f7f">
              <a:alpha val="8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空心弧 5"/>
          <p:cNvSpPr/>
          <p:nvPr/>
        </p:nvSpPr>
        <p:spPr>
          <a:xfrm>
            <a:off x="3154320" y="985680"/>
            <a:ext cx="1036800" cy="1036800"/>
          </a:xfrm>
          <a:custGeom>
            <a:avLst/>
            <a:gdLst/>
            <a:ahLst/>
            <a:rect l="l" t="t" r="r" b="b"/>
            <a:pathLst>
              <a:path w="1036637" h="1036637">
                <a:moveTo>
                  <a:pt x="519555" y="1"/>
                </a:moveTo>
                <a:cubicBezTo>
                  <a:pt x="805224" y="682"/>
                  <a:pt x="1036486" y="232374"/>
                  <a:pt x="1036638" y="518044"/>
                </a:cubicBezTo>
                <a:cubicBezTo>
                  <a:pt x="1036790" y="803714"/>
                  <a:pt x="805773" y="1035651"/>
                  <a:pt x="520105" y="1036635"/>
                </a:cubicBezTo>
                <a:cubicBezTo>
                  <a:pt x="519804" y="949195"/>
                  <a:pt x="519502" y="861754"/>
                  <a:pt x="519201" y="774314"/>
                </a:cubicBezTo>
                <a:cubicBezTo>
                  <a:pt x="660293" y="773828"/>
                  <a:pt x="774392" y="659274"/>
                  <a:pt x="774317" y="518182"/>
                </a:cubicBezTo>
                <a:cubicBezTo>
                  <a:pt x="774242" y="377090"/>
                  <a:pt x="660022" y="262657"/>
                  <a:pt x="518930" y="262321"/>
                </a:cubicBezTo>
                <a:cubicBezTo>
                  <a:pt x="519138" y="174881"/>
                  <a:pt x="519347" y="87441"/>
                  <a:pt x="519555" y="1"/>
                </a:cubicBezTo>
                <a:close/>
              </a:path>
            </a:pathLst>
          </a:custGeom>
          <a:solidFill>
            <a:srgbClr val="1e8fb2">
              <a:alpha val="80000"/>
            </a:srgbClr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空心弧 6"/>
          <p:cNvSpPr/>
          <p:nvPr/>
        </p:nvSpPr>
        <p:spPr>
          <a:xfrm>
            <a:off x="4952880" y="985680"/>
            <a:ext cx="1036800" cy="1036800"/>
          </a:xfrm>
          <a:custGeom>
            <a:avLst/>
            <a:gdLst/>
            <a:ahLst/>
            <a:rect l="l" t="t" r="r" b="b"/>
            <a:pathLst>
              <a:path w="1036638" h="1036637">
                <a:moveTo>
                  <a:pt x="1" y="519417"/>
                </a:moveTo>
                <a:cubicBezTo>
                  <a:pt x="-291" y="381794"/>
                  <a:pt x="54162" y="249704"/>
                  <a:pt x="151355" y="152268"/>
                </a:cubicBezTo>
                <a:cubicBezTo>
                  <a:pt x="248548" y="54832"/>
                  <a:pt x="380502" y="50"/>
                  <a:pt x="518125" y="-1"/>
                </a:cubicBezTo>
                <a:cubicBezTo>
                  <a:pt x="518158" y="87008"/>
                  <a:pt x="518190" y="174016"/>
                  <a:pt x="518223" y="261025"/>
                </a:cubicBezTo>
                <a:cubicBezTo>
                  <a:pt x="449907" y="261050"/>
                  <a:pt x="384405" y="288244"/>
                  <a:pt x="336158" y="336611"/>
                </a:cubicBezTo>
                <a:cubicBezTo>
                  <a:pt x="287911" y="384978"/>
                  <a:pt x="260880" y="450547"/>
                  <a:pt x="261025" y="518864"/>
                </a:cubicBezTo>
                <a:lnTo>
                  <a:pt x="1" y="519417"/>
                </a:lnTo>
                <a:close/>
              </a:path>
            </a:pathLst>
          </a:custGeom>
          <a:solidFill>
            <a:srgbClr val="7f7f7f">
              <a:alpha val="8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空心弧 7"/>
          <p:cNvSpPr/>
          <p:nvPr/>
        </p:nvSpPr>
        <p:spPr>
          <a:xfrm>
            <a:off x="4952880" y="985680"/>
            <a:ext cx="1036800" cy="1036800"/>
          </a:xfrm>
          <a:custGeom>
            <a:avLst/>
            <a:gdLst/>
            <a:ahLst/>
            <a:rect l="l" t="t" r="r" b="b"/>
            <a:pathLst>
              <a:path w="1036638" h="1036637">
                <a:moveTo>
                  <a:pt x="519555" y="1"/>
                </a:moveTo>
                <a:cubicBezTo>
                  <a:pt x="805653" y="683"/>
                  <a:pt x="1037092" y="233044"/>
                  <a:pt x="1036637" y="519142"/>
                </a:cubicBezTo>
                <a:cubicBezTo>
                  <a:pt x="1036182" y="805240"/>
                  <a:pt x="804005" y="1036864"/>
                  <a:pt x="517907" y="1036637"/>
                </a:cubicBezTo>
                <a:cubicBezTo>
                  <a:pt x="231808" y="1036410"/>
                  <a:pt x="0" y="804417"/>
                  <a:pt x="0" y="518318"/>
                </a:cubicBezTo>
                <a:lnTo>
                  <a:pt x="260922" y="518319"/>
                </a:lnTo>
                <a:cubicBezTo>
                  <a:pt x="260922" y="660396"/>
                  <a:pt x="376038" y="775603"/>
                  <a:pt x="518114" y="775716"/>
                </a:cubicBezTo>
                <a:cubicBezTo>
                  <a:pt x="660190" y="775829"/>
                  <a:pt x="775489" y="660805"/>
                  <a:pt x="775715" y="518728"/>
                </a:cubicBezTo>
                <a:cubicBezTo>
                  <a:pt x="775941" y="376652"/>
                  <a:pt x="661008" y="261261"/>
                  <a:pt x="518932" y="260923"/>
                </a:cubicBezTo>
                <a:cubicBezTo>
                  <a:pt x="519140" y="173949"/>
                  <a:pt x="519347" y="86975"/>
                  <a:pt x="519555" y="1"/>
                </a:cubicBezTo>
                <a:close/>
              </a:path>
            </a:pathLst>
          </a:custGeom>
          <a:solidFill>
            <a:srgbClr val="1e8fb2">
              <a:alpha val="80000"/>
            </a:srgbClr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同心圆 8"/>
          <p:cNvSpPr/>
          <p:nvPr/>
        </p:nvSpPr>
        <p:spPr>
          <a:xfrm>
            <a:off x="6750000" y="985680"/>
            <a:ext cx="1036800" cy="1036800"/>
          </a:xfrm>
          <a:custGeom>
            <a:avLst/>
            <a:gdLst/>
            <a:ahLst/>
            <a:rect l="l" t="t" r="r" b="b"/>
            <a:pathLst>
              <a:path w="1036638" h="1036637">
                <a:moveTo>
                  <a:pt x="0" y="518319"/>
                </a:moveTo>
                <a:cubicBezTo>
                  <a:pt x="0" y="232059"/>
                  <a:pt x="232059" y="0"/>
                  <a:pt x="518319" y="0"/>
                </a:cubicBezTo>
                <a:cubicBezTo>
                  <a:pt x="804579" y="0"/>
                  <a:pt x="1036638" y="232059"/>
                  <a:pt x="1036638" y="518319"/>
                </a:cubicBezTo>
                <a:cubicBezTo>
                  <a:pt x="1036638" y="804579"/>
                  <a:pt x="804579" y="1036638"/>
                  <a:pt x="518319" y="1036638"/>
                </a:cubicBezTo>
                <a:cubicBezTo>
                  <a:pt x="232059" y="1036638"/>
                  <a:pt x="0" y="804579"/>
                  <a:pt x="0" y="518319"/>
                </a:cubicBezTo>
                <a:close/>
                <a:moveTo>
                  <a:pt x="259159" y="518319"/>
                </a:moveTo>
                <a:cubicBezTo>
                  <a:pt x="259159" y="661449"/>
                  <a:pt x="375189" y="777478"/>
                  <a:pt x="518319" y="777478"/>
                </a:cubicBezTo>
                <a:cubicBezTo>
                  <a:pt x="661449" y="777478"/>
                  <a:pt x="777479" y="661449"/>
                  <a:pt x="777479" y="518319"/>
                </a:cubicBezTo>
                <a:cubicBezTo>
                  <a:pt x="777479" y="375189"/>
                  <a:pt x="661449" y="259160"/>
                  <a:pt x="518319" y="259160"/>
                </a:cubicBezTo>
                <a:cubicBezTo>
                  <a:pt x="375189" y="259160"/>
                  <a:pt x="259159" y="375189"/>
                  <a:pt x="259159" y="518319"/>
                </a:cubicBezTo>
                <a:close/>
              </a:path>
            </a:pathLst>
          </a:custGeom>
          <a:solidFill>
            <a:srgbClr val="1e8fb2">
              <a:alpha val="80000"/>
            </a:srgbClr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1589040" y="1336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3386160" y="1336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5183280" y="1336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6981840" y="1336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13"/>
          <p:cNvGrpSpPr/>
          <p:nvPr/>
        </p:nvGrpSpPr>
        <p:grpSpPr>
          <a:xfrm>
            <a:off x="1616040" y="2068560"/>
            <a:ext cx="519120" cy="345960"/>
            <a:chOff x="1616040" y="2068560"/>
            <a:chExt cx="519120" cy="345960"/>
          </a:xfrm>
        </p:grpSpPr>
        <p:sp>
          <p:nvSpPr>
            <p:cNvPr id="201" name="燕尾形 14"/>
            <p:cNvSpPr/>
            <p:nvPr/>
          </p:nvSpPr>
          <p:spPr>
            <a:xfrm rot="5400000">
              <a:off x="1778760" y="19058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燕尾形 15"/>
            <p:cNvSpPr/>
            <p:nvPr/>
          </p:nvSpPr>
          <p:spPr>
            <a:xfrm rot="5400000">
              <a:off x="1778760" y="205812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矩形 16"/>
          <p:cNvSpPr/>
          <p:nvPr/>
        </p:nvSpPr>
        <p:spPr>
          <a:xfrm>
            <a:off x="2830680" y="2508120"/>
            <a:ext cx="1684080" cy="24307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17"/>
          <p:cNvGrpSpPr/>
          <p:nvPr/>
        </p:nvGrpSpPr>
        <p:grpSpPr>
          <a:xfrm>
            <a:off x="3414600" y="2068560"/>
            <a:ext cx="517680" cy="345960"/>
            <a:chOff x="3414600" y="2068560"/>
            <a:chExt cx="517680" cy="345960"/>
          </a:xfrm>
        </p:grpSpPr>
        <p:sp>
          <p:nvSpPr>
            <p:cNvPr id="205" name="燕尾形 18"/>
            <p:cNvSpPr/>
            <p:nvPr/>
          </p:nvSpPr>
          <p:spPr>
            <a:xfrm rot="5400000">
              <a:off x="3576600" y="19065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燕尾形 19"/>
            <p:cNvSpPr/>
            <p:nvPr/>
          </p:nvSpPr>
          <p:spPr>
            <a:xfrm rot="5400000">
              <a:off x="3576600" y="205884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矩形 20"/>
          <p:cNvSpPr/>
          <p:nvPr/>
        </p:nvSpPr>
        <p:spPr>
          <a:xfrm>
            <a:off x="4629240" y="2508120"/>
            <a:ext cx="1684080" cy="24307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1"/>
          <p:cNvGrpSpPr/>
          <p:nvPr/>
        </p:nvGrpSpPr>
        <p:grpSpPr>
          <a:xfrm>
            <a:off x="5211720" y="2068560"/>
            <a:ext cx="517680" cy="345960"/>
            <a:chOff x="5211720" y="2068560"/>
            <a:chExt cx="517680" cy="345960"/>
          </a:xfrm>
        </p:grpSpPr>
        <p:sp>
          <p:nvSpPr>
            <p:cNvPr id="209" name="燕尾形 22"/>
            <p:cNvSpPr/>
            <p:nvPr/>
          </p:nvSpPr>
          <p:spPr>
            <a:xfrm rot="5400000">
              <a:off x="5373720" y="19065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燕尾形 23"/>
            <p:cNvSpPr/>
            <p:nvPr/>
          </p:nvSpPr>
          <p:spPr>
            <a:xfrm rot="5400000">
              <a:off x="5373720" y="205884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矩形 24"/>
          <p:cNvSpPr/>
          <p:nvPr/>
        </p:nvSpPr>
        <p:spPr>
          <a:xfrm>
            <a:off x="6426360" y="2508120"/>
            <a:ext cx="1684080" cy="24307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25"/>
          <p:cNvGrpSpPr/>
          <p:nvPr/>
        </p:nvGrpSpPr>
        <p:grpSpPr>
          <a:xfrm>
            <a:off x="7008840" y="2068560"/>
            <a:ext cx="519120" cy="345960"/>
            <a:chOff x="7008840" y="2068560"/>
            <a:chExt cx="519120" cy="345960"/>
          </a:xfrm>
        </p:grpSpPr>
        <p:sp>
          <p:nvSpPr>
            <p:cNvPr id="213" name="燕尾形 26"/>
            <p:cNvSpPr/>
            <p:nvPr/>
          </p:nvSpPr>
          <p:spPr>
            <a:xfrm rot="5400000">
              <a:off x="7171560" y="19058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燕尾形 27"/>
            <p:cNvSpPr/>
            <p:nvPr/>
          </p:nvSpPr>
          <p:spPr>
            <a:xfrm rot="5400000">
              <a:off x="7171560" y="205812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146"/>
          <p:cNvSpPr/>
          <p:nvPr/>
        </p:nvSpPr>
        <p:spPr>
          <a:xfrm>
            <a:off x="1055520" y="3173400"/>
            <a:ext cx="16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46"/>
          <p:cNvSpPr/>
          <p:nvPr/>
        </p:nvSpPr>
        <p:spPr>
          <a:xfrm>
            <a:off x="2854440" y="317340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46"/>
          <p:cNvSpPr/>
          <p:nvPr/>
        </p:nvSpPr>
        <p:spPr>
          <a:xfrm>
            <a:off x="4651200" y="317340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46"/>
          <p:cNvSpPr/>
          <p:nvPr/>
        </p:nvSpPr>
        <p:spPr>
          <a:xfrm>
            <a:off x="6448320" y="3173400"/>
            <a:ext cx="16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32"/>
          <p:cNvSpPr/>
          <p:nvPr/>
        </p:nvSpPr>
        <p:spPr>
          <a:xfrm>
            <a:off x="1098720" y="3044880"/>
            <a:ext cx="15541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46"/>
          <p:cNvSpPr/>
          <p:nvPr/>
        </p:nvSpPr>
        <p:spPr>
          <a:xfrm>
            <a:off x="1065240" y="263520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34"/>
          <p:cNvSpPr/>
          <p:nvPr/>
        </p:nvSpPr>
        <p:spPr>
          <a:xfrm>
            <a:off x="2895480" y="3044880"/>
            <a:ext cx="15559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46"/>
          <p:cNvSpPr/>
          <p:nvPr/>
        </p:nvSpPr>
        <p:spPr>
          <a:xfrm>
            <a:off x="2863800" y="263520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36"/>
          <p:cNvSpPr/>
          <p:nvPr/>
        </p:nvSpPr>
        <p:spPr>
          <a:xfrm>
            <a:off x="4692600" y="3044880"/>
            <a:ext cx="15559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46"/>
          <p:cNvSpPr/>
          <p:nvPr/>
        </p:nvSpPr>
        <p:spPr>
          <a:xfrm>
            <a:off x="4660920" y="263520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38"/>
          <p:cNvSpPr/>
          <p:nvPr/>
        </p:nvSpPr>
        <p:spPr>
          <a:xfrm>
            <a:off x="6491160" y="3044880"/>
            <a:ext cx="15541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46"/>
          <p:cNvSpPr/>
          <p:nvPr/>
        </p:nvSpPr>
        <p:spPr>
          <a:xfrm>
            <a:off x="6458040" y="263520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3780000" y="9036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组合 1"/>
          <p:cNvGrpSpPr/>
          <p:nvPr/>
        </p:nvGrpSpPr>
        <p:grpSpPr>
          <a:xfrm>
            <a:off x="1222200" y="1373040"/>
            <a:ext cx="2754360" cy="2754360"/>
            <a:chOff x="1222200" y="1373040"/>
            <a:chExt cx="2754360" cy="2754360"/>
          </a:xfrm>
        </p:grpSpPr>
        <p:sp>
          <p:nvSpPr>
            <p:cNvPr id="230" name="椭圆 2"/>
            <p:cNvSpPr/>
            <p:nvPr/>
          </p:nvSpPr>
          <p:spPr>
            <a:xfrm>
              <a:off x="1222200" y="1373040"/>
              <a:ext cx="2754360" cy="2754360"/>
            </a:xfrm>
            <a:prstGeom prst="ellipse">
              <a:avLst/>
            </a:prstGeom>
            <a:noFill/>
            <a:ln w="76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3"/>
            <p:cNvSpPr/>
            <p:nvPr/>
          </p:nvSpPr>
          <p:spPr>
            <a:xfrm>
              <a:off x="1433160" y="1584000"/>
              <a:ext cx="2332080" cy="233208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76320">
              <a:solidFill>
                <a:srgbClr val="595959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矩形 4"/>
          <p:cNvSpPr/>
          <p:nvPr/>
        </p:nvSpPr>
        <p:spPr>
          <a:xfrm>
            <a:off x="3549600" y="3730680"/>
            <a:ext cx="4372200" cy="388800"/>
          </a:xfrm>
          <a:prstGeom prst="rect">
            <a:avLst/>
          </a:prstGeom>
          <a:solidFill>
            <a:srgbClr val="595959">
              <a:alpha val="8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5"/>
          <p:cNvSpPr/>
          <p:nvPr/>
        </p:nvSpPr>
        <p:spPr>
          <a:xfrm>
            <a:off x="4192560" y="2556000"/>
            <a:ext cx="3729240" cy="388800"/>
          </a:xfrm>
          <a:prstGeom prst="rect">
            <a:avLst/>
          </a:prstGeom>
          <a:solidFill>
            <a:srgbClr val="7f7f7f">
              <a:alpha val="8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6"/>
          <p:cNvSpPr/>
          <p:nvPr/>
        </p:nvSpPr>
        <p:spPr>
          <a:xfrm>
            <a:off x="3549600" y="1390680"/>
            <a:ext cx="4372200" cy="388800"/>
          </a:xfrm>
          <a:prstGeom prst="rect">
            <a:avLst/>
          </a:pr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7"/>
          <p:cNvGrpSpPr/>
          <p:nvPr/>
        </p:nvGrpSpPr>
        <p:grpSpPr>
          <a:xfrm>
            <a:off x="3584520" y="2381400"/>
            <a:ext cx="739800" cy="739800"/>
            <a:chOff x="3584520" y="2381400"/>
            <a:chExt cx="739800" cy="739800"/>
          </a:xfrm>
        </p:grpSpPr>
        <p:sp>
          <p:nvSpPr>
            <p:cNvPr id="236" name="椭圆 8"/>
            <p:cNvSpPr/>
            <p:nvPr/>
          </p:nvSpPr>
          <p:spPr>
            <a:xfrm>
              <a:off x="3584520" y="2381400"/>
              <a:ext cx="739800" cy="73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9"/>
            <p:cNvSpPr/>
            <p:nvPr/>
          </p:nvSpPr>
          <p:spPr>
            <a:xfrm>
              <a:off x="3630240" y="2427120"/>
              <a:ext cx="648000" cy="648000"/>
            </a:xfrm>
            <a:prstGeom prst="ellipse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0"/>
          <p:cNvGrpSpPr/>
          <p:nvPr/>
        </p:nvGrpSpPr>
        <p:grpSpPr>
          <a:xfrm>
            <a:off x="2876400" y="1214280"/>
            <a:ext cx="741600" cy="741600"/>
            <a:chOff x="2876400" y="1214280"/>
            <a:chExt cx="741600" cy="741600"/>
          </a:xfrm>
        </p:grpSpPr>
        <p:sp>
          <p:nvSpPr>
            <p:cNvPr id="239" name="椭圆 11"/>
            <p:cNvSpPr/>
            <p:nvPr/>
          </p:nvSpPr>
          <p:spPr>
            <a:xfrm>
              <a:off x="2876400" y="1214280"/>
              <a:ext cx="741600" cy="74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椭圆 12"/>
            <p:cNvSpPr/>
            <p:nvPr/>
          </p:nvSpPr>
          <p:spPr>
            <a:xfrm>
              <a:off x="2922840" y="1260720"/>
              <a:ext cx="648720" cy="648720"/>
            </a:xfrm>
            <a:prstGeom prst="ellipse">
              <a:avLst/>
            </a:prstGeom>
            <a:solidFill>
              <a:srgbClr val="1e8fb2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3"/>
          <p:cNvGrpSpPr/>
          <p:nvPr/>
        </p:nvGrpSpPr>
        <p:grpSpPr>
          <a:xfrm>
            <a:off x="2878200" y="3556080"/>
            <a:ext cx="739800" cy="739800"/>
            <a:chOff x="2878200" y="3556080"/>
            <a:chExt cx="739800" cy="739800"/>
          </a:xfrm>
        </p:grpSpPr>
        <p:sp>
          <p:nvSpPr>
            <p:cNvPr id="242" name="椭圆 14"/>
            <p:cNvSpPr/>
            <p:nvPr/>
          </p:nvSpPr>
          <p:spPr>
            <a:xfrm>
              <a:off x="2878200" y="3556080"/>
              <a:ext cx="739800" cy="73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15"/>
            <p:cNvSpPr/>
            <p:nvPr/>
          </p:nvSpPr>
          <p:spPr>
            <a:xfrm>
              <a:off x="2923920" y="3601800"/>
              <a:ext cx="648000" cy="648000"/>
            </a:xfrm>
            <a:prstGeom prst="ellipse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146"/>
          <p:cNvSpPr/>
          <p:nvPr/>
        </p:nvSpPr>
        <p:spPr>
          <a:xfrm>
            <a:off x="3743280" y="1446120"/>
            <a:ext cx="19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6"/>
          <p:cNvSpPr/>
          <p:nvPr/>
        </p:nvSpPr>
        <p:spPr>
          <a:xfrm>
            <a:off x="3889440" y="18352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6"/>
          <p:cNvSpPr/>
          <p:nvPr/>
        </p:nvSpPr>
        <p:spPr>
          <a:xfrm>
            <a:off x="4448160" y="2612880"/>
            <a:ext cx="19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6"/>
          <p:cNvSpPr/>
          <p:nvPr/>
        </p:nvSpPr>
        <p:spPr>
          <a:xfrm>
            <a:off x="4257720" y="299736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6"/>
          <p:cNvSpPr/>
          <p:nvPr/>
        </p:nvSpPr>
        <p:spPr>
          <a:xfrm>
            <a:off x="3743280" y="3787920"/>
            <a:ext cx="19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46"/>
          <p:cNvSpPr/>
          <p:nvPr/>
        </p:nvSpPr>
        <p:spPr>
          <a:xfrm>
            <a:off x="3743280" y="417672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2873520" y="1384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3581280" y="2550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2873520" y="3726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1913040" y="2397240"/>
            <a:ext cx="137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3780000" y="9036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18960" y="51814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 免费完整版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1"/>
          <p:cNvSpPr/>
          <p:nvPr/>
        </p:nvSpPr>
        <p:spPr>
          <a:xfrm>
            <a:off x="701640" y="1384200"/>
            <a:ext cx="7740720" cy="35989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2"/>
          <p:cNvGrpSpPr/>
          <p:nvPr/>
        </p:nvGrpSpPr>
        <p:grpSpPr>
          <a:xfrm>
            <a:off x="1376280" y="2787480"/>
            <a:ext cx="6610320" cy="307080"/>
            <a:chOff x="1376280" y="2787480"/>
            <a:chExt cx="6610320" cy="307080"/>
          </a:xfrm>
        </p:grpSpPr>
        <p:sp>
          <p:nvSpPr>
            <p:cNvPr id="259" name="Rectangle 12"/>
            <p:cNvSpPr/>
            <p:nvPr/>
          </p:nvSpPr>
          <p:spPr>
            <a:xfrm>
              <a:off x="303840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387036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2"/>
            <p:cNvSpPr/>
            <p:nvPr/>
          </p:nvSpPr>
          <p:spPr>
            <a:xfrm>
              <a:off x="470052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2"/>
            <p:cNvSpPr/>
            <p:nvPr/>
          </p:nvSpPr>
          <p:spPr>
            <a:xfrm>
              <a:off x="553248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6364440" y="278748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719460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137628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2207880" y="278748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11"/>
          <p:cNvGrpSpPr/>
          <p:nvPr/>
        </p:nvGrpSpPr>
        <p:grpSpPr>
          <a:xfrm>
            <a:off x="835200" y="1612800"/>
            <a:ext cx="539640" cy="3352320"/>
            <a:chOff x="835200" y="1612800"/>
            <a:chExt cx="539640" cy="3352320"/>
          </a:xfrm>
        </p:grpSpPr>
        <p:sp>
          <p:nvSpPr>
            <p:cNvPr id="268" name="Rectangle 12"/>
            <p:cNvSpPr/>
            <p:nvPr/>
          </p:nvSpPr>
          <p:spPr>
            <a:xfrm>
              <a:off x="835200" y="212076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"/>
            <p:cNvSpPr/>
            <p:nvPr/>
          </p:nvSpPr>
          <p:spPr>
            <a:xfrm>
              <a:off x="835200" y="237492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835200" y="262728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835200" y="186660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835200" y="161280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835200" y="28814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"/>
            <p:cNvSpPr/>
            <p:nvPr/>
          </p:nvSpPr>
          <p:spPr>
            <a:xfrm>
              <a:off x="835200" y="31352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2"/>
            <p:cNvSpPr/>
            <p:nvPr/>
          </p:nvSpPr>
          <p:spPr>
            <a:xfrm>
              <a:off x="835200" y="338940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835200" y="364356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2"/>
            <p:cNvSpPr/>
            <p:nvPr/>
          </p:nvSpPr>
          <p:spPr>
            <a:xfrm>
              <a:off x="835200" y="389736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2"/>
            <p:cNvSpPr/>
            <p:nvPr/>
          </p:nvSpPr>
          <p:spPr>
            <a:xfrm>
              <a:off x="835200" y="414972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2"/>
            <p:cNvSpPr/>
            <p:nvPr/>
          </p:nvSpPr>
          <p:spPr>
            <a:xfrm>
              <a:off x="835200" y="440388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2"/>
            <p:cNvSpPr/>
            <p:nvPr/>
          </p:nvSpPr>
          <p:spPr>
            <a:xfrm>
              <a:off x="835200" y="46580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25"/>
          <p:cNvGrpSpPr/>
          <p:nvPr/>
        </p:nvGrpSpPr>
        <p:grpSpPr>
          <a:xfrm>
            <a:off x="1357200" y="1752480"/>
            <a:ext cx="6661440" cy="3060720"/>
            <a:chOff x="1357200" y="1752480"/>
            <a:chExt cx="6661440" cy="3060720"/>
          </a:xfrm>
        </p:grpSpPr>
        <p:sp>
          <p:nvSpPr>
            <p:cNvPr id="282" name="直接连接符 26"/>
            <p:cNvSpPr/>
            <p:nvPr/>
          </p:nvSpPr>
          <p:spPr>
            <a:xfrm>
              <a:off x="6353280" y="2773080"/>
              <a:ext cx="0" cy="10764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27"/>
            <p:cNvSpPr/>
            <p:nvPr/>
          </p:nvSpPr>
          <p:spPr>
            <a:xfrm flipV="1">
              <a:off x="3022560" y="2772720"/>
              <a:ext cx="0" cy="10764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28"/>
            <p:cNvSpPr/>
            <p:nvPr/>
          </p:nvSpPr>
          <p:spPr>
            <a:xfrm>
              <a:off x="3854520" y="2773080"/>
              <a:ext cx="0" cy="10764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直接连接符 29"/>
            <p:cNvSpPr/>
            <p:nvPr/>
          </p:nvSpPr>
          <p:spPr>
            <a:xfrm>
              <a:off x="4687920" y="2773080"/>
              <a:ext cx="0" cy="10764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30"/>
            <p:cNvSpPr/>
            <p:nvPr/>
          </p:nvSpPr>
          <p:spPr>
            <a:xfrm flipV="1">
              <a:off x="2188800" y="2772720"/>
              <a:ext cx="0" cy="10764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 31"/>
            <p:cNvSpPr/>
            <p:nvPr/>
          </p:nvSpPr>
          <p:spPr>
            <a:xfrm>
              <a:off x="1357200" y="2773080"/>
              <a:ext cx="66614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32"/>
            <p:cNvSpPr/>
            <p:nvPr/>
          </p:nvSpPr>
          <p:spPr>
            <a:xfrm flipV="1">
              <a:off x="1357200" y="1752480"/>
              <a:ext cx="0" cy="306072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33"/>
            <p:cNvSpPr/>
            <p:nvPr/>
          </p:nvSpPr>
          <p:spPr>
            <a:xfrm>
              <a:off x="1357200" y="20080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直接连接符 34"/>
            <p:cNvSpPr/>
            <p:nvPr/>
          </p:nvSpPr>
          <p:spPr>
            <a:xfrm>
              <a:off x="1357200" y="32828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35"/>
            <p:cNvSpPr/>
            <p:nvPr/>
          </p:nvSpPr>
          <p:spPr>
            <a:xfrm>
              <a:off x="1357200" y="48070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36"/>
            <p:cNvSpPr/>
            <p:nvPr/>
          </p:nvSpPr>
          <p:spPr>
            <a:xfrm>
              <a:off x="1357200" y="17586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37"/>
            <p:cNvSpPr/>
            <p:nvPr/>
          </p:nvSpPr>
          <p:spPr>
            <a:xfrm>
              <a:off x="1357200" y="30272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38"/>
            <p:cNvSpPr/>
            <p:nvPr/>
          </p:nvSpPr>
          <p:spPr>
            <a:xfrm>
              <a:off x="1357200" y="22618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39"/>
            <p:cNvSpPr/>
            <p:nvPr/>
          </p:nvSpPr>
          <p:spPr>
            <a:xfrm>
              <a:off x="1357200" y="25174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40"/>
            <p:cNvSpPr/>
            <p:nvPr/>
          </p:nvSpPr>
          <p:spPr>
            <a:xfrm>
              <a:off x="1357200" y="37926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直接连接符 41"/>
            <p:cNvSpPr/>
            <p:nvPr/>
          </p:nvSpPr>
          <p:spPr>
            <a:xfrm>
              <a:off x="1357200" y="35384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42"/>
            <p:cNvSpPr/>
            <p:nvPr/>
          </p:nvSpPr>
          <p:spPr>
            <a:xfrm>
              <a:off x="1357200" y="45576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43"/>
            <p:cNvSpPr/>
            <p:nvPr/>
          </p:nvSpPr>
          <p:spPr>
            <a:xfrm>
              <a:off x="1357200" y="40482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44"/>
            <p:cNvSpPr/>
            <p:nvPr/>
          </p:nvSpPr>
          <p:spPr>
            <a:xfrm>
              <a:off x="1357200" y="43038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 45"/>
            <p:cNvSpPr/>
            <p:nvPr/>
          </p:nvSpPr>
          <p:spPr>
            <a:xfrm>
              <a:off x="8012520" y="2773080"/>
              <a:ext cx="0" cy="10764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46"/>
            <p:cNvSpPr/>
            <p:nvPr/>
          </p:nvSpPr>
          <p:spPr>
            <a:xfrm>
              <a:off x="5519880" y="2773080"/>
              <a:ext cx="0" cy="10764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47"/>
            <p:cNvSpPr/>
            <p:nvPr/>
          </p:nvSpPr>
          <p:spPr>
            <a:xfrm>
              <a:off x="7185240" y="2773080"/>
              <a:ext cx="0" cy="10764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任意多边形 48"/>
          <p:cNvSpPr/>
          <p:nvPr/>
        </p:nvSpPr>
        <p:spPr>
          <a:xfrm>
            <a:off x="1779480" y="1779480"/>
            <a:ext cx="2716200" cy="992160"/>
          </a:xfrm>
          <a:custGeom>
            <a:avLst/>
            <a:gdLst/>
            <a:ahLst/>
            <a:rect l="l" t="t" r="r" b="b"/>
            <a:pathLst>
              <a:path w="2717006" h="992982">
                <a:moveTo>
                  <a:pt x="0" y="0"/>
                </a:moveTo>
                <a:lnTo>
                  <a:pt x="833437" y="190501"/>
                </a:lnTo>
                <a:lnTo>
                  <a:pt x="1664493" y="576263"/>
                </a:lnTo>
                <a:lnTo>
                  <a:pt x="2505075" y="678657"/>
                </a:lnTo>
                <a:lnTo>
                  <a:pt x="2717006" y="992982"/>
                </a:lnTo>
              </a:path>
            </a:pathLst>
          </a:custGeom>
          <a:noFill/>
          <a:ln w="38160">
            <a:solidFill>
              <a:srgbClr val="1e8f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49"/>
          <p:cNvSpPr/>
          <p:nvPr/>
        </p:nvSpPr>
        <p:spPr>
          <a:xfrm>
            <a:off x="4495680" y="2771640"/>
            <a:ext cx="3114720" cy="1643040"/>
          </a:xfrm>
          <a:custGeom>
            <a:avLst/>
            <a:gdLst/>
            <a:ahLst/>
            <a:rect l="l" t="t" r="r" b="b"/>
            <a:pathLst>
              <a:path w="3114675" h="1643063">
                <a:moveTo>
                  <a:pt x="0" y="0"/>
                </a:moveTo>
                <a:lnTo>
                  <a:pt x="611981" y="1052512"/>
                </a:lnTo>
                <a:lnTo>
                  <a:pt x="1445419" y="538163"/>
                </a:lnTo>
                <a:lnTo>
                  <a:pt x="2274094" y="781050"/>
                </a:lnTo>
                <a:lnTo>
                  <a:pt x="3114675" y="1643063"/>
                </a:lnTo>
              </a:path>
            </a:pathLst>
          </a:custGeom>
          <a:noFill/>
          <a:ln w="381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50"/>
          <p:cNvSpPr/>
          <p:nvPr/>
        </p:nvSpPr>
        <p:spPr>
          <a:xfrm>
            <a:off x="1701720" y="1703520"/>
            <a:ext cx="144720" cy="144360"/>
          </a:xfrm>
          <a:prstGeom prst="rect">
            <a:avLst/>
          </a:pr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51"/>
          <p:cNvSpPr/>
          <p:nvPr/>
        </p:nvSpPr>
        <p:spPr>
          <a:xfrm>
            <a:off x="5864400" y="3235320"/>
            <a:ext cx="144360" cy="14436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2"/>
          <p:cNvSpPr/>
          <p:nvPr/>
        </p:nvSpPr>
        <p:spPr>
          <a:xfrm>
            <a:off x="2533680" y="1895400"/>
            <a:ext cx="144360" cy="144360"/>
          </a:xfrm>
          <a:prstGeom prst="rect">
            <a:avLst/>
          </a:pr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3"/>
          <p:cNvSpPr/>
          <p:nvPr/>
        </p:nvSpPr>
        <p:spPr>
          <a:xfrm>
            <a:off x="3367080" y="2276640"/>
            <a:ext cx="144360" cy="144360"/>
          </a:xfrm>
          <a:prstGeom prst="rect">
            <a:avLst/>
          </a:pr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54"/>
          <p:cNvSpPr/>
          <p:nvPr/>
        </p:nvSpPr>
        <p:spPr>
          <a:xfrm>
            <a:off x="4199040" y="2382840"/>
            <a:ext cx="144360" cy="144360"/>
          </a:xfrm>
          <a:prstGeom prst="rect">
            <a:avLst/>
          </a:pr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55"/>
          <p:cNvSpPr/>
          <p:nvPr/>
        </p:nvSpPr>
        <p:spPr>
          <a:xfrm>
            <a:off x="5032440" y="3745080"/>
            <a:ext cx="142920" cy="14436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56"/>
          <p:cNvSpPr/>
          <p:nvPr/>
        </p:nvSpPr>
        <p:spPr>
          <a:xfrm>
            <a:off x="6697800" y="3471840"/>
            <a:ext cx="142560" cy="14292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7"/>
          <p:cNvSpPr/>
          <p:nvPr/>
        </p:nvSpPr>
        <p:spPr>
          <a:xfrm>
            <a:off x="7529400" y="4340160"/>
            <a:ext cx="144720" cy="14436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46"/>
          <p:cNvSpPr/>
          <p:nvPr/>
        </p:nvSpPr>
        <p:spPr>
          <a:xfrm>
            <a:off x="701640" y="95256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46"/>
          <p:cNvSpPr/>
          <p:nvPr/>
        </p:nvSpPr>
        <p:spPr>
          <a:xfrm>
            <a:off x="701640" y="507060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46"/>
          <p:cNvSpPr/>
          <p:nvPr/>
        </p:nvSpPr>
        <p:spPr>
          <a:xfrm>
            <a:off x="4803840" y="387684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46"/>
          <p:cNvSpPr/>
          <p:nvPr/>
        </p:nvSpPr>
        <p:spPr>
          <a:xfrm>
            <a:off x="5629320" y="335592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46"/>
          <p:cNvSpPr/>
          <p:nvPr/>
        </p:nvSpPr>
        <p:spPr>
          <a:xfrm>
            <a:off x="6810480" y="340668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46"/>
          <p:cNvSpPr/>
          <p:nvPr/>
        </p:nvSpPr>
        <p:spPr>
          <a:xfrm>
            <a:off x="7292880" y="444816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46"/>
          <p:cNvSpPr/>
          <p:nvPr/>
        </p:nvSpPr>
        <p:spPr>
          <a:xfrm>
            <a:off x="3965400" y="211140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e8fb2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46"/>
          <p:cNvSpPr/>
          <p:nvPr/>
        </p:nvSpPr>
        <p:spPr>
          <a:xfrm>
            <a:off x="3139920" y="201132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e8fb2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46"/>
          <p:cNvSpPr/>
          <p:nvPr/>
        </p:nvSpPr>
        <p:spPr>
          <a:xfrm>
            <a:off x="2301840" y="161604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e8fb2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46"/>
          <p:cNvSpPr/>
          <p:nvPr/>
        </p:nvSpPr>
        <p:spPr>
          <a:xfrm>
            <a:off x="1463760" y="143820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e8fb2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3780000" y="9036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任意多边形 1"/>
          <p:cNvSpPr/>
          <p:nvPr/>
        </p:nvSpPr>
        <p:spPr>
          <a:xfrm>
            <a:off x="2730600" y="2082960"/>
            <a:ext cx="1189080" cy="252360"/>
          </a:xfrm>
          <a:custGeom>
            <a:avLst/>
            <a:gdLst/>
            <a:ahLst/>
            <a:rect l="l" t="t" r="r" b="b"/>
            <a:pathLst>
              <a:path w="1248228" h="290286">
                <a:moveTo>
                  <a:pt x="1248228" y="0"/>
                </a:moveTo>
                <a:lnTo>
                  <a:pt x="464457" y="0"/>
                </a:lnTo>
                <a:lnTo>
                  <a:pt x="0" y="290286"/>
                </a:lnTo>
              </a:path>
            </a:pathLst>
          </a:custGeom>
          <a:noFill/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2"/>
          <p:cNvSpPr/>
          <p:nvPr/>
        </p:nvSpPr>
        <p:spPr>
          <a:xfrm flipV="1">
            <a:off x="2730600" y="4037760"/>
            <a:ext cx="1189080" cy="250920"/>
          </a:xfrm>
          <a:custGeom>
            <a:avLst/>
            <a:gdLst/>
            <a:ahLst/>
            <a:rect l="l" t="t" r="r" b="b"/>
            <a:pathLst>
              <a:path w="1248228" h="290286">
                <a:moveTo>
                  <a:pt x="1248228" y="0"/>
                </a:moveTo>
                <a:lnTo>
                  <a:pt x="464457" y="0"/>
                </a:lnTo>
                <a:lnTo>
                  <a:pt x="0" y="290286"/>
                </a:lnTo>
              </a:path>
            </a:pathLst>
          </a:custGeom>
          <a:noFill/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3"/>
          <p:cNvSpPr/>
          <p:nvPr/>
        </p:nvSpPr>
        <p:spPr>
          <a:xfrm flipH="1">
            <a:off x="5161680" y="1967040"/>
            <a:ext cx="1187640" cy="250560"/>
          </a:xfrm>
          <a:custGeom>
            <a:avLst/>
            <a:gdLst/>
            <a:ahLst/>
            <a:rect l="l" t="t" r="r" b="b"/>
            <a:pathLst>
              <a:path w="1248228" h="290286">
                <a:moveTo>
                  <a:pt x="1248228" y="0"/>
                </a:moveTo>
                <a:lnTo>
                  <a:pt x="464457" y="0"/>
                </a:lnTo>
                <a:lnTo>
                  <a:pt x="0" y="290286"/>
                </a:lnTo>
              </a:path>
            </a:pathLst>
          </a:custGeom>
          <a:noFill/>
          <a:ln w="25560">
            <a:solidFill>
              <a:srgbClr val="1e8f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任意多边形 4"/>
          <p:cNvSpPr/>
          <p:nvPr/>
        </p:nvSpPr>
        <p:spPr>
          <a:xfrm flipH="1" flipV="1">
            <a:off x="5161680" y="4081320"/>
            <a:ext cx="1187640" cy="252720"/>
          </a:xfrm>
          <a:custGeom>
            <a:avLst/>
            <a:gdLst/>
            <a:ahLst/>
            <a:rect l="l" t="t" r="r" b="b"/>
            <a:pathLst>
              <a:path w="1248228" h="290286">
                <a:moveTo>
                  <a:pt x="1248228" y="0"/>
                </a:moveTo>
                <a:lnTo>
                  <a:pt x="464457" y="0"/>
                </a:lnTo>
                <a:lnTo>
                  <a:pt x="0" y="290286"/>
                </a:lnTo>
              </a:path>
            </a:pathLst>
          </a:custGeom>
          <a:noFill/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5"/>
          <p:cNvSpPr/>
          <p:nvPr/>
        </p:nvSpPr>
        <p:spPr>
          <a:xfrm>
            <a:off x="5704920" y="2770560"/>
            <a:ext cx="645480" cy="5616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6"/>
          <p:cNvSpPr/>
          <p:nvPr/>
        </p:nvSpPr>
        <p:spPr>
          <a:xfrm flipV="1">
            <a:off x="5704920" y="3559680"/>
            <a:ext cx="645480" cy="5616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7"/>
          <p:cNvSpPr/>
          <p:nvPr/>
        </p:nvSpPr>
        <p:spPr>
          <a:xfrm>
            <a:off x="2730600" y="3338640"/>
            <a:ext cx="64764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46"/>
          <p:cNvSpPr/>
          <p:nvPr/>
        </p:nvSpPr>
        <p:spPr>
          <a:xfrm>
            <a:off x="6334200" y="2049480"/>
            <a:ext cx="23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8fb2"/>
                </a:solidFill>
                <a:latin typeface="微软雅黑"/>
                <a:ea typeface="微软雅黑"/>
              </a:rPr>
              <a:t>20% </a:t>
            </a:r>
            <a:r>
              <a:rPr b="0" lang="zh-CN" sz="1400" spc="-1" strike="noStrike">
                <a:solidFill>
                  <a:srgbClr val="1e8fb2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46"/>
          <p:cNvSpPr/>
          <p:nvPr/>
        </p:nvSpPr>
        <p:spPr>
          <a:xfrm>
            <a:off x="6334200" y="2673360"/>
            <a:ext cx="23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6% 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46"/>
          <p:cNvSpPr/>
          <p:nvPr/>
        </p:nvSpPr>
        <p:spPr>
          <a:xfrm>
            <a:off x="6334200" y="3405240"/>
            <a:ext cx="23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1% 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46"/>
          <p:cNvSpPr/>
          <p:nvPr/>
        </p:nvSpPr>
        <p:spPr>
          <a:xfrm>
            <a:off x="6334200" y="3938760"/>
            <a:ext cx="23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2% 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46"/>
          <p:cNvSpPr/>
          <p:nvPr/>
        </p:nvSpPr>
        <p:spPr>
          <a:xfrm>
            <a:off x="357120" y="3879720"/>
            <a:ext cx="23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46"/>
          <p:cNvSpPr/>
          <p:nvPr/>
        </p:nvSpPr>
        <p:spPr>
          <a:xfrm>
            <a:off x="357120" y="3184560"/>
            <a:ext cx="23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46"/>
          <p:cNvSpPr/>
          <p:nvPr/>
        </p:nvSpPr>
        <p:spPr>
          <a:xfrm>
            <a:off x="357120" y="2166840"/>
            <a:ext cx="23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饼形 15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/>
            <a:ahLst/>
            <a:rect l="l" t="t" r="r" b="b"/>
            <a:pathLst>
              <a:path w="2698750" h="2698750">
                <a:moveTo>
                  <a:pt x="2527507" y="691487"/>
                </a:moveTo>
                <a:cubicBezTo>
                  <a:pt x="2639358" y="891787"/>
                  <a:pt x="2698294" y="1117297"/>
                  <a:pt x="2698747" y="1346710"/>
                </a:cubicBezTo>
                <a:lnTo>
                  <a:pt x="1349375" y="1349375"/>
                </a:lnTo>
                <a:lnTo>
                  <a:pt x="2527507" y="691487"/>
                </a:lnTo>
                <a:close/>
              </a:path>
            </a:pathLst>
          </a:custGeom>
          <a:solidFill>
            <a:srgbClr val="f2f2f2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饼形 16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/>
            <a:ahLst/>
            <a:rect l="l" t="t" r="r" b="b"/>
            <a:pathLst>
              <a:path w="2698750" h="2698750">
                <a:moveTo>
                  <a:pt x="2698748" y="1346972"/>
                </a:moveTo>
                <a:cubicBezTo>
                  <a:pt x="2699318" y="1666929"/>
                  <a:pt x="2586176" y="1976678"/>
                  <a:pt x="2379515" y="2220940"/>
                </a:cubicBezTo>
                <a:lnTo>
                  <a:pt x="1349375" y="1349375"/>
                </a:lnTo>
                <a:lnTo>
                  <a:pt x="2698748" y="1346972"/>
                </a:lnTo>
                <a:close/>
              </a:path>
            </a:pathLst>
          </a:custGeom>
          <a:solidFill>
            <a:srgbClr val="d9d9d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饼形 17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/>
            <a:ahLst/>
            <a:rect l="l" t="t" r="r" b="b"/>
            <a:pathLst>
              <a:path w="2698750" h="2698750">
                <a:moveTo>
                  <a:pt x="2379565" y="2220881"/>
                </a:moveTo>
                <a:cubicBezTo>
                  <a:pt x="2121066" y="2526448"/>
                  <a:pt x="1740256" y="2701491"/>
                  <a:pt x="1340025" y="2698718"/>
                </a:cubicBezTo>
                <a:cubicBezTo>
                  <a:pt x="1343142" y="2248937"/>
                  <a:pt x="1346258" y="1799156"/>
                  <a:pt x="1349375" y="1349375"/>
                </a:cubicBezTo>
                <a:lnTo>
                  <a:pt x="2379565" y="2220881"/>
                </a:lnTo>
                <a:close/>
              </a:path>
            </a:pathLst>
          </a:cu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饼形 18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/>
            <a:ahLst/>
            <a:rect l="l" t="t" r="r" b="b"/>
            <a:pathLst>
              <a:path w="2698750" h="2698750">
                <a:moveTo>
                  <a:pt x="1343161" y="2698736"/>
                </a:moveTo>
                <a:cubicBezTo>
                  <a:pt x="917897" y="2696778"/>
                  <a:pt x="518440" y="2494458"/>
                  <a:pt x="265239" y="2152782"/>
                </a:cubicBezTo>
                <a:lnTo>
                  <a:pt x="1349375" y="1349375"/>
                </a:lnTo>
                <a:cubicBezTo>
                  <a:pt x="1347304" y="1799162"/>
                  <a:pt x="1345232" y="2248949"/>
                  <a:pt x="1343161" y="2698736"/>
                </a:cubicBezTo>
                <a:close/>
              </a:path>
            </a:pathLst>
          </a:custGeom>
          <a:solidFill>
            <a:srgbClr val="a6a6a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饼形 19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/>
            <a:ahLst/>
            <a:rect l="l" t="t" r="r" b="b"/>
            <a:pathLst>
              <a:path w="2698750" h="2698750">
                <a:moveTo>
                  <a:pt x="268956" y="2157773"/>
                </a:moveTo>
                <a:cubicBezTo>
                  <a:pt x="11569" y="1813776"/>
                  <a:pt x="-66625" y="1367772"/>
                  <a:pt x="58389" y="956732"/>
                </a:cubicBezTo>
                <a:lnTo>
                  <a:pt x="1349375" y="1349375"/>
                </a:lnTo>
                <a:lnTo>
                  <a:pt x="268956" y="2157773"/>
                </a:lnTo>
                <a:close/>
              </a:path>
            </a:pathLst>
          </a:custGeom>
          <a:solidFill>
            <a:srgbClr val="7f7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饼形 20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/>
            <a:ahLst/>
            <a:rect l="l" t="t" r="r" b="b"/>
            <a:pathLst>
              <a:path w="2698750" h="2698750">
                <a:moveTo>
                  <a:pt x="60003" y="951463"/>
                </a:moveTo>
                <a:cubicBezTo>
                  <a:pt x="234565" y="385821"/>
                  <a:pt x="757410" y="0"/>
                  <a:pt x="1349375" y="0"/>
                </a:cubicBezTo>
                <a:lnTo>
                  <a:pt x="1349375" y="1349375"/>
                </a:lnTo>
                <a:lnTo>
                  <a:pt x="60003" y="951463"/>
                </a:lnTo>
                <a:close/>
              </a:path>
            </a:pathLst>
          </a:cu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饼形 21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/>
            <a:ahLst/>
            <a:rect l="l" t="t" r="r" b="b"/>
            <a:pathLst>
              <a:path w="2698750" h="2698750">
                <a:moveTo>
                  <a:pt x="1348135" y="1"/>
                </a:moveTo>
                <a:cubicBezTo>
                  <a:pt x="1838984" y="-450"/>
                  <a:pt x="2291363" y="265676"/>
                  <a:pt x="2529424" y="694930"/>
                </a:cubicBezTo>
                <a:lnTo>
                  <a:pt x="1349375" y="1349375"/>
                </a:lnTo>
                <a:cubicBezTo>
                  <a:pt x="1348962" y="899584"/>
                  <a:pt x="1348548" y="449792"/>
                  <a:pt x="1348135" y="1"/>
                </a:cubicBezTo>
                <a:close/>
              </a:path>
            </a:pathLst>
          </a:cu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22"/>
          <p:cNvSpPr/>
          <p:nvPr/>
        </p:nvSpPr>
        <p:spPr>
          <a:xfrm>
            <a:off x="3078000" y="164304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3780000" y="9036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5"/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714240" y="969840"/>
            <a:ext cx="299592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53" name="矩形 6"/>
          <p:cNvSpPr/>
          <p:nvPr/>
        </p:nvSpPr>
        <p:spPr>
          <a:xfrm>
            <a:off x="3906720" y="3327480"/>
            <a:ext cx="4643640" cy="212256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46"/>
          <p:cNvSpPr/>
          <p:nvPr/>
        </p:nvSpPr>
        <p:spPr>
          <a:xfrm>
            <a:off x="3835440" y="289872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e8fb2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3"/>
          <p:cNvSpPr/>
          <p:nvPr/>
        </p:nvSpPr>
        <p:spPr>
          <a:xfrm>
            <a:off x="3780000" y="9036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>Chris</dc:creator>
  <dc:description/>
  <dc:language>en-US</dc:language>
  <cp:lastModifiedBy>王玉清</cp:lastModifiedBy>
  <dcterms:modified xsi:type="dcterms:W3CDTF">2016-03-01T06:46:03Z</dcterms:modified>
  <cp:revision>39</cp:revision>
  <dc:subject/>
  <dc:title>幻灯片 1</dc:title>
</cp:coreProperties>
</file>