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EE4-B4BA-4398-A261-D3EB965F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0B7-5EE1-4D11-A092-E9F73936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388-7771-4269-8E09-97B477FC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A40-0D4F-4B69-A674-D01A84E8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F37-0EC9-40EB-B627-BF313003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B51-9DBF-46D7-B1DA-8A599910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55F-A277-4637-9332-4983E693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B88-EE08-4256-ABC5-C48DD77C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658-527C-4625-9802-1B0CD3C4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82B5-10F8-4042-B80B-AC54F5C2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9161-B28C-4EB5-B1CD-2B76FE84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B88-2633-44DB-ADDD-7C78D3D2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74B9-6461-4EFF-B046-255D005A00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288880" y="2602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互联网分析报告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04:28:31Z</dcterms:created>
  <dc:creator>新电脑公司特别版</dc:creator>
  <dc:description/>
  <dc:language>en-US</dc:language>
  <cp:lastModifiedBy>王玉清</cp:lastModifiedBy>
  <dcterms:modified xsi:type="dcterms:W3CDTF">2016-02-24T03:27:29Z</dcterms:modified>
  <cp:revision>5</cp:revision>
  <dc:subject/>
  <dc:title>幻灯片 1</dc:title>
</cp:coreProperties>
</file>