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3DE92-9C5D-4728-9E2B-554D4D257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025D3-6D13-472E-B905-14DFC107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41A07-1F67-4FB9-8C14-2AC01670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14943-75B9-4411-BFC0-46D193EC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BF81B-BBB9-4C95-AAF4-7773C77E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116640"/>
            <a:ext cx="821880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649F0-A2A5-40BF-97F8-A55CDEB8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74878-B8BE-47D0-8E81-C0ABCC5C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5D6A0-CF77-4770-AE2B-2624DDE7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8ED70-1977-43E4-B54F-036F922B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49496-2BAA-4F04-BBE7-07E76629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1E4C2F-476B-4F10-9713-518162DAC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1B67F-23AC-4205-BF80-19984E2A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116640"/>
            <a:ext cx="821880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 rot="5400000">
            <a:off x="8409240" y="5801760"/>
            <a:ext cx="1819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Copyright Showee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e 5"/>
          <p:cNvGrpSpPr/>
          <p:nvPr/>
        </p:nvGrpSpPr>
        <p:grpSpPr>
          <a:xfrm>
            <a:off x="309960" y="2515680"/>
            <a:ext cx="8524080" cy="1801440"/>
            <a:chOff x="309960" y="2515680"/>
            <a:chExt cx="8524080" cy="1801440"/>
          </a:xfrm>
        </p:grpSpPr>
        <p:sp>
          <p:nvSpPr>
            <p:cNvPr id="2" name="Rectangle 9"/>
            <p:cNvSpPr/>
            <p:nvPr/>
          </p:nvSpPr>
          <p:spPr>
            <a:xfrm>
              <a:off x="309960" y="2890800"/>
              <a:ext cx="1714320" cy="1426320"/>
            </a:xfrm>
            <a:custGeom>
              <a:avLst/>
              <a:gdLst>
                <a:gd name="textAreaLeft" fmla="*/ 0 w 1714320"/>
                <a:gd name="textAreaRight" fmla="*/ 1714680 w 1714320"/>
                <a:gd name="textAreaTop" fmla="*/ 0 h 1426320"/>
                <a:gd name="textAreaBottom" fmla="*/ 1426680 h 1426320"/>
              </a:gdLst>
              <a:ahLst/>
              <a:rect l="textAreaLeft" t="textAreaTop" r="textAreaRight" b="textAreaBottom"/>
              <a:pathLst>
                <a:path w="1375150" h="1008112">
                  <a:moveTo>
                    <a:pt x="0" y="0"/>
                  </a:moveTo>
                  <a:lnTo>
                    <a:pt x="1375150" y="0"/>
                  </a:lnTo>
                  <a:lnTo>
                    <a:pt x="1375150" y="1008112"/>
                  </a:lnTo>
                  <a:lnTo>
                    <a:pt x="0" y="1008112"/>
                  </a:lnTo>
                  <a:cubicBezTo>
                    <a:pt x="341483" y="528809"/>
                    <a:pt x="-2835" y="1009627"/>
                    <a:pt x="353888" y="515084"/>
                  </a:cubicBezTo>
                  <a:cubicBezTo>
                    <a:pt x="-10455" y="-12211"/>
                    <a:pt x="349103" y="504435"/>
                    <a:pt x="0" y="0"/>
                  </a:cubicBezTo>
                  <a:close/>
                </a:path>
              </a:pathLst>
            </a:custGeom>
            <a:solidFill>
              <a:srgbClr val="9e100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fr-FR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" name="Rectangle 9"/>
            <p:cNvSpPr/>
            <p:nvPr/>
          </p:nvSpPr>
          <p:spPr>
            <a:xfrm>
              <a:off x="714240" y="3094920"/>
              <a:ext cx="1265040" cy="1018800"/>
            </a:xfrm>
            <a:custGeom>
              <a:avLst/>
              <a:gdLst>
                <a:gd name="textAreaLeft" fmla="*/ 0 w 1265040"/>
                <a:gd name="textAreaRight" fmla="*/ 1265400 w 1265040"/>
                <a:gd name="textAreaTop" fmla="*/ 0 h 1018800"/>
                <a:gd name="textAreaBottom" fmla="*/ 1019160 h 1018800"/>
              </a:gdLst>
              <a:ahLst/>
              <a:rect l="textAreaLeft" t="textAreaTop" r="textAreaRight" b="textAreaBottom"/>
              <a:pathLst>
                <a:path w="1375150" h="1008112">
                  <a:moveTo>
                    <a:pt x="0" y="0"/>
                  </a:moveTo>
                  <a:lnTo>
                    <a:pt x="1375150" y="0"/>
                  </a:lnTo>
                  <a:lnTo>
                    <a:pt x="1375150" y="1008112"/>
                  </a:lnTo>
                  <a:lnTo>
                    <a:pt x="0" y="1008112"/>
                  </a:lnTo>
                  <a:cubicBezTo>
                    <a:pt x="341483" y="528809"/>
                    <a:pt x="-2835" y="1009627"/>
                    <a:pt x="353888" y="515084"/>
                  </a:cubicBezTo>
                  <a:cubicBezTo>
                    <a:pt x="-10455" y="-12211"/>
                    <a:pt x="349103" y="504435"/>
                    <a:pt x="0" y="0"/>
                  </a:cubicBezTo>
                  <a:close/>
                </a:path>
              </a:pathLst>
            </a:custGeom>
            <a:solidFill>
              <a:srgbClr val="9e100e"/>
            </a:solidFill>
            <a:ln w="38100">
              <a:solidFill>
                <a:srgbClr val="c6aea2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fr-FR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" name="Rectangle 9"/>
            <p:cNvSpPr/>
            <p:nvPr/>
          </p:nvSpPr>
          <p:spPr>
            <a:xfrm flipV="1" rot="10800000">
              <a:off x="7119720" y="2890800"/>
              <a:ext cx="1714320" cy="1425960"/>
            </a:xfrm>
            <a:custGeom>
              <a:avLst/>
              <a:gdLst>
                <a:gd name="textAreaLeft" fmla="*/ 0 w 1714320"/>
                <a:gd name="textAreaRight" fmla="*/ 1714680 w 1714320"/>
                <a:gd name="textAreaTop" fmla="*/ -360 h 1425960"/>
                <a:gd name="textAreaBottom" fmla="*/ 1425960 h 1425960"/>
              </a:gdLst>
              <a:ahLst/>
              <a:rect l="textAreaLeft" t="textAreaTop" r="textAreaRight" b="textAreaBottom"/>
              <a:pathLst>
                <a:path w="1375150" h="1008112">
                  <a:moveTo>
                    <a:pt x="0" y="0"/>
                  </a:moveTo>
                  <a:lnTo>
                    <a:pt x="1375150" y="0"/>
                  </a:lnTo>
                  <a:lnTo>
                    <a:pt x="1375150" y="1008112"/>
                  </a:lnTo>
                  <a:lnTo>
                    <a:pt x="0" y="1008112"/>
                  </a:lnTo>
                  <a:cubicBezTo>
                    <a:pt x="341483" y="528809"/>
                    <a:pt x="-2835" y="1009627"/>
                    <a:pt x="353888" y="515084"/>
                  </a:cubicBezTo>
                  <a:cubicBezTo>
                    <a:pt x="-10455" y="-12211"/>
                    <a:pt x="349103" y="504435"/>
                    <a:pt x="0" y="0"/>
                  </a:cubicBezTo>
                  <a:close/>
                </a:path>
              </a:pathLst>
            </a:custGeom>
            <a:solidFill>
              <a:srgbClr val="9e100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fr-FR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" name="Rectangle 9"/>
            <p:cNvSpPr/>
            <p:nvPr/>
          </p:nvSpPr>
          <p:spPr>
            <a:xfrm flipV="1" rot="10800000">
              <a:off x="7164720" y="3094560"/>
              <a:ext cx="1265040" cy="1018440"/>
            </a:xfrm>
            <a:custGeom>
              <a:avLst/>
              <a:gdLst>
                <a:gd name="textAreaLeft" fmla="*/ 0 w 1265040"/>
                <a:gd name="textAreaRight" fmla="*/ 1265400 w 1265040"/>
                <a:gd name="textAreaTop" fmla="*/ -360 h 1018440"/>
                <a:gd name="textAreaBottom" fmla="*/ 1018440 h 1018440"/>
              </a:gdLst>
              <a:ahLst/>
              <a:rect l="textAreaLeft" t="textAreaTop" r="textAreaRight" b="textAreaBottom"/>
              <a:pathLst>
                <a:path w="1375150" h="1008112">
                  <a:moveTo>
                    <a:pt x="0" y="0"/>
                  </a:moveTo>
                  <a:lnTo>
                    <a:pt x="1375150" y="0"/>
                  </a:lnTo>
                  <a:lnTo>
                    <a:pt x="1375150" y="1008112"/>
                  </a:lnTo>
                  <a:lnTo>
                    <a:pt x="0" y="1008112"/>
                  </a:lnTo>
                  <a:cubicBezTo>
                    <a:pt x="341483" y="528809"/>
                    <a:pt x="-2835" y="1009627"/>
                    <a:pt x="353888" y="515084"/>
                  </a:cubicBezTo>
                  <a:cubicBezTo>
                    <a:pt x="-10455" y="-12211"/>
                    <a:pt x="349103" y="504435"/>
                    <a:pt x="0" y="0"/>
                  </a:cubicBezTo>
                  <a:close/>
                </a:path>
              </a:pathLst>
            </a:custGeom>
            <a:solidFill>
              <a:srgbClr val="9e100e"/>
            </a:solidFill>
            <a:ln w="38100">
              <a:solidFill>
                <a:srgbClr val="c6aea2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fr-FR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" name="Rectangle 23"/>
            <p:cNvSpPr/>
            <p:nvPr/>
          </p:nvSpPr>
          <p:spPr>
            <a:xfrm>
              <a:off x="1661040" y="2515680"/>
              <a:ext cx="5832360" cy="1426320"/>
            </a:xfrm>
            <a:prstGeom prst="rect">
              <a:avLst/>
            </a:prstGeom>
            <a:solidFill>
              <a:srgbClr val="9e100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fr-FR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7" name="Connecteur droit 24"/>
            <p:cNvCxnSpPr/>
            <p:nvPr/>
          </p:nvCxnSpPr>
          <p:spPr>
            <a:xfrm>
              <a:off x="1661040" y="2687040"/>
              <a:ext cx="5832720" cy="360"/>
            </a:xfrm>
            <a:prstGeom prst="straightConnector1">
              <a:avLst/>
            </a:prstGeom>
            <a:ln w="38100">
              <a:solidFill>
                <a:srgbClr val="c6aea2"/>
              </a:solidFill>
              <a:round/>
            </a:ln>
          </p:spPr>
        </p:cxnSp>
        <p:cxnSp>
          <p:nvCxnSpPr>
            <p:cNvPr id="8" name="Connecteur droit 25"/>
            <p:cNvCxnSpPr/>
            <p:nvPr/>
          </p:nvCxnSpPr>
          <p:spPr>
            <a:xfrm>
              <a:off x="1661040" y="3807720"/>
              <a:ext cx="5832720" cy="360"/>
            </a:xfrm>
            <a:prstGeom prst="straightConnector1">
              <a:avLst/>
            </a:prstGeom>
            <a:ln w="38100">
              <a:solidFill>
                <a:srgbClr val="c6aea2"/>
              </a:solidFill>
              <a:round/>
            </a:ln>
          </p:spPr>
        </p:cxnSp>
        <p:sp>
          <p:nvSpPr>
            <p:cNvPr id="9" name="Rectangle 13"/>
            <p:cNvSpPr/>
            <p:nvPr/>
          </p:nvSpPr>
          <p:spPr>
            <a:xfrm>
              <a:off x="1673280" y="3942360"/>
              <a:ext cx="351000" cy="374760"/>
            </a:xfrm>
            <a:custGeom>
              <a:avLst/>
              <a:gdLst>
                <a:gd name="textAreaLeft" fmla="*/ 0 w 351000"/>
                <a:gd name="textAreaRight" fmla="*/ 351360 w 35100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385137" h="265112">
                  <a:moveTo>
                    <a:pt x="0" y="0"/>
                  </a:moveTo>
                  <a:lnTo>
                    <a:pt x="385137" y="0"/>
                  </a:lnTo>
                  <a:lnTo>
                    <a:pt x="385137" y="2651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1140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fr-FR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 flipH="1">
              <a:off x="7118640" y="3942360"/>
              <a:ext cx="374040" cy="374760"/>
            </a:xfrm>
            <a:custGeom>
              <a:avLst/>
              <a:gdLst>
                <a:gd name="textAreaLeft" fmla="*/ -360 w 374040"/>
                <a:gd name="textAreaRight" fmla="*/ 374040 w 37404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385137" h="265112">
                  <a:moveTo>
                    <a:pt x="0" y="0"/>
                  </a:moveTo>
                  <a:lnTo>
                    <a:pt x="385137" y="0"/>
                  </a:lnTo>
                  <a:lnTo>
                    <a:pt x="385137" y="2651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1140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fr-FR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" name="ZoneTexte 15"/>
            <p:cNvSpPr/>
            <p:nvPr/>
          </p:nvSpPr>
          <p:spPr>
            <a:xfrm>
              <a:off x="1221840" y="3348000"/>
              <a:ext cx="46008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fr-FR" sz="4400" spc="-1" strike="noStrike">
                  <a:solidFill>
                    <a:srgbClr val="c6aea2"/>
                  </a:solidFill>
                  <a:latin typeface="Calibri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ZoneTexte 16"/>
            <p:cNvSpPr/>
            <p:nvPr/>
          </p:nvSpPr>
          <p:spPr>
            <a:xfrm>
              <a:off x="7469280" y="3348000"/>
              <a:ext cx="46008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fr-FR" sz="4400" spc="-1" strike="noStrike">
                  <a:solidFill>
                    <a:srgbClr val="c6aea2"/>
                  </a:solidFill>
                  <a:latin typeface="Calibri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dt" idx="1"/>
          </p:nvPr>
        </p:nvSpPr>
        <p:spPr>
          <a:xfrm>
            <a:off x="3505320" y="63093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1100" spc="-1" strike="noStrike">
                <a:solidFill>
                  <a:srgbClr val="8b8b8b"/>
                </a:solidFill>
                <a:latin typeface="Calibri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fr-FR" sz="1100" spc="-1" strike="noStrike">
                <a:solidFill>
                  <a:srgbClr val="8b8b8b"/>
                </a:solidFill>
                <a:latin typeface="Calibri"/>
                <a:ea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title"/>
          </p:nvPr>
        </p:nvSpPr>
        <p:spPr>
          <a:xfrm>
            <a:off x="1661040" y="2493000"/>
            <a:ext cx="583236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6"/>
          <p:cNvSpPr/>
          <p:nvPr/>
        </p:nvSpPr>
        <p:spPr>
          <a:xfrm rot="5400000">
            <a:off x="8409240" y="5801760"/>
            <a:ext cx="1819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Copyright Showee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e 1"/>
          <p:cNvGrpSpPr/>
          <p:nvPr/>
        </p:nvGrpSpPr>
        <p:grpSpPr>
          <a:xfrm>
            <a:off x="309960" y="211680"/>
            <a:ext cx="8524080" cy="1272600"/>
            <a:chOff x="309960" y="211680"/>
            <a:chExt cx="8524080" cy="1272600"/>
          </a:xfrm>
        </p:grpSpPr>
        <p:sp>
          <p:nvSpPr>
            <p:cNvPr id="54" name="Rectangle 9"/>
            <p:cNvSpPr/>
            <p:nvPr/>
          </p:nvSpPr>
          <p:spPr>
            <a:xfrm>
              <a:off x="309960" y="476640"/>
              <a:ext cx="1735560" cy="1007640"/>
            </a:xfrm>
            <a:custGeom>
              <a:avLst/>
              <a:gdLst>
                <a:gd name="textAreaLeft" fmla="*/ 0 w 1735560"/>
                <a:gd name="textAreaRight" fmla="*/ 1735920 w 173556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1375150" h="1008112">
                  <a:moveTo>
                    <a:pt x="0" y="0"/>
                  </a:moveTo>
                  <a:lnTo>
                    <a:pt x="1375150" y="0"/>
                  </a:lnTo>
                  <a:lnTo>
                    <a:pt x="1375150" y="1008112"/>
                  </a:lnTo>
                  <a:lnTo>
                    <a:pt x="0" y="1008112"/>
                  </a:lnTo>
                  <a:cubicBezTo>
                    <a:pt x="341483" y="528809"/>
                    <a:pt x="-2835" y="1009627"/>
                    <a:pt x="353888" y="515084"/>
                  </a:cubicBezTo>
                  <a:cubicBezTo>
                    <a:pt x="-10455" y="-12211"/>
                    <a:pt x="349103" y="504435"/>
                    <a:pt x="0" y="0"/>
                  </a:cubicBezTo>
                  <a:close/>
                </a:path>
              </a:pathLst>
            </a:custGeom>
            <a:solidFill>
              <a:srgbClr val="9e100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fr-FR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5" name="Rectangle 9"/>
            <p:cNvSpPr/>
            <p:nvPr/>
          </p:nvSpPr>
          <p:spPr>
            <a:xfrm>
              <a:off x="714240" y="620640"/>
              <a:ext cx="1310040" cy="719640"/>
            </a:xfrm>
            <a:custGeom>
              <a:avLst/>
              <a:gdLst>
                <a:gd name="textAreaLeft" fmla="*/ 0 w 1310040"/>
                <a:gd name="textAreaRight" fmla="*/ 1310400 w 1310040"/>
                <a:gd name="textAreaTop" fmla="*/ 0 h 719640"/>
                <a:gd name="textAreaBottom" fmla="*/ 720000 h 719640"/>
              </a:gdLst>
              <a:ahLst/>
              <a:rect l="textAreaLeft" t="textAreaTop" r="textAreaRight" b="textAreaBottom"/>
              <a:pathLst>
                <a:path w="1375150" h="1008112">
                  <a:moveTo>
                    <a:pt x="0" y="0"/>
                  </a:moveTo>
                  <a:lnTo>
                    <a:pt x="1375150" y="0"/>
                  </a:lnTo>
                  <a:lnTo>
                    <a:pt x="1375150" y="1008112"/>
                  </a:lnTo>
                  <a:lnTo>
                    <a:pt x="0" y="1008112"/>
                  </a:lnTo>
                  <a:cubicBezTo>
                    <a:pt x="341483" y="528809"/>
                    <a:pt x="-2835" y="1009627"/>
                    <a:pt x="353888" y="515084"/>
                  </a:cubicBezTo>
                  <a:cubicBezTo>
                    <a:pt x="-10455" y="-12211"/>
                    <a:pt x="349103" y="504435"/>
                    <a:pt x="0" y="0"/>
                  </a:cubicBezTo>
                  <a:close/>
                </a:path>
              </a:pathLst>
            </a:custGeom>
            <a:solidFill>
              <a:srgbClr val="9e100e"/>
            </a:solidFill>
            <a:ln w="38100">
              <a:solidFill>
                <a:srgbClr val="c6aea2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fr-FR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56" name="Groupe 12"/>
            <p:cNvGrpSpPr/>
            <p:nvPr/>
          </p:nvGrpSpPr>
          <p:grpSpPr>
            <a:xfrm>
              <a:off x="7119720" y="476640"/>
              <a:ext cx="1714320" cy="1007640"/>
              <a:chOff x="7119720" y="476640"/>
              <a:chExt cx="1714320" cy="1007640"/>
            </a:xfrm>
          </p:grpSpPr>
          <p:sp>
            <p:nvSpPr>
              <p:cNvPr id="57" name="Rectangle 9"/>
              <p:cNvSpPr/>
              <p:nvPr/>
            </p:nvSpPr>
            <p:spPr>
              <a:xfrm flipV="1" rot="10800000">
                <a:off x="7119720" y="476280"/>
                <a:ext cx="1714320" cy="1007640"/>
              </a:xfrm>
              <a:custGeom>
                <a:avLst/>
                <a:gdLst>
                  <a:gd name="textAreaLeft" fmla="*/ 0 w 1714320"/>
                  <a:gd name="textAreaRight" fmla="*/ 1714680 w 1714320"/>
                  <a:gd name="textAreaTop" fmla="*/ -360 h 1007640"/>
                  <a:gd name="textAreaBottom" fmla="*/ 1007640 h 1007640"/>
                </a:gdLst>
                <a:ahLst/>
                <a:rect l="textAreaLeft" t="textAreaTop" r="textAreaRight" b="textAreaBottom"/>
                <a:pathLst>
                  <a:path w="1375150" h="1008112">
                    <a:moveTo>
                      <a:pt x="0" y="0"/>
                    </a:moveTo>
                    <a:lnTo>
                      <a:pt x="1375150" y="0"/>
                    </a:lnTo>
                    <a:lnTo>
                      <a:pt x="1375150" y="1008112"/>
                    </a:lnTo>
                    <a:lnTo>
                      <a:pt x="0" y="1008112"/>
                    </a:lnTo>
                    <a:cubicBezTo>
                      <a:pt x="341483" y="528809"/>
                      <a:pt x="-2835" y="1009627"/>
                      <a:pt x="353888" y="515084"/>
                    </a:cubicBezTo>
                    <a:cubicBezTo>
                      <a:pt x="-10455" y="-12211"/>
                      <a:pt x="349103" y="504435"/>
                      <a:pt x="0" y="0"/>
                    </a:cubicBezTo>
                    <a:close/>
                  </a:path>
                </a:pathLst>
              </a:custGeom>
              <a:solidFill>
                <a:srgbClr val="9e100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fr-FR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 flipV="1" rot="10800000">
                <a:off x="7164720" y="620280"/>
                <a:ext cx="1265040" cy="719640"/>
              </a:xfrm>
              <a:custGeom>
                <a:avLst/>
                <a:gdLst>
                  <a:gd name="textAreaLeft" fmla="*/ 0 w 1265040"/>
                  <a:gd name="textAreaRight" fmla="*/ 1265400 w 1265040"/>
                  <a:gd name="textAreaTop" fmla="*/ -360 h 719640"/>
                  <a:gd name="textAreaBottom" fmla="*/ 719640 h 719640"/>
                </a:gdLst>
                <a:ahLst/>
                <a:rect l="textAreaLeft" t="textAreaTop" r="textAreaRight" b="textAreaBottom"/>
                <a:pathLst>
                  <a:path w="1375150" h="1008112">
                    <a:moveTo>
                      <a:pt x="0" y="0"/>
                    </a:moveTo>
                    <a:lnTo>
                      <a:pt x="1375150" y="0"/>
                    </a:lnTo>
                    <a:lnTo>
                      <a:pt x="1375150" y="1008112"/>
                    </a:lnTo>
                    <a:lnTo>
                      <a:pt x="0" y="1008112"/>
                    </a:lnTo>
                    <a:cubicBezTo>
                      <a:pt x="341483" y="528809"/>
                      <a:pt x="-2835" y="1009627"/>
                      <a:pt x="353888" y="515084"/>
                    </a:cubicBezTo>
                    <a:cubicBezTo>
                      <a:pt x="-10455" y="-12211"/>
                      <a:pt x="349103" y="504435"/>
                      <a:pt x="0" y="0"/>
                    </a:cubicBezTo>
                    <a:close/>
                  </a:path>
                </a:pathLst>
              </a:custGeom>
              <a:solidFill>
                <a:srgbClr val="9e100e"/>
              </a:solidFill>
              <a:ln w="38100">
                <a:solidFill>
                  <a:srgbClr val="c6aea2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fr-FR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59" name="Groupe 14"/>
            <p:cNvGrpSpPr/>
            <p:nvPr/>
          </p:nvGrpSpPr>
          <p:grpSpPr>
            <a:xfrm>
              <a:off x="1661040" y="211680"/>
              <a:ext cx="5832360" cy="1007640"/>
              <a:chOff x="1661040" y="211680"/>
              <a:chExt cx="5832360" cy="1007640"/>
            </a:xfrm>
          </p:grpSpPr>
          <p:sp>
            <p:nvSpPr>
              <p:cNvPr id="60" name="Rectangle 17"/>
              <p:cNvSpPr/>
              <p:nvPr/>
            </p:nvSpPr>
            <p:spPr>
              <a:xfrm>
                <a:off x="1661040" y="211680"/>
                <a:ext cx="5832360" cy="1007640"/>
              </a:xfrm>
              <a:prstGeom prst="rect">
                <a:avLst/>
              </a:prstGeom>
              <a:solidFill>
                <a:srgbClr val="9e100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fr-FR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61" name="Connecteur droit 21"/>
              <p:cNvCxnSpPr/>
              <p:nvPr/>
            </p:nvCxnSpPr>
            <p:spPr>
              <a:xfrm>
                <a:off x="1661040" y="332640"/>
                <a:ext cx="5832720" cy="360"/>
              </a:xfrm>
              <a:prstGeom prst="straightConnector1">
                <a:avLst/>
              </a:prstGeom>
              <a:ln w="38100">
                <a:solidFill>
                  <a:srgbClr val="c6aea2"/>
                </a:solidFill>
                <a:round/>
              </a:ln>
            </p:spPr>
          </p:cxnSp>
          <p:cxnSp>
            <p:nvCxnSpPr>
              <p:cNvPr id="62" name="Connecteur droit 22"/>
              <p:cNvCxnSpPr/>
              <p:nvPr/>
            </p:nvCxnSpPr>
            <p:spPr>
              <a:xfrm>
                <a:off x="1661040" y="1124640"/>
                <a:ext cx="5832720" cy="360"/>
              </a:xfrm>
              <a:prstGeom prst="straightConnector1">
                <a:avLst/>
              </a:prstGeom>
              <a:ln w="38100">
                <a:solidFill>
                  <a:srgbClr val="c6aea2"/>
                </a:solidFill>
                <a:round/>
              </a:ln>
            </p:spPr>
          </p:cxnSp>
        </p:grpSp>
        <p:sp>
          <p:nvSpPr>
            <p:cNvPr id="63" name="Rectangle 13"/>
            <p:cNvSpPr/>
            <p:nvPr/>
          </p:nvSpPr>
          <p:spPr>
            <a:xfrm>
              <a:off x="1673280" y="1219680"/>
              <a:ext cx="372600" cy="264600"/>
            </a:xfrm>
            <a:custGeom>
              <a:avLst/>
              <a:gdLst>
                <a:gd name="textAreaLeft" fmla="*/ 0 w 372600"/>
                <a:gd name="textAreaRight" fmla="*/ 372960 w 372600"/>
                <a:gd name="textAreaTop" fmla="*/ 0 h 264600"/>
                <a:gd name="textAreaBottom" fmla="*/ 264960 h 264600"/>
              </a:gdLst>
              <a:ahLst/>
              <a:rect l="textAreaLeft" t="textAreaTop" r="textAreaRight" b="textAreaBottom"/>
              <a:pathLst>
                <a:path w="385137" h="265112">
                  <a:moveTo>
                    <a:pt x="0" y="0"/>
                  </a:moveTo>
                  <a:lnTo>
                    <a:pt x="385137" y="0"/>
                  </a:lnTo>
                  <a:lnTo>
                    <a:pt x="385137" y="2651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1140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fr-FR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4" name="Rectangle 13"/>
            <p:cNvSpPr/>
            <p:nvPr/>
          </p:nvSpPr>
          <p:spPr>
            <a:xfrm flipH="1">
              <a:off x="7118640" y="1219680"/>
              <a:ext cx="374040" cy="264600"/>
            </a:xfrm>
            <a:custGeom>
              <a:avLst/>
              <a:gdLst>
                <a:gd name="textAreaLeft" fmla="*/ -360 w 374040"/>
                <a:gd name="textAreaRight" fmla="*/ 374040 w 374040"/>
                <a:gd name="textAreaTop" fmla="*/ 0 h 264600"/>
                <a:gd name="textAreaBottom" fmla="*/ 264960 h 264600"/>
              </a:gdLst>
              <a:ahLst/>
              <a:rect l="textAreaLeft" t="textAreaTop" r="textAreaRight" b="textAreaBottom"/>
              <a:pathLst>
                <a:path w="385137" h="265112">
                  <a:moveTo>
                    <a:pt x="0" y="0"/>
                  </a:moveTo>
                  <a:lnTo>
                    <a:pt x="385137" y="0"/>
                  </a:lnTo>
                  <a:lnTo>
                    <a:pt x="385137" y="2651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1140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fr-FR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5" name="ZoneTexte 8"/>
            <p:cNvSpPr/>
            <p:nvPr/>
          </p:nvSpPr>
          <p:spPr>
            <a:xfrm>
              <a:off x="1221840" y="720000"/>
              <a:ext cx="46008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fr-FR" sz="4400" spc="-1" strike="noStrike">
                  <a:solidFill>
                    <a:srgbClr val="c6aea2"/>
                  </a:solidFill>
                  <a:latin typeface="Calibri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ZoneTexte 31"/>
            <p:cNvSpPr/>
            <p:nvPr/>
          </p:nvSpPr>
          <p:spPr>
            <a:xfrm>
              <a:off x="7469280" y="720000"/>
              <a:ext cx="46008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fr-FR" sz="4400" spc="-1" strike="noStrike">
                  <a:solidFill>
                    <a:srgbClr val="c6aea2"/>
                  </a:solidFill>
                  <a:latin typeface="Calibri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dt" idx="2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fr-FR" sz="1200" spc="-1" strike="noStrike">
                <a:solidFill>
                  <a:srgbClr val="bc8c8b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fr-FR" sz="1200" spc="-1" strike="noStrike">
                <a:solidFill>
                  <a:srgbClr val="bc8c8b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bc8c8b"/>
                </a:solidFill>
                <a:latin typeface="Calibri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8c8b"/>
                </a:solidFill>
                <a:latin typeface="Calibri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fr-FR" sz="1200" spc="-1" strike="noStrike">
                <a:solidFill>
                  <a:srgbClr val="bc8c8b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055369-6D01-40A0-AEB8-AC9BDBFFD9B7}" type="slidenum">
              <a:rPr b="0" lang="fr-FR" sz="1200" spc="-1" strike="noStrike">
                <a:solidFill>
                  <a:srgbClr val="bc8c8b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9e1306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9e1306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9e1306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9e1306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9e1306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9e1306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9e1306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9e1306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9e1306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9e1306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" strike="noStrike" cap="small">
                <a:solidFill>
                  <a:srgbClr val="ffffff"/>
                </a:solidFill>
                <a:latin typeface="Calibri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3640" y="2709000"/>
            <a:ext cx="737496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灰色白纹通用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024640" y="4005000"/>
            <a:ext cx="5094360" cy="153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9e1306"/>
                </a:solidFill>
                <a:latin typeface="Calibri"/>
              </a:rPr>
              <a:t>Insert the sub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dt" idx="5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8c8b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8c8b"/>
                </a:solidFill>
                <a:latin typeface="Calibri"/>
                <a:ea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9e1306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9e1306"/>
                </a:solidFill>
                <a:latin typeface="Calibri"/>
              </a:rPr>
              <a:t>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9e1306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9e1306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9e1306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9e1306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9e1306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9e1306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9e1306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9e1306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" strike="noStrike" cap="small">
                <a:solidFill>
                  <a:srgbClr val="ffffff"/>
                </a:solidFill>
                <a:latin typeface="Calibri"/>
              </a:rPr>
              <a:t>Customize your headline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08001-58C8-4B05-9DE8-3AFBEA0ED6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ld Style [Showeet.com]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ld Style [Showeet.com]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8</TotalTime>
  <Application>LibreOffice/7.4.7.2$Linux_X86_64 LibreOffice_project/40$Build-2</Application>
  <AppVersion>15.0000</AppVersion>
  <Words>36</Words>
  <Paragraphs>1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Templates</cp:category>
  <dcterms:created xsi:type="dcterms:W3CDTF">2012-01-16T12:17:13Z</dcterms:created>
  <dc:creator>showeet.com</dc:creator>
  <dc:description/>
  <dc:language>en-US</dc:language>
  <cp:lastModifiedBy>王玉清</cp:lastModifiedBy>
  <dcterms:modified xsi:type="dcterms:W3CDTF">2016-02-29T07:43:13Z</dcterms:modified>
  <cp:revision>2</cp:revision>
  <dc:subject/>
  <dc:title>Template - Old Sty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</vt:r8>
  </property>
</Properties>
</file>