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CAE6-D3B8-42C0-A313-05AC7F085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5FAC-D1A1-463A-8F1C-0E7B5131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C5CA-8E45-4358-807F-E9E9595B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C330-3CD4-49CF-A74C-D3315677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4667-1EA4-40FF-899A-73D24B9A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7828-DBAB-4D2E-951A-0EFE7F90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3C98-F2E1-4FD3-85A4-545917F5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7CAB-C163-421B-8769-0921F1FE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9323-6BAE-4051-AAC8-697C0BBC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74B3-0EB3-4EA7-9FB0-77B4A209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5701-D2C2-4C4D-9A62-893AC466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5315-70D5-444F-A681-A9F3C3F3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5CD2-1BEA-4471-AC13-C1A2BDDEF4C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5245-A083-4931-859B-A0DD8ED29F9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331920" y="270000"/>
            <a:ext cx="11528280" cy="5897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10"/>
          <p:cNvSpPr/>
          <p:nvPr/>
        </p:nvSpPr>
        <p:spPr>
          <a:xfrm>
            <a:off x="331920" y="270000"/>
            <a:ext cx="11528280" cy="5897520"/>
          </a:xfrm>
          <a:custGeom>
            <a:avLst/>
            <a:gdLst>
              <a:gd name="textAreaLeft" fmla="*/ 0 w 11528280"/>
              <a:gd name="textAreaRight" fmla="*/ 11528640 w 11528280"/>
              <a:gd name="textAreaTop" fmla="*/ 0 h 5897520"/>
              <a:gd name="textAreaBottom" fmla="*/ 5897880 h 5897520"/>
            </a:gdLst>
            <a:ahLst/>
            <a:rect l="textAreaLeft" t="textAreaTop" r="textAreaRight" b="textAreaBottom"/>
            <a:pathLst>
              <a:path w="3314024" h="5048561">
                <a:moveTo>
                  <a:pt x="0" y="0"/>
                </a:moveTo>
                <a:lnTo>
                  <a:pt x="3314024" y="0"/>
                </a:lnTo>
                <a:lnTo>
                  <a:pt x="3229234" y="305327"/>
                </a:lnTo>
                <a:cubicBezTo>
                  <a:pt x="2584124" y="2484885"/>
                  <a:pt x="1434854" y="4194527"/>
                  <a:pt x="27719" y="5033291"/>
                </a:cubicBezTo>
                <a:lnTo>
                  <a:pt x="0" y="5048561"/>
                </a:lnTo>
                <a:lnTo>
                  <a:pt x="0" y="0"/>
                </a:lnTo>
                <a:close/>
              </a:path>
            </a:pathLst>
          </a:custGeom>
          <a:solidFill>
            <a:srgbClr val="ffd44b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331920" y="270000"/>
            <a:ext cx="8478720" cy="5921280"/>
          </a:xfrm>
          <a:custGeom>
            <a:avLst/>
            <a:gdLst>
              <a:gd name="textAreaLeft" fmla="*/ 0 w 8478720"/>
              <a:gd name="textAreaRight" fmla="*/ 8479080 w 8478720"/>
              <a:gd name="textAreaTop" fmla="*/ 0 h 5921280"/>
              <a:gd name="textAreaBottom" fmla="*/ 5921640 h 5921280"/>
            </a:gdLst>
            <a:ahLst/>
            <a:rect l="textAreaLeft" t="textAreaTop" r="textAreaRight" b="textAreaBottom"/>
            <a:pathLst>
              <a:path w="3314024" h="5048561">
                <a:moveTo>
                  <a:pt x="0" y="0"/>
                </a:moveTo>
                <a:lnTo>
                  <a:pt x="3314024" y="0"/>
                </a:lnTo>
                <a:lnTo>
                  <a:pt x="3229234" y="305327"/>
                </a:lnTo>
                <a:cubicBezTo>
                  <a:pt x="2584124" y="2484885"/>
                  <a:pt x="1434854" y="4194527"/>
                  <a:pt x="27719" y="5033291"/>
                </a:cubicBezTo>
                <a:lnTo>
                  <a:pt x="0" y="5048561"/>
                </a:lnTo>
                <a:lnTo>
                  <a:pt x="0" y="0"/>
                </a:lnTo>
                <a:close/>
              </a:path>
            </a:pathLst>
          </a:custGeom>
          <a:solidFill>
            <a:srgbClr val="ffc71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8"/>
          <p:cNvSpPr/>
          <p:nvPr/>
        </p:nvSpPr>
        <p:spPr>
          <a:xfrm>
            <a:off x="331920" y="270000"/>
            <a:ext cx="3028680" cy="5897520"/>
          </a:xfrm>
          <a:custGeom>
            <a:avLst/>
            <a:gdLst>
              <a:gd name="textAreaLeft" fmla="*/ 0 w 3028680"/>
              <a:gd name="textAreaRight" fmla="*/ 3029040 w 3028680"/>
              <a:gd name="textAreaTop" fmla="*/ 0 h 5897520"/>
              <a:gd name="textAreaBottom" fmla="*/ 5897880 h 5897520"/>
            </a:gdLst>
            <a:ahLst/>
            <a:rect l="textAreaLeft" t="textAreaTop" r="textAreaRight" b="textAreaBottom"/>
            <a:pathLst>
              <a:path w="3314024" h="5048561">
                <a:moveTo>
                  <a:pt x="0" y="0"/>
                </a:moveTo>
                <a:lnTo>
                  <a:pt x="3314024" y="0"/>
                </a:lnTo>
                <a:lnTo>
                  <a:pt x="3229234" y="305327"/>
                </a:lnTo>
                <a:cubicBezTo>
                  <a:pt x="2584124" y="2484885"/>
                  <a:pt x="1434854" y="4194527"/>
                  <a:pt x="27719" y="5033291"/>
                </a:cubicBezTo>
                <a:lnTo>
                  <a:pt x="0" y="5048561"/>
                </a:lnTo>
                <a:lnTo>
                  <a:pt x="0" y="0"/>
                </a:lnTo>
                <a:close/>
              </a:path>
            </a:pathLst>
          </a:custGeom>
          <a:solidFill>
            <a:srgbClr val="fed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25"/>
          <p:cNvSpPr/>
          <p:nvPr/>
        </p:nvSpPr>
        <p:spPr>
          <a:xfrm>
            <a:off x="1881360" y="185256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黄色简约通用</a:t>
            </a:r>
            <a:r>
              <a:rPr b="0" lang="en-US" sz="40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PPT</a:t>
            </a:r>
            <a:r>
              <a:rPr b="0" lang="zh-CN" sz="40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26"/>
          <p:cNvSpPr/>
          <p:nvPr/>
        </p:nvSpPr>
        <p:spPr>
          <a:xfrm>
            <a:off x="3813120" y="3000240"/>
            <a:ext cx="45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-</a:t>
            </a:r>
            <a:r>
              <a:rPr b="0" lang="zh-CN" sz="24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请在这里输入副标题</a:t>
            </a:r>
            <a:r>
              <a:rPr b="0" lang="en-US" sz="24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28"/>
          <p:cNvSpPr/>
          <p:nvPr/>
        </p:nvSpPr>
        <p:spPr>
          <a:xfrm>
            <a:off x="5048280" y="3841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中等线简体"/>
                <a:ea typeface="方正中等线简体"/>
              </a:rPr>
              <a:t>作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30"/>
          <p:cNvSpPr/>
          <p:nvPr/>
        </p:nvSpPr>
        <p:spPr>
          <a:xfrm>
            <a:off x="5721480" y="384192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中等线简体"/>
                <a:ea typeface="方正中等线简体"/>
              </a:rPr>
              <a:t>曹将</a:t>
            </a:r>
            <a:r>
              <a:rPr b="0" lang="en-US" sz="1800" spc="-1" strike="noStrike">
                <a:solidFill>
                  <a:srgbClr val="3f3f3f"/>
                </a:solidFill>
                <a:latin typeface="方正中等线简体"/>
                <a:ea typeface="方正中等线简体"/>
              </a:rPr>
              <a:t>PPT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31"/>
          <p:cNvSpPr/>
          <p:nvPr/>
        </p:nvSpPr>
        <p:spPr>
          <a:xfrm>
            <a:off x="5420520" y="500544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方正中等线简体"/>
                <a:ea typeface="方正中等线简体"/>
              </a:rPr>
              <a:t>2014.03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32"/>
          <p:cNvSpPr/>
          <p:nvPr/>
        </p:nvSpPr>
        <p:spPr>
          <a:xfrm>
            <a:off x="244440" y="6191280"/>
            <a:ext cx="11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Segoe UI Light"/>
                <a:ea typeface="方正中等线简体"/>
              </a:rPr>
              <a:t>PowerPoint leads to a better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组合 19"/>
          <p:cNvGrpSpPr/>
          <p:nvPr/>
        </p:nvGrpSpPr>
        <p:grpSpPr>
          <a:xfrm>
            <a:off x="1415520" y="1109520"/>
            <a:ext cx="5205240" cy="4406040"/>
            <a:chOff x="1415520" y="1109520"/>
            <a:chExt cx="5205240" cy="4406040"/>
          </a:xfrm>
        </p:grpSpPr>
        <p:grpSp>
          <p:nvGrpSpPr>
            <p:cNvPr id="368" name="组合 1"/>
            <p:cNvGrpSpPr/>
            <p:nvPr/>
          </p:nvGrpSpPr>
          <p:grpSpPr>
            <a:xfrm>
              <a:off x="2293560" y="1635840"/>
              <a:ext cx="3367440" cy="3364560"/>
              <a:chOff x="2293560" y="1635840"/>
              <a:chExt cx="3367440" cy="3364560"/>
            </a:xfrm>
          </p:grpSpPr>
          <p:sp>
            <p:nvSpPr>
              <p:cNvPr id="369" name="燕尾形 3"/>
              <p:cNvSpPr/>
              <p:nvPr/>
            </p:nvSpPr>
            <p:spPr>
              <a:xfrm rot="16200000">
                <a:off x="3596040" y="1635480"/>
                <a:ext cx="761400" cy="761760"/>
              </a:xfrm>
              <a:custGeom>
                <a:avLst/>
                <a:gdLst>
                  <a:gd name="textAreaLeft" fmla="*/ 0 w 761400"/>
                  <a:gd name="textAreaRight" fmla="*/ 761760 w 7614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燕尾形 3"/>
              <p:cNvSpPr/>
              <p:nvPr/>
            </p:nvSpPr>
            <p:spPr>
              <a:xfrm>
                <a:off x="4899240" y="2939040"/>
                <a:ext cx="761760" cy="76140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761400"/>
                  <a:gd name="textAreaBottom" fmla="*/ 761760 h 761400"/>
                </a:gdLst>
                <a:ahLst/>
                <a:rect l="textAreaLeft" t="textAreaTop" r="textAreaRight" b="textAreaBottom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燕尾形 3"/>
              <p:cNvSpPr/>
              <p:nvPr/>
            </p:nvSpPr>
            <p:spPr>
              <a:xfrm flipH="1" flipV="1" rot="16200000">
                <a:off x="3596040" y="4238280"/>
                <a:ext cx="761400" cy="761760"/>
              </a:xfrm>
              <a:custGeom>
                <a:avLst/>
                <a:gdLst>
                  <a:gd name="textAreaLeft" fmla="*/ -360 w 761400"/>
                  <a:gd name="textAreaRight" fmla="*/ 761400 w 761400"/>
                  <a:gd name="textAreaTop" fmla="*/ 360 h 761760"/>
                  <a:gd name="textAreaBottom" fmla="*/ 762480 h 761760"/>
                </a:gdLst>
                <a:ahLst/>
                <a:rect l="textAreaLeft" t="textAreaTop" r="textAreaRight" b="textAreaBottom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燕尾形 3"/>
              <p:cNvSpPr/>
              <p:nvPr/>
            </p:nvSpPr>
            <p:spPr>
              <a:xfrm flipH="1">
                <a:off x="2293560" y="2936520"/>
                <a:ext cx="761760" cy="761400"/>
              </a:xfrm>
              <a:custGeom>
                <a:avLst/>
                <a:gdLst>
                  <a:gd name="textAreaLeft" fmla="*/ 360 w 761760"/>
                  <a:gd name="textAreaRight" fmla="*/ 762480 w 761760"/>
                  <a:gd name="textAreaTop" fmla="*/ 0 h 761400"/>
                  <a:gd name="textAreaBottom" fmla="*/ 761760 h 761400"/>
                </a:gdLst>
                <a:ahLst/>
                <a:rect l="textAreaLeft" t="textAreaTop" r="textAreaRight" b="textAreaBottom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燕尾形 3"/>
              <p:cNvSpPr/>
              <p:nvPr/>
            </p:nvSpPr>
            <p:spPr>
              <a:xfrm rot="13500000">
                <a:off x="2674080" y="2014920"/>
                <a:ext cx="761400" cy="761760"/>
              </a:xfrm>
              <a:custGeom>
                <a:avLst/>
                <a:gdLst>
                  <a:gd name="textAreaLeft" fmla="*/ 0 w 761400"/>
                  <a:gd name="textAreaRight" fmla="*/ 761760 w 7614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328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燕尾形 3"/>
              <p:cNvSpPr/>
              <p:nvPr/>
            </p:nvSpPr>
            <p:spPr>
              <a:xfrm flipH="1" rot="8100000">
                <a:off x="4515480" y="2016000"/>
                <a:ext cx="761760" cy="761760"/>
              </a:xfrm>
              <a:custGeom>
                <a:avLst/>
                <a:gdLst>
                  <a:gd name="textAreaLeft" fmla="*/ 360 w 761760"/>
                  <a:gd name="textAreaRight" fmla="*/ 762480 w 76176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328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燕尾形 3"/>
              <p:cNvSpPr/>
              <p:nvPr/>
            </p:nvSpPr>
            <p:spPr>
              <a:xfrm flipV="1" rot="8100000">
                <a:off x="2674080" y="3858120"/>
                <a:ext cx="761760" cy="76176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360 h 761760"/>
                  <a:gd name="textAreaBottom" fmla="*/ 762480 h 761760"/>
                </a:gdLst>
                <a:ahLst/>
                <a:rect l="textAreaLeft" t="textAreaTop" r="textAreaRight" b="textAreaBottom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328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燕尾形 3"/>
              <p:cNvSpPr/>
              <p:nvPr/>
            </p:nvSpPr>
            <p:spPr>
              <a:xfrm flipH="1" flipV="1" rot="13500000">
                <a:off x="4515480" y="3858120"/>
                <a:ext cx="761760" cy="761760"/>
              </a:xfrm>
              <a:custGeom>
                <a:avLst/>
                <a:gdLst>
                  <a:gd name="textAreaLeft" fmla="*/ 360 w 761760"/>
                  <a:gd name="textAreaRight" fmla="*/ 762480 w 761760"/>
                  <a:gd name="textAreaTop" fmla="*/ 360 h 761760"/>
                  <a:gd name="textAreaBottom" fmla="*/ 762480 h 761760"/>
                </a:gdLst>
                <a:ahLst/>
                <a:rect l="textAreaLeft" t="textAreaTop" r="textAreaRight" b="textAreaBottom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328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矩形 10"/>
            <p:cNvSpPr/>
            <p:nvPr/>
          </p:nvSpPr>
          <p:spPr>
            <a:xfrm>
              <a:off x="3612240" y="3087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总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11"/>
            <p:cNvSpPr/>
            <p:nvPr/>
          </p:nvSpPr>
          <p:spPr>
            <a:xfrm>
              <a:off x="3759120" y="110952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12"/>
            <p:cNvSpPr/>
            <p:nvPr/>
          </p:nvSpPr>
          <p:spPr>
            <a:xfrm>
              <a:off x="5400720" y="18169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文本框 13"/>
            <p:cNvSpPr/>
            <p:nvPr/>
          </p:nvSpPr>
          <p:spPr>
            <a:xfrm>
              <a:off x="5982840" y="3122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文本框 14"/>
            <p:cNvSpPr/>
            <p:nvPr/>
          </p:nvSpPr>
          <p:spPr>
            <a:xfrm>
              <a:off x="5400720" y="44204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文本框 15"/>
            <p:cNvSpPr/>
            <p:nvPr/>
          </p:nvSpPr>
          <p:spPr>
            <a:xfrm>
              <a:off x="3657960" y="51166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6"/>
            <p:cNvSpPr/>
            <p:nvPr/>
          </p:nvSpPr>
          <p:spPr>
            <a:xfrm>
              <a:off x="1910520" y="44204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文本框 17"/>
            <p:cNvSpPr/>
            <p:nvPr/>
          </p:nvSpPr>
          <p:spPr>
            <a:xfrm>
              <a:off x="1415520" y="31158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文本框 18"/>
            <p:cNvSpPr/>
            <p:nvPr/>
          </p:nvSpPr>
          <p:spPr>
            <a:xfrm>
              <a:off x="1789920" y="18169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矩形 20"/>
          <p:cNvSpPr/>
          <p:nvPr/>
        </p:nvSpPr>
        <p:spPr>
          <a:xfrm>
            <a:off x="0" y="1440"/>
            <a:ext cx="12192120" cy="4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21"/>
          <p:cNvSpPr/>
          <p:nvPr/>
        </p:nvSpPr>
        <p:spPr>
          <a:xfrm>
            <a:off x="0" y="681192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22"/>
          <p:cNvSpPr/>
          <p:nvPr/>
        </p:nvSpPr>
        <p:spPr>
          <a:xfrm>
            <a:off x="5955120" y="62834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注：该页用于展示该模版的使用时的排版方式，具体使用时请替换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23"/>
          <p:cNvGrpSpPr/>
          <p:nvPr/>
        </p:nvGrpSpPr>
        <p:grpSpPr>
          <a:xfrm>
            <a:off x="7274880" y="2039760"/>
            <a:ext cx="2401200" cy="520560"/>
            <a:chOff x="7274880" y="2039760"/>
            <a:chExt cx="2401200" cy="520560"/>
          </a:xfrm>
        </p:grpSpPr>
        <p:sp>
          <p:nvSpPr>
            <p:cNvPr id="390" name="矩形 24"/>
            <p:cNvSpPr/>
            <p:nvPr/>
          </p:nvSpPr>
          <p:spPr>
            <a:xfrm rot="21413400">
              <a:off x="7278480" y="2269800"/>
              <a:ext cx="2393640" cy="2070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文本框 25"/>
            <p:cNvSpPr/>
            <p:nvPr/>
          </p:nvSpPr>
          <p:spPr>
            <a:xfrm>
              <a:off x="7701840" y="20397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总分关系示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矩形 26"/>
          <p:cNvSpPr/>
          <p:nvPr/>
        </p:nvSpPr>
        <p:spPr>
          <a:xfrm>
            <a:off x="7256520" y="2577960"/>
            <a:ext cx="386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在改变内容的层次数目时，建议使用偶数的数量，并仍然保持一黑一黄的对比关系。当然，也可以考虑使用简便的配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矩形 7"/>
          <p:cNvSpPr/>
          <p:nvPr/>
        </p:nvSpPr>
        <p:spPr>
          <a:xfrm>
            <a:off x="331920" y="270000"/>
            <a:ext cx="11528280" cy="5897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任意多边形 10"/>
          <p:cNvSpPr/>
          <p:nvPr/>
        </p:nvSpPr>
        <p:spPr>
          <a:xfrm>
            <a:off x="331920" y="270000"/>
            <a:ext cx="11528280" cy="5897520"/>
          </a:xfrm>
          <a:custGeom>
            <a:avLst/>
            <a:gdLst>
              <a:gd name="textAreaLeft" fmla="*/ 0 w 11528280"/>
              <a:gd name="textAreaRight" fmla="*/ 11528640 w 11528280"/>
              <a:gd name="textAreaTop" fmla="*/ 0 h 5897520"/>
              <a:gd name="textAreaBottom" fmla="*/ 5897880 h 5897520"/>
            </a:gdLst>
            <a:ahLst/>
            <a:rect l="textAreaLeft" t="textAreaTop" r="textAreaRight" b="textAreaBottom"/>
            <a:pathLst>
              <a:path w="3314024" h="5048561">
                <a:moveTo>
                  <a:pt x="0" y="0"/>
                </a:moveTo>
                <a:lnTo>
                  <a:pt x="3314024" y="0"/>
                </a:lnTo>
                <a:lnTo>
                  <a:pt x="3229234" y="305327"/>
                </a:lnTo>
                <a:cubicBezTo>
                  <a:pt x="2584124" y="2484885"/>
                  <a:pt x="1434854" y="4194527"/>
                  <a:pt x="27719" y="5033291"/>
                </a:cubicBezTo>
                <a:lnTo>
                  <a:pt x="0" y="5048561"/>
                </a:lnTo>
                <a:lnTo>
                  <a:pt x="0" y="0"/>
                </a:lnTo>
                <a:close/>
              </a:path>
            </a:pathLst>
          </a:custGeom>
          <a:solidFill>
            <a:srgbClr val="ffd44b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任意多边形 9"/>
          <p:cNvSpPr/>
          <p:nvPr/>
        </p:nvSpPr>
        <p:spPr>
          <a:xfrm>
            <a:off x="331920" y="270000"/>
            <a:ext cx="8478720" cy="5921280"/>
          </a:xfrm>
          <a:custGeom>
            <a:avLst/>
            <a:gdLst>
              <a:gd name="textAreaLeft" fmla="*/ 0 w 8478720"/>
              <a:gd name="textAreaRight" fmla="*/ 8479080 w 8478720"/>
              <a:gd name="textAreaTop" fmla="*/ 0 h 5921280"/>
              <a:gd name="textAreaBottom" fmla="*/ 5921640 h 5921280"/>
            </a:gdLst>
            <a:ahLst/>
            <a:rect l="textAreaLeft" t="textAreaTop" r="textAreaRight" b="textAreaBottom"/>
            <a:pathLst>
              <a:path w="3314024" h="5048561">
                <a:moveTo>
                  <a:pt x="0" y="0"/>
                </a:moveTo>
                <a:lnTo>
                  <a:pt x="3314024" y="0"/>
                </a:lnTo>
                <a:lnTo>
                  <a:pt x="3229234" y="305327"/>
                </a:lnTo>
                <a:cubicBezTo>
                  <a:pt x="2584124" y="2484885"/>
                  <a:pt x="1434854" y="4194527"/>
                  <a:pt x="27719" y="5033291"/>
                </a:cubicBezTo>
                <a:lnTo>
                  <a:pt x="0" y="5048561"/>
                </a:lnTo>
                <a:lnTo>
                  <a:pt x="0" y="0"/>
                </a:lnTo>
                <a:close/>
              </a:path>
            </a:pathLst>
          </a:custGeom>
          <a:solidFill>
            <a:srgbClr val="ffc71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任意多边形 8"/>
          <p:cNvSpPr/>
          <p:nvPr/>
        </p:nvSpPr>
        <p:spPr>
          <a:xfrm>
            <a:off x="331920" y="270000"/>
            <a:ext cx="3028680" cy="5897520"/>
          </a:xfrm>
          <a:custGeom>
            <a:avLst/>
            <a:gdLst>
              <a:gd name="textAreaLeft" fmla="*/ 0 w 3028680"/>
              <a:gd name="textAreaRight" fmla="*/ 3029040 w 3028680"/>
              <a:gd name="textAreaTop" fmla="*/ 0 h 5897520"/>
              <a:gd name="textAreaBottom" fmla="*/ 5897880 h 5897520"/>
            </a:gdLst>
            <a:ahLst/>
            <a:rect l="textAreaLeft" t="textAreaTop" r="textAreaRight" b="textAreaBottom"/>
            <a:pathLst>
              <a:path w="3314024" h="5048561">
                <a:moveTo>
                  <a:pt x="0" y="0"/>
                </a:moveTo>
                <a:lnTo>
                  <a:pt x="3314024" y="0"/>
                </a:lnTo>
                <a:lnTo>
                  <a:pt x="3229234" y="305327"/>
                </a:lnTo>
                <a:cubicBezTo>
                  <a:pt x="2584124" y="2484885"/>
                  <a:pt x="1434854" y="4194527"/>
                  <a:pt x="27719" y="5033291"/>
                </a:cubicBezTo>
                <a:lnTo>
                  <a:pt x="0" y="5048561"/>
                </a:lnTo>
                <a:lnTo>
                  <a:pt x="0" y="0"/>
                </a:lnTo>
                <a:close/>
              </a:path>
            </a:pathLst>
          </a:custGeom>
          <a:solidFill>
            <a:srgbClr val="fed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25"/>
          <p:cNvSpPr/>
          <p:nvPr/>
        </p:nvSpPr>
        <p:spPr>
          <a:xfrm>
            <a:off x="3695760" y="1982880"/>
            <a:ext cx="480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26"/>
          <p:cNvSpPr/>
          <p:nvPr/>
        </p:nvSpPr>
        <p:spPr>
          <a:xfrm>
            <a:off x="3813120" y="3000240"/>
            <a:ext cx="45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For Your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组合 27"/>
          <p:cNvGrpSpPr/>
          <p:nvPr/>
        </p:nvGrpSpPr>
        <p:grpSpPr>
          <a:xfrm>
            <a:off x="5183640" y="3841920"/>
            <a:ext cx="1854000" cy="368280"/>
            <a:chOff x="5183640" y="3841920"/>
            <a:chExt cx="1854000" cy="368280"/>
          </a:xfrm>
        </p:grpSpPr>
        <p:sp>
          <p:nvSpPr>
            <p:cNvPr id="400" name="文本框 28"/>
            <p:cNvSpPr/>
            <p:nvPr/>
          </p:nvSpPr>
          <p:spPr>
            <a:xfrm>
              <a:off x="5183640" y="3841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方正中等线简体"/>
                  <a:ea typeface="方正中等线简体"/>
                </a:rPr>
                <a:t>作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30"/>
            <p:cNvSpPr/>
            <p:nvPr/>
          </p:nvSpPr>
          <p:spPr>
            <a:xfrm>
              <a:off x="5857200" y="3841920"/>
              <a:ext cx="118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方正中等线简体"/>
                  <a:ea typeface="方正中等线简体"/>
                </a:rPr>
                <a:t>曹将</a:t>
              </a:r>
              <a:r>
                <a:rPr b="0" lang="en-US" sz="1800" spc="-1" strike="noStrike">
                  <a:solidFill>
                    <a:srgbClr val="3f3f3f"/>
                  </a:solidFill>
                  <a:latin typeface="方正中等线简体"/>
                  <a:ea typeface="方正中等线简体"/>
                </a:rPr>
                <a:t>PPTa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文本框 32"/>
          <p:cNvSpPr/>
          <p:nvPr/>
        </p:nvSpPr>
        <p:spPr>
          <a:xfrm>
            <a:off x="244440" y="6191280"/>
            <a:ext cx="11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Segoe UI Light"/>
                <a:ea typeface="方正中等线简体"/>
              </a:rPr>
              <a:t>PowerPoint leads to a better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0" y="65674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"/>
          <p:cNvPicPr/>
          <p:nvPr/>
        </p:nvPicPr>
        <p:blipFill>
          <a:blip r:embed="rId1"/>
          <a:stretch/>
        </p:blipFill>
        <p:spPr>
          <a:xfrm>
            <a:off x="23760" y="0"/>
            <a:ext cx="12168360" cy="6870600"/>
          </a:xfrm>
          <a:prstGeom prst="rect">
            <a:avLst/>
          </a:prstGeom>
          <a:ln w="0">
            <a:noFill/>
          </a:ln>
        </p:spPr>
      </p:pic>
      <p:sp>
        <p:nvSpPr>
          <p:cNvPr id="53" name="矩形 6"/>
          <p:cNvSpPr/>
          <p:nvPr/>
        </p:nvSpPr>
        <p:spPr>
          <a:xfrm rot="20974800">
            <a:off x="863280" y="1630440"/>
            <a:ext cx="1798560" cy="350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861840" y="0"/>
            <a:ext cx="4019760" cy="233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720720" y="214200"/>
            <a:ext cx="22924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0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2886120" y="676440"/>
            <a:ext cx="184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bf9000"/>
                </a:solidFill>
                <a:latin typeface="方正中等线简体"/>
                <a:ea typeface="方正中等线简体"/>
              </a:rPr>
              <a:t>部分标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847800" y="2430360"/>
            <a:ext cx="4032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请在这里输入该部分的简介，以让观众有大概的了解，长短则建议如此文本框，作者多次试验，这样效果最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/>
          <p:cNvSpPr/>
          <p:nvPr/>
        </p:nvSpPr>
        <p:spPr>
          <a:xfrm>
            <a:off x="861840" y="4019400"/>
            <a:ext cx="4019760" cy="44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3" descr=""/>
          <p:cNvPicPr/>
          <p:nvPr/>
        </p:nvPicPr>
        <p:blipFill>
          <a:blip r:embed="rId1"/>
          <a:srcRect l="47576" t="20227" r="28066" b="57217"/>
          <a:stretch/>
        </p:blipFill>
        <p:spPr>
          <a:xfrm>
            <a:off x="396720" y="5334120"/>
            <a:ext cx="654120" cy="5792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3" descr=""/>
          <p:cNvPicPr/>
          <p:nvPr/>
        </p:nvPicPr>
        <p:blipFill>
          <a:blip r:embed="rId2"/>
          <a:srcRect l="0" t="22707" r="0" b="37166"/>
          <a:stretch/>
        </p:blipFill>
        <p:spPr>
          <a:xfrm>
            <a:off x="538200" y="393840"/>
            <a:ext cx="11115720" cy="2976480"/>
          </a:xfrm>
          <a:prstGeom prst="rect">
            <a:avLst/>
          </a:prstGeom>
          <a:ln w="0">
            <a:noFill/>
          </a:ln>
        </p:spPr>
      </p:pic>
      <p:sp>
        <p:nvSpPr>
          <p:cNvPr id="61" name="矩形 1"/>
          <p:cNvSpPr/>
          <p:nvPr/>
        </p:nvSpPr>
        <p:spPr>
          <a:xfrm>
            <a:off x="5557680" y="3743280"/>
            <a:ext cx="6096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这是范例文字，具体输入时可根据长短调节上下矩形的位置，以看起来更精致美观。另外，图片也建议根据具体使用情况替换，具体操作为：插入一张图片，然后裁剪到如图大小，最后右键，把它“置于底层”。这样即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5557680" y="3357720"/>
            <a:ext cx="6096240" cy="242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557680" y="6340320"/>
            <a:ext cx="6096240" cy="60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组合 10"/>
          <p:cNvGrpSpPr/>
          <p:nvPr/>
        </p:nvGrpSpPr>
        <p:grpSpPr>
          <a:xfrm>
            <a:off x="538200" y="393840"/>
            <a:ext cx="4246560" cy="2976480"/>
            <a:chOff x="538200" y="393840"/>
            <a:chExt cx="4246560" cy="2976480"/>
          </a:xfrm>
        </p:grpSpPr>
        <p:sp>
          <p:nvSpPr>
            <p:cNvPr id="65" name="任意多边形 8"/>
            <p:cNvSpPr/>
            <p:nvPr/>
          </p:nvSpPr>
          <p:spPr>
            <a:xfrm>
              <a:off x="538200" y="393840"/>
              <a:ext cx="4246560" cy="2963520"/>
            </a:xfrm>
            <a:custGeom>
              <a:avLst/>
              <a:gdLst>
                <a:gd name="textAreaLeft" fmla="*/ 0 w 4246560"/>
                <a:gd name="textAreaRight" fmla="*/ 4246920 w 4246560"/>
                <a:gd name="textAreaTop" fmla="*/ 0 h 2963520"/>
                <a:gd name="textAreaBottom" fmla="*/ 2963880 h 2963520"/>
              </a:gdLst>
              <a:ahLst/>
              <a:rect l="textAreaLeft" t="textAreaTop" r="textAreaRight" b="textAreaBottom"/>
              <a:pathLst>
                <a:path w="3314024" h="5048561">
                  <a:moveTo>
                    <a:pt x="0" y="0"/>
                  </a:moveTo>
                  <a:lnTo>
                    <a:pt x="3314024" y="0"/>
                  </a:lnTo>
                  <a:lnTo>
                    <a:pt x="3229234" y="305327"/>
                  </a:lnTo>
                  <a:cubicBezTo>
                    <a:pt x="2584124" y="2484885"/>
                    <a:pt x="1434854" y="4194527"/>
                    <a:pt x="27719" y="5033291"/>
                  </a:cubicBezTo>
                  <a:lnTo>
                    <a:pt x="0" y="50485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71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任意多边形 7"/>
            <p:cNvSpPr/>
            <p:nvPr/>
          </p:nvSpPr>
          <p:spPr>
            <a:xfrm>
              <a:off x="538200" y="393840"/>
              <a:ext cx="3790440" cy="2976480"/>
            </a:xfrm>
            <a:custGeom>
              <a:avLst/>
              <a:gdLst>
                <a:gd name="textAreaLeft" fmla="*/ 0 w 3790440"/>
                <a:gd name="textAreaRight" fmla="*/ 3790800 w 3790440"/>
                <a:gd name="textAreaTop" fmla="*/ 0 h 2976480"/>
                <a:gd name="textAreaBottom" fmla="*/ 2976840 h 2976480"/>
              </a:gdLst>
              <a:ahLst/>
              <a:rect l="textAreaLeft" t="textAreaTop" r="textAreaRight" b="textAreaBottom"/>
              <a:pathLst>
                <a:path w="3314024" h="5048561">
                  <a:moveTo>
                    <a:pt x="0" y="0"/>
                  </a:moveTo>
                  <a:lnTo>
                    <a:pt x="3314024" y="0"/>
                  </a:lnTo>
                  <a:lnTo>
                    <a:pt x="3229234" y="305327"/>
                  </a:lnTo>
                  <a:cubicBezTo>
                    <a:pt x="2584124" y="2484885"/>
                    <a:pt x="1434854" y="4194527"/>
                    <a:pt x="27719" y="5033291"/>
                  </a:cubicBezTo>
                  <a:lnTo>
                    <a:pt x="0" y="50485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75c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矩形 9"/>
          <p:cNvSpPr/>
          <p:nvPr/>
        </p:nvSpPr>
        <p:spPr>
          <a:xfrm>
            <a:off x="1148760" y="523800"/>
            <a:ext cx="1643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请输入该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的子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1"/>
          <p:cNvSpPr/>
          <p:nvPr/>
        </p:nvSpPr>
        <p:spPr>
          <a:xfrm>
            <a:off x="538200" y="5608800"/>
            <a:ext cx="3967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这里可以加一句引用的话，或者是右边文字的补充观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4"/>
          <p:cNvSpPr/>
          <p:nvPr/>
        </p:nvSpPr>
        <p:spPr>
          <a:xfrm>
            <a:off x="0" y="1440"/>
            <a:ext cx="12192120" cy="4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5"/>
          <p:cNvSpPr/>
          <p:nvPr/>
        </p:nvSpPr>
        <p:spPr>
          <a:xfrm>
            <a:off x="0" y="681192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56"/>
          <p:cNvSpPr/>
          <p:nvPr/>
        </p:nvSpPr>
        <p:spPr>
          <a:xfrm rot="21413400">
            <a:off x="4536720" y="1060200"/>
            <a:ext cx="3117960" cy="19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2"/>
          <p:cNvSpPr/>
          <p:nvPr/>
        </p:nvSpPr>
        <p:spPr>
          <a:xfrm>
            <a:off x="0" y="1440"/>
            <a:ext cx="12192120" cy="4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4"/>
          <p:cNvSpPr/>
          <p:nvPr/>
        </p:nvSpPr>
        <p:spPr>
          <a:xfrm>
            <a:off x="0" y="681192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"/>
          <p:cNvSpPr/>
          <p:nvPr/>
        </p:nvSpPr>
        <p:spPr>
          <a:xfrm>
            <a:off x="5008680" y="86508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重要程度排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5"/>
          <p:cNvSpPr/>
          <p:nvPr/>
        </p:nvSpPr>
        <p:spPr>
          <a:xfrm rot="21413400">
            <a:off x="1622160" y="4586040"/>
            <a:ext cx="739800" cy="21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574"/>
          <p:cNvSpPr/>
          <p:nvPr/>
        </p:nvSpPr>
        <p:spPr>
          <a:xfrm>
            <a:off x="1241280" y="2847960"/>
            <a:ext cx="384480" cy="385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5575"/>
          <p:cNvSpPr/>
          <p:nvPr/>
        </p:nvSpPr>
        <p:spPr>
          <a:xfrm>
            <a:off x="1455840" y="2284560"/>
            <a:ext cx="436320" cy="426960"/>
          </a:xfrm>
          <a:custGeom>
            <a:avLst/>
            <a:gdLst>
              <a:gd name="textAreaLeft" fmla="*/ 0 w 436320"/>
              <a:gd name="textAreaRight" fmla="*/ 436680 w 43632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44" h="43">
                <a:moveTo>
                  <a:pt x="36" y="36"/>
                </a:moveTo>
                <a:cubicBezTo>
                  <a:pt x="28" y="43"/>
                  <a:pt x="16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6" y="0"/>
                  <a:pt x="28" y="0"/>
                  <a:pt x="36" y="8"/>
                </a:cubicBezTo>
                <a:cubicBezTo>
                  <a:pt x="44" y="15"/>
                  <a:pt x="44" y="28"/>
                  <a:pt x="36" y="36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5576"/>
          <p:cNvSpPr/>
          <p:nvPr/>
        </p:nvSpPr>
        <p:spPr>
          <a:xfrm>
            <a:off x="2033640" y="2087640"/>
            <a:ext cx="393480" cy="395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5577"/>
          <p:cNvSpPr/>
          <p:nvPr/>
        </p:nvSpPr>
        <p:spPr>
          <a:xfrm>
            <a:off x="2556000" y="2317680"/>
            <a:ext cx="434880" cy="420840"/>
          </a:xfrm>
          <a:custGeom>
            <a:avLst/>
            <a:gdLst>
              <a:gd name="textAreaLeft" fmla="*/ 0 w 434880"/>
              <a:gd name="textAreaRight" fmla="*/ 435240 w 43488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44" h="43">
                <a:moveTo>
                  <a:pt x="8" y="35"/>
                </a:moveTo>
                <a:cubicBezTo>
                  <a:pt x="0" y="28"/>
                  <a:pt x="0" y="15"/>
                  <a:pt x="8" y="7"/>
                </a:cubicBezTo>
                <a:cubicBezTo>
                  <a:pt x="16" y="0"/>
                  <a:pt x="28" y="0"/>
                  <a:pt x="36" y="7"/>
                </a:cubicBezTo>
                <a:cubicBezTo>
                  <a:pt x="44" y="15"/>
                  <a:pt x="44" y="28"/>
                  <a:pt x="36" y="35"/>
                </a:cubicBezTo>
                <a:cubicBezTo>
                  <a:pt x="28" y="43"/>
                  <a:pt x="16" y="43"/>
                  <a:pt x="8" y="3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578"/>
          <p:cNvSpPr/>
          <p:nvPr/>
        </p:nvSpPr>
        <p:spPr>
          <a:xfrm>
            <a:off x="2793960" y="2889360"/>
            <a:ext cx="384120" cy="3855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5579"/>
          <p:cNvSpPr/>
          <p:nvPr/>
        </p:nvSpPr>
        <p:spPr>
          <a:xfrm>
            <a:off x="2536920" y="3411360"/>
            <a:ext cx="426960" cy="427320"/>
          </a:xfrm>
          <a:custGeom>
            <a:avLst/>
            <a:gdLst>
              <a:gd name="textAreaLeft" fmla="*/ 0 w 426960"/>
              <a:gd name="textAreaRight" fmla="*/ 427320 w 42696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43" h="43">
                <a:moveTo>
                  <a:pt x="7" y="8"/>
                </a:moveTo>
                <a:cubicBezTo>
                  <a:pt x="15" y="0"/>
                  <a:pt x="28" y="0"/>
                  <a:pt x="35" y="8"/>
                </a:cubicBezTo>
                <a:cubicBezTo>
                  <a:pt x="43" y="15"/>
                  <a:pt x="43" y="28"/>
                  <a:pt x="35" y="35"/>
                </a:cubicBezTo>
                <a:cubicBezTo>
                  <a:pt x="28" y="43"/>
                  <a:pt x="15" y="43"/>
                  <a:pt x="7" y="35"/>
                </a:cubicBezTo>
                <a:cubicBezTo>
                  <a:pt x="0" y="28"/>
                  <a:pt x="0" y="15"/>
                  <a:pt x="7" y="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580"/>
          <p:cNvSpPr/>
          <p:nvPr/>
        </p:nvSpPr>
        <p:spPr>
          <a:xfrm>
            <a:off x="1992240" y="3641760"/>
            <a:ext cx="39384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5581"/>
          <p:cNvSpPr/>
          <p:nvPr/>
        </p:nvSpPr>
        <p:spPr>
          <a:xfrm>
            <a:off x="1428840" y="3384720"/>
            <a:ext cx="434880" cy="425160"/>
          </a:xfrm>
          <a:custGeom>
            <a:avLst/>
            <a:gdLst>
              <a:gd name="textAreaLeft" fmla="*/ 0 w 434880"/>
              <a:gd name="textAreaRight" fmla="*/ 435240 w 43488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44" h="43">
                <a:moveTo>
                  <a:pt x="36" y="8"/>
                </a:moveTo>
                <a:cubicBezTo>
                  <a:pt x="44" y="15"/>
                  <a:pt x="44" y="28"/>
                  <a:pt x="36" y="36"/>
                </a:cubicBezTo>
                <a:cubicBezTo>
                  <a:pt x="28" y="43"/>
                  <a:pt x="16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6" y="0"/>
                  <a:pt x="28" y="0"/>
                  <a:pt x="36" y="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0"/>
          <p:cNvSpPr/>
          <p:nvPr/>
        </p:nvSpPr>
        <p:spPr>
          <a:xfrm>
            <a:off x="1822680" y="284796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100</a:t>
            </a:r>
            <a:r>
              <a:rPr b="0" lang="en-US" sz="16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57"/>
          <p:cNvSpPr/>
          <p:nvPr/>
        </p:nvSpPr>
        <p:spPr>
          <a:xfrm>
            <a:off x="1785960" y="442908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A</a:t>
            </a:r>
            <a:r>
              <a:rPr b="0" lang="zh-CN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型角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1"/>
          <p:cNvSpPr/>
          <p:nvPr/>
        </p:nvSpPr>
        <p:spPr>
          <a:xfrm>
            <a:off x="1485360" y="4968720"/>
            <a:ext cx="14882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无时无刻需要</a:t>
            </a:r>
            <a:r>
              <a:rPr b="0" lang="en-US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PPT</a:t>
            </a: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一切都要用</a:t>
            </a:r>
            <a:r>
              <a:rPr b="0" lang="en-US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PPT</a:t>
            </a: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完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6"/>
          <p:cNvSpPr/>
          <p:nvPr/>
        </p:nvSpPr>
        <p:spPr>
          <a:xfrm rot="21413400">
            <a:off x="4177800" y="4586040"/>
            <a:ext cx="739800" cy="21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5586"/>
          <p:cNvSpPr/>
          <p:nvPr/>
        </p:nvSpPr>
        <p:spPr>
          <a:xfrm>
            <a:off x="3843360" y="2847960"/>
            <a:ext cx="385920" cy="385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5587"/>
          <p:cNvSpPr/>
          <p:nvPr/>
        </p:nvSpPr>
        <p:spPr>
          <a:xfrm>
            <a:off x="4064040" y="2284560"/>
            <a:ext cx="425520" cy="426960"/>
          </a:xfrm>
          <a:custGeom>
            <a:avLst/>
            <a:gdLst>
              <a:gd name="textAreaLeft" fmla="*/ 0 w 425520"/>
              <a:gd name="textAreaRight" fmla="*/ 425880 w 42552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43" h="43">
                <a:moveTo>
                  <a:pt x="36" y="36"/>
                </a:moveTo>
                <a:cubicBezTo>
                  <a:pt x="28" y="43"/>
                  <a:pt x="15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5" y="0"/>
                  <a:pt x="28" y="0"/>
                  <a:pt x="36" y="8"/>
                </a:cubicBezTo>
                <a:cubicBezTo>
                  <a:pt x="43" y="15"/>
                  <a:pt x="43" y="28"/>
                  <a:pt x="36" y="36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588"/>
          <p:cNvSpPr/>
          <p:nvPr/>
        </p:nvSpPr>
        <p:spPr>
          <a:xfrm>
            <a:off x="4637160" y="2087640"/>
            <a:ext cx="393480" cy="395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5589"/>
          <p:cNvSpPr/>
          <p:nvPr/>
        </p:nvSpPr>
        <p:spPr>
          <a:xfrm>
            <a:off x="5159520" y="2317680"/>
            <a:ext cx="434880" cy="420840"/>
          </a:xfrm>
          <a:custGeom>
            <a:avLst/>
            <a:gdLst>
              <a:gd name="textAreaLeft" fmla="*/ 0 w 434880"/>
              <a:gd name="textAreaRight" fmla="*/ 435240 w 43488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44" h="43">
                <a:moveTo>
                  <a:pt x="8" y="35"/>
                </a:moveTo>
                <a:cubicBezTo>
                  <a:pt x="0" y="28"/>
                  <a:pt x="0" y="15"/>
                  <a:pt x="8" y="7"/>
                </a:cubicBezTo>
                <a:cubicBezTo>
                  <a:pt x="16" y="0"/>
                  <a:pt x="28" y="0"/>
                  <a:pt x="36" y="7"/>
                </a:cubicBezTo>
                <a:cubicBezTo>
                  <a:pt x="44" y="15"/>
                  <a:pt x="44" y="28"/>
                  <a:pt x="36" y="35"/>
                </a:cubicBezTo>
                <a:cubicBezTo>
                  <a:pt x="28" y="43"/>
                  <a:pt x="16" y="43"/>
                  <a:pt x="8" y="35"/>
                </a:cubicBezTo>
                <a:close/>
              </a:path>
            </a:pathLst>
          </a:cu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590"/>
          <p:cNvSpPr/>
          <p:nvPr/>
        </p:nvSpPr>
        <p:spPr>
          <a:xfrm>
            <a:off x="5397480" y="2889360"/>
            <a:ext cx="384120" cy="385560"/>
          </a:xfrm>
          <a:prstGeom prst="ellipse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591"/>
          <p:cNvSpPr/>
          <p:nvPr/>
        </p:nvSpPr>
        <p:spPr>
          <a:xfrm>
            <a:off x="5130720" y="3411360"/>
            <a:ext cx="436680" cy="427320"/>
          </a:xfrm>
          <a:custGeom>
            <a:avLst/>
            <a:gdLst>
              <a:gd name="textAreaLeft" fmla="*/ 0 w 436680"/>
              <a:gd name="textAreaRight" fmla="*/ 437040 w 43668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44" h="43">
                <a:moveTo>
                  <a:pt x="8" y="8"/>
                </a:moveTo>
                <a:cubicBezTo>
                  <a:pt x="16" y="0"/>
                  <a:pt x="28" y="0"/>
                  <a:pt x="36" y="8"/>
                </a:cubicBezTo>
                <a:cubicBezTo>
                  <a:pt x="44" y="15"/>
                  <a:pt x="44" y="28"/>
                  <a:pt x="36" y="35"/>
                </a:cubicBezTo>
                <a:cubicBezTo>
                  <a:pt x="28" y="43"/>
                  <a:pt x="16" y="43"/>
                  <a:pt x="8" y="35"/>
                </a:cubicBezTo>
                <a:cubicBezTo>
                  <a:pt x="0" y="28"/>
                  <a:pt x="0" y="15"/>
                  <a:pt x="8" y="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592"/>
          <p:cNvSpPr/>
          <p:nvPr/>
        </p:nvSpPr>
        <p:spPr>
          <a:xfrm>
            <a:off x="4595760" y="3641760"/>
            <a:ext cx="39852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5593"/>
          <p:cNvSpPr/>
          <p:nvPr/>
        </p:nvSpPr>
        <p:spPr>
          <a:xfrm>
            <a:off x="4032360" y="3384720"/>
            <a:ext cx="434880" cy="425160"/>
          </a:xfrm>
          <a:custGeom>
            <a:avLst/>
            <a:gdLst>
              <a:gd name="textAreaLeft" fmla="*/ 0 w 434880"/>
              <a:gd name="textAreaRight" fmla="*/ 435240 w 43488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44" h="43">
                <a:moveTo>
                  <a:pt x="36" y="8"/>
                </a:moveTo>
                <a:cubicBezTo>
                  <a:pt x="44" y="15"/>
                  <a:pt x="44" y="28"/>
                  <a:pt x="36" y="36"/>
                </a:cubicBezTo>
                <a:cubicBezTo>
                  <a:pt x="28" y="43"/>
                  <a:pt x="16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6" y="0"/>
                  <a:pt x="28" y="0"/>
                  <a:pt x="36" y="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1"/>
          <p:cNvSpPr/>
          <p:nvPr/>
        </p:nvSpPr>
        <p:spPr>
          <a:xfrm>
            <a:off x="4484880" y="284796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75</a:t>
            </a:r>
            <a:r>
              <a:rPr b="0" lang="en-US" sz="16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58"/>
          <p:cNvSpPr/>
          <p:nvPr/>
        </p:nvSpPr>
        <p:spPr>
          <a:xfrm>
            <a:off x="4357800" y="4429080"/>
            <a:ext cx="8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B</a:t>
            </a:r>
            <a:r>
              <a:rPr b="0" lang="zh-CN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型角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62"/>
          <p:cNvSpPr/>
          <p:nvPr/>
        </p:nvSpPr>
        <p:spPr>
          <a:xfrm>
            <a:off x="4255920" y="4968720"/>
            <a:ext cx="11559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PPT</a:t>
            </a: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很有用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但也没那么有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7"/>
          <p:cNvSpPr/>
          <p:nvPr/>
        </p:nvSpPr>
        <p:spPr>
          <a:xfrm rot="21413400">
            <a:off x="6845040" y="4586040"/>
            <a:ext cx="739800" cy="21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552"/>
          <p:cNvSpPr/>
          <p:nvPr/>
        </p:nvSpPr>
        <p:spPr>
          <a:xfrm>
            <a:off x="6480000" y="2847960"/>
            <a:ext cx="398520" cy="385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5553"/>
          <p:cNvSpPr/>
          <p:nvPr/>
        </p:nvSpPr>
        <p:spPr>
          <a:xfrm>
            <a:off x="6708600" y="2284560"/>
            <a:ext cx="425520" cy="426960"/>
          </a:xfrm>
          <a:custGeom>
            <a:avLst/>
            <a:gdLst>
              <a:gd name="textAreaLeft" fmla="*/ 0 w 425520"/>
              <a:gd name="textAreaRight" fmla="*/ 425880 w 42552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43" h="43">
                <a:moveTo>
                  <a:pt x="35" y="36"/>
                </a:moveTo>
                <a:cubicBezTo>
                  <a:pt x="28" y="43"/>
                  <a:pt x="15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5" y="0"/>
                  <a:pt x="28" y="0"/>
                  <a:pt x="35" y="8"/>
                </a:cubicBezTo>
                <a:cubicBezTo>
                  <a:pt x="43" y="15"/>
                  <a:pt x="43" y="28"/>
                  <a:pt x="35" y="36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554"/>
          <p:cNvSpPr/>
          <p:nvPr/>
        </p:nvSpPr>
        <p:spPr>
          <a:xfrm>
            <a:off x="7281720" y="2087640"/>
            <a:ext cx="384480" cy="395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5555"/>
          <p:cNvSpPr/>
          <p:nvPr/>
        </p:nvSpPr>
        <p:spPr>
          <a:xfrm>
            <a:off x="7808760" y="2317680"/>
            <a:ext cx="420840" cy="420840"/>
          </a:xfrm>
          <a:custGeom>
            <a:avLst/>
            <a:gdLst>
              <a:gd name="textAreaLeft" fmla="*/ 0 w 420840"/>
              <a:gd name="textAreaRight" fmla="*/ 421200 w 42084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43" h="43">
                <a:moveTo>
                  <a:pt x="8" y="35"/>
                </a:moveTo>
                <a:cubicBezTo>
                  <a:pt x="0" y="28"/>
                  <a:pt x="0" y="15"/>
                  <a:pt x="8" y="7"/>
                </a:cubicBezTo>
                <a:cubicBezTo>
                  <a:pt x="15" y="0"/>
                  <a:pt x="28" y="0"/>
                  <a:pt x="36" y="7"/>
                </a:cubicBezTo>
                <a:cubicBezTo>
                  <a:pt x="43" y="15"/>
                  <a:pt x="43" y="28"/>
                  <a:pt x="36" y="35"/>
                </a:cubicBezTo>
                <a:cubicBezTo>
                  <a:pt x="28" y="43"/>
                  <a:pt x="15" y="43"/>
                  <a:pt x="8" y="35"/>
                </a:cubicBezTo>
                <a:close/>
              </a:path>
            </a:pathLst>
          </a:cu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556"/>
          <p:cNvSpPr/>
          <p:nvPr/>
        </p:nvSpPr>
        <p:spPr>
          <a:xfrm>
            <a:off x="8042400" y="2889360"/>
            <a:ext cx="388800" cy="385560"/>
          </a:xfrm>
          <a:prstGeom prst="ellipse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5557"/>
          <p:cNvSpPr/>
          <p:nvPr/>
        </p:nvSpPr>
        <p:spPr>
          <a:xfrm>
            <a:off x="7775640" y="3411360"/>
            <a:ext cx="436320" cy="427320"/>
          </a:xfrm>
          <a:custGeom>
            <a:avLst/>
            <a:gdLst>
              <a:gd name="textAreaLeft" fmla="*/ 0 w 436320"/>
              <a:gd name="textAreaRight" fmla="*/ 436680 w 43632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44" h="43">
                <a:moveTo>
                  <a:pt x="8" y="8"/>
                </a:moveTo>
                <a:cubicBezTo>
                  <a:pt x="16" y="0"/>
                  <a:pt x="28" y="0"/>
                  <a:pt x="36" y="8"/>
                </a:cubicBezTo>
                <a:cubicBezTo>
                  <a:pt x="44" y="15"/>
                  <a:pt x="44" y="28"/>
                  <a:pt x="36" y="35"/>
                </a:cubicBezTo>
                <a:cubicBezTo>
                  <a:pt x="28" y="43"/>
                  <a:pt x="16" y="43"/>
                  <a:pt x="8" y="35"/>
                </a:cubicBezTo>
                <a:cubicBezTo>
                  <a:pt x="0" y="28"/>
                  <a:pt x="0" y="15"/>
                  <a:pt x="8" y="8"/>
                </a:cubicBezTo>
                <a:close/>
              </a:path>
            </a:pathLst>
          </a:cu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5558"/>
          <p:cNvSpPr/>
          <p:nvPr/>
        </p:nvSpPr>
        <p:spPr>
          <a:xfrm>
            <a:off x="7245360" y="3641760"/>
            <a:ext cx="384120" cy="393840"/>
          </a:xfrm>
          <a:prstGeom prst="ellipse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5559"/>
          <p:cNvSpPr/>
          <p:nvPr/>
        </p:nvSpPr>
        <p:spPr>
          <a:xfrm>
            <a:off x="6676920" y="3384720"/>
            <a:ext cx="425520" cy="425160"/>
          </a:xfrm>
          <a:custGeom>
            <a:avLst/>
            <a:gdLst>
              <a:gd name="textAreaLeft" fmla="*/ 0 w 425520"/>
              <a:gd name="textAreaRight" fmla="*/ 425880 w 42552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43" h="43">
                <a:moveTo>
                  <a:pt x="36" y="8"/>
                </a:moveTo>
                <a:cubicBezTo>
                  <a:pt x="43" y="15"/>
                  <a:pt x="43" y="28"/>
                  <a:pt x="36" y="36"/>
                </a:cubicBezTo>
                <a:cubicBezTo>
                  <a:pt x="28" y="43"/>
                  <a:pt x="15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5" y="0"/>
                  <a:pt x="28" y="0"/>
                  <a:pt x="36" y="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2"/>
          <p:cNvSpPr/>
          <p:nvPr/>
        </p:nvSpPr>
        <p:spPr>
          <a:xfrm>
            <a:off x="7161120" y="284796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50</a:t>
            </a:r>
            <a:r>
              <a:rPr b="0" lang="en-US" sz="16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59"/>
          <p:cNvSpPr/>
          <p:nvPr/>
        </p:nvSpPr>
        <p:spPr>
          <a:xfrm>
            <a:off x="7011360" y="44290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C</a:t>
            </a:r>
            <a:r>
              <a:rPr b="0" lang="zh-CN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型角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63"/>
          <p:cNvSpPr/>
          <p:nvPr/>
        </p:nvSpPr>
        <p:spPr>
          <a:xfrm>
            <a:off x="6936480" y="4968720"/>
            <a:ext cx="1000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借助</a:t>
            </a:r>
            <a:r>
              <a:rPr b="0" lang="en-US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PPT</a:t>
            </a: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可以让工作效率提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8"/>
          <p:cNvSpPr/>
          <p:nvPr/>
        </p:nvSpPr>
        <p:spPr>
          <a:xfrm rot="21413400">
            <a:off x="9432720" y="4586040"/>
            <a:ext cx="739800" cy="21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5563"/>
          <p:cNvSpPr/>
          <p:nvPr/>
        </p:nvSpPr>
        <p:spPr>
          <a:xfrm>
            <a:off x="9091440" y="2847960"/>
            <a:ext cx="395640" cy="385920"/>
          </a:xfrm>
          <a:prstGeom prst="ellipse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5564"/>
          <p:cNvSpPr/>
          <p:nvPr/>
        </p:nvSpPr>
        <p:spPr>
          <a:xfrm>
            <a:off x="9317160" y="2284560"/>
            <a:ext cx="425160" cy="426960"/>
          </a:xfrm>
          <a:custGeom>
            <a:avLst/>
            <a:gdLst>
              <a:gd name="textAreaLeft" fmla="*/ 0 w 425160"/>
              <a:gd name="textAreaRight" fmla="*/ 425520 w 42516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43" h="43">
                <a:moveTo>
                  <a:pt x="35" y="36"/>
                </a:moveTo>
                <a:cubicBezTo>
                  <a:pt x="28" y="43"/>
                  <a:pt x="15" y="43"/>
                  <a:pt x="7" y="36"/>
                </a:cubicBezTo>
                <a:cubicBezTo>
                  <a:pt x="0" y="28"/>
                  <a:pt x="0" y="15"/>
                  <a:pt x="7" y="8"/>
                </a:cubicBezTo>
                <a:cubicBezTo>
                  <a:pt x="15" y="0"/>
                  <a:pt x="28" y="0"/>
                  <a:pt x="35" y="8"/>
                </a:cubicBezTo>
                <a:cubicBezTo>
                  <a:pt x="43" y="15"/>
                  <a:pt x="43" y="28"/>
                  <a:pt x="35" y="36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565"/>
          <p:cNvSpPr/>
          <p:nvPr/>
        </p:nvSpPr>
        <p:spPr>
          <a:xfrm>
            <a:off x="9890280" y="2087640"/>
            <a:ext cx="388800" cy="395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5566"/>
          <p:cNvSpPr/>
          <p:nvPr/>
        </p:nvSpPr>
        <p:spPr>
          <a:xfrm>
            <a:off x="10417320" y="2317680"/>
            <a:ext cx="425160" cy="420840"/>
          </a:xfrm>
          <a:custGeom>
            <a:avLst/>
            <a:gdLst>
              <a:gd name="textAreaLeft" fmla="*/ 0 w 425160"/>
              <a:gd name="textAreaRight" fmla="*/ 425520 w 42516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43" h="43">
                <a:moveTo>
                  <a:pt x="7" y="35"/>
                </a:moveTo>
                <a:cubicBezTo>
                  <a:pt x="0" y="28"/>
                  <a:pt x="0" y="15"/>
                  <a:pt x="7" y="7"/>
                </a:cubicBezTo>
                <a:cubicBezTo>
                  <a:pt x="15" y="0"/>
                  <a:pt x="28" y="0"/>
                  <a:pt x="35" y="7"/>
                </a:cubicBezTo>
                <a:cubicBezTo>
                  <a:pt x="43" y="15"/>
                  <a:pt x="43" y="28"/>
                  <a:pt x="35" y="35"/>
                </a:cubicBezTo>
                <a:cubicBezTo>
                  <a:pt x="28" y="43"/>
                  <a:pt x="15" y="43"/>
                  <a:pt x="7" y="35"/>
                </a:cubicBezTo>
                <a:close/>
              </a:path>
            </a:pathLst>
          </a:cu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5567"/>
          <p:cNvSpPr/>
          <p:nvPr/>
        </p:nvSpPr>
        <p:spPr>
          <a:xfrm>
            <a:off x="10640880" y="2889360"/>
            <a:ext cx="398520" cy="385560"/>
          </a:xfrm>
          <a:prstGeom prst="ellipse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5568"/>
          <p:cNvSpPr/>
          <p:nvPr/>
        </p:nvSpPr>
        <p:spPr>
          <a:xfrm>
            <a:off x="10383840" y="3411360"/>
            <a:ext cx="426960" cy="427320"/>
          </a:xfrm>
          <a:custGeom>
            <a:avLst/>
            <a:gdLst>
              <a:gd name="textAreaLeft" fmla="*/ 0 w 426960"/>
              <a:gd name="textAreaRight" fmla="*/ 427320 w 42696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43" h="43">
                <a:moveTo>
                  <a:pt x="8" y="8"/>
                </a:moveTo>
                <a:cubicBezTo>
                  <a:pt x="15" y="0"/>
                  <a:pt x="28" y="0"/>
                  <a:pt x="36" y="8"/>
                </a:cubicBezTo>
                <a:cubicBezTo>
                  <a:pt x="43" y="15"/>
                  <a:pt x="43" y="28"/>
                  <a:pt x="36" y="35"/>
                </a:cubicBezTo>
                <a:cubicBezTo>
                  <a:pt x="28" y="43"/>
                  <a:pt x="15" y="43"/>
                  <a:pt x="8" y="35"/>
                </a:cubicBezTo>
                <a:cubicBezTo>
                  <a:pt x="0" y="28"/>
                  <a:pt x="0" y="15"/>
                  <a:pt x="8" y="8"/>
                </a:cubicBezTo>
                <a:close/>
              </a:path>
            </a:pathLst>
          </a:cu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5569"/>
          <p:cNvSpPr/>
          <p:nvPr/>
        </p:nvSpPr>
        <p:spPr>
          <a:xfrm>
            <a:off x="9852120" y="3641760"/>
            <a:ext cx="385560" cy="393840"/>
          </a:xfrm>
          <a:prstGeom prst="ellipse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5570"/>
          <p:cNvSpPr/>
          <p:nvPr/>
        </p:nvSpPr>
        <p:spPr>
          <a:xfrm>
            <a:off x="9290160" y="3384720"/>
            <a:ext cx="425520" cy="425160"/>
          </a:xfrm>
          <a:custGeom>
            <a:avLst/>
            <a:gdLst>
              <a:gd name="textAreaLeft" fmla="*/ 0 w 425520"/>
              <a:gd name="textAreaRight" fmla="*/ 425880 w 42552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43" h="43">
                <a:moveTo>
                  <a:pt x="35" y="8"/>
                </a:moveTo>
                <a:cubicBezTo>
                  <a:pt x="43" y="15"/>
                  <a:pt x="43" y="28"/>
                  <a:pt x="35" y="36"/>
                </a:cubicBezTo>
                <a:cubicBezTo>
                  <a:pt x="28" y="43"/>
                  <a:pt x="15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5" y="0"/>
                  <a:pt x="28" y="0"/>
                  <a:pt x="35" y="8"/>
                </a:cubicBezTo>
                <a:close/>
              </a:path>
            </a:pathLst>
          </a:cu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3"/>
          <p:cNvSpPr/>
          <p:nvPr/>
        </p:nvSpPr>
        <p:spPr>
          <a:xfrm>
            <a:off x="9774360" y="285912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25</a:t>
            </a:r>
            <a:r>
              <a:rPr b="0" lang="en-US" sz="16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60"/>
          <p:cNvSpPr/>
          <p:nvPr/>
        </p:nvSpPr>
        <p:spPr>
          <a:xfrm>
            <a:off x="9608040" y="4429080"/>
            <a:ext cx="8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D</a:t>
            </a:r>
            <a:r>
              <a:rPr b="0" lang="zh-CN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型角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64"/>
          <p:cNvSpPr/>
          <p:nvPr/>
        </p:nvSpPr>
        <p:spPr>
          <a:xfrm>
            <a:off x="9689400" y="4968720"/>
            <a:ext cx="790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偶尔用用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多是用模版完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69"/>
          <p:cNvSpPr/>
          <p:nvPr/>
        </p:nvSpPr>
        <p:spPr>
          <a:xfrm>
            <a:off x="5955120" y="62834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注：该页用于展示该模版的使用时的排版方式，具体使用时请替换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161"/>
          <p:cNvSpPr/>
          <p:nvPr/>
        </p:nvSpPr>
        <p:spPr>
          <a:xfrm rot="21413400">
            <a:off x="4559040" y="2680920"/>
            <a:ext cx="3117600" cy="19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0" y="1440"/>
            <a:ext cx="12192120" cy="4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0" y="681192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675"/>
          <p:cNvSpPr/>
          <p:nvPr/>
        </p:nvSpPr>
        <p:spPr>
          <a:xfrm>
            <a:off x="3228840" y="4038480"/>
            <a:ext cx="812880" cy="81288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676"/>
          <p:cNvSpPr/>
          <p:nvPr/>
        </p:nvSpPr>
        <p:spPr>
          <a:xfrm>
            <a:off x="3228840" y="3238560"/>
            <a:ext cx="812880" cy="79992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677"/>
          <p:cNvSpPr/>
          <p:nvPr/>
        </p:nvSpPr>
        <p:spPr>
          <a:xfrm>
            <a:off x="3228840" y="2436840"/>
            <a:ext cx="812880" cy="80172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678"/>
          <p:cNvSpPr/>
          <p:nvPr/>
        </p:nvSpPr>
        <p:spPr>
          <a:xfrm rot="427200">
            <a:off x="3435480" y="1440000"/>
            <a:ext cx="812520" cy="812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679"/>
          <p:cNvSpPr/>
          <p:nvPr/>
        </p:nvSpPr>
        <p:spPr>
          <a:xfrm>
            <a:off x="2428920" y="4038480"/>
            <a:ext cx="799920" cy="81288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680"/>
          <p:cNvSpPr/>
          <p:nvPr/>
        </p:nvSpPr>
        <p:spPr>
          <a:xfrm>
            <a:off x="2428920" y="3238560"/>
            <a:ext cx="799920" cy="79992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681"/>
          <p:cNvSpPr/>
          <p:nvPr/>
        </p:nvSpPr>
        <p:spPr>
          <a:xfrm>
            <a:off x="2428920" y="2436840"/>
            <a:ext cx="799920" cy="80172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682"/>
          <p:cNvSpPr/>
          <p:nvPr/>
        </p:nvSpPr>
        <p:spPr>
          <a:xfrm>
            <a:off x="2428920" y="1623960"/>
            <a:ext cx="799920" cy="81288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683"/>
          <p:cNvSpPr/>
          <p:nvPr/>
        </p:nvSpPr>
        <p:spPr>
          <a:xfrm>
            <a:off x="1616040" y="4038480"/>
            <a:ext cx="812880" cy="81288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684"/>
          <p:cNvSpPr/>
          <p:nvPr/>
        </p:nvSpPr>
        <p:spPr>
          <a:xfrm>
            <a:off x="1616040" y="3238560"/>
            <a:ext cx="812880" cy="79992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685"/>
          <p:cNvSpPr/>
          <p:nvPr/>
        </p:nvSpPr>
        <p:spPr>
          <a:xfrm>
            <a:off x="1616040" y="2436840"/>
            <a:ext cx="812880" cy="80172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686"/>
          <p:cNvSpPr/>
          <p:nvPr/>
        </p:nvSpPr>
        <p:spPr>
          <a:xfrm>
            <a:off x="1616040" y="1623960"/>
            <a:ext cx="812880" cy="81288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687"/>
          <p:cNvSpPr/>
          <p:nvPr/>
        </p:nvSpPr>
        <p:spPr>
          <a:xfrm>
            <a:off x="814320" y="4038480"/>
            <a:ext cx="801720" cy="81288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688"/>
          <p:cNvSpPr/>
          <p:nvPr/>
        </p:nvSpPr>
        <p:spPr>
          <a:xfrm>
            <a:off x="814320" y="3238560"/>
            <a:ext cx="801720" cy="79992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689"/>
          <p:cNvSpPr/>
          <p:nvPr/>
        </p:nvSpPr>
        <p:spPr>
          <a:xfrm>
            <a:off x="814320" y="2436840"/>
            <a:ext cx="801720" cy="80172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690"/>
          <p:cNvSpPr/>
          <p:nvPr/>
        </p:nvSpPr>
        <p:spPr>
          <a:xfrm>
            <a:off x="814320" y="1623960"/>
            <a:ext cx="801720" cy="81288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692"/>
          <p:cNvSpPr/>
          <p:nvPr/>
        </p:nvSpPr>
        <p:spPr>
          <a:xfrm>
            <a:off x="814320" y="4017960"/>
            <a:ext cx="3227400" cy="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693"/>
          <p:cNvSpPr/>
          <p:nvPr/>
        </p:nvSpPr>
        <p:spPr>
          <a:xfrm>
            <a:off x="814320" y="3216240"/>
            <a:ext cx="3227400" cy="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694"/>
          <p:cNvSpPr/>
          <p:nvPr/>
        </p:nvSpPr>
        <p:spPr>
          <a:xfrm>
            <a:off x="814320" y="2403360"/>
            <a:ext cx="3227400" cy="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695"/>
          <p:cNvSpPr/>
          <p:nvPr/>
        </p:nvSpPr>
        <p:spPr>
          <a:xfrm>
            <a:off x="3206880" y="1623960"/>
            <a:ext cx="44280" cy="322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696"/>
          <p:cNvSpPr/>
          <p:nvPr/>
        </p:nvSpPr>
        <p:spPr>
          <a:xfrm>
            <a:off x="2406600" y="1623960"/>
            <a:ext cx="42840" cy="322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697"/>
          <p:cNvSpPr/>
          <p:nvPr/>
        </p:nvSpPr>
        <p:spPr>
          <a:xfrm>
            <a:off x="1593720" y="1623960"/>
            <a:ext cx="54000" cy="322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"/>
          <p:cNvSpPr/>
          <p:nvPr/>
        </p:nvSpPr>
        <p:spPr>
          <a:xfrm>
            <a:off x="4557600" y="3051000"/>
            <a:ext cx="679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PowerPoint</a:t>
            </a:r>
            <a:r>
              <a:rPr b="0" lang="zh-CN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分开来说就是“有能量的观点”，所以没必要让它复杂累赘，简洁大方是它的“立身之本”。初学者难免喜欢将各种新技巧堆砌到</a:t>
            </a: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中，结果成品没有统一风格，观者也在胡乱的排版中找不到“</a:t>
            </a: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PowerPoint”</a:t>
            </a:r>
            <a:r>
              <a:rPr b="0" lang="zh-CN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4"/>
          <p:cNvSpPr/>
          <p:nvPr/>
        </p:nvSpPr>
        <p:spPr>
          <a:xfrm>
            <a:off x="5000760" y="2436840"/>
            <a:ext cx="217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版式</a:t>
            </a:r>
            <a:r>
              <a:rPr b="0" lang="en-US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简洁大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28"/>
          <p:cNvSpPr/>
          <p:nvPr/>
        </p:nvSpPr>
        <p:spPr>
          <a:xfrm>
            <a:off x="5955120" y="62834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注：该页用于展示该模版的使用时的排版方式，具体使用时请替换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2"/>
          <p:cNvSpPr/>
          <p:nvPr/>
        </p:nvSpPr>
        <p:spPr>
          <a:xfrm>
            <a:off x="0" y="1440"/>
            <a:ext cx="12192120" cy="4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4"/>
          <p:cNvSpPr/>
          <p:nvPr/>
        </p:nvSpPr>
        <p:spPr>
          <a:xfrm>
            <a:off x="0" y="681192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2"/>
          <p:cNvGrpSpPr/>
          <p:nvPr/>
        </p:nvGrpSpPr>
        <p:grpSpPr>
          <a:xfrm>
            <a:off x="709560" y="552600"/>
            <a:ext cx="9009720" cy="4741560"/>
            <a:chOff x="709560" y="552600"/>
            <a:chExt cx="9009720" cy="4741560"/>
          </a:xfrm>
        </p:grpSpPr>
        <p:sp>
          <p:nvSpPr>
            <p:cNvPr id="155" name="矩形 68"/>
            <p:cNvSpPr/>
            <p:nvPr/>
          </p:nvSpPr>
          <p:spPr>
            <a:xfrm rot="21413400">
              <a:off x="714960" y="650520"/>
              <a:ext cx="920520" cy="2286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2"/>
            <p:cNvSpPr/>
            <p:nvPr/>
          </p:nvSpPr>
          <p:spPr>
            <a:xfrm>
              <a:off x="741600" y="1107000"/>
              <a:ext cx="1235160" cy="131760"/>
            </a:xfrm>
            <a:prstGeom prst="rect">
              <a:avLst/>
            </a:prstGeom>
            <a:solidFill>
              <a:srgbClr val="23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6480" rIns="186480" tIns="-17280" bIns="-1728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ight Triangle 9"/>
            <p:cNvSpPr/>
            <p:nvPr/>
          </p:nvSpPr>
          <p:spPr>
            <a:xfrm flipH="1" flipV="1" rot="10800000">
              <a:off x="1975680" y="557280"/>
              <a:ext cx="676440" cy="681120"/>
            </a:xfrm>
            <a:prstGeom prst="rtTriangle">
              <a:avLst/>
            </a:prstGeom>
            <a:solidFill>
              <a:srgbClr val="23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709560" y="709200"/>
              <a:ext cx="1370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32825"/>
                  </a:solidFill>
                  <a:latin typeface="Segoe UI Light"/>
                  <a:ea typeface="方正中等线简体"/>
                </a:rPr>
                <a:t>19:00-21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3"/>
            <p:cNvSpPr/>
            <p:nvPr/>
          </p:nvSpPr>
          <p:spPr>
            <a:xfrm>
              <a:off x="2803320" y="1107000"/>
              <a:ext cx="1235160" cy="131760"/>
            </a:xfrm>
            <a:prstGeom prst="rect">
              <a:avLst/>
            </a:prstGeom>
            <a:solidFill>
              <a:srgbClr val="23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6480" rIns="186480" tIns="-17280" bIns="-1728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ight Triangle 14"/>
            <p:cNvSpPr/>
            <p:nvPr/>
          </p:nvSpPr>
          <p:spPr>
            <a:xfrm flipH="1" flipV="1" rot="10800000">
              <a:off x="4037760" y="557280"/>
              <a:ext cx="676440" cy="681120"/>
            </a:xfrm>
            <a:prstGeom prst="rtTriangle">
              <a:avLst/>
            </a:prstGeom>
            <a:solidFill>
              <a:srgbClr val="23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7"/>
            <p:cNvSpPr/>
            <p:nvPr/>
          </p:nvSpPr>
          <p:spPr>
            <a:xfrm>
              <a:off x="4865400" y="1107000"/>
              <a:ext cx="1235160" cy="131760"/>
            </a:xfrm>
            <a:prstGeom prst="rect">
              <a:avLst/>
            </a:prstGeom>
            <a:solidFill>
              <a:srgbClr val="23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6480" rIns="186480" tIns="-17280" bIns="-1728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ight Triangle 18"/>
            <p:cNvSpPr/>
            <p:nvPr/>
          </p:nvSpPr>
          <p:spPr>
            <a:xfrm flipH="1" flipV="1" rot="10800000">
              <a:off x="6099480" y="557280"/>
              <a:ext cx="676440" cy="681120"/>
            </a:xfrm>
            <a:prstGeom prst="rtTriangle">
              <a:avLst/>
            </a:prstGeom>
            <a:solidFill>
              <a:srgbClr val="23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1"/>
            <p:cNvSpPr/>
            <p:nvPr/>
          </p:nvSpPr>
          <p:spPr>
            <a:xfrm>
              <a:off x="7753680" y="1107000"/>
              <a:ext cx="1235160" cy="131760"/>
            </a:xfrm>
            <a:prstGeom prst="rect">
              <a:avLst/>
            </a:prstGeom>
            <a:solidFill>
              <a:srgbClr val="23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6480" rIns="186480" tIns="-17280" bIns="-1728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ight Triangle 22"/>
            <p:cNvSpPr/>
            <p:nvPr/>
          </p:nvSpPr>
          <p:spPr>
            <a:xfrm flipH="1" flipV="1" rot="10800000">
              <a:off x="8988120" y="557280"/>
              <a:ext cx="676440" cy="681120"/>
            </a:xfrm>
            <a:prstGeom prst="rtTriangle">
              <a:avLst/>
            </a:prstGeom>
            <a:solidFill>
              <a:srgbClr val="23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Chevron 28"/>
            <p:cNvSpPr/>
            <p:nvPr/>
          </p:nvSpPr>
          <p:spPr>
            <a:xfrm flipH="1" flipV="1" rot="10800000">
              <a:off x="6926040" y="552600"/>
              <a:ext cx="676440" cy="681120"/>
            </a:xfrm>
            <a:custGeom>
              <a:avLst/>
              <a:gdLst>
                <a:gd name="textAreaLeft" fmla="*/ -360 w 676440"/>
                <a:gd name="textAreaRight" fmla="*/ 676440 w 676440"/>
                <a:gd name="textAreaTop" fmla="*/ 360 h 681120"/>
                <a:gd name="textAreaBottom" fmla="*/ 681840 h 68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68" descr="C:\Users\mflorida.REDMOND\AppData\Local\Microsoft\Windows\Temporary Internet Files\Content.Outlook\CJ3SCPD3\SysCnt12-ConfigMgr_h_rgb_r.png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714080" y="1370160"/>
              <a:ext cx="16534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Rectangle 4"/>
            <p:cNvSpPr/>
            <p:nvPr/>
          </p:nvSpPr>
          <p:spPr>
            <a:xfrm>
              <a:off x="9272160" y="1599480"/>
              <a:ext cx="44712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组合 43"/>
            <p:cNvGrpSpPr/>
            <p:nvPr/>
          </p:nvGrpSpPr>
          <p:grpSpPr>
            <a:xfrm>
              <a:off x="741600" y="1329840"/>
              <a:ext cx="1911960" cy="1321200"/>
              <a:chOff x="741600" y="1329840"/>
              <a:chExt cx="1911960" cy="1321200"/>
            </a:xfrm>
          </p:grpSpPr>
          <p:grpSp>
            <p:nvGrpSpPr>
              <p:cNvPr id="169" name="Group 3"/>
              <p:cNvGrpSpPr/>
              <p:nvPr/>
            </p:nvGrpSpPr>
            <p:grpSpPr>
              <a:xfrm>
                <a:off x="741600" y="1329840"/>
                <a:ext cx="1911960" cy="1321200"/>
                <a:chOff x="741600" y="1329840"/>
                <a:chExt cx="1911960" cy="1321200"/>
              </a:xfrm>
            </p:grpSpPr>
            <p:sp>
              <p:nvSpPr>
                <p:cNvPr id="170" name="Rectangle 30"/>
                <p:cNvSpPr/>
                <p:nvPr/>
              </p:nvSpPr>
              <p:spPr>
                <a:xfrm>
                  <a:off x="741600" y="1329840"/>
                  <a:ext cx="1911960" cy="132120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240" rIns="93240" tIns="93240" bIns="93240" anchor="b">
                  <a:normAutofit/>
                </a:bodyPr>
                <a:p>
                  <a:pPr marL="120600" indent="-120600">
                    <a:lnSpc>
                      <a:spcPct val="90000"/>
                    </a:lnSpc>
                    <a:spcAft>
                      <a:spcPts val="612"/>
                    </a:spcAft>
                    <a:buClr>
                      <a:srgbClr val="ffffff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46"/>
                <p:cNvSpPr/>
                <p:nvPr/>
              </p:nvSpPr>
              <p:spPr>
                <a:xfrm>
                  <a:off x="741600" y="1329840"/>
                  <a:ext cx="1911960" cy="487440"/>
                </a:xfrm>
                <a:prstGeom prst="rect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240" rIns="93240" tIns="93240" bIns="93240" anchor="b">
                  <a:normAutofit/>
                </a:bodyPr>
                <a:p>
                  <a:pPr>
                    <a:lnSpc>
                      <a:spcPct val="90000"/>
                    </a:lnSpc>
                    <a:spcAft>
                      <a:spcPts val="612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矩形 45"/>
              <p:cNvSpPr/>
              <p:nvPr/>
            </p:nvSpPr>
            <p:spPr>
              <a:xfrm>
                <a:off x="808560" y="1365120"/>
                <a:ext cx="83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阶段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1.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矩形 46"/>
              <p:cNvSpPr/>
              <p:nvPr/>
            </p:nvSpPr>
            <p:spPr>
              <a:xfrm>
                <a:off x="977760" y="1884600"/>
                <a:ext cx="866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断开网络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拒绝干扰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组合 49"/>
            <p:cNvGrpSpPr/>
            <p:nvPr/>
          </p:nvGrpSpPr>
          <p:grpSpPr>
            <a:xfrm>
              <a:off x="2803320" y="2651400"/>
              <a:ext cx="1911960" cy="1321200"/>
              <a:chOff x="2803320" y="2651400"/>
              <a:chExt cx="1911960" cy="1321200"/>
            </a:xfrm>
          </p:grpSpPr>
          <p:grpSp>
            <p:nvGrpSpPr>
              <p:cNvPr id="175" name="Group 3"/>
              <p:cNvGrpSpPr/>
              <p:nvPr/>
            </p:nvGrpSpPr>
            <p:grpSpPr>
              <a:xfrm>
                <a:off x="2803320" y="2651400"/>
                <a:ext cx="1911960" cy="1321200"/>
                <a:chOff x="2803320" y="2651400"/>
                <a:chExt cx="1911960" cy="1321200"/>
              </a:xfrm>
            </p:grpSpPr>
            <p:sp>
              <p:nvSpPr>
                <p:cNvPr id="176" name="Rectangle 30"/>
                <p:cNvSpPr/>
                <p:nvPr/>
              </p:nvSpPr>
              <p:spPr>
                <a:xfrm>
                  <a:off x="2803320" y="2651400"/>
                  <a:ext cx="1911960" cy="132120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240" rIns="93240" tIns="93240" bIns="93240" anchor="b">
                  <a:normAutofit/>
                </a:bodyPr>
                <a:p>
                  <a:pPr marL="120600" indent="-120600">
                    <a:lnSpc>
                      <a:spcPct val="90000"/>
                    </a:lnSpc>
                    <a:spcAft>
                      <a:spcPts val="612"/>
                    </a:spcAft>
                    <a:buClr>
                      <a:srgbClr val="ffffff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Rectangle 46"/>
                <p:cNvSpPr/>
                <p:nvPr/>
              </p:nvSpPr>
              <p:spPr>
                <a:xfrm>
                  <a:off x="2803320" y="2651400"/>
                  <a:ext cx="1911960" cy="487440"/>
                </a:xfrm>
                <a:prstGeom prst="rect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240" rIns="93240" tIns="93240" bIns="93240" anchor="b">
                  <a:normAutofit/>
                </a:bodyPr>
                <a:p>
                  <a:pPr>
                    <a:lnSpc>
                      <a:spcPct val="90000"/>
                    </a:lnSpc>
                    <a:spcAft>
                      <a:spcPts val="612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矩形 51"/>
              <p:cNvSpPr/>
              <p:nvPr/>
            </p:nvSpPr>
            <p:spPr>
              <a:xfrm>
                <a:off x="2870280" y="2686680"/>
                <a:ext cx="83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阶段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1.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矩形 52"/>
              <p:cNvSpPr/>
              <p:nvPr/>
            </p:nvSpPr>
            <p:spPr>
              <a:xfrm>
                <a:off x="3133080" y="3206160"/>
                <a:ext cx="114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提取精华内容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注明放入部分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组合 55"/>
            <p:cNvGrpSpPr/>
            <p:nvPr/>
          </p:nvGrpSpPr>
          <p:grpSpPr>
            <a:xfrm>
              <a:off x="4865400" y="3972960"/>
              <a:ext cx="1911960" cy="1321200"/>
              <a:chOff x="4865400" y="3972960"/>
              <a:chExt cx="1911960" cy="1321200"/>
            </a:xfrm>
          </p:grpSpPr>
          <p:grpSp>
            <p:nvGrpSpPr>
              <p:cNvPr id="181" name="Group 3"/>
              <p:cNvGrpSpPr/>
              <p:nvPr/>
            </p:nvGrpSpPr>
            <p:grpSpPr>
              <a:xfrm>
                <a:off x="4865400" y="3972960"/>
                <a:ext cx="1911960" cy="1321200"/>
                <a:chOff x="4865400" y="3972960"/>
                <a:chExt cx="1911960" cy="1321200"/>
              </a:xfrm>
            </p:grpSpPr>
            <p:sp>
              <p:nvSpPr>
                <p:cNvPr id="182" name="Rectangle 30"/>
                <p:cNvSpPr/>
                <p:nvPr/>
              </p:nvSpPr>
              <p:spPr>
                <a:xfrm>
                  <a:off x="4865400" y="3972960"/>
                  <a:ext cx="1911960" cy="132120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240" rIns="93240" tIns="93240" bIns="93240" anchor="b">
                  <a:normAutofit/>
                </a:bodyPr>
                <a:p>
                  <a:pPr marL="120600" indent="-120600">
                    <a:lnSpc>
                      <a:spcPct val="90000"/>
                    </a:lnSpc>
                    <a:spcAft>
                      <a:spcPts val="612"/>
                    </a:spcAft>
                    <a:buClr>
                      <a:srgbClr val="ffffff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46"/>
                <p:cNvSpPr/>
                <p:nvPr/>
              </p:nvSpPr>
              <p:spPr>
                <a:xfrm>
                  <a:off x="4865400" y="3972960"/>
                  <a:ext cx="1911960" cy="487440"/>
                </a:xfrm>
                <a:prstGeom prst="rect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240" rIns="93240" tIns="93240" bIns="93240" anchor="b">
                  <a:normAutofit/>
                </a:bodyPr>
                <a:p>
                  <a:pPr>
                    <a:lnSpc>
                      <a:spcPct val="90000"/>
                    </a:lnSpc>
                    <a:spcAft>
                      <a:spcPts val="612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矩形 57"/>
              <p:cNvSpPr/>
              <p:nvPr/>
            </p:nvSpPr>
            <p:spPr>
              <a:xfrm>
                <a:off x="4932360" y="4008240"/>
                <a:ext cx="83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阶段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1.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矩形 58"/>
              <p:cNvSpPr/>
              <p:nvPr/>
            </p:nvSpPr>
            <p:spPr>
              <a:xfrm>
                <a:off x="5101560" y="4527720"/>
                <a:ext cx="866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搭建骨架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建立结构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组合 61"/>
            <p:cNvGrpSpPr/>
            <p:nvPr/>
          </p:nvGrpSpPr>
          <p:grpSpPr>
            <a:xfrm>
              <a:off x="7753680" y="1365120"/>
              <a:ext cx="1911960" cy="1321200"/>
              <a:chOff x="7753680" y="1365120"/>
              <a:chExt cx="1911960" cy="1321200"/>
            </a:xfrm>
          </p:grpSpPr>
          <p:grpSp>
            <p:nvGrpSpPr>
              <p:cNvPr id="187" name="Group 3"/>
              <p:cNvGrpSpPr/>
              <p:nvPr/>
            </p:nvGrpSpPr>
            <p:grpSpPr>
              <a:xfrm>
                <a:off x="7753680" y="1365120"/>
                <a:ext cx="1911960" cy="1321200"/>
                <a:chOff x="7753680" y="1365120"/>
                <a:chExt cx="1911960" cy="1321200"/>
              </a:xfrm>
            </p:grpSpPr>
            <p:sp>
              <p:nvSpPr>
                <p:cNvPr id="188" name="Rectangle 30"/>
                <p:cNvSpPr/>
                <p:nvPr/>
              </p:nvSpPr>
              <p:spPr>
                <a:xfrm>
                  <a:off x="7753680" y="1365120"/>
                  <a:ext cx="1911960" cy="132120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240" rIns="93240" tIns="93240" bIns="93240" anchor="b">
                  <a:normAutofit/>
                </a:bodyPr>
                <a:p>
                  <a:pPr marL="120600" indent="-120600">
                    <a:lnSpc>
                      <a:spcPct val="90000"/>
                    </a:lnSpc>
                    <a:spcAft>
                      <a:spcPts val="612"/>
                    </a:spcAft>
                    <a:buClr>
                      <a:srgbClr val="ffffff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46"/>
                <p:cNvSpPr/>
                <p:nvPr/>
              </p:nvSpPr>
              <p:spPr>
                <a:xfrm>
                  <a:off x="7753680" y="1365120"/>
                  <a:ext cx="1911960" cy="487440"/>
                </a:xfrm>
                <a:prstGeom prst="rect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240" rIns="93240" tIns="93240" bIns="93240" anchor="b">
                  <a:normAutofit/>
                </a:bodyPr>
                <a:p>
                  <a:pPr>
                    <a:lnSpc>
                      <a:spcPct val="90000"/>
                    </a:lnSpc>
                    <a:spcAft>
                      <a:spcPts val="612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矩形 63"/>
              <p:cNvSpPr/>
              <p:nvPr/>
            </p:nvSpPr>
            <p:spPr>
              <a:xfrm>
                <a:off x="7820640" y="1400400"/>
                <a:ext cx="64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阶段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矩形 64"/>
              <p:cNvSpPr/>
              <p:nvPr/>
            </p:nvSpPr>
            <p:spPr>
              <a:xfrm>
                <a:off x="7989840" y="1919880"/>
                <a:ext cx="866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集中精力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正式制作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矩形 69"/>
            <p:cNvSpPr/>
            <p:nvPr/>
          </p:nvSpPr>
          <p:spPr>
            <a:xfrm rot="21413400">
              <a:off x="2808720" y="650520"/>
              <a:ext cx="920520" cy="2286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0"/>
            <p:cNvSpPr/>
            <p:nvPr/>
          </p:nvSpPr>
          <p:spPr>
            <a:xfrm>
              <a:off x="2803320" y="709200"/>
              <a:ext cx="1370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32825"/>
                  </a:solidFill>
                  <a:latin typeface="Segoe UI Light"/>
                  <a:ea typeface="方正中等线简体"/>
                </a:rPr>
                <a:t>21:00-22: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71"/>
            <p:cNvSpPr/>
            <p:nvPr/>
          </p:nvSpPr>
          <p:spPr>
            <a:xfrm rot="21413400">
              <a:off x="4861800" y="650520"/>
              <a:ext cx="920520" cy="2286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>
              <a:off x="4856400" y="709200"/>
              <a:ext cx="1370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32825"/>
                  </a:solidFill>
                  <a:latin typeface="Segoe UI Light"/>
                  <a:ea typeface="方正中等线简体"/>
                </a:rPr>
                <a:t>22:30-23: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73"/>
            <p:cNvSpPr/>
            <p:nvPr/>
          </p:nvSpPr>
          <p:spPr>
            <a:xfrm rot="21413400">
              <a:off x="7752600" y="650520"/>
              <a:ext cx="920520" cy="2286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0"/>
            <p:cNvSpPr/>
            <p:nvPr/>
          </p:nvSpPr>
          <p:spPr>
            <a:xfrm>
              <a:off x="7747200" y="709200"/>
              <a:ext cx="1370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32825"/>
                  </a:solidFill>
                  <a:latin typeface="Segoe UI Light"/>
                  <a:ea typeface="方正中等线简体"/>
                </a:rPr>
                <a:t>23:10-02: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5"/>
          <p:cNvGrpSpPr/>
          <p:nvPr/>
        </p:nvGrpSpPr>
        <p:grpSpPr>
          <a:xfrm>
            <a:off x="7782480" y="3940200"/>
            <a:ext cx="3386520" cy="520560"/>
            <a:chOff x="7782480" y="3940200"/>
            <a:chExt cx="3386520" cy="520560"/>
          </a:xfrm>
        </p:grpSpPr>
        <p:sp>
          <p:nvSpPr>
            <p:cNvPr id="199" name="矩形 76"/>
            <p:cNvSpPr/>
            <p:nvPr/>
          </p:nvSpPr>
          <p:spPr>
            <a:xfrm rot="21413400">
              <a:off x="7784640" y="4143600"/>
              <a:ext cx="3381480" cy="1821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77"/>
            <p:cNvSpPr/>
            <p:nvPr/>
          </p:nvSpPr>
          <p:spPr>
            <a:xfrm>
              <a:off x="8321760" y="3940200"/>
              <a:ext cx="240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一次</a:t>
              </a:r>
              <a:r>
                <a:rPr b="0" lang="en-US" sz="2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PPT</a:t>
              </a:r>
              <a:r>
                <a:rPr b="0" lang="zh-CN" sz="2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制作全过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矩形 79"/>
          <p:cNvSpPr/>
          <p:nvPr/>
        </p:nvSpPr>
        <p:spPr>
          <a:xfrm>
            <a:off x="7763040" y="4479840"/>
            <a:ext cx="368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制作过程中，最重要的是对文稿有整体把握，这就要做到避开干扰，提取精华内容。之后的一切，便是水到渠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67"/>
          <p:cNvSpPr/>
          <p:nvPr/>
        </p:nvSpPr>
        <p:spPr>
          <a:xfrm>
            <a:off x="5955120" y="62834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注：该页用于展示该模版的使用时的排版方式，具体使用时请替换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0" y="65674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2"/>
          <p:cNvSpPr/>
          <p:nvPr/>
        </p:nvSpPr>
        <p:spPr>
          <a:xfrm>
            <a:off x="0" y="1440"/>
            <a:ext cx="12192120" cy="4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4"/>
          <p:cNvSpPr/>
          <p:nvPr/>
        </p:nvSpPr>
        <p:spPr>
          <a:xfrm>
            <a:off x="0" y="681192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组合 5"/>
          <p:cNvGrpSpPr/>
          <p:nvPr/>
        </p:nvGrpSpPr>
        <p:grpSpPr>
          <a:xfrm>
            <a:off x="6007680" y="1511280"/>
            <a:ext cx="3386520" cy="520560"/>
            <a:chOff x="6007680" y="1511280"/>
            <a:chExt cx="3386520" cy="520560"/>
          </a:xfrm>
        </p:grpSpPr>
        <p:sp>
          <p:nvSpPr>
            <p:cNvPr id="207" name="矩形 76"/>
            <p:cNvSpPr/>
            <p:nvPr/>
          </p:nvSpPr>
          <p:spPr>
            <a:xfrm rot="21413400">
              <a:off x="6009840" y="1714680"/>
              <a:ext cx="3381480" cy="1821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文本框 77"/>
            <p:cNvSpPr/>
            <p:nvPr/>
          </p:nvSpPr>
          <p:spPr>
            <a:xfrm>
              <a:off x="6768360" y="151128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这个饼图的操作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矩形 79"/>
          <p:cNvSpPr/>
          <p:nvPr/>
        </p:nvSpPr>
        <p:spPr>
          <a:xfrm>
            <a:off x="5987880" y="2050920"/>
            <a:ext cx="4623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将鼠标移到图表位置，点击右键，选择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编辑数据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，改变对应的数据，即可对该饼图进行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67"/>
          <p:cNvSpPr/>
          <p:nvPr/>
        </p:nvSpPr>
        <p:spPr>
          <a:xfrm>
            <a:off x="5955120" y="62834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注：该页用于展示该模版的使用时的排版方式，具体使用时请替换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3"/>
          <p:cNvGrpSpPr/>
          <p:nvPr/>
        </p:nvGrpSpPr>
        <p:grpSpPr>
          <a:xfrm>
            <a:off x="646200" y="766800"/>
            <a:ext cx="4973400" cy="4797360"/>
            <a:chOff x="646200" y="766800"/>
            <a:chExt cx="4973400" cy="4797360"/>
          </a:xfrm>
        </p:grpSpPr>
        <p:pic>
          <p:nvPicPr>
            <p:cNvPr id="212" name="图表 78" descr=""/>
            <p:cNvPicPr/>
            <p:nvPr/>
          </p:nvPicPr>
          <p:blipFill>
            <a:blip r:embed="rId1"/>
            <a:stretch/>
          </p:blipFill>
          <p:spPr>
            <a:xfrm>
              <a:off x="646200" y="766800"/>
              <a:ext cx="4973400" cy="479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3" name="组合 1"/>
            <p:cNvGrpSpPr/>
            <p:nvPr/>
          </p:nvGrpSpPr>
          <p:grpSpPr>
            <a:xfrm>
              <a:off x="943560" y="1456200"/>
              <a:ext cx="4137120" cy="3237480"/>
              <a:chOff x="943560" y="1456200"/>
              <a:chExt cx="4137120" cy="3237480"/>
            </a:xfrm>
          </p:grpSpPr>
          <p:sp>
            <p:nvSpPr>
              <p:cNvPr id="214" name="椭圆 81"/>
              <p:cNvSpPr/>
              <p:nvPr/>
            </p:nvSpPr>
            <p:spPr>
              <a:xfrm>
                <a:off x="4614480" y="2804400"/>
                <a:ext cx="466200" cy="466200"/>
              </a:xfrm>
              <a:prstGeom prst="ellipse">
                <a:avLst/>
              </a:prstGeom>
              <a:solidFill>
                <a:srgbClr val="ffc000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egoe UI Light"/>
                    <a:ea typeface="宋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椭圆 82"/>
              <p:cNvSpPr/>
              <p:nvPr/>
            </p:nvSpPr>
            <p:spPr>
              <a:xfrm>
                <a:off x="1625400" y="4227480"/>
                <a:ext cx="466200" cy="466200"/>
              </a:xfrm>
              <a:prstGeom prst="ellipse">
                <a:avLst/>
              </a:prstGeom>
              <a:solidFill>
                <a:srgbClr val="0c0c0c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egoe UI Light"/>
                    <a:ea typeface="宋体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椭圆 83"/>
              <p:cNvSpPr/>
              <p:nvPr/>
            </p:nvSpPr>
            <p:spPr>
              <a:xfrm>
                <a:off x="1707120" y="1456200"/>
                <a:ext cx="466200" cy="466200"/>
              </a:xfrm>
              <a:prstGeom prst="ellipse">
                <a:avLst/>
              </a:prstGeom>
              <a:solidFill>
                <a:srgbClr val="bfbfbf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egoe UI Light"/>
                    <a:ea typeface="宋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椭圆 84"/>
              <p:cNvSpPr/>
              <p:nvPr/>
            </p:nvSpPr>
            <p:spPr>
              <a:xfrm>
                <a:off x="1007640" y="2412720"/>
                <a:ext cx="466200" cy="466200"/>
              </a:xfrm>
              <a:prstGeom prst="ellipse">
                <a:avLst/>
              </a:prstGeom>
              <a:solidFill>
                <a:srgbClr val="7f7f7f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egoe UI Light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椭圆 85"/>
              <p:cNvSpPr/>
              <p:nvPr/>
            </p:nvSpPr>
            <p:spPr>
              <a:xfrm>
                <a:off x="943560" y="3196080"/>
                <a:ext cx="466200" cy="466200"/>
              </a:xfrm>
              <a:prstGeom prst="ellipse">
                <a:avLst/>
              </a:prstGeom>
              <a:solidFill>
                <a:srgbClr val="404040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egoe UI Light"/>
                    <a:ea typeface="宋体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组合 96"/>
              <p:cNvGrpSpPr/>
              <p:nvPr/>
            </p:nvGrpSpPr>
            <p:grpSpPr>
              <a:xfrm>
                <a:off x="1595520" y="1665000"/>
                <a:ext cx="2892240" cy="2892600"/>
                <a:chOff x="1595520" y="1665000"/>
                <a:chExt cx="2892240" cy="2892600"/>
              </a:xfrm>
            </p:grpSpPr>
            <p:sp>
              <p:nvSpPr>
                <p:cNvPr id="220" name="椭圆 97"/>
                <p:cNvSpPr/>
                <p:nvPr/>
              </p:nvSpPr>
              <p:spPr>
                <a:xfrm>
                  <a:off x="1925640" y="1995120"/>
                  <a:ext cx="2232000" cy="2232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椭圆 98"/>
                <p:cNvSpPr/>
                <p:nvPr/>
              </p:nvSpPr>
              <p:spPr>
                <a:xfrm>
                  <a:off x="1595520" y="1665000"/>
                  <a:ext cx="2892240" cy="2892600"/>
                </a:xfrm>
                <a:prstGeom prst="ellipse">
                  <a:avLst/>
                </a:prstGeom>
                <a:solidFill>
                  <a:srgbClr val="ffffff">
                    <a:alpha val="3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2" name="组合 8"/>
          <p:cNvGrpSpPr/>
          <p:nvPr/>
        </p:nvGrpSpPr>
        <p:grpSpPr>
          <a:xfrm>
            <a:off x="6365880" y="3727440"/>
            <a:ext cx="3713400" cy="903960"/>
            <a:chOff x="6365880" y="3727440"/>
            <a:chExt cx="3713400" cy="903960"/>
          </a:xfrm>
        </p:grpSpPr>
        <p:sp>
          <p:nvSpPr>
            <p:cNvPr id="223" name="椭圆 99"/>
            <p:cNvSpPr/>
            <p:nvPr/>
          </p:nvSpPr>
          <p:spPr>
            <a:xfrm>
              <a:off x="6365880" y="3727440"/>
              <a:ext cx="359640" cy="360000"/>
            </a:xfrm>
            <a:prstGeom prst="ellipse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Light"/>
                  <a:ea typeface="宋体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文本框 4"/>
            <p:cNvSpPr/>
            <p:nvPr/>
          </p:nvSpPr>
          <p:spPr>
            <a:xfrm>
              <a:off x="6959160" y="37425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项目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椭圆 100"/>
            <p:cNvSpPr/>
            <p:nvPr/>
          </p:nvSpPr>
          <p:spPr>
            <a:xfrm>
              <a:off x="7675200" y="3727440"/>
              <a:ext cx="359640" cy="360000"/>
            </a:xfrm>
            <a:prstGeom prst="ellipse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Light"/>
                  <a:ea typeface="宋体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文本框 101"/>
            <p:cNvSpPr/>
            <p:nvPr/>
          </p:nvSpPr>
          <p:spPr>
            <a:xfrm>
              <a:off x="8177400" y="374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项目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椭圆 102"/>
            <p:cNvSpPr/>
            <p:nvPr/>
          </p:nvSpPr>
          <p:spPr>
            <a:xfrm>
              <a:off x="8984880" y="3727440"/>
              <a:ext cx="359640" cy="360000"/>
            </a:xfrm>
            <a:prstGeom prst="ellipse">
              <a:avLst/>
            </a:prstGeom>
            <a:solidFill>
              <a:srgbClr val="7f7f7f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Light"/>
                  <a:ea typeface="宋体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文本框 103"/>
            <p:cNvSpPr/>
            <p:nvPr/>
          </p:nvSpPr>
          <p:spPr>
            <a:xfrm>
              <a:off x="9487080" y="374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项目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椭圆 104"/>
            <p:cNvSpPr/>
            <p:nvPr/>
          </p:nvSpPr>
          <p:spPr>
            <a:xfrm>
              <a:off x="6365880" y="4247640"/>
              <a:ext cx="359640" cy="360000"/>
            </a:xfrm>
            <a:prstGeom prst="ellipse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Light"/>
                  <a:ea typeface="宋体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文本框 105"/>
            <p:cNvSpPr/>
            <p:nvPr/>
          </p:nvSpPr>
          <p:spPr>
            <a:xfrm>
              <a:off x="6867720" y="42631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项目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椭圆 106"/>
            <p:cNvSpPr/>
            <p:nvPr/>
          </p:nvSpPr>
          <p:spPr>
            <a:xfrm>
              <a:off x="7675200" y="4247640"/>
              <a:ext cx="359640" cy="360000"/>
            </a:xfrm>
            <a:prstGeom prst="ellipse">
              <a:avLst/>
            </a:prstGeom>
            <a:solidFill>
              <a:srgbClr val="0d0d0d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Light"/>
                  <a:ea typeface="宋体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107"/>
            <p:cNvSpPr/>
            <p:nvPr/>
          </p:nvSpPr>
          <p:spPr>
            <a:xfrm>
              <a:off x="8177400" y="42631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项目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直接连接符 7"/>
          <p:cNvSpPr/>
          <p:nvPr/>
        </p:nvSpPr>
        <p:spPr>
          <a:xfrm>
            <a:off x="6016680" y="3511440"/>
            <a:ext cx="4433760" cy="180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110"/>
          <p:cNvSpPr/>
          <p:nvPr/>
        </p:nvSpPr>
        <p:spPr>
          <a:xfrm>
            <a:off x="6016680" y="4848120"/>
            <a:ext cx="44337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组合 1"/>
          <p:cNvGrpSpPr/>
          <p:nvPr/>
        </p:nvGrpSpPr>
        <p:grpSpPr>
          <a:xfrm>
            <a:off x="1557360" y="2073240"/>
            <a:ext cx="9077400" cy="1287360"/>
            <a:chOff x="1557360" y="2073240"/>
            <a:chExt cx="9077400" cy="1287360"/>
          </a:xfrm>
        </p:grpSpPr>
        <p:grpSp>
          <p:nvGrpSpPr>
            <p:cNvPr id="236" name="组合 2"/>
            <p:cNvGrpSpPr/>
            <p:nvPr/>
          </p:nvGrpSpPr>
          <p:grpSpPr>
            <a:xfrm>
              <a:off x="1557360" y="2073240"/>
              <a:ext cx="1288440" cy="1287360"/>
              <a:chOff x="1557360" y="2073240"/>
              <a:chExt cx="1288440" cy="1287360"/>
            </a:xfrm>
          </p:grpSpPr>
          <p:grpSp>
            <p:nvGrpSpPr>
              <p:cNvPr id="237" name="组合 33"/>
              <p:cNvGrpSpPr/>
              <p:nvPr/>
            </p:nvGrpSpPr>
            <p:grpSpPr>
              <a:xfrm>
                <a:off x="1557360" y="2073240"/>
                <a:ext cx="1288440" cy="1287360"/>
                <a:chOff x="1557360" y="2073240"/>
                <a:chExt cx="1288440" cy="1287360"/>
              </a:xfrm>
            </p:grpSpPr>
            <p:sp>
              <p:nvSpPr>
                <p:cNvPr id="238" name="椭圆 36"/>
                <p:cNvSpPr/>
                <p:nvPr/>
              </p:nvSpPr>
              <p:spPr>
                <a:xfrm>
                  <a:off x="1557360" y="2073240"/>
                  <a:ext cx="1288440" cy="128736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直接连接符 37"/>
                <p:cNvSpPr/>
                <p:nvPr/>
              </p:nvSpPr>
              <p:spPr>
                <a:xfrm flipV="1">
                  <a:off x="1746000" y="2261160"/>
                  <a:ext cx="911160" cy="910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0" name="文本框 34"/>
              <p:cNvSpPr/>
              <p:nvPr/>
            </p:nvSpPr>
            <p:spPr>
              <a:xfrm>
                <a:off x="2175840" y="28008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egoe UI Light"/>
                    <a:ea typeface="方正中等线简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文本框 35"/>
              <p:cNvSpPr/>
              <p:nvPr/>
            </p:nvSpPr>
            <p:spPr>
              <a:xfrm>
                <a:off x="1640520" y="22341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egoe UI Light"/>
                    <a:ea typeface="方正中等线简体"/>
                  </a:rPr>
                  <a:t>4.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组合 3"/>
            <p:cNvGrpSpPr/>
            <p:nvPr/>
          </p:nvGrpSpPr>
          <p:grpSpPr>
            <a:xfrm>
              <a:off x="3115080" y="2073240"/>
              <a:ext cx="1288440" cy="1287360"/>
              <a:chOff x="3115080" y="2073240"/>
              <a:chExt cx="1288440" cy="1287360"/>
            </a:xfrm>
          </p:grpSpPr>
          <p:grpSp>
            <p:nvGrpSpPr>
              <p:cNvPr id="243" name="组合 28"/>
              <p:cNvGrpSpPr/>
              <p:nvPr/>
            </p:nvGrpSpPr>
            <p:grpSpPr>
              <a:xfrm>
                <a:off x="3115080" y="2073240"/>
                <a:ext cx="1288440" cy="1287360"/>
                <a:chOff x="3115080" y="2073240"/>
                <a:chExt cx="1288440" cy="1287360"/>
              </a:xfrm>
            </p:grpSpPr>
            <p:sp>
              <p:nvSpPr>
                <p:cNvPr id="244" name="椭圆 31"/>
                <p:cNvSpPr/>
                <p:nvPr/>
              </p:nvSpPr>
              <p:spPr>
                <a:xfrm>
                  <a:off x="3115080" y="2073240"/>
                  <a:ext cx="1288440" cy="1287360"/>
                </a:xfrm>
                <a:prstGeom prst="ellipse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直接连接符 32"/>
                <p:cNvSpPr/>
                <p:nvPr/>
              </p:nvSpPr>
              <p:spPr>
                <a:xfrm flipV="1">
                  <a:off x="3303720" y="2261160"/>
                  <a:ext cx="911160" cy="910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" name="文本框 29"/>
              <p:cNvSpPr/>
              <p:nvPr/>
            </p:nvSpPr>
            <p:spPr>
              <a:xfrm>
                <a:off x="3733560" y="28008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文本框 30"/>
              <p:cNvSpPr/>
              <p:nvPr/>
            </p:nvSpPr>
            <p:spPr>
              <a:xfrm>
                <a:off x="3198240" y="22341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2.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组合 4"/>
            <p:cNvGrpSpPr/>
            <p:nvPr/>
          </p:nvGrpSpPr>
          <p:grpSpPr>
            <a:xfrm>
              <a:off x="4672800" y="2073240"/>
              <a:ext cx="1288440" cy="1287360"/>
              <a:chOff x="4672800" y="2073240"/>
              <a:chExt cx="1288440" cy="1287360"/>
            </a:xfrm>
          </p:grpSpPr>
          <p:grpSp>
            <p:nvGrpSpPr>
              <p:cNvPr id="249" name="组合 23"/>
              <p:cNvGrpSpPr/>
              <p:nvPr/>
            </p:nvGrpSpPr>
            <p:grpSpPr>
              <a:xfrm>
                <a:off x="4672800" y="2073240"/>
                <a:ext cx="1288440" cy="1287360"/>
                <a:chOff x="4672800" y="2073240"/>
                <a:chExt cx="1288440" cy="1287360"/>
              </a:xfrm>
            </p:grpSpPr>
            <p:sp>
              <p:nvSpPr>
                <p:cNvPr id="250" name="椭圆 26"/>
                <p:cNvSpPr/>
                <p:nvPr/>
              </p:nvSpPr>
              <p:spPr>
                <a:xfrm>
                  <a:off x="4672800" y="2073240"/>
                  <a:ext cx="1288440" cy="1287360"/>
                </a:xfrm>
                <a:prstGeom prst="ellipse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直接连接符 27"/>
                <p:cNvSpPr/>
                <p:nvPr/>
              </p:nvSpPr>
              <p:spPr>
                <a:xfrm flipV="1">
                  <a:off x="4861440" y="2261160"/>
                  <a:ext cx="911160" cy="910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文本框 24"/>
              <p:cNvSpPr/>
              <p:nvPr/>
            </p:nvSpPr>
            <p:spPr>
              <a:xfrm>
                <a:off x="5291280" y="28008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文本框 25"/>
              <p:cNvSpPr/>
              <p:nvPr/>
            </p:nvSpPr>
            <p:spPr>
              <a:xfrm>
                <a:off x="4755960" y="22341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3.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组合 5"/>
            <p:cNvGrpSpPr/>
            <p:nvPr/>
          </p:nvGrpSpPr>
          <p:grpSpPr>
            <a:xfrm>
              <a:off x="6230520" y="2073240"/>
              <a:ext cx="1288440" cy="1287360"/>
              <a:chOff x="6230520" y="2073240"/>
              <a:chExt cx="1288440" cy="1287360"/>
            </a:xfrm>
          </p:grpSpPr>
          <p:grpSp>
            <p:nvGrpSpPr>
              <p:cNvPr id="255" name="组合 18"/>
              <p:cNvGrpSpPr/>
              <p:nvPr/>
            </p:nvGrpSpPr>
            <p:grpSpPr>
              <a:xfrm>
                <a:off x="6230520" y="2073240"/>
                <a:ext cx="1288440" cy="1287360"/>
                <a:chOff x="6230520" y="2073240"/>
                <a:chExt cx="1288440" cy="1287360"/>
              </a:xfrm>
            </p:grpSpPr>
            <p:sp>
              <p:nvSpPr>
                <p:cNvPr id="256" name="椭圆 21"/>
                <p:cNvSpPr/>
                <p:nvPr/>
              </p:nvSpPr>
              <p:spPr>
                <a:xfrm>
                  <a:off x="6230520" y="2073240"/>
                  <a:ext cx="1288440" cy="1287360"/>
                </a:xfrm>
                <a:prstGeom prst="ellipse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直接连接符 22"/>
                <p:cNvSpPr/>
                <p:nvPr/>
              </p:nvSpPr>
              <p:spPr>
                <a:xfrm flipV="1">
                  <a:off x="6419160" y="2261160"/>
                  <a:ext cx="911160" cy="910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文本框 19"/>
              <p:cNvSpPr/>
              <p:nvPr/>
            </p:nvSpPr>
            <p:spPr>
              <a:xfrm>
                <a:off x="6849000" y="28008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文本框 20"/>
              <p:cNvSpPr/>
              <p:nvPr/>
            </p:nvSpPr>
            <p:spPr>
              <a:xfrm>
                <a:off x="6313680" y="22341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4.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组合 6"/>
            <p:cNvGrpSpPr/>
            <p:nvPr/>
          </p:nvGrpSpPr>
          <p:grpSpPr>
            <a:xfrm>
              <a:off x="7788600" y="2073240"/>
              <a:ext cx="1288440" cy="1287360"/>
              <a:chOff x="7788600" y="2073240"/>
              <a:chExt cx="1288440" cy="1287360"/>
            </a:xfrm>
          </p:grpSpPr>
          <p:grpSp>
            <p:nvGrpSpPr>
              <p:cNvPr id="261" name="组合 13"/>
              <p:cNvGrpSpPr/>
              <p:nvPr/>
            </p:nvGrpSpPr>
            <p:grpSpPr>
              <a:xfrm>
                <a:off x="7788600" y="2073240"/>
                <a:ext cx="1288440" cy="1287360"/>
                <a:chOff x="7788600" y="2073240"/>
                <a:chExt cx="1288440" cy="1287360"/>
              </a:xfrm>
            </p:grpSpPr>
            <p:sp>
              <p:nvSpPr>
                <p:cNvPr id="262" name="椭圆 16"/>
                <p:cNvSpPr/>
                <p:nvPr/>
              </p:nvSpPr>
              <p:spPr>
                <a:xfrm>
                  <a:off x="7788600" y="2073240"/>
                  <a:ext cx="1288440" cy="1287360"/>
                </a:xfrm>
                <a:prstGeom prst="ellipse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直接连接符 17"/>
                <p:cNvSpPr/>
                <p:nvPr/>
              </p:nvSpPr>
              <p:spPr>
                <a:xfrm flipV="1">
                  <a:off x="7977240" y="2261160"/>
                  <a:ext cx="911160" cy="910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" name="文本框 14"/>
              <p:cNvSpPr/>
              <p:nvPr/>
            </p:nvSpPr>
            <p:spPr>
              <a:xfrm>
                <a:off x="8407080" y="28008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文本框 15"/>
              <p:cNvSpPr/>
              <p:nvPr/>
            </p:nvSpPr>
            <p:spPr>
              <a:xfrm>
                <a:off x="7871760" y="22341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3.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组合 7"/>
            <p:cNvGrpSpPr/>
            <p:nvPr/>
          </p:nvGrpSpPr>
          <p:grpSpPr>
            <a:xfrm>
              <a:off x="9346320" y="2073240"/>
              <a:ext cx="1288440" cy="1287360"/>
              <a:chOff x="9346320" y="2073240"/>
              <a:chExt cx="1288440" cy="1287360"/>
            </a:xfrm>
          </p:grpSpPr>
          <p:grpSp>
            <p:nvGrpSpPr>
              <p:cNvPr id="267" name="组合 8"/>
              <p:cNvGrpSpPr/>
              <p:nvPr/>
            </p:nvGrpSpPr>
            <p:grpSpPr>
              <a:xfrm>
                <a:off x="9346320" y="2073240"/>
                <a:ext cx="1288440" cy="1287360"/>
                <a:chOff x="9346320" y="2073240"/>
                <a:chExt cx="1288440" cy="1287360"/>
              </a:xfrm>
            </p:grpSpPr>
            <p:sp>
              <p:nvSpPr>
                <p:cNvPr id="268" name="椭圆 11"/>
                <p:cNvSpPr/>
                <p:nvPr/>
              </p:nvSpPr>
              <p:spPr>
                <a:xfrm>
                  <a:off x="9346320" y="2073240"/>
                  <a:ext cx="1288440" cy="1287360"/>
                </a:xfrm>
                <a:prstGeom prst="ellipse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直接连接符 12"/>
                <p:cNvSpPr/>
                <p:nvPr/>
              </p:nvSpPr>
              <p:spPr>
                <a:xfrm flipV="1">
                  <a:off x="9534960" y="2261160"/>
                  <a:ext cx="911160" cy="910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文本框 9"/>
              <p:cNvSpPr/>
              <p:nvPr/>
            </p:nvSpPr>
            <p:spPr>
              <a:xfrm>
                <a:off x="9964800" y="28008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文本框 10"/>
              <p:cNvSpPr/>
              <p:nvPr/>
            </p:nvSpPr>
            <p:spPr>
              <a:xfrm>
                <a:off x="9429480" y="22341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4.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2" name="组合 38"/>
          <p:cNvGrpSpPr/>
          <p:nvPr/>
        </p:nvGrpSpPr>
        <p:grpSpPr>
          <a:xfrm>
            <a:off x="1557360" y="4094280"/>
            <a:ext cx="9077400" cy="1288800"/>
            <a:chOff x="1557360" y="4094280"/>
            <a:chExt cx="9077400" cy="1288800"/>
          </a:xfrm>
        </p:grpSpPr>
        <p:grpSp>
          <p:nvGrpSpPr>
            <p:cNvPr id="273" name="组合 39"/>
            <p:cNvGrpSpPr/>
            <p:nvPr/>
          </p:nvGrpSpPr>
          <p:grpSpPr>
            <a:xfrm>
              <a:off x="1557360" y="4094280"/>
              <a:ext cx="1288440" cy="1288800"/>
              <a:chOff x="1557360" y="4094280"/>
              <a:chExt cx="1288440" cy="1288800"/>
            </a:xfrm>
          </p:grpSpPr>
          <p:grpSp>
            <p:nvGrpSpPr>
              <p:cNvPr id="274" name="组合 60"/>
              <p:cNvGrpSpPr/>
              <p:nvPr/>
            </p:nvGrpSpPr>
            <p:grpSpPr>
              <a:xfrm>
                <a:off x="1557360" y="4094280"/>
                <a:ext cx="1288440" cy="1288800"/>
                <a:chOff x="1557360" y="4094280"/>
                <a:chExt cx="1288440" cy="1288800"/>
              </a:xfrm>
            </p:grpSpPr>
            <p:sp>
              <p:nvSpPr>
                <p:cNvPr id="275" name="椭圆 63"/>
                <p:cNvSpPr/>
                <p:nvPr/>
              </p:nvSpPr>
              <p:spPr>
                <a:xfrm>
                  <a:off x="1557360" y="4094280"/>
                  <a:ext cx="1288440" cy="1288800"/>
                </a:xfrm>
                <a:prstGeom prst="ellipse">
                  <a:avLst/>
                </a:prstGeom>
                <a:noFill/>
                <a:ln w="12600">
                  <a:solidFill>
                    <a:srgbClr val="ffc000"/>
                  </a:solidFill>
                  <a:prstDash val="sysDash"/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直接连接符 64"/>
                <p:cNvSpPr/>
                <p:nvPr/>
              </p:nvSpPr>
              <p:spPr>
                <a:xfrm flipV="1">
                  <a:off x="1746000" y="4282920"/>
                  <a:ext cx="911160" cy="9115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" name="文本框 61"/>
              <p:cNvSpPr/>
              <p:nvPr/>
            </p:nvSpPr>
            <p:spPr>
              <a:xfrm>
                <a:off x="1955520" y="482256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egoe UI Light"/>
                    <a:ea typeface="方正中等线简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文本框 62"/>
              <p:cNvSpPr/>
              <p:nvPr/>
            </p:nvSpPr>
            <p:spPr>
              <a:xfrm>
                <a:off x="1861200" y="42555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egoe UI Light"/>
                    <a:ea typeface="方正中等线简体"/>
                  </a:rPr>
                  <a:t>4.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组合 40"/>
            <p:cNvGrpSpPr/>
            <p:nvPr/>
          </p:nvGrpSpPr>
          <p:grpSpPr>
            <a:xfrm>
              <a:off x="3115080" y="4094280"/>
              <a:ext cx="1288440" cy="1288800"/>
              <a:chOff x="3115080" y="4094280"/>
              <a:chExt cx="1288440" cy="1288800"/>
            </a:xfrm>
          </p:grpSpPr>
          <p:sp>
            <p:nvSpPr>
              <p:cNvPr id="280" name="椭圆 57"/>
              <p:cNvSpPr/>
              <p:nvPr/>
            </p:nvSpPr>
            <p:spPr>
              <a:xfrm>
                <a:off x="3115080" y="4094280"/>
                <a:ext cx="1288440" cy="1288800"/>
              </a:xfrm>
              <a:prstGeom prst="ellipse">
                <a:avLst/>
              </a:prstGeom>
              <a:noFill/>
              <a:ln w="12600">
                <a:solidFill>
                  <a:srgbClr val="232825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文本框 58"/>
              <p:cNvSpPr/>
              <p:nvPr/>
            </p:nvSpPr>
            <p:spPr>
              <a:xfrm>
                <a:off x="3507120" y="482256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文本框 59"/>
              <p:cNvSpPr/>
              <p:nvPr/>
            </p:nvSpPr>
            <p:spPr>
              <a:xfrm>
                <a:off x="3418920" y="42555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2.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组合 41"/>
            <p:cNvGrpSpPr/>
            <p:nvPr/>
          </p:nvGrpSpPr>
          <p:grpSpPr>
            <a:xfrm>
              <a:off x="4672800" y="4094280"/>
              <a:ext cx="1288440" cy="1288800"/>
              <a:chOff x="4672800" y="4094280"/>
              <a:chExt cx="1288440" cy="1288800"/>
            </a:xfrm>
          </p:grpSpPr>
          <p:sp>
            <p:nvSpPr>
              <p:cNvPr id="284" name="椭圆 54"/>
              <p:cNvSpPr/>
              <p:nvPr/>
            </p:nvSpPr>
            <p:spPr>
              <a:xfrm>
                <a:off x="4672800" y="4094280"/>
                <a:ext cx="1288440" cy="1288800"/>
              </a:xfrm>
              <a:prstGeom prst="ellipse">
                <a:avLst/>
              </a:prstGeom>
              <a:noFill/>
              <a:ln w="12600">
                <a:solidFill>
                  <a:srgbClr val="232825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文本框 55"/>
              <p:cNvSpPr/>
              <p:nvPr/>
            </p:nvSpPr>
            <p:spPr>
              <a:xfrm>
                <a:off x="5064840" y="482256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文本框 56"/>
              <p:cNvSpPr/>
              <p:nvPr/>
            </p:nvSpPr>
            <p:spPr>
              <a:xfrm>
                <a:off x="4976640" y="42555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3.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组合 42"/>
            <p:cNvGrpSpPr/>
            <p:nvPr/>
          </p:nvGrpSpPr>
          <p:grpSpPr>
            <a:xfrm>
              <a:off x="6233040" y="4094280"/>
              <a:ext cx="1288440" cy="1288800"/>
              <a:chOff x="6233040" y="4094280"/>
              <a:chExt cx="1288440" cy="1288800"/>
            </a:xfrm>
          </p:grpSpPr>
          <p:sp>
            <p:nvSpPr>
              <p:cNvPr id="288" name="椭圆 51"/>
              <p:cNvSpPr/>
              <p:nvPr/>
            </p:nvSpPr>
            <p:spPr>
              <a:xfrm>
                <a:off x="6233040" y="4094280"/>
                <a:ext cx="1288440" cy="1288800"/>
              </a:xfrm>
              <a:prstGeom prst="ellipse">
                <a:avLst/>
              </a:prstGeom>
              <a:noFill/>
              <a:ln w="12600">
                <a:solidFill>
                  <a:srgbClr val="232825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文本框 52"/>
              <p:cNvSpPr/>
              <p:nvPr/>
            </p:nvSpPr>
            <p:spPr>
              <a:xfrm>
                <a:off x="6625080" y="482256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文本框 53"/>
              <p:cNvSpPr/>
              <p:nvPr/>
            </p:nvSpPr>
            <p:spPr>
              <a:xfrm>
                <a:off x="6536880" y="42555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4.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组合 43"/>
            <p:cNvGrpSpPr/>
            <p:nvPr/>
          </p:nvGrpSpPr>
          <p:grpSpPr>
            <a:xfrm>
              <a:off x="7788600" y="4094280"/>
              <a:ext cx="1288440" cy="1288800"/>
              <a:chOff x="7788600" y="4094280"/>
              <a:chExt cx="1288440" cy="1288800"/>
            </a:xfrm>
          </p:grpSpPr>
          <p:sp>
            <p:nvSpPr>
              <p:cNvPr id="292" name="椭圆 48"/>
              <p:cNvSpPr/>
              <p:nvPr/>
            </p:nvSpPr>
            <p:spPr>
              <a:xfrm>
                <a:off x="7788600" y="4094280"/>
                <a:ext cx="1288440" cy="1288800"/>
              </a:xfrm>
              <a:prstGeom prst="ellipse">
                <a:avLst/>
              </a:prstGeom>
              <a:noFill/>
              <a:ln w="12600">
                <a:solidFill>
                  <a:srgbClr val="232825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文本框 49"/>
              <p:cNvSpPr/>
              <p:nvPr/>
            </p:nvSpPr>
            <p:spPr>
              <a:xfrm>
                <a:off x="8180640" y="482256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文本框 50"/>
              <p:cNvSpPr/>
              <p:nvPr/>
            </p:nvSpPr>
            <p:spPr>
              <a:xfrm>
                <a:off x="8092440" y="42555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3.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组合 44"/>
            <p:cNvGrpSpPr/>
            <p:nvPr/>
          </p:nvGrpSpPr>
          <p:grpSpPr>
            <a:xfrm>
              <a:off x="9346320" y="4094280"/>
              <a:ext cx="1288440" cy="1288800"/>
              <a:chOff x="9346320" y="4094280"/>
              <a:chExt cx="1288440" cy="1288800"/>
            </a:xfrm>
          </p:grpSpPr>
          <p:sp>
            <p:nvSpPr>
              <p:cNvPr id="296" name="椭圆 45"/>
              <p:cNvSpPr/>
              <p:nvPr/>
            </p:nvSpPr>
            <p:spPr>
              <a:xfrm>
                <a:off x="9346320" y="4094280"/>
                <a:ext cx="1288440" cy="1288800"/>
              </a:xfrm>
              <a:prstGeom prst="ellipse">
                <a:avLst/>
              </a:prstGeom>
              <a:noFill/>
              <a:ln w="12600">
                <a:solidFill>
                  <a:srgbClr val="232825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文本框 46"/>
              <p:cNvSpPr/>
              <p:nvPr/>
            </p:nvSpPr>
            <p:spPr>
              <a:xfrm>
                <a:off x="9738360" y="482256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文本框 47"/>
              <p:cNvSpPr/>
              <p:nvPr/>
            </p:nvSpPr>
            <p:spPr>
              <a:xfrm>
                <a:off x="9650160" y="42555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4.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9" name="直接连接符 65"/>
          <p:cNvSpPr/>
          <p:nvPr/>
        </p:nvSpPr>
        <p:spPr>
          <a:xfrm>
            <a:off x="1557360" y="3727440"/>
            <a:ext cx="9077400" cy="1440"/>
          </a:xfrm>
          <a:prstGeom prst="line">
            <a:avLst/>
          </a:prstGeom>
          <a:ln w="6480">
            <a:solidFill>
              <a:srgbClr val="7f7f7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66"/>
          <p:cNvSpPr/>
          <p:nvPr/>
        </p:nvSpPr>
        <p:spPr>
          <a:xfrm>
            <a:off x="0" y="1440"/>
            <a:ext cx="12192120" cy="4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67"/>
          <p:cNvSpPr/>
          <p:nvPr/>
        </p:nvSpPr>
        <p:spPr>
          <a:xfrm>
            <a:off x="0" y="681192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68"/>
          <p:cNvSpPr/>
          <p:nvPr/>
        </p:nvSpPr>
        <p:spPr>
          <a:xfrm>
            <a:off x="5955120" y="62834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注：该页用于展示该模版的使用时的排版方式，具体使用时请替换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69"/>
          <p:cNvSpPr/>
          <p:nvPr/>
        </p:nvSpPr>
        <p:spPr>
          <a:xfrm rot="21413400">
            <a:off x="4559040" y="1149120"/>
            <a:ext cx="3117600" cy="19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70"/>
          <p:cNvSpPr/>
          <p:nvPr/>
        </p:nvSpPr>
        <p:spPr>
          <a:xfrm>
            <a:off x="5142600" y="9050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两种对比呈现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矩形 60"/>
          <p:cNvSpPr/>
          <p:nvPr/>
        </p:nvSpPr>
        <p:spPr>
          <a:xfrm>
            <a:off x="0" y="1440"/>
            <a:ext cx="12192120" cy="4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61"/>
          <p:cNvSpPr/>
          <p:nvPr/>
        </p:nvSpPr>
        <p:spPr>
          <a:xfrm>
            <a:off x="0" y="681192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1"/>
          <p:cNvSpPr/>
          <p:nvPr/>
        </p:nvSpPr>
        <p:spPr>
          <a:xfrm>
            <a:off x="2141640" y="2421000"/>
            <a:ext cx="2817720" cy="222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椭圆 2"/>
          <p:cNvSpPr/>
          <p:nvPr/>
        </p:nvSpPr>
        <p:spPr>
          <a:xfrm>
            <a:off x="2141640" y="2838600"/>
            <a:ext cx="231840" cy="231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椭圆 3"/>
          <p:cNvSpPr/>
          <p:nvPr/>
        </p:nvSpPr>
        <p:spPr>
          <a:xfrm>
            <a:off x="2428920" y="2838600"/>
            <a:ext cx="231840" cy="231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椭圆 4"/>
          <p:cNvSpPr/>
          <p:nvPr/>
        </p:nvSpPr>
        <p:spPr>
          <a:xfrm>
            <a:off x="2717640" y="2838600"/>
            <a:ext cx="231840" cy="231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椭圆 5"/>
          <p:cNvSpPr/>
          <p:nvPr/>
        </p:nvSpPr>
        <p:spPr>
          <a:xfrm>
            <a:off x="3003480" y="2838600"/>
            <a:ext cx="231840" cy="231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椭圆 6"/>
          <p:cNvSpPr/>
          <p:nvPr/>
        </p:nvSpPr>
        <p:spPr>
          <a:xfrm>
            <a:off x="3292560" y="2838600"/>
            <a:ext cx="23184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7"/>
          <p:cNvSpPr/>
          <p:nvPr/>
        </p:nvSpPr>
        <p:spPr>
          <a:xfrm>
            <a:off x="3578400" y="2838600"/>
            <a:ext cx="23148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8"/>
          <p:cNvSpPr/>
          <p:nvPr/>
        </p:nvSpPr>
        <p:spPr>
          <a:xfrm>
            <a:off x="3867120" y="2838600"/>
            <a:ext cx="23184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椭圆 9"/>
          <p:cNvSpPr/>
          <p:nvPr/>
        </p:nvSpPr>
        <p:spPr>
          <a:xfrm>
            <a:off x="4152960" y="2838600"/>
            <a:ext cx="23184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0"/>
          <p:cNvSpPr/>
          <p:nvPr/>
        </p:nvSpPr>
        <p:spPr>
          <a:xfrm>
            <a:off x="2141640" y="2421000"/>
            <a:ext cx="1798560" cy="222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11"/>
          <p:cNvSpPr/>
          <p:nvPr/>
        </p:nvSpPr>
        <p:spPr>
          <a:xfrm>
            <a:off x="4975200" y="230364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7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12"/>
          <p:cNvSpPr/>
          <p:nvPr/>
        </p:nvSpPr>
        <p:spPr>
          <a:xfrm>
            <a:off x="4973400" y="2703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13"/>
          <p:cNvSpPr/>
          <p:nvPr/>
        </p:nvSpPr>
        <p:spPr>
          <a:xfrm>
            <a:off x="2064960" y="19526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类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14"/>
          <p:cNvSpPr/>
          <p:nvPr/>
        </p:nvSpPr>
        <p:spPr>
          <a:xfrm>
            <a:off x="2141640" y="5508720"/>
            <a:ext cx="1081080" cy="222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5"/>
          <p:cNvSpPr/>
          <p:nvPr/>
        </p:nvSpPr>
        <p:spPr>
          <a:xfrm>
            <a:off x="3503520" y="5435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指标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16"/>
          <p:cNvSpPr/>
          <p:nvPr/>
        </p:nvSpPr>
        <p:spPr>
          <a:xfrm>
            <a:off x="4497480" y="549900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7"/>
          <p:cNvSpPr/>
          <p:nvPr/>
        </p:nvSpPr>
        <p:spPr>
          <a:xfrm>
            <a:off x="4914720" y="5435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指标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18"/>
          <p:cNvSpPr/>
          <p:nvPr/>
        </p:nvSpPr>
        <p:spPr>
          <a:xfrm>
            <a:off x="2141640" y="3957480"/>
            <a:ext cx="2817720" cy="2224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椭圆 19"/>
          <p:cNvSpPr/>
          <p:nvPr/>
        </p:nvSpPr>
        <p:spPr>
          <a:xfrm>
            <a:off x="214164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椭圆 20"/>
          <p:cNvSpPr/>
          <p:nvPr/>
        </p:nvSpPr>
        <p:spPr>
          <a:xfrm>
            <a:off x="242892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 21"/>
          <p:cNvSpPr/>
          <p:nvPr/>
        </p:nvSpPr>
        <p:spPr>
          <a:xfrm>
            <a:off x="271764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椭圆 22"/>
          <p:cNvSpPr/>
          <p:nvPr/>
        </p:nvSpPr>
        <p:spPr>
          <a:xfrm>
            <a:off x="300348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椭圆 23"/>
          <p:cNvSpPr/>
          <p:nvPr/>
        </p:nvSpPr>
        <p:spPr>
          <a:xfrm>
            <a:off x="329256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椭圆 24"/>
          <p:cNvSpPr/>
          <p:nvPr/>
        </p:nvSpPr>
        <p:spPr>
          <a:xfrm>
            <a:off x="3578400" y="4375080"/>
            <a:ext cx="231480" cy="23184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25"/>
          <p:cNvSpPr/>
          <p:nvPr/>
        </p:nvSpPr>
        <p:spPr>
          <a:xfrm>
            <a:off x="3867120" y="4375080"/>
            <a:ext cx="231840" cy="23184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椭圆 26"/>
          <p:cNvSpPr/>
          <p:nvPr/>
        </p:nvSpPr>
        <p:spPr>
          <a:xfrm>
            <a:off x="4152960" y="4375080"/>
            <a:ext cx="231840" cy="23184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27"/>
          <p:cNvSpPr/>
          <p:nvPr/>
        </p:nvSpPr>
        <p:spPr>
          <a:xfrm>
            <a:off x="2141640" y="3957480"/>
            <a:ext cx="2212920" cy="222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28"/>
          <p:cNvSpPr/>
          <p:nvPr/>
        </p:nvSpPr>
        <p:spPr>
          <a:xfrm>
            <a:off x="4975200" y="38401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8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29"/>
          <p:cNvSpPr/>
          <p:nvPr/>
        </p:nvSpPr>
        <p:spPr>
          <a:xfrm>
            <a:off x="4973400" y="42400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30"/>
          <p:cNvSpPr/>
          <p:nvPr/>
        </p:nvSpPr>
        <p:spPr>
          <a:xfrm>
            <a:off x="2064960" y="349092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类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32"/>
          <p:cNvSpPr/>
          <p:nvPr/>
        </p:nvSpPr>
        <p:spPr>
          <a:xfrm>
            <a:off x="6772320" y="2421000"/>
            <a:ext cx="2817720" cy="222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33"/>
          <p:cNvSpPr/>
          <p:nvPr/>
        </p:nvSpPr>
        <p:spPr>
          <a:xfrm>
            <a:off x="6772320" y="2838600"/>
            <a:ext cx="231840" cy="231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34"/>
          <p:cNvSpPr/>
          <p:nvPr/>
        </p:nvSpPr>
        <p:spPr>
          <a:xfrm>
            <a:off x="7059600" y="2838600"/>
            <a:ext cx="231840" cy="231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椭圆 35"/>
          <p:cNvSpPr/>
          <p:nvPr/>
        </p:nvSpPr>
        <p:spPr>
          <a:xfrm>
            <a:off x="7346880" y="2838600"/>
            <a:ext cx="231840" cy="231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椭圆 36"/>
          <p:cNvSpPr/>
          <p:nvPr/>
        </p:nvSpPr>
        <p:spPr>
          <a:xfrm>
            <a:off x="7634160" y="2838600"/>
            <a:ext cx="23184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椭圆 37"/>
          <p:cNvSpPr/>
          <p:nvPr/>
        </p:nvSpPr>
        <p:spPr>
          <a:xfrm>
            <a:off x="7921800" y="2838600"/>
            <a:ext cx="23148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38"/>
          <p:cNvSpPr/>
          <p:nvPr/>
        </p:nvSpPr>
        <p:spPr>
          <a:xfrm>
            <a:off x="8209080" y="2838600"/>
            <a:ext cx="23148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椭圆 39"/>
          <p:cNvSpPr/>
          <p:nvPr/>
        </p:nvSpPr>
        <p:spPr>
          <a:xfrm>
            <a:off x="8496360" y="2838600"/>
            <a:ext cx="23184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椭圆 40"/>
          <p:cNvSpPr/>
          <p:nvPr/>
        </p:nvSpPr>
        <p:spPr>
          <a:xfrm>
            <a:off x="8783640" y="2838600"/>
            <a:ext cx="23184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41"/>
          <p:cNvSpPr/>
          <p:nvPr/>
        </p:nvSpPr>
        <p:spPr>
          <a:xfrm>
            <a:off x="6772320" y="2421000"/>
            <a:ext cx="1439640" cy="222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42"/>
          <p:cNvSpPr/>
          <p:nvPr/>
        </p:nvSpPr>
        <p:spPr>
          <a:xfrm>
            <a:off x="9605160" y="230364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5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43"/>
          <p:cNvSpPr/>
          <p:nvPr/>
        </p:nvSpPr>
        <p:spPr>
          <a:xfrm>
            <a:off x="9605160" y="27036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9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44"/>
          <p:cNvSpPr/>
          <p:nvPr/>
        </p:nvSpPr>
        <p:spPr>
          <a:xfrm>
            <a:off x="6694920" y="19526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类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46"/>
          <p:cNvSpPr/>
          <p:nvPr/>
        </p:nvSpPr>
        <p:spPr>
          <a:xfrm>
            <a:off x="6772320" y="3957480"/>
            <a:ext cx="2817720" cy="2224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椭圆 47"/>
          <p:cNvSpPr/>
          <p:nvPr/>
        </p:nvSpPr>
        <p:spPr>
          <a:xfrm>
            <a:off x="677232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椭圆 48"/>
          <p:cNvSpPr/>
          <p:nvPr/>
        </p:nvSpPr>
        <p:spPr>
          <a:xfrm>
            <a:off x="705960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椭圆 49"/>
          <p:cNvSpPr/>
          <p:nvPr/>
        </p:nvSpPr>
        <p:spPr>
          <a:xfrm>
            <a:off x="734688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椭圆 50"/>
          <p:cNvSpPr/>
          <p:nvPr/>
        </p:nvSpPr>
        <p:spPr>
          <a:xfrm>
            <a:off x="763416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51"/>
          <p:cNvSpPr/>
          <p:nvPr/>
        </p:nvSpPr>
        <p:spPr>
          <a:xfrm>
            <a:off x="7921800" y="4375080"/>
            <a:ext cx="23148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椭圆 52"/>
          <p:cNvSpPr/>
          <p:nvPr/>
        </p:nvSpPr>
        <p:spPr>
          <a:xfrm>
            <a:off x="8209080" y="4375080"/>
            <a:ext cx="23148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 53"/>
          <p:cNvSpPr/>
          <p:nvPr/>
        </p:nvSpPr>
        <p:spPr>
          <a:xfrm>
            <a:off x="8496360" y="4375080"/>
            <a:ext cx="231840" cy="23184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 54"/>
          <p:cNvSpPr/>
          <p:nvPr/>
        </p:nvSpPr>
        <p:spPr>
          <a:xfrm>
            <a:off x="8783640" y="4375080"/>
            <a:ext cx="231840" cy="23184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55"/>
          <p:cNvSpPr/>
          <p:nvPr/>
        </p:nvSpPr>
        <p:spPr>
          <a:xfrm>
            <a:off x="6772320" y="3957480"/>
            <a:ext cx="1871640" cy="222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56"/>
          <p:cNvSpPr/>
          <p:nvPr/>
        </p:nvSpPr>
        <p:spPr>
          <a:xfrm>
            <a:off x="9605160" y="38401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8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57"/>
          <p:cNvSpPr/>
          <p:nvPr/>
        </p:nvSpPr>
        <p:spPr>
          <a:xfrm>
            <a:off x="9604440" y="42400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58"/>
          <p:cNvSpPr/>
          <p:nvPr/>
        </p:nvSpPr>
        <p:spPr>
          <a:xfrm>
            <a:off x="6694920" y="349092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类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62"/>
          <p:cNvSpPr/>
          <p:nvPr/>
        </p:nvSpPr>
        <p:spPr>
          <a:xfrm rot="21413400">
            <a:off x="4732200" y="1057320"/>
            <a:ext cx="2727360" cy="182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63"/>
          <p:cNvSpPr/>
          <p:nvPr/>
        </p:nvSpPr>
        <p:spPr>
          <a:xfrm>
            <a:off x="5240520" y="774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双指标对比示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65"/>
          <p:cNvSpPr/>
          <p:nvPr/>
        </p:nvSpPr>
        <p:spPr>
          <a:xfrm>
            <a:off x="2044800" y="1727280"/>
            <a:ext cx="8101080" cy="0"/>
          </a:xfrm>
          <a:prstGeom prst="line">
            <a:avLst/>
          </a:prstGeom>
          <a:ln w="64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66"/>
          <p:cNvSpPr/>
          <p:nvPr/>
        </p:nvSpPr>
        <p:spPr>
          <a:xfrm>
            <a:off x="2044800" y="5094360"/>
            <a:ext cx="8101080" cy="1440"/>
          </a:xfrm>
          <a:prstGeom prst="line">
            <a:avLst/>
          </a:prstGeom>
          <a:ln w="64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11:57:00Z</dcterms:created>
  <dc:creator>曹将</dc:creator>
  <dc:description/>
  <cp:keywords/>
  <dc:language>en-US</dc:language>
  <cp:lastModifiedBy>王玉清</cp:lastModifiedBy>
  <dcterms:modified xsi:type="dcterms:W3CDTF">2016-03-01T07:17:30Z</dcterms:modified>
  <cp:revision>3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