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media/push.wav" ContentType="audio/x-wav"/>
  <Override PartName="/ppt/media/hammer.wav" ContentType="audio/x-wav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1C1-7E38-4130-8C08-6863D451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8EC-DE06-4BB7-8D83-79F2B79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E54FD-052F-480A-849E-23FAB35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78B01-6371-48C5-98EE-CFC543C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6B9CF-D151-4085-82C1-58B85291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F8178-7E46-46DC-B067-682C9B5B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8442-F9B7-4137-9774-0531F19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2B7C0-50EA-4DA1-A99F-16FFFBF0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F16F9-7655-4554-A470-ADADBFEF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213AF-A284-4B11-820C-218A7F8C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BD405-2F4D-4BBB-80A8-D8103581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7B63F-BA1F-497C-912D-56BF9A86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FB1-670A-4B69-B27A-853C97AB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42D5-F74A-44F2-A9F6-466A3F28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BAB82-B453-42AC-8A07-8AD2068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D8B54-8702-456F-BCB2-6642F47C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D203B-5993-486F-9569-2332981F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F424F-8534-495F-A32E-9E671FCC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07DF6-8D4B-4665-A1CA-BEDA5406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CD258-2E03-4D72-8EDB-251692D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EDFE7-13FE-4D8F-95F4-B966C52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1CEC8-760A-45D0-8756-97A0A7BF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250BB-2A69-464A-98B5-8FC7B48A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C3A-0559-4903-9538-5990764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6C3D0-B67B-4153-902F-B8265764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51DB-C233-4832-8492-FE4382AF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57838-300B-41A1-A062-139790B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EBF5-79B9-4716-8A08-64AC631B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FAC0C-409C-4EE9-8D9B-F8F3B6E3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8BAD-4EC8-44DD-A958-71E8649D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BBEF9-C767-4B9A-AF41-7CA377C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1E7C-5815-49DC-803C-261A0D2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C18C5-7A84-49AC-94A1-E6F26C1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433D-DC51-4C88-9710-D6E69AA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BFB6-42A7-4F68-9592-B874F207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55B1D-2079-478C-B481-2B750F83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BEA92-8E60-48A1-B86F-2B919966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AFE87-B922-40A6-8066-0E546E98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E1768-C08E-42FB-A39C-7CA9F5F4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D3765-0ABA-4031-AD52-26791F52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2AE42-72BF-4017-9701-FBDDF7FC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26D4B-0E99-43D4-8CAC-0F489226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D0896-DEFE-436E-8DD5-C95EADD1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71FDA-64BA-4D5A-9D15-ADB3F9E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5B867-B20A-430C-9D1C-E7B4AF24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B99-6F7C-4C1A-B92F-0B7FA180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745E6-22F0-4642-BE56-BAA453F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D3281-50BD-4A85-A621-0A37BA4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05735-46C7-49F9-9C7E-75906FEB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6DA9B-E349-471E-990A-245DA4B4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2A10B-471C-41F3-BA81-0554F0E0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B8725-392D-4ABC-BC9B-4BF227BA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D19A0-6285-49A9-BDB7-4D1B53B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179F6-18C8-428F-BD74-6D93BCB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0FDF7-F7C6-4490-9497-ABAEFBF6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78396-D2C5-4609-A48A-B9288A15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085-7398-4EAF-9001-26A2FA1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E5FDF-63DA-42F6-A3E5-7121E73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EBA25-586A-4237-BD57-A18E749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A0A24-4F20-4D3E-9192-68E9053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DA003-DF82-4430-AE65-15A5C1B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F33CF-12CB-46AB-8F78-9F03BE42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3D38E-06A0-4A9E-8CEE-39FF9C38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75DA7-4F72-4DDC-924C-8D7126B5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E6610-EC42-4B64-B45F-E227784F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8656F-10EB-43A9-90F9-955726ED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80133-FA29-45E3-817A-CDC369E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3F32-8E47-4EE0-80F7-8B5EB7F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45BBE-6BEF-403A-8392-FC2C49E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CE96A-2187-4585-8DF9-71A11E2C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2C320-4205-49A6-B285-7C5DF09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90C60-7566-4323-B18E-F568A6B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9CE75-21B0-492E-82D7-84B57FAD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AC76D-214F-4168-AFA8-6216477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D8DE6-1EF9-445E-A8AE-B6DC513B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68C5A-7727-48B9-AF41-9CFE9C1B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B7EEF-CA37-4A5D-8CFE-8347F396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639E3-B1F7-4F40-911F-BBA2D364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61DF-76C3-4D62-9466-AE06BABE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700A0-8E38-472B-83CF-B0DA7ED0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DE5F4-FABB-41D2-93C9-AEEC7075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F3DE4-9DDC-4408-87E6-4AC2A29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086FD-4B12-47DB-ACD9-E4A02C4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C996B-0C3A-4F3C-B453-B5E8CF14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64943-E07F-4361-9DA0-16B13F58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31A4D-97A0-4357-902D-C70592F3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01C85-63AB-4A3F-9B36-8F6B7EB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1E889-5B4C-43C9-938E-EF2F7EA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E0F15-AB9F-4D33-B801-6F3D328D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6344-C0C0-4232-9953-8DF549A5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75F3C-476F-484E-9EAA-D8DAF5BE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0CF09-2A4F-42BC-9F5B-0C95CCAA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47EFD-BA6E-47C4-B0F4-B334CB53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92A48-9B08-4A47-810A-C3002F1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8572B-2A9B-496B-A913-275A0422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1CDDD-0DA3-4E43-8E4D-0A67C999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B5C62-D9AB-4661-A1B0-2D432FC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F3E46-0ABE-4C7B-ACF8-DD7C2C0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339BC-2D47-4590-8E96-5A6B370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D1998E-38C1-4C8D-B03C-0B914F4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88BA-A894-4628-A7FC-0D031CC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B1B0B-1D91-4608-90ED-16DDEA3E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66A6D-18C4-4514-AB68-948FDE36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73943-9B26-485B-BBB1-E65AE497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F4289-99CF-436C-8082-659B0041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49D23-B3E9-4DD2-BCEC-F9BD964A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66005-822F-4201-A13F-ACA812E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DC141-3270-4D4D-A668-2A7C350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1A4F8-FD9D-4E13-9469-6FBD257C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061DE-AF5C-49C0-B6BA-137BE3B4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A7435-289A-404B-8C54-2597E6B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BAD-0DC3-4985-9647-D70F595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731-BDA3-4240-8ED1-F039497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1235B-BD05-4CA6-ACF9-9811FD4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88149-CDA1-4E2F-BBB6-02F3EBE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23C19-6571-4C95-9479-197EAAEA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A446D-3994-4758-9237-24857F6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E4D77-7A5A-4101-9205-D4EADDFC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107F0-28B5-4FAD-AD41-72368CFE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133F9-1E32-4FF9-BFAA-8958828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F025C-6652-45E2-95B8-AE867C1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65C12-031A-4548-AFFA-6604E7A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792CC-9E93-4DE7-8629-BFEE22B6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38FB-D762-45A5-A3E0-30F714F2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3B194-638C-4235-B680-D75E207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5A5FE-4FEA-4FB3-814D-B8DECFE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4DF1F-4F52-453D-A9F1-E5DF8934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C3992-5DDF-41A7-98B8-1653385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8F10E-9832-43F8-B044-9BE99C0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61832-E280-468F-A839-71D5F90E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D9EAC-F4C0-4B28-9DD4-49FF1AC7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F71E7-4271-4271-9665-063660BE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5EFDC-8A4A-4715-8F30-A0F03F2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E6D63-874B-4870-BD19-D64CA09F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CE31-BFFC-45DE-8434-AB2EB1A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225EA-131B-4AC8-9DB5-BB891937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6D1AE-8F97-484D-B70D-E1DAFC6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7492A-F380-4DF4-B1A5-785708D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C2704-4E22-4FF4-8256-C8ECF0F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0C765-CDCF-487A-B808-57D5997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0EF98-25F1-4E37-91E6-7953640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C90CE-2119-4EA0-BE3F-CDFC13B4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D3163-9D29-42A5-A539-0280F8F3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3F55F5-30EE-4AE7-8154-DFC3057A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F8056-ED7B-4F70-BC90-7D4C6D0D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2E4-D24D-4502-AB35-17AD8500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A29E0-D340-4A69-B412-EAF979D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CFBA3-7077-4352-AAE7-E390D24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6D48D-317E-48C9-AD49-1C74E88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9FFFA-9081-48A2-B064-5B31376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2BD0E-8207-45FB-8080-4F321937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7868E-87C1-4D4C-B6F5-FF8C1CA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75E01-1EFD-4816-8B5F-07DA470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1F509-B5B5-459D-9B97-A7C8EFE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96C72-804B-4D3F-87B0-CFFD52C3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5BA03-5124-41D9-A4CA-E098505A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EBAC-F018-477E-A9A4-9E905D5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A1EBC-650B-4C1D-9A27-5174DC8C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E10F5-6BFB-4344-B2AF-BA7D9D24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A82A2-8537-4E26-9617-3C32F9E6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773A7-7EE5-4863-AA37-E602C51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7C3AC8-B69E-4F6F-9DF2-3C2283C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CF929-4885-410F-A95E-57414C08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A02AD-5695-4FA5-9AA6-B040BD42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C8224-2192-4E49-9DA7-FFFFB19F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FA6EC-5FB5-42EF-918E-8C611AE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20844-3F3A-4701-9810-F6B5960F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D0AC-53A5-4E38-B8D0-82480700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6FA87-CF5B-4F20-87E5-3380325C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69522-9E8C-4017-9E3C-1C1C970D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2D75A-5D5B-42B9-9D87-792B81A1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48DB35-8F51-402C-A087-D3492B95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12AFF-BCF1-4CD7-8238-0423E9A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9E9DD6-7AEB-4D1C-ADC4-E2C92138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31CBC1-DAD3-4E50-B3A4-9BDC14F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FA0F2-9147-4492-B796-006408F5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55038-0A50-4CB2-A177-840856AA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AC822-5AED-478C-8898-FAB3EE2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EDBE-2A5F-4F70-A481-2994FBCD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342CCE-67E1-460A-A283-0C9BD22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0FE28-3EC6-4958-AC54-FEA0BF9E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992825-C3EF-4579-920A-0E61D770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AFF9C-0C78-4882-9B90-6ECAA8CE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1F87E7-8C4D-4471-A56A-612534A1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B68198-A61C-4230-B094-A86F0DD4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942000-5A0D-4B68-8B29-01494B90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3D1118-E63E-4BEE-B67C-D8B10AA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481B5-5D72-48D6-84E7-23D7759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57C318-61C5-4E42-8774-0C6B4EC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6D22-A4C7-4730-BC02-2EB7DFF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BC5215-B91B-47A6-9358-8FBE66A0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98194E-106E-4D2C-8DFD-A152EF5B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9437CD-6E79-491B-8B63-1233ACD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591046-D0C9-4FA2-A5A0-D98B56F9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368E45-AE6A-492B-8E76-AFBAB1DB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70A27B-BF25-4545-A5D7-81E1C6FB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84627-8FE7-4307-B0C7-3989D83D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D5A045-00BC-4687-9159-A5D9120C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430A8F-7471-4E30-A1FE-79BF1A4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480AF9-C0BF-45D2-ABAB-69F8924C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9B8F-39E0-4645-B027-5AA18A3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F4180-DD29-4FC1-BEF6-B13EB6B4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44B960-21C5-4A52-B325-35536A9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56226-224C-4CEB-A5DA-988620A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5127D-1951-4A4C-A2FD-55EB1C7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1F092-B5A9-4AF1-A758-48F8C460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E55493-C7C7-484A-80F3-682477A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7F605-747C-472C-B0AF-08B7E218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95F33D-7326-495C-8250-C9DE064A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C5B17E-E3CA-4C81-BDAD-9B872CC4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54C0E0-C551-4C3F-98BE-402ED74E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B366-B606-460B-8755-4FAED682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2CD9E8-760A-4489-A4A4-D446F3C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3DB87F-A52C-48DB-ABB6-C7DB9ED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391F4D-A94F-4F23-B9F0-67DB98E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15D0BD-743C-45E6-A962-71C2874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170DAE-F2CF-494F-8A8F-D3CA7F4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85E254-C552-46CC-8CBE-E47AD42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5F7190-5FEE-41F6-849A-2234736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1C76EB-67B7-46A6-BC7B-4675B91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A25F18-1A1F-4A02-890C-62EEA55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B22788-B282-4950-B48E-3D5B56BF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623-6F53-462D-8441-D3B134FA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62FE-3085-4772-B555-77E1E27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7AEF0C-E502-4C0D-A386-CC317F86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300824-6924-472D-A0C0-A5421C46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8D5285-C0C5-4674-9B16-AAD82A4F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2357BF-9099-40E0-8B0C-E939596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AADE01-EDAA-4DF7-B4AC-A317994E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3F5C56-1527-4E4D-9963-0D2A2287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595AB9-6EE7-4B9F-9E39-D29A616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5192ED-A0B1-4A24-82C0-1F48E6A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79276A-7E02-4323-8156-16695EF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17CF7-3C64-46D3-9F94-F959EB60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315E-4CB1-4C2C-85AF-DE2DC3EB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9585C0-054B-4126-9E6A-91DA2D49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0EA439-1EB5-455C-81D0-11A1083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73DB0C-6A13-4537-BC9A-9B070963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D9A5-A64C-4139-B614-3F340854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D387-4E1D-456F-B949-07707F7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5DB9-CF06-414F-B1E9-AB345C3E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1EDF-0D69-4CCF-81F7-FAA81F42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04AB-BC93-44F3-98A7-134C18CD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0524-BA5B-4831-880D-2B98053F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E44B6-FBC3-471C-B45E-4C4ED80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6AB5-6959-4516-A260-4200056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665-5745-4330-BEC0-ECDC26B0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8DCA-A033-4C01-912F-6C92D6BD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BC34-D54C-4CC0-AA1C-CBC0306C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6DDF-71D4-4D02-BCBA-72ECBC1C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8129-443B-409F-AEFC-5511805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271D-71C2-4632-9740-D9B1C6DC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3862-5547-4B04-8AE5-6845390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82C9-25C9-4A7F-A614-43C9B798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2AA7B-B911-43ED-99A5-201D80EA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8D3A-75BE-48DF-AAD5-F64F38EA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B519-EC21-44FF-B4EB-BB062AA5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EC3-19BD-4050-955F-E3A4DA4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8175-B773-4390-8A76-C4E2CBB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80A01-DCA6-426B-B20A-88B5EE98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FC57-DD16-4C7F-9103-7405DD3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E2D2-2D83-4F13-87C4-967C2E1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55F2-D700-4D73-8B72-DE8ED2E3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07E8-DF35-42D7-B822-61C3D9F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F94F6-1377-463B-B491-6EA9794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73EF-D638-4056-A8A6-739366CA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A4D2-0AFB-4C0D-9397-CF1251D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DE0A-75DD-4474-9D46-908B9B2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F4C-46C7-4A65-9E31-AF325ED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81791-5510-4A62-917F-A0F66FA0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42F84-54D6-4E7C-B15E-90D684D0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2808-8EEF-4578-B467-D447C30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97C0-71E6-40CE-91EA-29C138B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F562-98A8-4E89-989D-249C1AE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2E1D-2459-4182-863B-7B53F92A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5C8D-66DE-4DDE-94BC-ABE6173B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B756-9C3D-4C7B-88FB-B8C0493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39AE-B486-408A-9393-291D4B4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D107-DA1F-4171-989A-8C8B7B7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5C0-B7BA-432D-83A6-EAC803F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D7D4-474A-4F21-AB9E-6319DE11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A1E1C-53A7-4AB8-BD86-13C0F0FE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B84E0-ECCF-48CE-904E-795583D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D7E50-B576-48CF-8374-BC7F2E2E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80BD-48E6-41E7-8D04-88C0458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B488-51F5-432E-A7C9-E519DF0E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ECF8-FB2A-44E9-AAE5-475491FB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98A71-3298-448A-A982-04F2DAC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46C0B-5AAF-417B-8144-DA4E2C8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3BA1-8A20-4FD9-8D6D-043F09C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973-C8C8-4205-BCE1-421E337B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3368D-7823-48B2-B13F-29E3A885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FD1F-3AEB-4C42-9F1B-75ACA30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36C18-F8F3-4746-9F44-9C56E84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FDCE-9460-4688-B204-AB0DDA8D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4FFC2-8145-43EA-B3A8-9442452E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A289E-5810-4244-94B2-B65579D4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97ECC-094B-4ED2-8DB2-7817FB24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4162-1C07-4F85-88E2-4D3EDA3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9139-88C8-4BD0-97EA-99DF1873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3D11-73C4-4E78-B44E-40A2B94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E12-1046-4FC5-BADA-9C1E359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A7B1A-F872-42DE-B3B6-6B1D53C6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91823-357C-4B4E-A115-AF5611E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5380A-9D91-43AD-979E-B309FFB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EA82-4BC8-4D25-B645-C1C6B1B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315B-EB58-4BAC-8CFB-33E5336A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B1F8D-6059-46C3-A97F-633E159D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843C-A9F7-47A2-8743-ED8E7774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F5215-5FAA-479F-A226-491168A2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16326-4EDA-4877-B7D8-EA1E9A4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E5482-9883-4DB6-96E1-EDE9B75B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37F9-FA35-417E-9130-219BC78450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D9E-56DE-4D55-B0FA-0CCA326C40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4C8E-63C7-49B1-B74B-FC69FE14F9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3857-17D8-4EED-A366-E4FEE251FD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CAFE-1F02-49A0-9DED-68AAE3768A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D22-9671-49BB-89DE-0A66412DA9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43D6-C071-469B-8869-54DC4706F8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0E5-2C98-42CD-9530-32B4FB7068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B4D-9EE3-4959-BF88-5BCEF01BB96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EA9C-99A6-4759-9EEA-6D84CF6935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FEE-745E-4DD1-8881-DC0FE24DB7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7BD0-AF54-4987-AF21-43C876917F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6FD-5B1D-4025-B788-3292B3178B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9093-2B6D-4A73-87C7-6174A7B458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D80-2DD1-4382-A1A7-297DB6F3B2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A43-CE78-4585-BBDD-EE6E79804B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D145-F6B2-4027-A3DA-A08CF867A8F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D6B8-B7FC-41B1-A76F-5BB3767B28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3FD3-CD06-418D-9187-F4DF8A60BB7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B40-D13F-426A-BC30-DABF428870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DF4-4FEF-48A7-A145-3FA40AA714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BC5-372A-4582-9983-7C9578091F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D350-7E56-4032-BDAC-EECDC97D26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E32-4A32-4387-A93E-1312DF5F98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7359-B68C-4AB0-9550-24783B3FE3C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EB2-5266-4C70-AD32-320A0411A9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9226-BDF6-4917-BBFD-AFF2D318D4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E48-34A2-44A5-8EB1-63BFDE15A2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8CB2-0D0E-432F-BFD9-0BB38BE5F4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9F02-FCBD-420E-8DF0-CB42C65C7C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5DA-B45F-4C66-861F-05347962A1E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6F0B-78E5-485F-AE9A-2ACFD55D0E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270-4B4A-44F9-B382-788F5F8CB0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D5B5-EEF4-46C1-A76A-D2C50EB175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AF01-231C-4DFD-8382-B5D17948EF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6686-FB89-496D-9DFB-B0B8FE33A31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FF41-5BC6-4739-B478-7CCEE90C62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579-E6D4-4DCA-890A-0DD6A5C7E6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444-7A47-45B2-8EC6-C351C5A7E7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2E2F-7635-436A-8A81-D1B3F3D71E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697-8077-479F-9F5F-5C69D964DE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62A-2FDA-4408-A76E-C8FB1D12BB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E00-5709-4A5F-A0ED-ABD846F2B6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E649-C5C5-4F9E-8C6F-359959185F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1988-9855-4979-BEC8-E7E0D4188A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610-58DF-4D96-A8A5-6B00E193E5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D04-294F-4A6B-8700-87E08FBC731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503-ADDC-460B-8724-17CF091A3E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57F-38FC-401D-966C-03B76AE658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A75-EBA2-40D8-BC4C-193AA3F1C4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830-F11E-494F-859A-4B47979125E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087-0B3A-4716-9E96-90186EDB7B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矩形 2"/>
          <p:cNvSpPr/>
          <p:nvPr/>
        </p:nvSpPr>
        <p:spPr>
          <a:xfrm flipV="1">
            <a:off x="0" y="629604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3"/>
          <p:cNvSpPr/>
          <p:nvPr/>
        </p:nvSpPr>
        <p:spPr>
          <a:xfrm>
            <a:off x="611280" y="1700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幻想奏鸣曲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9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1770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1771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2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1773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4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1775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1777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8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1779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1781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1783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4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1785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6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1787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1788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9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1790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1792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1794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5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1796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1798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9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1800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1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1802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3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1804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1806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7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1808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1809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0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1811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2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1813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4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1815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6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1817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1819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0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1821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2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1823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1825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6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1827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8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1829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0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1831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2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1833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1834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1836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7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1838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9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1840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1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1842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1844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5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1846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1847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8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1849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1851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1853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4" name="Group 127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855" name="圆角矩形 134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圆角矩形 13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圆角矩形 136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圆角矩形 137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圆角矩形 138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圆角矩形 139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圆角矩形 140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圆角矩形 141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圆角矩形 142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圆角矩形 143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圆角矩形 1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圆角矩形 1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圆角矩形 1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圆角矩形 1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圆角矩形 1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圆角矩形 1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圆角矩形 1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圆角矩形 1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圆角矩形 1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圆角矩形 1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圆角矩形 1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圆角矩形 1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圆角矩形 1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圆角矩形 1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圆角矩形 1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圆角矩形 1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圆角矩形 1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圆角矩形 1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圆角矩形 1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圆角矩形 1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圆角矩形 1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圆角矩形 1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圆角矩形 1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圆角矩形 1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圆角矩形 1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圆角矩形 1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圆角矩形 1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圆角矩形 1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圆角矩形 1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圆角矩形 1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圆角矩形 1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圆角矩形 1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圆角矩形 1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圆角矩形 1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圆角矩形 1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圆角矩形 1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圆角矩形 1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圆角矩形 1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圆角矩形 1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圆角矩形 1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Group 178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906" name="圆角矩形 1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圆角矩形 1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圆角矩形 1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圆角矩形 1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圆角矩形 1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圆角矩形 1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圆角矩形 1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圆角矩形 1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圆角矩形 1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圆角矩形 1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圆角矩形 1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圆角矩形 1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圆角矩形 1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圆角矩形 1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圆角矩形 1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圆角矩形 2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圆角矩形 2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圆角矩形 2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圆角矩形 2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圆角矩形 2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圆角矩形 2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圆角矩形 2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圆角矩形 2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圆角矩形 2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圆角矩形 2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圆角矩形 2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圆角矩形 2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圆角矩形 2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圆角矩形 2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圆角矩形 2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圆角矩形 2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圆角矩形 2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圆角矩形 2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圆角矩形 2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圆角矩形 2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圆角矩形 2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圆角矩形 2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圆角矩形 2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圆角矩形 2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圆角矩形 2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圆角矩形 2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圆角矩形 2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圆角矩形 2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圆角矩形 2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圆角矩形 2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圆角矩形 2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圆角矩形 2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圆角矩形 2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圆角矩形 2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圆角矩形 2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6" name="页脚占位符 18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7" dur="5000" fill="hold"/>
                                        <p:tgtEl>
                                          <p:spTgt spid="1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9" dur="5000" fill="hold"/>
                                        <p:tgtEl>
                                          <p:spTgt spid="1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矩形 1"/>
          <p:cNvSpPr/>
          <p:nvPr/>
        </p:nvSpPr>
        <p:spPr>
          <a:xfrm>
            <a:off x="3448080" y="297072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一切，都变成了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8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959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010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0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" dur="5000" fill="hold"/>
                                        <p:tgtEl>
                                          <p:spTgt spid="1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7" dur="5000" fill="hold"/>
                                        <p:tgtEl>
                                          <p:spTgt spid="2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1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2062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2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113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3" name="椭圆 103"/>
          <p:cNvSpPr/>
          <p:nvPr/>
        </p:nvSpPr>
        <p:spPr>
          <a:xfrm>
            <a:off x="3492360" y="2492280"/>
            <a:ext cx="2159280" cy="2160720"/>
          </a:xfrm>
          <a:prstGeom prst="ellipse">
            <a:avLst/>
          </a:prstGeom>
          <a:noFill/>
          <a:ln w="20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" dur="5000" fill="hold"/>
                                        <p:tgtEl>
                                          <p:spTgt spid="2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0" dur="5000" fill="hold"/>
                                        <p:tgtEl>
                                          <p:spTgt spid="2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2166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217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103"/>
          <p:cNvSpPr/>
          <p:nvPr/>
        </p:nvSpPr>
        <p:spPr>
          <a:xfrm>
            <a:off x="3372120" y="2970720"/>
            <a:ext cx="23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但是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1" dur="5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3" dur="5000" fill="hold"/>
                                        <p:tgtEl>
                                          <p:spTgt spid="2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2270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2321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1" name="矩形 105"/>
          <p:cNvSpPr/>
          <p:nvPr/>
        </p:nvSpPr>
        <p:spPr>
          <a:xfrm>
            <a:off x="3440160" y="128520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9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错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4" dur="5000" fill="hold"/>
                                        <p:tgtEl>
                                          <p:spTgt spid="2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6" dur="5000" fill="hold"/>
                                        <p:tgtEl>
                                          <p:spTgt spid="2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/>
                                        <p:tgtEl>
                                          <p:spTgt spid="2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直接连接符 1"/>
          <p:cNvSpPr/>
          <p:nvPr/>
        </p:nvSpPr>
        <p:spPr>
          <a:xfrm>
            <a:off x="-177840" y="4664160"/>
            <a:ext cx="1727280" cy="1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直接连接符 2"/>
          <p:cNvSpPr/>
          <p:nvPr/>
        </p:nvSpPr>
        <p:spPr>
          <a:xfrm flipV="1">
            <a:off x="1547640" y="3368160"/>
            <a:ext cx="0" cy="1295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直接连接符 3"/>
          <p:cNvSpPr/>
          <p:nvPr/>
        </p:nvSpPr>
        <p:spPr>
          <a:xfrm>
            <a:off x="1547640" y="3357720"/>
            <a:ext cx="648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直接连接符 4"/>
          <p:cNvSpPr/>
          <p:nvPr/>
        </p:nvSpPr>
        <p:spPr>
          <a:xfrm>
            <a:off x="2195640" y="3357720"/>
            <a:ext cx="1440" cy="1295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直接连接符 5"/>
          <p:cNvSpPr/>
          <p:nvPr/>
        </p:nvSpPr>
        <p:spPr>
          <a:xfrm>
            <a:off x="219564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直接连接符 6"/>
          <p:cNvSpPr/>
          <p:nvPr/>
        </p:nvSpPr>
        <p:spPr>
          <a:xfrm>
            <a:off x="2987640" y="2060640"/>
            <a:ext cx="0" cy="2592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直接连接符 7"/>
          <p:cNvSpPr/>
          <p:nvPr/>
        </p:nvSpPr>
        <p:spPr>
          <a:xfrm>
            <a:off x="2952720" y="2060640"/>
            <a:ext cx="324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直接连接符 8"/>
          <p:cNvSpPr/>
          <p:nvPr/>
        </p:nvSpPr>
        <p:spPr>
          <a:xfrm>
            <a:off x="327672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直接连接符 9"/>
          <p:cNvSpPr/>
          <p:nvPr/>
        </p:nvSpPr>
        <p:spPr>
          <a:xfrm>
            <a:off x="3276720" y="177336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直接连接符 10"/>
          <p:cNvSpPr/>
          <p:nvPr/>
        </p:nvSpPr>
        <p:spPr>
          <a:xfrm>
            <a:off x="360036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直接连接符 11"/>
          <p:cNvSpPr/>
          <p:nvPr/>
        </p:nvSpPr>
        <p:spPr>
          <a:xfrm>
            <a:off x="3600360" y="2071800"/>
            <a:ext cx="82728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直接连接符 12"/>
          <p:cNvSpPr/>
          <p:nvPr/>
        </p:nvSpPr>
        <p:spPr>
          <a:xfrm>
            <a:off x="4427640" y="2071800"/>
            <a:ext cx="1440" cy="129672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直接连接符 13"/>
          <p:cNvSpPr/>
          <p:nvPr/>
        </p:nvSpPr>
        <p:spPr>
          <a:xfrm>
            <a:off x="4427640" y="3368520"/>
            <a:ext cx="936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直接连接符 14"/>
          <p:cNvSpPr/>
          <p:nvPr/>
        </p:nvSpPr>
        <p:spPr>
          <a:xfrm>
            <a:off x="5332320" y="2719440"/>
            <a:ext cx="0" cy="649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直接连接符 15"/>
          <p:cNvSpPr/>
          <p:nvPr/>
        </p:nvSpPr>
        <p:spPr>
          <a:xfrm>
            <a:off x="5332320" y="27194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直接连接符 16"/>
          <p:cNvSpPr/>
          <p:nvPr/>
        </p:nvSpPr>
        <p:spPr>
          <a:xfrm flipH="1">
            <a:off x="5970600" y="2719440"/>
            <a:ext cx="9360" cy="19335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直接连接符 17"/>
          <p:cNvSpPr/>
          <p:nvPr/>
        </p:nvSpPr>
        <p:spPr>
          <a:xfrm flipV="1">
            <a:off x="6661080" y="227628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直接连接符 18"/>
          <p:cNvSpPr/>
          <p:nvPr/>
        </p:nvSpPr>
        <p:spPr>
          <a:xfrm>
            <a:off x="6661080" y="22766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直接连接符 19"/>
          <p:cNvSpPr/>
          <p:nvPr/>
        </p:nvSpPr>
        <p:spPr>
          <a:xfrm>
            <a:off x="7296120" y="1989000"/>
            <a:ext cx="1440" cy="287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直接连接符 20"/>
          <p:cNvSpPr/>
          <p:nvPr/>
        </p:nvSpPr>
        <p:spPr>
          <a:xfrm>
            <a:off x="7308720" y="1989000"/>
            <a:ext cx="1008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直接连接符 21"/>
          <p:cNvSpPr/>
          <p:nvPr/>
        </p:nvSpPr>
        <p:spPr>
          <a:xfrm>
            <a:off x="8317080" y="201780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直接连接符 22"/>
          <p:cNvSpPr/>
          <p:nvPr/>
        </p:nvSpPr>
        <p:spPr>
          <a:xfrm>
            <a:off x="8317080" y="230508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直接连接符 23"/>
          <p:cNvSpPr/>
          <p:nvPr/>
        </p:nvSpPr>
        <p:spPr>
          <a:xfrm flipV="1">
            <a:off x="8640720" y="230472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直接连接符 24"/>
          <p:cNvSpPr/>
          <p:nvPr/>
        </p:nvSpPr>
        <p:spPr>
          <a:xfrm flipV="1">
            <a:off x="5940360" y="4653000"/>
            <a:ext cx="72072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直接连接符 25"/>
          <p:cNvSpPr/>
          <p:nvPr/>
        </p:nvSpPr>
        <p:spPr>
          <a:xfrm>
            <a:off x="860436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8" name="Group 27"/>
          <p:cNvGrpSpPr/>
          <p:nvPr/>
        </p:nvGrpSpPr>
        <p:grpSpPr>
          <a:xfrm>
            <a:off x="1619280" y="2219400"/>
            <a:ext cx="6769080" cy="2079720"/>
            <a:chOff x="1619280" y="2219400"/>
            <a:chExt cx="6769080" cy="2079720"/>
          </a:xfrm>
        </p:grpSpPr>
        <p:sp>
          <p:nvSpPr>
            <p:cNvPr id="2399" name="矩形 27"/>
            <p:cNvSpPr/>
            <p:nvPr/>
          </p:nvSpPr>
          <p:spPr>
            <a:xfrm>
              <a:off x="3131640" y="223308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矩形 28"/>
            <p:cNvSpPr/>
            <p:nvPr/>
          </p:nvSpPr>
          <p:spPr>
            <a:xfrm>
              <a:off x="311328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矩形 29"/>
            <p:cNvSpPr/>
            <p:nvPr/>
          </p:nvSpPr>
          <p:spPr>
            <a:xfrm>
              <a:off x="333792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矩形 30"/>
            <p:cNvSpPr/>
            <p:nvPr/>
          </p:nvSpPr>
          <p:spPr>
            <a:xfrm>
              <a:off x="3563640" y="22208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矩形 31"/>
            <p:cNvSpPr/>
            <p:nvPr/>
          </p:nvSpPr>
          <p:spPr>
            <a:xfrm>
              <a:off x="378792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矩形 32"/>
            <p:cNvSpPr/>
            <p:nvPr/>
          </p:nvSpPr>
          <p:spPr>
            <a:xfrm>
              <a:off x="404604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矩形 33"/>
            <p:cNvSpPr/>
            <p:nvPr/>
          </p:nvSpPr>
          <p:spPr>
            <a:xfrm>
              <a:off x="3113280" y="2419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矩形 34"/>
            <p:cNvSpPr/>
            <p:nvPr/>
          </p:nvSpPr>
          <p:spPr>
            <a:xfrm>
              <a:off x="3337920" y="2425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矩形 35"/>
            <p:cNvSpPr/>
            <p:nvPr/>
          </p:nvSpPr>
          <p:spPr>
            <a:xfrm>
              <a:off x="3563640" y="24246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矩形 36"/>
            <p:cNvSpPr/>
            <p:nvPr/>
          </p:nvSpPr>
          <p:spPr>
            <a:xfrm>
              <a:off x="3787920" y="2426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矩形 37"/>
            <p:cNvSpPr/>
            <p:nvPr/>
          </p:nvSpPr>
          <p:spPr>
            <a:xfrm>
              <a:off x="40460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矩形 38"/>
            <p:cNvSpPr/>
            <p:nvPr/>
          </p:nvSpPr>
          <p:spPr>
            <a:xfrm>
              <a:off x="3113280" y="2616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矩形 39"/>
            <p:cNvSpPr/>
            <p:nvPr/>
          </p:nvSpPr>
          <p:spPr>
            <a:xfrm>
              <a:off x="333792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矩形 40"/>
            <p:cNvSpPr/>
            <p:nvPr/>
          </p:nvSpPr>
          <p:spPr>
            <a:xfrm>
              <a:off x="357264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矩形 41"/>
            <p:cNvSpPr/>
            <p:nvPr/>
          </p:nvSpPr>
          <p:spPr>
            <a:xfrm>
              <a:off x="3787920" y="26139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矩形 42"/>
            <p:cNvSpPr/>
            <p:nvPr/>
          </p:nvSpPr>
          <p:spPr>
            <a:xfrm>
              <a:off x="4046040" y="2623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矩形 43"/>
            <p:cNvSpPr/>
            <p:nvPr/>
          </p:nvSpPr>
          <p:spPr>
            <a:xfrm>
              <a:off x="311328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矩形 44"/>
            <p:cNvSpPr/>
            <p:nvPr/>
          </p:nvSpPr>
          <p:spPr>
            <a:xfrm>
              <a:off x="333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矩形 45"/>
            <p:cNvSpPr/>
            <p:nvPr/>
          </p:nvSpPr>
          <p:spPr>
            <a:xfrm>
              <a:off x="35726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矩形 46"/>
            <p:cNvSpPr/>
            <p:nvPr/>
          </p:nvSpPr>
          <p:spPr>
            <a:xfrm>
              <a:off x="378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矩形 47"/>
            <p:cNvSpPr/>
            <p:nvPr/>
          </p:nvSpPr>
          <p:spPr>
            <a:xfrm>
              <a:off x="40460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矩形 48"/>
            <p:cNvSpPr/>
            <p:nvPr/>
          </p:nvSpPr>
          <p:spPr>
            <a:xfrm>
              <a:off x="1619280" y="3573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矩形 49"/>
            <p:cNvSpPr/>
            <p:nvPr/>
          </p:nvSpPr>
          <p:spPr>
            <a:xfrm>
              <a:off x="1911240" y="35730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矩形 50"/>
            <p:cNvSpPr/>
            <p:nvPr/>
          </p:nvSpPr>
          <p:spPr>
            <a:xfrm>
              <a:off x="161928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矩形 51"/>
            <p:cNvSpPr/>
            <p:nvPr/>
          </p:nvSpPr>
          <p:spPr>
            <a:xfrm>
              <a:off x="191124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矩形 52"/>
            <p:cNvSpPr/>
            <p:nvPr/>
          </p:nvSpPr>
          <p:spPr>
            <a:xfrm>
              <a:off x="1619280" y="4006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矩形 53"/>
            <p:cNvSpPr/>
            <p:nvPr/>
          </p:nvSpPr>
          <p:spPr>
            <a:xfrm>
              <a:off x="1915560" y="3997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矩形 54"/>
            <p:cNvSpPr/>
            <p:nvPr/>
          </p:nvSpPr>
          <p:spPr>
            <a:xfrm>
              <a:off x="1619280" y="42271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矩形 55"/>
            <p:cNvSpPr/>
            <p:nvPr/>
          </p:nvSpPr>
          <p:spPr>
            <a:xfrm>
              <a:off x="1913040" y="42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矩形 56"/>
            <p:cNvSpPr/>
            <p:nvPr/>
          </p:nvSpPr>
          <p:spPr>
            <a:xfrm>
              <a:off x="6822360" y="243432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矩形 57"/>
            <p:cNvSpPr/>
            <p:nvPr/>
          </p:nvSpPr>
          <p:spPr>
            <a:xfrm>
              <a:off x="680436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矩形 58"/>
            <p:cNvSpPr/>
            <p:nvPr/>
          </p:nvSpPr>
          <p:spPr>
            <a:xfrm>
              <a:off x="702864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矩形 59"/>
            <p:cNvSpPr/>
            <p:nvPr/>
          </p:nvSpPr>
          <p:spPr>
            <a:xfrm>
              <a:off x="7254360" y="2422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矩形 60"/>
            <p:cNvSpPr/>
            <p:nvPr/>
          </p:nvSpPr>
          <p:spPr>
            <a:xfrm>
              <a:off x="74786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矩形 61"/>
            <p:cNvSpPr/>
            <p:nvPr/>
          </p:nvSpPr>
          <p:spPr>
            <a:xfrm>
              <a:off x="77367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矩形 62"/>
            <p:cNvSpPr/>
            <p:nvPr/>
          </p:nvSpPr>
          <p:spPr>
            <a:xfrm>
              <a:off x="6804360" y="26211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矩形 63"/>
            <p:cNvSpPr/>
            <p:nvPr/>
          </p:nvSpPr>
          <p:spPr>
            <a:xfrm>
              <a:off x="7028640" y="2626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矩形 64"/>
            <p:cNvSpPr/>
            <p:nvPr/>
          </p:nvSpPr>
          <p:spPr>
            <a:xfrm>
              <a:off x="7254360" y="26262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矩形 65"/>
            <p:cNvSpPr/>
            <p:nvPr/>
          </p:nvSpPr>
          <p:spPr>
            <a:xfrm>
              <a:off x="747864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矩形 66"/>
            <p:cNvSpPr/>
            <p:nvPr/>
          </p:nvSpPr>
          <p:spPr>
            <a:xfrm>
              <a:off x="77367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矩形 67"/>
            <p:cNvSpPr/>
            <p:nvPr/>
          </p:nvSpPr>
          <p:spPr>
            <a:xfrm>
              <a:off x="6804360" y="2818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矩形 68"/>
            <p:cNvSpPr/>
            <p:nvPr/>
          </p:nvSpPr>
          <p:spPr>
            <a:xfrm>
              <a:off x="702864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矩形 69"/>
            <p:cNvSpPr/>
            <p:nvPr/>
          </p:nvSpPr>
          <p:spPr>
            <a:xfrm>
              <a:off x="726336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矩形 70"/>
            <p:cNvSpPr/>
            <p:nvPr/>
          </p:nvSpPr>
          <p:spPr>
            <a:xfrm>
              <a:off x="747864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矩形 71"/>
            <p:cNvSpPr/>
            <p:nvPr/>
          </p:nvSpPr>
          <p:spPr>
            <a:xfrm>
              <a:off x="77367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矩形 72"/>
            <p:cNvSpPr/>
            <p:nvPr/>
          </p:nvSpPr>
          <p:spPr>
            <a:xfrm>
              <a:off x="680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矩形 73"/>
            <p:cNvSpPr/>
            <p:nvPr/>
          </p:nvSpPr>
          <p:spPr>
            <a:xfrm>
              <a:off x="702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矩形 74"/>
            <p:cNvSpPr/>
            <p:nvPr/>
          </p:nvSpPr>
          <p:spPr>
            <a:xfrm>
              <a:off x="7263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矩形 75"/>
            <p:cNvSpPr/>
            <p:nvPr/>
          </p:nvSpPr>
          <p:spPr>
            <a:xfrm>
              <a:off x="747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矩形 76"/>
            <p:cNvSpPr/>
            <p:nvPr/>
          </p:nvSpPr>
          <p:spPr>
            <a:xfrm>
              <a:off x="77367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矩形 77"/>
            <p:cNvSpPr/>
            <p:nvPr/>
          </p:nvSpPr>
          <p:spPr>
            <a:xfrm>
              <a:off x="798660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矩形 78"/>
            <p:cNvSpPr/>
            <p:nvPr/>
          </p:nvSpPr>
          <p:spPr>
            <a:xfrm>
              <a:off x="82443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矩形 79"/>
            <p:cNvSpPr/>
            <p:nvPr/>
          </p:nvSpPr>
          <p:spPr>
            <a:xfrm>
              <a:off x="798660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矩形 80"/>
            <p:cNvSpPr/>
            <p:nvPr/>
          </p:nvSpPr>
          <p:spPr>
            <a:xfrm>
              <a:off x="82443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矩形 81"/>
            <p:cNvSpPr/>
            <p:nvPr/>
          </p:nvSpPr>
          <p:spPr>
            <a:xfrm>
              <a:off x="798660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矩形 82"/>
            <p:cNvSpPr/>
            <p:nvPr/>
          </p:nvSpPr>
          <p:spPr>
            <a:xfrm>
              <a:off x="82443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矩形 83"/>
            <p:cNvSpPr/>
            <p:nvPr/>
          </p:nvSpPr>
          <p:spPr>
            <a:xfrm>
              <a:off x="798660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矩形 84"/>
            <p:cNvSpPr/>
            <p:nvPr/>
          </p:nvSpPr>
          <p:spPr>
            <a:xfrm>
              <a:off x="824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Group 86"/>
          <p:cNvGrpSpPr/>
          <p:nvPr/>
        </p:nvGrpSpPr>
        <p:grpSpPr>
          <a:xfrm>
            <a:off x="826920" y="836640"/>
            <a:ext cx="576360" cy="504720"/>
            <a:chOff x="826920" y="836640"/>
            <a:chExt cx="576360" cy="504720"/>
          </a:xfrm>
        </p:grpSpPr>
        <p:sp>
          <p:nvSpPr>
            <p:cNvPr id="2458" name="直接连接符 86"/>
            <p:cNvSpPr/>
            <p:nvPr/>
          </p:nvSpPr>
          <p:spPr>
            <a:xfrm flipH="1">
              <a:off x="826920" y="836640"/>
              <a:ext cx="216000" cy="504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直接连接符 87"/>
            <p:cNvSpPr/>
            <p:nvPr/>
          </p:nvSpPr>
          <p:spPr>
            <a:xfrm>
              <a:off x="826920" y="1341360"/>
              <a:ext cx="57636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直接连接符 88"/>
            <p:cNvSpPr/>
            <p:nvPr/>
          </p:nvSpPr>
          <p:spPr>
            <a:xfrm flipH="1" flipV="1">
              <a:off x="1114920" y="908640"/>
              <a:ext cx="288000" cy="432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直接连接符 89"/>
            <p:cNvSpPr/>
            <p:nvPr/>
          </p:nvSpPr>
          <p:spPr>
            <a:xfrm flipH="1">
              <a:off x="979920" y="913320"/>
              <a:ext cx="144000" cy="288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直接连接符 90"/>
            <p:cNvSpPr/>
            <p:nvPr/>
          </p:nvSpPr>
          <p:spPr>
            <a:xfrm flipH="1" flipV="1">
              <a:off x="970560" y="1201680"/>
              <a:ext cx="231480" cy="673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直接连接符 91"/>
            <p:cNvSpPr/>
            <p:nvPr/>
          </p:nvSpPr>
          <p:spPr>
            <a:xfrm>
              <a:off x="1124280" y="1057680"/>
              <a:ext cx="78120" cy="207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直接连接符 92"/>
          <p:cNvSpPr/>
          <p:nvPr/>
        </p:nvSpPr>
        <p:spPr>
          <a:xfrm>
            <a:off x="1619280" y="1413000"/>
            <a:ext cx="260280" cy="180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直接连接符 93"/>
          <p:cNvSpPr/>
          <p:nvPr/>
        </p:nvSpPr>
        <p:spPr>
          <a:xfrm flipV="1">
            <a:off x="1087560" y="404280"/>
            <a:ext cx="0" cy="279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直接连接符 94"/>
          <p:cNvSpPr/>
          <p:nvPr/>
        </p:nvSpPr>
        <p:spPr>
          <a:xfrm>
            <a:off x="419040" y="800280"/>
            <a:ext cx="265320" cy="1076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直接连接符 95"/>
          <p:cNvSpPr/>
          <p:nvPr/>
        </p:nvSpPr>
        <p:spPr>
          <a:xfrm flipV="1">
            <a:off x="1476360" y="765000"/>
            <a:ext cx="239760" cy="114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直接连接符 96"/>
          <p:cNvSpPr/>
          <p:nvPr/>
        </p:nvSpPr>
        <p:spPr>
          <a:xfrm flipH="1">
            <a:off x="1125000" y="1484280"/>
            <a:ext cx="24120" cy="2890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直接连接符 97"/>
          <p:cNvSpPr/>
          <p:nvPr/>
        </p:nvSpPr>
        <p:spPr>
          <a:xfrm flipH="1">
            <a:off x="488880" y="1484280"/>
            <a:ext cx="193680" cy="1033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矩形 98"/>
          <p:cNvSpPr/>
          <p:nvPr/>
        </p:nvSpPr>
        <p:spPr>
          <a:xfrm>
            <a:off x="2523600" y="591984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船票，没有预言，只有我们自己的奏鸣幻想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矩形 99"/>
          <p:cNvSpPr/>
          <p:nvPr/>
        </p:nvSpPr>
        <p:spPr>
          <a:xfrm>
            <a:off x="2460960" y="592128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灾难，没有害怕，只有我们自己创造的未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矩形 100"/>
          <p:cNvSpPr/>
          <p:nvPr/>
        </p:nvSpPr>
        <p:spPr>
          <a:xfrm>
            <a:off x="3618360" y="5459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的</a:t>
            </a:r>
            <a:r>
              <a:rPr b="1" lang="en-US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102"/>
          <p:cNvSpPr/>
          <p:nvPr/>
        </p:nvSpPr>
        <p:spPr>
          <a:xfrm>
            <a:off x="2131920" y="3246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页脚占位符 10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-177840" y="1773360"/>
            <a:ext cx="26136720" cy="2908080"/>
            <a:chOff x="-177840" y="1773360"/>
            <a:chExt cx="26136720" cy="2908080"/>
          </a:xfrm>
        </p:grpSpPr>
        <p:sp>
          <p:nvSpPr>
            <p:cNvPr id="2476" name="直接连接符 2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4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5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6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7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8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9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10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11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12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13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14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15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16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17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18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19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20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21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22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23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24"/>
            <p:cNvSpPr/>
            <p:nvPr/>
          </p:nvSpPr>
          <p:spPr>
            <a:xfrm flipV="1">
              <a:off x="864252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25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26"/>
            <p:cNvSpPr/>
            <p:nvPr/>
          </p:nvSpPr>
          <p:spPr>
            <a:xfrm>
              <a:off x="8606520" y="4653360"/>
              <a:ext cx="1735236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1" name="Group 28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2502" name="矩形 28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矩形 29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矩形 30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矩形 31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矩形 32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矩形 33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矩形 34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矩形 35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矩形 36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矩形 37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矩形 38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矩形 39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矩形 40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矩形 41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矩形 42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矩形 43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矩形 44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矩形 45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矩形 46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矩形 47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矩形 48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矩形 49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矩形 50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矩形 51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矩形 52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矩形 53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矩形 54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矩形 55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矩形 56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矩形 57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矩形 58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矩形 59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矩形 60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矩形 61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矩形 62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矩形 63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矩形 64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矩形 65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矩形 66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矩形 67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矩形 68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矩形 69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矩形 70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矩形 71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矩形 72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矩形 73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矩形 74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矩形 75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矩形 76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矩形 77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矩形 78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矩形 79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矩形 80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矩形 81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矩形 82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矩形 83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矩形 84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矩形 85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0" name="矩形 86"/>
          <p:cNvSpPr/>
          <p:nvPr/>
        </p:nvSpPr>
        <p:spPr>
          <a:xfrm>
            <a:off x="2832840" y="2967120"/>
            <a:ext cx="34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幻想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页脚占位符 8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1.40955 -0.00208 E">
                                      <p:cBhvr>
                                        <p:cTn id="313" dur="2000" fill="hold"/>
                                        <p:tgtEl>
                                          <p:spTgt spid="2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2" name="Group 2"/>
          <p:cNvGrpSpPr/>
          <p:nvPr/>
        </p:nvGrpSpPr>
        <p:grpSpPr>
          <a:xfrm>
            <a:off x="-2627280" y="3213000"/>
            <a:ext cx="25346160" cy="1235880"/>
            <a:chOff x="-2627280" y="3213000"/>
            <a:chExt cx="25346160" cy="1235880"/>
          </a:xfrm>
        </p:grpSpPr>
        <p:sp>
          <p:nvSpPr>
            <p:cNvPr id="2563" name="直接连接符 7"/>
            <p:cNvSpPr/>
            <p:nvPr/>
          </p:nvSpPr>
          <p:spPr>
            <a:xfrm>
              <a:off x="-2627280" y="3213000"/>
              <a:ext cx="25346160" cy="123588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4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1.2599 -0.00741 E">
                                      <p:cBhvr>
                                        <p:cTn id="327" dur="2000" fill="hold"/>
                                        <p:tgtEl>
                                          <p:spTgt spid="2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矩形 3"/>
          <p:cNvSpPr/>
          <p:nvPr/>
        </p:nvSpPr>
        <p:spPr>
          <a:xfrm>
            <a:off x="2522520" y="12682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感受青春的心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250" autoRev="1" fill="hold"/>
                                        <p:tgtEl>
                                          <p:spTgt spid="2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矩形 59"/>
          <p:cNvSpPr/>
          <p:nvPr/>
        </p:nvSpPr>
        <p:spPr>
          <a:xfrm>
            <a:off x="4734000" y="16416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在知识的海洋中寻找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Group 6"/>
          <p:cNvGrpSpPr/>
          <p:nvPr/>
        </p:nvGrpSpPr>
        <p:grpSpPr>
          <a:xfrm>
            <a:off x="-2266920" y="117360"/>
            <a:ext cx="7635960" cy="8028000"/>
            <a:chOff x="-2266920" y="117360"/>
            <a:chExt cx="7635960" cy="8028000"/>
          </a:xfrm>
        </p:grpSpPr>
        <p:grpSp>
          <p:nvGrpSpPr>
            <p:cNvPr id="2569" name="Group 7"/>
            <p:cNvGrpSpPr/>
            <p:nvPr/>
          </p:nvGrpSpPr>
          <p:grpSpPr>
            <a:xfrm>
              <a:off x="-2266920" y="117360"/>
              <a:ext cx="7635960" cy="8028000"/>
              <a:chOff x="-2266920" y="117360"/>
              <a:chExt cx="7635960" cy="8028000"/>
            </a:xfrm>
          </p:grpSpPr>
          <p:grpSp>
            <p:nvGrpSpPr>
              <p:cNvPr id="2570" name="Group 8"/>
              <p:cNvGrpSpPr/>
              <p:nvPr/>
            </p:nvGrpSpPr>
            <p:grpSpPr>
              <a:xfrm>
                <a:off x="-2266920" y="621360"/>
                <a:ext cx="7635960" cy="7524000"/>
                <a:chOff x="-2266920" y="621360"/>
                <a:chExt cx="7635960" cy="7524000"/>
              </a:xfrm>
            </p:grpSpPr>
            <p:grpSp>
              <p:nvGrpSpPr>
                <p:cNvPr id="2571" name="Group 9"/>
                <p:cNvGrpSpPr/>
                <p:nvPr/>
              </p:nvGrpSpPr>
              <p:grpSpPr>
                <a:xfrm>
                  <a:off x="-2266920" y="1163880"/>
                  <a:ext cx="7635960" cy="6981480"/>
                  <a:chOff x="-2266920" y="1163880"/>
                  <a:chExt cx="7635960" cy="6981480"/>
                </a:xfrm>
              </p:grpSpPr>
              <p:sp>
                <p:nvSpPr>
                  <p:cNvPr id="2572" name="直接连接符 2"/>
                  <p:cNvSpPr/>
                  <p:nvPr/>
                </p:nvSpPr>
                <p:spPr>
                  <a:xfrm flipV="1">
                    <a:off x="-2266920" y="6685200"/>
                    <a:ext cx="7635960" cy="1460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直接连接符 6"/>
                  <p:cNvSpPr/>
                  <p:nvPr/>
                </p:nvSpPr>
                <p:spPr>
                  <a:xfrm flipV="1">
                    <a:off x="138960" y="3137760"/>
                    <a:ext cx="1641240" cy="125172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直接连接符 8"/>
                  <p:cNvSpPr/>
                  <p:nvPr/>
                </p:nvSpPr>
                <p:spPr>
                  <a:xfrm>
                    <a:off x="1780200" y="3138120"/>
                    <a:ext cx="0" cy="4277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椭圆 9"/>
                  <p:cNvSpPr/>
                  <p:nvPr/>
                </p:nvSpPr>
                <p:spPr>
                  <a:xfrm flipV="1" rot="20560800">
                    <a:off x="399960" y="1322280"/>
                    <a:ext cx="553680" cy="132120"/>
                  </a:xfrm>
                  <a:prstGeom prst="ellipse">
                    <a:avLst/>
                  </a:prstGeom>
                  <a:noFill/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直接连接符 11"/>
                  <p:cNvSpPr/>
                  <p:nvPr/>
                </p:nvSpPr>
                <p:spPr>
                  <a:xfrm>
                    <a:off x="412920" y="1614240"/>
                    <a:ext cx="192600" cy="23277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直接连接符 13"/>
                  <p:cNvSpPr/>
                  <p:nvPr/>
                </p:nvSpPr>
                <p:spPr>
                  <a:xfrm>
                    <a:off x="941760" y="1163880"/>
                    <a:ext cx="198360" cy="236088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8" name="Group 17"/>
                <p:cNvGrpSpPr/>
                <p:nvPr/>
              </p:nvGrpSpPr>
              <p:grpSpPr>
                <a:xfrm>
                  <a:off x="1907640" y="621360"/>
                  <a:ext cx="1945080" cy="2630520"/>
                  <a:chOff x="1907640" y="621360"/>
                  <a:chExt cx="1945080" cy="2630520"/>
                </a:xfrm>
              </p:grpSpPr>
              <p:sp>
                <p:nvSpPr>
                  <p:cNvPr id="2579" name="椭圆 23"/>
                  <p:cNvSpPr/>
                  <p:nvPr/>
                </p:nvSpPr>
                <p:spPr>
                  <a:xfrm rot="21039600">
                    <a:off x="2407320" y="683640"/>
                    <a:ext cx="825120" cy="682200"/>
                  </a:xfrm>
                  <a:prstGeom prst="ellipse">
                    <a:avLst/>
                  </a:prstGeom>
                  <a:noFill/>
                  <a:ln w="63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梯形 24"/>
                  <p:cNvSpPr/>
                  <p:nvPr/>
                </p:nvSpPr>
                <p:spPr>
                  <a:xfrm flipV="1" rot="21368400">
                    <a:off x="2327760" y="1483200"/>
                    <a:ext cx="1211400" cy="1128960"/>
                  </a:xfrm>
                  <a:custGeom>
                    <a:avLst/>
                    <a:gdLst>
                      <a:gd name="textAreaLeft" fmla="*/ 241920 w 1211400"/>
                      <a:gd name="textAreaRight" fmla="*/ 969480 w 1211400"/>
                      <a:gd name="textAreaTop" fmla="*/ 225360 h 1128960"/>
                      <a:gd name="textAreaBottom" fmla="*/ 903600 h 1128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032" y="21600"/>
                        </a:lnTo>
                        <a:lnTo>
                          <a:pt x="16568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73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直接连接符 26"/>
                  <p:cNvSpPr/>
                  <p:nvPr/>
                </p:nvSpPr>
                <p:spPr>
                  <a:xfrm flipV="1">
                    <a:off x="3257640" y="1153800"/>
                    <a:ext cx="595080" cy="34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直接连接符 30"/>
                  <p:cNvSpPr/>
                  <p:nvPr/>
                </p:nvSpPr>
                <p:spPr>
                  <a:xfrm flipH="1">
                    <a:off x="2230200" y="1500480"/>
                    <a:ext cx="365400" cy="382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直接连接符 32"/>
                  <p:cNvSpPr/>
                  <p:nvPr/>
                </p:nvSpPr>
                <p:spPr>
                  <a:xfrm flipV="1">
                    <a:off x="2230560" y="1577160"/>
                    <a:ext cx="731160" cy="309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直接连接符 41"/>
                  <p:cNvSpPr/>
                  <p:nvPr/>
                </p:nvSpPr>
                <p:spPr>
                  <a:xfrm>
                    <a:off x="3348720" y="2583360"/>
                    <a:ext cx="360000" cy="27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直接连接符 43"/>
                  <p:cNvSpPr/>
                  <p:nvPr/>
                </p:nvSpPr>
                <p:spPr>
                  <a:xfrm flipH="1">
                    <a:off x="3483360" y="2853360"/>
                    <a:ext cx="225360" cy="36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直接连接符 45"/>
                  <p:cNvSpPr/>
                  <p:nvPr/>
                </p:nvSpPr>
                <p:spPr>
                  <a:xfrm flipH="1">
                    <a:off x="1907640" y="2625120"/>
                    <a:ext cx="767160" cy="626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7" name="椭圆 60"/>
              <p:cNvSpPr/>
              <p:nvPr/>
            </p:nvSpPr>
            <p:spPr>
              <a:xfrm>
                <a:off x="758160" y="693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椭圆 61"/>
              <p:cNvSpPr/>
              <p:nvPr/>
            </p:nvSpPr>
            <p:spPr>
              <a:xfrm>
                <a:off x="1118160" y="405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椭圆 62"/>
              <p:cNvSpPr/>
              <p:nvPr/>
            </p:nvSpPr>
            <p:spPr>
              <a:xfrm>
                <a:off x="1550520" y="117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0" name="TextBox 64"/>
            <p:cNvSpPr/>
            <p:nvPr/>
          </p:nvSpPr>
          <p:spPr>
            <a:xfrm rot="21038400">
              <a:off x="2960280" y="368964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华康少女文字W5(P)"/>
                  <a:ea typeface="华康少女文字W5(P)"/>
                </a:rPr>
                <a:t>you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5"/>
          <p:cNvSpPr/>
          <p:nvPr/>
        </p:nvSpPr>
        <p:spPr>
          <a:xfrm>
            <a:off x="33480" y="637056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708 0.00277 L -4.44444E-006 1.50289E-006 E">
                                      <p:cBhvr>
                                        <p:cTn id="343" dur="2000" fill="hold"/>
                                        <p:tgtEl>
                                          <p:spTgt spid="2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1070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8" name="media1.mp3" descr=""/>
          <p:cNvPicPr/>
          <p:nvPr/>
        </p:nvPicPr>
        <p:blipFill>
          <a:blip r:embed="rId1"/>
          <a:stretch/>
        </p:blipFill>
        <p:spPr>
          <a:xfrm>
            <a:off x="-3633840" y="16128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79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3" name="Group 2"/>
          <p:cNvGrpSpPr/>
          <p:nvPr/>
        </p:nvGrpSpPr>
        <p:grpSpPr>
          <a:xfrm>
            <a:off x="3746520" y="513000"/>
            <a:ext cx="1041480" cy="1785600"/>
            <a:chOff x="3746520" y="513000"/>
            <a:chExt cx="1041480" cy="1785600"/>
          </a:xfrm>
        </p:grpSpPr>
        <p:sp>
          <p:nvSpPr>
            <p:cNvPr id="2594" name="椭圆 1"/>
            <p:cNvSpPr/>
            <p:nvPr/>
          </p:nvSpPr>
          <p:spPr>
            <a:xfrm rot="21039600">
              <a:off x="3942720" y="549000"/>
              <a:ext cx="482760" cy="45756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梯形 2"/>
            <p:cNvSpPr/>
            <p:nvPr/>
          </p:nvSpPr>
          <p:spPr>
            <a:xfrm flipV="1" rot="21368400">
              <a:off x="3896280" y="1085760"/>
              <a:ext cx="708480" cy="757800"/>
            </a:xfrm>
            <a:custGeom>
              <a:avLst/>
              <a:gdLst>
                <a:gd name="textAreaLeft" fmla="*/ 141480 w 708480"/>
                <a:gd name="textAreaRight" fmla="*/ 567000 w 708480"/>
                <a:gd name="textAreaTop" fmla="*/ 151200 h 757800"/>
                <a:gd name="textAreaBottom" fmla="*/ 6066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032" y="21600"/>
                  </a:lnTo>
                  <a:lnTo>
                    <a:pt x="16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直接连接符 3"/>
            <p:cNvSpPr/>
            <p:nvPr/>
          </p:nvSpPr>
          <p:spPr>
            <a:xfrm flipV="1">
              <a:off x="4439880" y="865080"/>
              <a:ext cx="348120" cy="23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直接连接符 4"/>
            <p:cNvSpPr/>
            <p:nvPr/>
          </p:nvSpPr>
          <p:spPr>
            <a:xfrm flipH="1">
              <a:off x="3839400" y="1097280"/>
              <a:ext cx="213840" cy="25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直接连接符 5"/>
            <p:cNvSpPr/>
            <p:nvPr/>
          </p:nvSpPr>
          <p:spPr>
            <a:xfrm flipV="1">
              <a:off x="3839400" y="1148760"/>
              <a:ext cx="427680" cy="207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直接连接符 6"/>
            <p:cNvSpPr/>
            <p:nvPr/>
          </p:nvSpPr>
          <p:spPr>
            <a:xfrm>
              <a:off x="4493520" y="1824120"/>
              <a:ext cx="21024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直接连接符 7"/>
            <p:cNvSpPr/>
            <p:nvPr/>
          </p:nvSpPr>
          <p:spPr>
            <a:xfrm flipH="1">
              <a:off x="4572000" y="2005200"/>
              <a:ext cx="131760" cy="24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直接连接符 8"/>
            <p:cNvSpPr/>
            <p:nvPr/>
          </p:nvSpPr>
          <p:spPr>
            <a:xfrm flipH="1">
              <a:off x="3746520" y="1851840"/>
              <a:ext cx="352800" cy="44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2" name="矩形 14"/>
          <p:cNvSpPr/>
          <p:nvPr/>
        </p:nvSpPr>
        <p:spPr>
          <a:xfrm>
            <a:off x="5003640" y="122076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攀登人生的高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1782 L 0.00191 -0.0331 E">
                                      <p:cBhvr>
                                        <p:cTn id="357" dur="2000" fill="hold"/>
                                        <p:tgtEl>
                                          <p:spTgt spid="2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矩形 2"/>
          <p:cNvSpPr/>
          <p:nvPr/>
        </p:nvSpPr>
        <p:spPr>
          <a:xfrm>
            <a:off x="3326760" y="263700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让我们大家在一起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6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2607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2608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9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2610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1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2612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2614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5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2616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7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2618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9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2620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1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2622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3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2624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2625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6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2627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8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2629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0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2631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2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2633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2635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2637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8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2639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0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2641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2643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4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2645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2646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7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2648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9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2650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1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2652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3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2654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5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2656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7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2658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9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2660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2662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3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2664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2666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7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2668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9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2670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2671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2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2673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2675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6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2677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8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2679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2681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2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2683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2684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5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2686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7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2688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2690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1" name="页脚占位符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2" name="Group 2"/>
          <p:cNvGrpSpPr/>
          <p:nvPr/>
        </p:nvGrpSpPr>
        <p:grpSpPr>
          <a:xfrm>
            <a:off x="250920" y="355680"/>
            <a:ext cx="8518320" cy="6600600"/>
            <a:chOff x="250920" y="355680"/>
            <a:chExt cx="8518320" cy="6600600"/>
          </a:xfrm>
        </p:grpSpPr>
        <p:grpSp>
          <p:nvGrpSpPr>
            <p:cNvPr id="2693" name="Group 3"/>
            <p:cNvGrpSpPr/>
            <p:nvPr/>
          </p:nvGrpSpPr>
          <p:grpSpPr>
            <a:xfrm>
              <a:off x="1706400" y="3234960"/>
              <a:ext cx="5679720" cy="1086480"/>
              <a:chOff x="1706400" y="3234960"/>
              <a:chExt cx="5679720" cy="1086480"/>
            </a:xfrm>
          </p:grpSpPr>
          <p:grpSp>
            <p:nvGrpSpPr>
              <p:cNvPr id="2694" name="Group 4"/>
              <p:cNvGrpSpPr/>
              <p:nvPr/>
            </p:nvGrpSpPr>
            <p:grpSpPr>
              <a:xfrm>
                <a:off x="6069240" y="3256200"/>
                <a:ext cx="612000" cy="1056960"/>
                <a:chOff x="6069240" y="3256200"/>
                <a:chExt cx="612000" cy="1056960"/>
              </a:xfrm>
            </p:grpSpPr>
            <p:sp>
              <p:nvSpPr>
                <p:cNvPr id="2695" name="椭圆 1"/>
                <p:cNvSpPr/>
                <p:nvPr/>
              </p:nvSpPr>
              <p:spPr>
                <a:xfrm>
                  <a:off x="6069240" y="32562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6" name="Group 7"/>
              <p:cNvGrpSpPr/>
              <p:nvPr/>
            </p:nvGrpSpPr>
            <p:grpSpPr>
              <a:xfrm>
                <a:off x="2410920" y="3240720"/>
                <a:ext cx="612000" cy="1056960"/>
                <a:chOff x="2410920" y="3240720"/>
                <a:chExt cx="612000" cy="1056960"/>
              </a:xfrm>
            </p:grpSpPr>
            <p:sp>
              <p:nvSpPr>
                <p:cNvPr id="2697" name="椭圆 9"/>
                <p:cNvSpPr/>
                <p:nvPr/>
              </p:nvSpPr>
              <p:spPr>
                <a:xfrm>
                  <a:off x="241092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8" name="Group 10"/>
              <p:cNvGrpSpPr/>
              <p:nvPr/>
            </p:nvGrpSpPr>
            <p:grpSpPr>
              <a:xfrm>
                <a:off x="3146760" y="3264480"/>
                <a:ext cx="612000" cy="1056960"/>
                <a:chOff x="3146760" y="3264480"/>
                <a:chExt cx="612000" cy="1056960"/>
              </a:xfrm>
            </p:grpSpPr>
            <p:sp>
              <p:nvSpPr>
                <p:cNvPr id="2699" name="椭圆 12"/>
                <p:cNvSpPr/>
                <p:nvPr/>
              </p:nvSpPr>
              <p:spPr>
                <a:xfrm>
                  <a:off x="3146760" y="32644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0" name="Group 13"/>
              <p:cNvGrpSpPr/>
              <p:nvPr/>
            </p:nvGrpSpPr>
            <p:grpSpPr>
              <a:xfrm>
                <a:off x="3919680" y="3240720"/>
                <a:ext cx="612000" cy="1056960"/>
                <a:chOff x="3919680" y="3240720"/>
                <a:chExt cx="612000" cy="1056960"/>
              </a:xfrm>
            </p:grpSpPr>
            <p:sp>
              <p:nvSpPr>
                <p:cNvPr id="2701" name="椭圆 15"/>
                <p:cNvSpPr/>
                <p:nvPr/>
              </p:nvSpPr>
              <p:spPr>
                <a:xfrm>
                  <a:off x="391968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2" name="Group 16"/>
              <p:cNvGrpSpPr/>
              <p:nvPr/>
            </p:nvGrpSpPr>
            <p:grpSpPr>
              <a:xfrm>
                <a:off x="4624560" y="3240720"/>
                <a:ext cx="612000" cy="1056960"/>
                <a:chOff x="4624560" y="3240720"/>
                <a:chExt cx="612000" cy="1056960"/>
              </a:xfrm>
            </p:grpSpPr>
            <p:sp>
              <p:nvSpPr>
                <p:cNvPr id="2703" name="椭圆 18"/>
                <p:cNvSpPr/>
                <p:nvPr/>
              </p:nvSpPr>
              <p:spPr>
                <a:xfrm>
                  <a:off x="462456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4" name="Group 19"/>
              <p:cNvGrpSpPr/>
              <p:nvPr/>
            </p:nvGrpSpPr>
            <p:grpSpPr>
              <a:xfrm>
                <a:off x="5329440" y="3234960"/>
                <a:ext cx="612000" cy="1056960"/>
                <a:chOff x="5329440" y="3234960"/>
                <a:chExt cx="612000" cy="1056960"/>
              </a:xfrm>
            </p:grpSpPr>
            <p:sp>
              <p:nvSpPr>
                <p:cNvPr id="2705" name="椭圆 21"/>
                <p:cNvSpPr/>
                <p:nvPr/>
              </p:nvSpPr>
              <p:spPr>
                <a:xfrm>
                  <a:off x="532944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6" name="Group 22"/>
              <p:cNvGrpSpPr/>
              <p:nvPr/>
            </p:nvGrpSpPr>
            <p:grpSpPr>
              <a:xfrm>
                <a:off x="1706400" y="3234960"/>
                <a:ext cx="612000" cy="1056960"/>
                <a:chOff x="1706400" y="3234960"/>
                <a:chExt cx="612000" cy="1056960"/>
              </a:xfrm>
            </p:grpSpPr>
            <p:sp>
              <p:nvSpPr>
                <p:cNvPr id="2707" name="椭圆 24"/>
                <p:cNvSpPr/>
                <p:nvPr/>
              </p:nvSpPr>
              <p:spPr>
                <a:xfrm>
                  <a:off x="170640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8" name="Group 25"/>
              <p:cNvGrpSpPr/>
              <p:nvPr/>
            </p:nvGrpSpPr>
            <p:grpSpPr>
              <a:xfrm>
                <a:off x="6774120" y="3256920"/>
                <a:ext cx="612000" cy="1056960"/>
                <a:chOff x="6774120" y="3256920"/>
                <a:chExt cx="612000" cy="1056960"/>
              </a:xfrm>
            </p:grpSpPr>
            <p:sp>
              <p:nvSpPr>
                <p:cNvPr id="2709" name="椭圆 27"/>
                <p:cNvSpPr/>
                <p:nvPr/>
              </p:nvSpPr>
              <p:spPr>
                <a:xfrm>
                  <a:off x="6774120" y="3256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0" name="Group 28"/>
            <p:cNvGrpSpPr/>
            <p:nvPr/>
          </p:nvGrpSpPr>
          <p:grpSpPr>
            <a:xfrm>
              <a:off x="1052640" y="4652640"/>
              <a:ext cx="7108560" cy="1086480"/>
              <a:chOff x="1052640" y="4652640"/>
              <a:chExt cx="7108560" cy="1086480"/>
            </a:xfrm>
          </p:grpSpPr>
          <p:grpSp>
            <p:nvGrpSpPr>
              <p:cNvPr id="2711" name="Group 29"/>
              <p:cNvGrpSpPr/>
              <p:nvPr/>
            </p:nvGrpSpPr>
            <p:grpSpPr>
              <a:xfrm>
                <a:off x="5415480" y="4673880"/>
                <a:ext cx="612000" cy="1056960"/>
                <a:chOff x="5415480" y="4673880"/>
                <a:chExt cx="612000" cy="1056960"/>
              </a:xfrm>
            </p:grpSpPr>
            <p:sp>
              <p:nvSpPr>
                <p:cNvPr id="2712" name="椭圆 30"/>
                <p:cNvSpPr/>
                <p:nvPr/>
              </p:nvSpPr>
              <p:spPr>
                <a:xfrm>
                  <a:off x="5415480" y="46738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3" name="Group 32"/>
              <p:cNvGrpSpPr/>
              <p:nvPr/>
            </p:nvGrpSpPr>
            <p:grpSpPr>
              <a:xfrm>
                <a:off x="1757160" y="4658400"/>
                <a:ext cx="612000" cy="1056960"/>
                <a:chOff x="1757160" y="4658400"/>
                <a:chExt cx="612000" cy="1056960"/>
              </a:xfrm>
            </p:grpSpPr>
            <p:sp>
              <p:nvSpPr>
                <p:cNvPr id="2714" name="椭圆 33"/>
                <p:cNvSpPr/>
                <p:nvPr/>
              </p:nvSpPr>
              <p:spPr>
                <a:xfrm>
                  <a:off x="175716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5" name="Group 35"/>
              <p:cNvGrpSpPr/>
              <p:nvPr/>
            </p:nvGrpSpPr>
            <p:grpSpPr>
              <a:xfrm>
                <a:off x="2493000" y="4682160"/>
                <a:ext cx="612000" cy="1056960"/>
                <a:chOff x="2493000" y="4682160"/>
                <a:chExt cx="612000" cy="1056960"/>
              </a:xfrm>
            </p:grpSpPr>
            <p:sp>
              <p:nvSpPr>
                <p:cNvPr id="2716" name="椭圆 36"/>
                <p:cNvSpPr/>
                <p:nvPr/>
              </p:nvSpPr>
              <p:spPr>
                <a:xfrm>
                  <a:off x="2493000" y="46821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7" name="Group 38"/>
              <p:cNvGrpSpPr/>
              <p:nvPr/>
            </p:nvGrpSpPr>
            <p:grpSpPr>
              <a:xfrm>
                <a:off x="3265920" y="4658400"/>
                <a:ext cx="612000" cy="1056960"/>
                <a:chOff x="3265920" y="4658400"/>
                <a:chExt cx="612000" cy="1056960"/>
              </a:xfrm>
            </p:grpSpPr>
            <p:sp>
              <p:nvSpPr>
                <p:cNvPr id="2718" name="椭圆 39"/>
                <p:cNvSpPr/>
                <p:nvPr/>
              </p:nvSpPr>
              <p:spPr>
                <a:xfrm>
                  <a:off x="326592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9" name="Group 41"/>
              <p:cNvGrpSpPr/>
              <p:nvPr/>
            </p:nvGrpSpPr>
            <p:grpSpPr>
              <a:xfrm>
                <a:off x="3970800" y="4658400"/>
                <a:ext cx="612000" cy="1056960"/>
                <a:chOff x="3970800" y="4658400"/>
                <a:chExt cx="612000" cy="1056960"/>
              </a:xfrm>
            </p:grpSpPr>
            <p:sp>
              <p:nvSpPr>
                <p:cNvPr id="2720" name="椭圆 42"/>
                <p:cNvSpPr/>
                <p:nvPr/>
              </p:nvSpPr>
              <p:spPr>
                <a:xfrm>
                  <a:off x="397080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1" name="Group 44"/>
              <p:cNvGrpSpPr/>
              <p:nvPr/>
            </p:nvGrpSpPr>
            <p:grpSpPr>
              <a:xfrm>
                <a:off x="4675680" y="4652640"/>
                <a:ext cx="612000" cy="1056960"/>
                <a:chOff x="4675680" y="4652640"/>
                <a:chExt cx="612000" cy="1056960"/>
              </a:xfrm>
            </p:grpSpPr>
            <p:sp>
              <p:nvSpPr>
                <p:cNvPr id="2722" name="椭圆 45"/>
                <p:cNvSpPr/>
                <p:nvPr/>
              </p:nvSpPr>
              <p:spPr>
                <a:xfrm>
                  <a:off x="467568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3" name="Group 47"/>
              <p:cNvGrpSpPr/>
              <p:nvPr/>
            </p:nvGrpSpPr>
            <p:grpSpPr>
              <a:xfrm>
                <a:off x="1052640" y="4652640"/>
                <a:ext cx="612000" cy="1056960"/>
                <a:chOff x="1052640" y="4652640"/>
                <a:chExt cx="612000" cy="1056960"/>
              </a:xfrm>
            </p:grpSpPr>
            <p:sp>
              <p:nvSpPr>
                <p:cNvPr id="2724" name="椭圆 48"/>
                <p:cNvSpPr/>
                <p:nvPr/>
              </p:nvSpPr>
              <p:spPr>
                <a:xfrm>
                  <a:off x="105264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5" name="Group 50"/>
              <p:cNvGrpSpPr/>
              <p:nvPr/>
            </p:nvGrpSpPr>
            <p:grpSpPr>
              <a:xfrm>
                <a:off x="6120360" y="4674600"/>
                <a:ext cx="612000" cy="1056960"/>
                <a:chOff x="6120360" y="4674600"/>
                <a:chExt cx="612000" cy="1056960"/>
              </a:xfrm>
            </p:grpSpPr>
            <p:sp>
              <p:nvSpPr>
                <p:cNvPr id="2726" name="椭圆 51"/>
                <p:cNvSpPr/>
                <p:nvPr/>
              </p:nvSpPr>
              <p:spPr>
                <a:xfrm>
                  <a:off x="6120360" y="4674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7" name="Group 53"/>
              <p:cNvGrpSpPr/>
              <p:nvPr/>
            </p:nvGrpSpPr>
            <p:grpSpPr>
              <a:xfrm>
                <a:off x="7549200" y="4658760"/>
                <a:ext cx="612000" cy="1056960"/>
                <a:chOff x="7549200" y="4658760"/>
                <a:chExt cx="612000" cy="1056960"/>
              </a:xfrm>
            </p:grpSpPr>
            <p:sp>
              <p:nvSpPr>
                <p:cNvPr id="2728" name="椭圆 54"/>
                <p:cNvSpPr/>
                <p:nvPr/>
              </p:nvSpPr>
              <p:spPr>
                <a:xfrm>
                  <a:off x="7549200" y="4658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9" name="Group 56"/>
              <p:cNvGrpSpPr/>
              <p:nvPr/>
            </p:nvGrpSpPr>
            <p:grpSpPr>
              <a:xfrm>
                <a:off x="6876360" y="4652640"/>
                <a:ext cx="612000" cy="1056960"/>
                <a:chOff x="6876360" y="4652640"/>
                <a:chExt cx="612000" cy="1056960"/>
              </a:xfrm>
            </p:grpSpPr>
            <p:sp>
              <p:nvSpPr>
                <p:cNvPr id="2730" name="椭圆 57"/>
                <p:cNvSpPr/>
                <p:nvPr/>
              </p:nvSpPr>
              <p:spPr>
                <a:xfrm>
                  <a:off x="687636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1" name="Group 59"/>
            <p:cNvGrpSpPr/>
            <p:nvPr/>
          </p:nvGrpSpPr>
          <p:grpSpPr>
            <a:xfrm>
              <a:off x="250920" y="5869800"/>
              <a:ext cx="8518320" cy="1086480"/>
              <a:chOff x="250920" y="5869800"/>
              <a:chExt cx="8518320" cy="1086480"/>
            </a:xfrm>
          </p:grpSpPr>
          <p:grpSp>
            <p:nvGrpSpPr>
              <p:cNvPr id="2732" name="Group 60"/>
              <p:cNvGrpSpPr/>
              <p:nvPr/>
            </p:nvGrpSpPr>
            <p:grpSpPr>
              <a:xfrm>
                <a:off x="4613760" y="5891040"/>
                <a:ext cx="612000" cy="1056960"/>
                <a:chOff x="4613760" y="5891040"/>
                <a:chExt cx="612000" cy="1056960"/>
              </a:xfrm>
            </p:grpSpPr>
            <p:sp>
              <p:nvSpPr>
                <p:cNvPr id="2733" name="椭圆 63"/>
                <p:cNvSpPr/>
                <p:nvPr/>
              </p:nvSpPr>
              <p:spPr>
                <a:xfrm>
                  <a:off x="4613760" y="5891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4" name="Group 63"/>
              <p:cNvGrpSpPr/>
              <p:nvPr/>
            </p:nvGrpSpPr>
            <p:grpSpPr>
              <a:xfrm>
                <a:off x="955440" y="5875560"/>
                <a:ext cx="612000" cy="1056960"/>
                <a:chOff x="955440" y="5875560"/>
                <a:chExt cx="612000" cy="1056960"/>
              </a:xfrm>
            </p:grpSpPr>
            <p:sp>
              <p:nvSpPr>
                <p:cNvPr id="2735" name="椭圆 66"/>
                <p:cNvSpPr/>
                <p:nvPr/>
              </p:nvSpPr>
              <p:spPr>
                <a:xfrm>
                  <a:off x="95544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6" name="Group 66"/>
              <p:cNvGrpSpPr/>
              <p:nvPr/>
            </p:nvGrpSpPr>
            <p:grpSpPr>
              <a:xfrm>
                <a:off x="1690920" y="5899320"/>
                <a:ext cx="612000" cy="1056960"/>
                <a:chOff x="1690920" y="5899320"/>
                <a:chExt cx="612000" cy="1056960"/>
              </a:xfrm>
            </p:grpSpPr>
            <p:sp>
              <p:nvSpPr>
                <p:cNvPr id="2737" name="椭圆 69"/>
                <p:cNvSpPr/>
                <p:nvPr/>
              </p:nvSpPr>
              <p:spPr>
                <a:xfrm>
                  <a:off x="169092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8" name="Group 69"/>
              <p:cNvGrpSpPr/>
              <p:nvPr/>
            </p:nvGrpSpPr>
            <p:grpSpPr>
              <a:xfrm>
                <a:off x="2464200" y="5875560"/>
                <a:ext cx="612000" cy="1056960"/>
                <a:chOff x="2464200" y="5875560"/>
                <a:chExt cx="612000" cy="1056960"/>
              </a:xfrm>
            </p:grpSpPr>
            <p:sp>
              <p:nvSpPr>
                <p:cNvPr id="2739" name="椭圆 72"/>
                <p:cNvSpPr/>
                <p:nvPr/>
              </p:nvSpPr>
              <p:spPr>
                <a:xfrm>
                  <a:off x="246420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0" name="Group 72"/>
              <p:cNvGrpSpPr/>
              <p:nvPr/>
            </p:nvGrpSpPr>
            <p:grpSpPr>
              <a:xfrm>
                <a:off x="3169080" y="5875560"/>
                <a:ext cx="612000" cy="1056960"/>
                <a:chOff x="3169080" y="5875560"/>
                <a:chExt cx="612000" cy="1056960"/>
              </a:xfrm>
            </p:grpSpPr>
            <p:sp>
              <p:nvSpPr>
                <p:cNvPr id="2741" name="椭圆 75"/>
                <p:cNvSpPr/>
                <p:nvPr/>
              </p:nvSpPr>
              <p:spPr>
                <a:xfrm>
                  <a:off x="316908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2" name="Group 75"/>
              <p:cNvGrpSpPr/>
              <p:nvPr/>
            </p:nvGrpSpPr>
            <p:grpSpPr>
              <a:xfrm>
                <a:off x="3873600" y="5869800"/>
                <a:ext cx="612000" cy="1056960"/>
                <a:chOff x="3873600" y="5869800"/>
                <a:chExt cx="612000" cy="1056960"/>
              </a:xfrm>
            </p:grpSpPr>
            <p:sp>
              <p:nvSpPr>
                <p:cNvPr id="2743" name="椭圆 78"/>
                <p:cNvSpPr/>
                <p:nvPr/>
              </p:nvSpPr>
              <p:spPr>
                <a:xfrm>
                  <a:off x="387360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4" name="Group 78"/>
              <p:cNvGrpSpPr/>
              <p:nvPr/>
            </p:nvGrpSpPr>
            <p:grpSpPr>
              <a:xfrm>
                <a:off x="250920" y="5869800"/>
                <a:ext cx="612000" cy="1056960"/>
                <a:chOff x="250920" y="5869800"/>
                <a:chExt cx="612000" cy="1056960"/>
              </a:xfrm>
            </p:grpSpPr>
            <p:sp>
              <p:nvSpPr>
                <p:cNvPr id="2745" name="椭圆 81"/>
                <p:cNvSpPr/>
                <p:nvPr/>
              </p:nvSpPr>
              <p:spPr>
                <a:xfrm>
                  <a:off x="25092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6" name="Group 81"/>
              <p:cNvGrpSpPr/>
              <p:nvPr/>
            </p:nvGrpSpPr>
            <p:grpSpPr>
              <a:xfrm>
                <a:off x="5318280" y="5891760"/>
                <a:ext cx="612000" cy="1056960"/>
                <a:chOff x="5318280" y="5891760"/>
                <a:chExt cx="612000" cy="1056960"/>
              </a:xfrm>
            </p:grpSpPr>
            <p:sp>
              <p:nvSpPr>
                <p:cNvPr id="2747" name="椭圆 84"/>
                <p:cNvSpPr/>
                <p:nvPr/>
              </p:nvSpPr>
              <p:spPr>
                <a:xfrm>
                  <a:off x="5318280" y="5891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8" name="Group 84"/>
              <p:cNvGrpSpPr/>
              <p:nvPr/>
            </p:nvGrpSpPr>
            <p:grpSpPr>
              <a:xfrm>
                <a:off x="6747120" y="5875920"/>
                <a:ext cx="612000" cy="1056960"/>
                <a:chOff x="6747120" y="5875920"/>
                <a:chExt cx="612000" cy="1056960"/>
              </a:xfrm>
            </p:grpSpPr>
            <p:sp>
              <p:nvSpPr>
                <p:cNvPr id="2749" name="椭圆 87"/>
                <p:cNvSpPr/>
                <p:nvPr/>
              </p:nvSpPr>
              <p:spPr>
                <a:xfrm>
                  <a:off x="6747120" y="5875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0" name="Group 87"/>
              <p:cNvGrpSpPr/>
              <p:nvPr/>
            </p:nvGrpSpPr>
            <p:grpSpPr>
              <a:xfrm>
                <a:off x="6074640" y="5869800"/>
                <a:ext cx="612000" cy="1056960"/>
                <a:chOff x="6074640" y="5869800"/>
                <a:chExt cx="612000" cy="1056960"/>
              </a:xfrm>
            </p:grpSpPr>
            <p:sp>
              <p:nvSpPr>
                <p:cNvPr id="2751" name="椭圆 90"/>
                <p:cNvSpPr/>
                <p:nvPr/>
              </p:nvSpPr>
              <p:spPr>
                <a:xfrm>
                  <a:off x="607464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2" name="Group 90"/>
              <p:cNvGrpSpPr/>
              <p:nvPr/>
            </p:nvGrpSpPr>
            <p:grpSpPr>
              <a:xfrm>
                <a:off x="7452360" y="5898600"/>
                <a:ext cx="612000" cy="1056960"/>
                <a:chOff x="7452360" y="5898600"/>
                <a:chExt cx="612000" cy="1056960"/>
              </a:xfrm>
            </p:grpSpPr>
            <p:sp>
              <p:nvSpPr>
                <p:cNvPr id="2753" name="椭圆 93"/>
                <p:cNvSpPr/>
                <p:nvPr/>
              </p:nvSpPr>
              <p:spPr>
                <a:xfrm>
                  <a:off x="7452360" y="5898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4" name="Group 93"/>
              <p:cNvGrpSpPr/>
              <p:nvPr/>
            </p:nvGrpSpPr>
            <p:grpSpPr>
              <a:xfrm>
                <a:off x="8157240" y="5899320"/>
                <a:ext cx="612000" cy="1056960"/>
                <a:chOff x="8157240" y="5899320"/>
                <a:chExt cx="612000" cy="1056960"/>
              </a:xfrm>
            </p:grpSpPr>
            <p:sp>
              <p:nvSpPr>
                <p:cNvPr id="2755" name="椭圆 96"/>
                <p:cNvSpPr/>
                <p:nvPr/>
              </p:nvSpPr>
              <p:spPr>
                <a:xfrm>
                  <a:off x="815724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6" name="Group 96"/>
            <p:cNvGrpSpPr/>
            <p:nvPr/>
          </p:nvGrpSpPr>
          <p:grpSpPr>
            <a:xfrm>
              <a:off x="2411280" y="1773000"/>
              <a:ext cx="4212720" cy="1079640"/>
              <a:chOff x="2411280" y="1773000"/>
              <a:chExt cx="4212720" cy="1079640"/>
            </a:xfrm>
          </p:grpSpPr>
          <p:grpSp>
            <p:nvGrpSpPr>
              <p:cNvPr id="2757" name="Group 97"/>
              <p:cNvGrpSpPr/>
              <p:nvPr/>
            </p:nvGrpSpPr>
            <p:grpSpPr>
              <a:xfrm>
                <a:off x="4560480" y="1794240"/>
                <a:ext cx="612000" cy="1056600"/>
                <a:chOff x="4560480" y="1794240"/>
                <a:chExt cx="612000" cy="1056600"/>
              </a:xfrm>
            </p:grpSpPr>
            <p:sp>
              <p:nvSpPr>
                <p:cNvPr id="2758" name="椭圆 99"/>
                <p:cNvSpPr/>
                <p:nvPr/>
              </p:nvSpPr>
              <p:spPr>
                <a:xfrm>
                  <a:off x="4560480" y="17942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9" name="Group 100"/>
              <p:cNvGrpSpPr/>
              <p:nvPr/>
            </p:nvGrpSpPr>
            <p:grpSpPr>
              <a:xfrm>
                <a:off x="2411280" y="1778760"/>
                <a:ext cx="612000" cy="1056600"/>
                <a:chOff x="2411280" y="1778760"/>
                <a:chExt cx="612000" cy="1056600"/>
              </a:xfrm>
            </p:grpSpPr>
            <p:sp>
              <p:nvSpPr>
                <p:cNvPr id="2760" name="椭圆 102"/>
                <p:cNvSpPr/>
                <p:nvPr/>
              </p:nvSpPr>
              <p:spPr>
                <a:xfrm>
                  <a:off x="241128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1" name="Group 103"/>
              <p:cNvGrpSpPr/>
              <p:nvPr/>
            </p:nvGrpSpPr>
            <p:grpSpPr>
              <a:xfrm>
                <a:off x="3115800" y="1778760"/>
                <a:ext cx="612000" cy="1056600"/>
                <a:chOff x="3115800" y="1778760"/>
                <a:chExt cx="612000" cy="1056600"/>
              </a:xfrm>
            </p:grpSpPr>
            <p:sp>
              <p:nvSpPr>
                <p:cNvPr id="2762" name="椭圆 105"/>
                <p:cNvSpPr/>
                <p:nvPr/>
              </p:nvSpPr>
              <p:spPr>
                <a:xfrm>
                  <a:off x="311580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3" name="Group 106"/>
              <p:cNvGrpSpPr/>
              <p:nvPr/>
            </p:nvGrpSpPr>
            <p:grpSpPr>
              <a:xfrm>
                <a:off x="3820680" y="1773000"/>
                <a:ext cx="612000" cy="1056600"/>
                <a:chOff x="3820680" y="1773000"/>
                <a:chExt cx="612000" cy="1056600"/>
              </a:xfrm>
            </p:grpSpPr>
            <p:sp>
              <p:nvSpPr>
                <p:cNvPr id="2764" name="椭圆 108"/>
                <p:cNvSpPr/>
                <p:nvPr/>
              </p:nvSpPr>
              <p:spPr>
                <a:xfrm>
                  <a:off x="3820680" y="177300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5" name="Group 109"/>
              <p:cNvGrpSpPr/>
              <p:nvPr/>
            </p:nvGrpSpPr>
            <p:grpSpPr>
              <a:xfrm>
                <a:off x="5265360" y="1794960"/>
                <a:ext cx="612000" cy="1056600"/>
                <a:chOff x="5265360" y="1794960"/>
                <a:chExt cx="612000" cy="1056600"/>
              </a:xfrm>
            </p:grpSpPr>
            <p:sp>
              <p:nvSpPr>
                <p:cNvPr id="2766" name="椭圆 111"/>
                <p:cNvSpPr/>
                <p:nvPr/>
              </p:nvSpPr>
              <p:spPr>
                <a:xfrm>
                  <a:off x="5265360" y="17949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7" name="Group 112"/>
              <p:cNvGrpSpPr/>
              <p:nvPr/>
            </p:nvGrpSpPr>
            <p:grpSpPr>
              <a:xfrm>
                <a:off x="6012000" y="1796040"/>
                <a:ext cx="612000" cy="1056600"/>
                <a:chOff x="6012000" y="1796040"/>
                <a:chExt cx="612000" cy="1056600"/>
              </a:xfrm>
            </p:grpSpPr>
            <p:sp>
              <p:nvSpPr>
                <p:cNvPr id="2768" name="椭圆 120"/>
                <p:cNvSpPr/>
                <p:nvPr/>
              </p:nvSpPr>
              <p:spPr>
                <a:xfrm>
                  <a:off x="6012000" y="17960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9" name="Group 115"/>
            <p:cNvGrpSpPr/>
            <p:nvPr/>
          </p:nvGrpSpPr>
          <p:grpSpPr>
            <a:xfrm>
              <a:off x="3182760" y="355680"/>
              <a:ext cx="2705760" cy="1057320"/>
              <a:chOff x="3182760" y="355680"/>
              <a:chExt cx="2705760" cy="1057320"/>
            </a:xfrm>
          </p:grpSpPr>
          <p:grpSp>
            <p:nvGrpSpPr>
              <p:cNvPr id="2770" name="Group 116"/>
              <p:cNvGrpSpPr/>
              <p:nvPr/>
            </p:nvGrpSpPr>
            <p:grpSpPr>
              <a:xfrm>
                <a:off x="3182760" y="355680"/>
                <a:ext cx="612000" cy="1056960"/>
                <a:chOff x="3182760" y="355680"/>
                <a:chExt cx="612000" cy="1056960"/>
              </a:xfrm>
            </p:grpSpPr>
            <p:sp>
              <p:nvSpPr>
                <p:cNvPr id="2771" name="椭圆 114"/>
                <p:cNvSpPr/>
                <p:nvPr/>
              </p:nvSpPr>
              <p:spPr>
                <a:xfrm>
                  <a:off x="318276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2" name="Group 119"/>
              <p:cNvGrpSpPr/>
              <p:nvPr/>
            </p:nvGrpSpPr>
            <p:grpSpPr>
              <a:xfrm>
                <a:off x="3887280" y="356040"/>
                <a:ext cx="612000" cy="1056960"/>
                <a:chOff x="3887280" y="356040"/>
                <a:chExt cx="612000" cy="1056960"/>
              </a:xfrm>
            </p:grpSpPr>
            <p:sp>
              <p:nvSpPr>
                <p:cNvPr id="2773" name="椭圆 117"/>
                <p:cNvSpPr/>
                <p:nvPr/>
              </p:nvSpPr>
              <p:spPr>
                <a:xfrm>
                  <a:off x="388728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4" name="Group 122"/>
              <p:cNvGrpSpPr/>
              <p:nvPr/>
            </p:nvGrpSpPr>
            <p:grpSpPr>
              <a:xfrm>
                <a:off x="4571640" y="356040"/>
                <a:ext cx="612000" cy="1056960"/>
                <a:chOff x="4571640" y="356040"/>
                <a:chExt cx="612000" cy="1056960"/>
              </a:xfrm>
            </p:grpSpPr>
            <p:sp>
              <p:nvSpPr>
                <p:cNvPr id="2775" name="椭圆 123"/>
                <p:cNvSpPr/>
                <p:nvPr/>
              </p:nvSpPr>
              <p:spPr>
                <a:xfrm>
                  <a:off x="457164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6" name="Group 125"/>
              <p:cNvGrpSpPr/>
              <p:nvPr/>
            </p:nvGrpSpPr>
            <p:grpSpPr>
              <a:xfrm>
                <a:off x="5276520" y="355680"/>
                <a:ext cx="612000" cy="1056960"/>
                <a:chOff x="5276520" y="355680"/>
                <a:chExt cx="612000" cy="1056960"/>
              </a:xfrm>
            </p:grpSpPr>
            <p:sp>
              <p:nvSpPr>
                <p:cNvPr id="2777" name="椭圆 126"/>
                <p:cNvSpPr/>
                <p:nvPr/>
              </p:nvSpPr>
              <p:spPr>
                <a:xfrm>
                  <a:off x="527652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8" name="页脚占位符 8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矩形 2"/>
          <p:cNvSpPr/>
          <p:nvPr/>
        </p:nvSpPr>
        <p:spPr>
          <a:xfrm>
            <a:off x="1705320" y="2637000"/>
            <a:ext cx="54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奏响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最美的乐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3"/>
          <p:cNvSpPr/>
          <p:nvPr/>
        </p:nvSpPr>
        <p:spPr>
          <a:xfrm>
            <a:off x="2184480" y="389736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2" name="Group 2"/>
          <p:cNvGrpSpPr/>
          <p:nvPr/>
        </p:nvGrpSpPr>
        <p:grpSpPr>
          <a:xfrm>
            <a:off x="3654360" y="6831000"/>
            <a:ext cx="1459080" cy="1368360"/>
            <a:chOff x="3654360" y="6831000"/>
            <a:chExt cx="1459080" cy="1368360"/>
          </a:xfrm>
        </p:grpSpPr>
        <p:grpSp>
          <p:nvGrpSpPr>
            <p:cNvPr id="2783" name="Group 3"/>
            <p:cNvGrpSpPr/>
            <p:nvPr/>
          </p:nvGrpSpPr>
          <p:grpSpPr>
            <a:xfrm>
              <a:off x="4061520" y="7263000"/>
              <a:ext cx="576000" cy="504000"/>
              <a:chOff x="4061520" y="7263000"/>
              <a:chExt cx="576000" cy="504000"/>
            </a:xfrm>
          </p:grpSpPr>
          <p:sp>
            <p:nvSpPr>
              <p:cNvPr id="2784" name="直接连接符 2"/>
              <p:cNvSpPr/>
              <p:nvPr/>
            </p:nvSpPr>
            <p:spPr>
              <a:xfrm flipH="1">
                <a:off x="4061520" y="7263000"/>
                <a:ext cx="215640" cy="504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直接连接符 3"/>
              <p:cNvSpPr/>
              <p:nvPr/>
            </p:nvSpPr>
            <p:spPr>
              <a:xfrm>
                <a:off x="4061880" y="7767000"/>
                <a:ext cx="57564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直接连接符 4"/>
              <p:cNvSpPr/>
              <p:nvPr/>
            </p:nvSpPr>
            <p:spPr>
              <a:xfrm flipH="1" flipV="1">
                <a:off x="4349160" y="7335000"/>
                <a:ext cx="287640" cy="432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直接连接符 5"/>
              <p:cNvSpPr/>
              <p:nvPr/>
            </p:nvSpPr>
            <p:spPr>
              <a:xfrm flipH="1">
                <a:off x="4214520" y="7339680"/>
                <a:ext cx="143640" cy="288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直接连接符 6"/>
              <p:cNvSpPr/>
              <p:nvPr/>
            </p:nvSpPr>
            <p:spPr>
              <a:xfrm flipH="1" flipV="1">
                <a:off x="4205880" y="7628040"/>
                <a:ext cx="231120" cy="669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直接连接符 7"/>
              <p:cNvSpPr/>
              <p:nvPr/>
            </p:nvSpPr>
            <p:spPr>
              <a:xfrm>
                <a:off x="4358880" y="7483680"/>
                <a:ext cx="78120" cy="2077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0" name="直接连接符 8"/>
            <p:cNvSpPr/>
            <p:nvPr/>
          </p:nvSpPr>
          <p:spPr>
            <a:xfrm>
              <a:off x="4853880" y="7839360"/>
              <a:ext cx="259560" cy="18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直接连接符 9"/>
            <p:cNvSpPr/>
            <p:nvPr/>
          </p:nvSpPr>
          <p:spPr>
            <a:xfrm flipV="1">
              <a:off x="4321440" y="6831000"/>
              <a:ext cx="0" cy="279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直接连接符 10"/>
            <p:cNvSpPr/>
            <p:nvPr/>
          </p:nvSpPr>
          <p:spPr>
            <a:xfrm>
              <a:off x="3654360" y="7225920"/>
              <a:ext cx="263520" cy="109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直接连接符 11"/>
            <p:cNvSpPr/>
            <p:nvPr/>
          </p:nvSpPr>
          <p:spPr>
            <a:xfrm flipV="1">
              <a:off x="4709880" y="7190640"/>
              <a:ext cx="239760" cy="115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直接连接符 12"/>
            <p:cNvSpPr/>
            <p:nvPr/>
          </p:nvSpPr>
          <p:spPr>
            <a:xfrm flipH="1">
              <a:off x="4360320" y="7911360"/>
              <a:ext cx="23760" cy="288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直接连接符 13"/>
            <p:cNvSpPr/>
            <p:nvPr/>
          </p:nvSpPr>
          <p:spPr>
            <a:xfrm flipH="1">
              <a:off x="3723840" y="7911360"/>
              <a:ext cx="193320" cy="10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6" name="页脚占位符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5"/>
          <p:cNvSpPr/>
          <p:nvPr/>
        </p:nvSpPr>
        <p:spPr>
          <a:xfrm>
            <a:off x="287280" y="638172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3.33333E-006 L 0.01285 -0.85833 E">
                                      <p:cBhvr>
                                        <p:cTn id="407" dur="2000" fill="hold"/>
                                        <p:tgtEl>
                                          <p:spTgt spid="2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矩形 1"/>
          <p:cNvSpPr/>
          <p:nvPr/>
        </p:nvSpPr>
        <p:spPr>
          <a:xfrm>
            <a:off x="2846880" y="263700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1081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3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grpSp>
          <p:nvGrpSpPr>
            <p:cNvPr id="1091" name="Group 3"/>
            <p:cNvGrpSpPr/>
            <p:nvPr/>
          </p:nvGrpSpPr>
          <p:grpSpPr>
            <a:xfrm>
              <a:off x="71280" y="142920"/>
              <a:ext cx="8786880" cy="6643800"/>
              <a:chOff x="71280" y="142920"/>
              <a:chExt cx="8786880" cy="6643800"/>
            </a:xfrm>
          </p:grpSpPr>
          <p:sp>
            <p:nvSpPr>
              <p:cNvPr id="1092" name="圆角矩形 2"/>
              <p:cNvSpPr/>
              <p:nvPr/>
            </p:nvSpPr>
            <p:spPr>
              <a:xfrm>
                <a:off x="71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3"/>
              <p:cNvSpPr/>
              <p:nvPr/>
            </p:nvSpPr>
            <p:spPr>
              <a:xfrm>
                <a:off x="4284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圆角矩形 4"/>
              <p:cNvSpPr/>
              <p:nvPr/>
            </p:nvSpPr>
            <p:spPr>
              <a:xfrm>
                <a:off x="7855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5"/>
              <p:cNvSpPr/>
              <p:nvPr/>
            </p:nvSpPr>
            <p:spPr>
              <a:xfrm>
                <a:off x="11426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圆角矩形 6"/>
              <p:cNvSpPr/>
              <p:nvPr/>
            </p:nvSpPr>
            <p:spPr>
              <a:xfrm>
                <a:off x="1499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 7"/>
              <p:cNvSpPr/>
              <p:nvPr/>
            </p:nvSpPr>
            <p:spPr>
              <a:xfrm>
                <a:off x="1857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8"/>
              <p:cNvSpPr/>
              <p:nvPr/>
            </p:nvSpPr>
            <p:spPr>
              <a:xfrm>
                <a:off x="22143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圆角矩形 9"/>
              <p:cNvSpPr/>
              <p:nvPr/>
            </p:nvSpPr>
            <p:spPr>
              <a:xfrm>
                <a:off x="25714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10"/>
              <p:cNvSpPr/>
              <p:nvPr/>
            </p:nvSpPr>
            <p:spPr>
              <a:xfrm>
                <a:off x="29286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圆角矩形 11"/>
              <p:cNvSpPr/>
              <p:nvPr/>
            </p:nvSpPr>
            <p:spPr>
              <a:xfrm>
                <a:off x="32860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圆角矩形 12"/>
              <p:cNvSpPr/>
              <p:nvPr/>
            </p:nvSpPr>
            <p:spPr>
              <a:xfrm>
                <a:off x="36432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13"/>
              <p:cNvSpPr/>
              <p:nvPr/>
            </p:nvSpPr>
            <p:spPr>
              <a:xfrm>
                <a:off x="40003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圆角矩形 14"/>
              <p:cNvSpPr/>
              <p:nvPr/>
            </p:nvSpPr>
            <p:spPr>
              <a:xfrm>
                <a:off x="43574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15"/>
              <p:cNvSpPr/>
              <p:nvPr/>
            </p:nvSpPr>
            <p:spPr>
              <a:xfrm>
                <a:off x="47149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圆角矩形 16"/>
              <p:cNvSpPr/>
              <p:nvPr/>
            </p:nvSpPr>
            <p:spPr>
              <a:xfrm>
                <a:off x="50720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圆角矩形 17"/>
              <p:cNvSpPr/>
              <p:nvPr/>
            </p:nvSpPr>
            <p:spPr>
              <a:xfrm>
                <a:off x="54291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18"/>
              <p:cNvSpPr/>
              <p:nvPr/>
            </p:nvSpPr>
            <p:spPr>
              <a:xfrm>
                <a:off x="5786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圆角矩形 19"/>
              <p:cNvSpPr/>
              <p:nvPr/>
            </p:nvSpPr>
            <p:spPr>
              <a:xfrm>
                <a:off x="6143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20"/>
              <p:cNvSpPr/>
              <p:nvPr/>
            </p:nvSpPr>
            <p:spPr>
              <a:xfrm>
                <a:off x="65008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圆角矩形 21"/>
              <p:cNvSpPr/>
              <p:nvPr/>
            </p:nvSpPr>
            <p:spPr>
              <a:xfrm>
                <a:off x="68580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圆角矩形 22"/>
              <p:cNvSpPr/>
              <p:nvPr/>
            </p:nvSpPr>
            <p:spPr>
              <a:xfrm>
                <a:off x="72151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圆角矩形 23"/>
              <p:cNvSpPr/>
              <p:nvPr/>
            </p:nvSpPr>
            <p:spPr>
              <a:xfrm>
                <a:off x="7572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圆角矩形 24"/>
              <p:cNvSpPr/>
              <p:nvPr/>
            </p:nvSpPr>
            <p:spPr>
              <a:xfrm>
                <a:off x="79297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圆角矩形 25"/>
              <p:cNvSpPr/>
              <p:nvPr/>
            </p:nvSpPr>
            <p:spPr>
              <a:xfrm>
                <a:off x="82868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圆角矩形 26"/>
              <p:cNvSpPr/>
              <p:nvPr/>
            </p:nvSpPr>
            <p:spPr>
              <a:xfrm>
                <a:off x="86439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圆角矩形 27"/>
              <p:cNvSpPr/>
              <p:nvPr/>
            </p:nvSpPr>
            <p:spPr>
              <a:xfrm>
                <a:off x="71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圆角矩形 28"/>
              <p:cNvSpPr/>
              <p:nvPr/>
            </p:nvSpPr>
            <p:spPr>
              <a:xfrm>
                <a:off x="4284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圆角矩形 29"/>
              <p:cNvSpPr/>
              <p:nvPr/>
            </p:nvSpPr>
            <p:spPr>
              <a:xfrm>
                <a:off x="7855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圆角矩形 30"/>
              <p:cNvSpPr/>
              <p:nvPr/>
            </p:nvSpPr>
            <p:spPr>
              <a:xfrm>
                <a:off x="11426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圆角矩形 31"/>
              <p:cNvSpPr/>
              <p:nvPr/>
            </p:nvSpPr>
            <p:spPr>
              <a:xfrm>
                <a:off x="1499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圆角矩形 32"/>
              <p:cNvSpPr/>
              <p:nvPr/>
            </p:nvSpPr>
            <p:spPr>
              <a:xfrm>
                <a:off x="1857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圆角矩形 33"/>
              <p:cNvSpPr/>
              <p:nvPr/>
            </p:nvSpPr>
            <p:spPr>
              <a:xfrm>
                <a:off x="22143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圆角矩形 34"/>
              <p:cNvSpPr/>
              <p:nvPr/>
            </p:nvSpPr>
            <p:spPr>
              <a:xfrm>
                <a:off x="25714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圆角矩形 35"/>
              <p:cNvSpPr/>
              <p:nvPr/>
            </p:nvSpPr>
            <p:spPr>
              <a:xfrm>
                <a:off x="29286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圆角矩形 36"/>
              <p:cNvSpPr/>
              <p:nvPr/>
            </p:nvSpPr>
            <p:spPr>
              <a:xfrm>
                <a:off x="32860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圆角矩形 37"/>
              <p:cNvSpPr/>
              <p:nvPr/>
            </p:nvSpPr>
            <p:spPr>
              <a:xfrm>
                <a:off x="36432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38"/>
              <p:cNvSpPr/>
              <p:nvPr/>
            </p:nvSpPr>
            <p:spPr>
              <a:xfrm>
                <a:off x="40003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39"/>
              <p:cNvSpPr/>
              <p:nvPr/>
            </p:nvSpPr>
            <p:spPr>
              <a:xfrm>
                <a:off x="43574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40"/>
              <p:cNvSpPr/>
              <p:nvPr/>
            </p:nvSpPr>
            <p:spPr>
              <a:xfrm>
                <a:off x="47149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圆角矩形 41"/>
              <p:cNvSpPr/>
              <p:nvPr/>
            </p:nvSpPr>
            <p:spPr>
              <a:xfrm>
                <a:off x="50720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圆角矩形 42"/>
              <p:cNvSpPr/>
              <p:nvPr/>
            </p:nvSpPr>
            <p:spPr>
              <a:xfrm>
                <a:off x="54291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圆角矩形 43"/>
              <p:cNvSpPr/>
              <p:nvPr/>
            </p:nvSpPr>
            <p:spPr>
              <a:xfrm>
                <a:off x="5786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圆角矩形 44"/>
              <p:cNvSpPr/>
              <p:nvPr/>
            </p:nvSpPr>
            <p:spPr>
              <a:xfrm>
                <a:off x="6143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圆角矩形 45"/>
              <p:cNvSpPr/>
              <p:nvPr/>
            </p:nvSpPr>
            <p:spPr>
              <a:xfrm>
                <a:off x="65008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46"/>
              <p:cNvSpPr/>
              <p:nvPr/>
            </p:nvSpPr>
            <p:spPr>
              <a:xfrm>
                <a:off x="68580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47"/>
              <p:cNvSpPr/>
              <p:nvPr/>
            </p:nvSpPr>
            <p:spPr>
              <a:xfrm>
                <a:off x="72151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48"/>
              <p:cNvSpPr/>
              <p:nvPr/>
            </p:nvSpPr>
            <p:spPr>
              <a:xfrm>
                <a:off x="7572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49"/>
              <p:cNvSpPr/>
              <p:nvPr/>
            </p:nvSpPr>
            <p:spPr>
              <a:xfrm>
                <a:off x="79297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50"/>
              <p:cNvSpPr/>
              <p:nvPr/>
            </p:nvSpPr>
            <p:spPr>
              <a:xfrm>
                <a:off x="82868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51"/>
              <p:cNvSpPr/>
              <p:nvPr/>
            </p:nvSpPr>
            <p:spPr>
              <a:xfrm>
                <a:off x="86439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Group 54"/>
            <p:cNvGrpSpPr/>
            <p:nvPr/>
          </p:nvGrpSpPr>
          <p:grpSpPr>
            <a:xfrm>
              <a:off x="1428480" y="1700640"/>
              <a:ext cx="6286680" cy="3456360"/>
              <a:chOff x="1428480" y="1700640"/>
              <a:chExt cx="6286680" cy="3456360"/>
            </a:xfrm>
          </p:grpSpPr>
          <p:sp>
            <p:nvSpPr>
              <p:cNvPr id="1143" name="圆角矩形 103"/>
              <p:cNvSpPr/>
              <p:nvPr/>
            </p:nvSpPr>
            <p:spPr>
              <a:xfrm>
                <a:off x="1428480" y="1700640"/>
                <a:ext cx="6286680" cy="3456360"/>
              </a:xfrm>
              <a:prstGeom prst="roundRect">
                <a:avLst>
                  <a:gd name="adj" fmla="val 16667"/>
                </a:avLst>
              </a:prstGeom>
              <a:noFill/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矩形 104"/>
              <p:cNvSpPr/>
              <p:nvPr/>
            </p:nvSpPr>
            <p:spPr>
              <a:xfrm>
                <a:off x="2603880" y="2967120"/>
                <a:ext cx="3935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ffff"/>
                    </a:solidFill>
                    <a:latin typeface="华康少女文字W5(P)"/>
                    <a:ea typeface="华康少女文字W5(P)"/>
                  </a:rPr>
                  <a:t>电影里的</a:t>
                </a:r>
                <a:r>
                  <a:rPr b="1" lang="en-US" sz="6000" spc="-1" strike="noStrike">
                    <a:solidFill>
                      <a:srgbClr val="ffffff"/>
                    </a:solidFill>
                    <a:latin typeface="华康少女文字W5(P)"/>
                    <a:ea typeface="华康少女文字W5(P)"/>
                  </a:rPr>
                  <a:t>201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页脚占位符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矩形 1"/>
          <p:cNvSpPr/>
          <p:nvPr/>
        </p:nvSpPr>
        <p:spPr>
          <a:xfrm>
            <a:off x="2914920" y="2970720"/>
            <a:ext cx="33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山崩地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148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199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9" dur="5000" fill="hold"/>
                                        <p:tgtEl>
                                          <p:spTgt spid="1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" dur="50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Group 2"/>
          <p:cNvGrpSpPr/>
          <p:nvPr/>
        </p:nvGrpSpPr>
        <p:grpSpPr>
          <a:xfrm>
            <a:off x="-304920" y="1304640"/>
            <a:ext cx="9576000" cy="5327280"/>
            <a:chOff x="-304920" y="1304640"/>
            <a:chExt cx="9576000" cy="5327280"/>
          </a:xfrm>
        </p:grpSpPr>
        <p:sp>
          <p:nvSpPr>
            <p:cNvPr id="1251" name="直接连接符 6"/>
            <p:cNvSpPr/>
            <p:nvPr/>
          </p:nvSpPr>
          <p:spPr>
            <a:xfrm flipV="1">
              <a:off x="-304920" y="4904280"/>
              <a:ext cx="432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直接连接符 8"/>
            <p:cNvSpPr/>
            <p:nvPr/>
          </p:nvSpPr>
          <p:spPr>
            <a:xfrm>
              <a:off x="127080" y="4904640"/>
              <a:ext cx="216000" cy="720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直接连接符 10"/>
            <p:cNvSpPr/>
            <p:nvPr/>
          </p:nvSpPr>
          <p:spPr>
            <a:xfrm flipV="1">
              <a:off x="343080" y="2744640"/>
              <a:ext cx="504000" cy="287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直接连接符 12"/>
            <p:cNvSpPr/>
            <p:nvPr/>
          </p:nvSpPr>
          <p:spPr>
            <a:xfrm>
              <a:off x="847080" y="274500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直接连接符 14"/>
            <p:cNvSpPr/>
            <p:nvPr/>
          </p:nvSpPr>
          <p:spPr>
            <a:xfrm>
              <a:off x="1567080" y="2745000"/>
              <a:ext cx="432000" cy="215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直接连接符 18"/>
            <p:cNvSpPr/>
            <p:nvPr/>
          </p:nvSpPr>
          <p:spPr>
            <a:xfrm flipV="1">
              <a:off x="1999080" y="2096280"/>
              <a:ext cx="432000" cy="280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直接连接符 20"/>
            <p:cNvSpPr/>
            <p:nvPr/>
          </p:nvSpPr>
          <p:spPr>
            <a:xfrm>
              <a:off x="2431080" y="209664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直接连接符 22"/>
            <p:cNvSpPr/>
            <p:nvPr/>
          </p:nvSpPr>
          <p:spPr>
            <a:xfrm>
              <a:off x="3151080" y="2096640"/>
              <a:ext cx="288000" cy="19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直接连接符 24"/>
            <p:cNvSpPr/>
            <p:nvPr/>
          </p:nvSpPr>
          <p:spPr>
            <a:xfrm flipV="1">
              <a:off x="3439080" y="1304640"/>
              <a:ext cx="864000" cy="273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直接连接符 26"/>
            <p:cNvSpPr/>
            <p:nvPr/>
          </p:nvSpPr>
          <p:spPr>
            <a:xfrm>
              <a:off x="4303080" y="1305000"/>
              <a:ext cx="720000" cy="37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直接连接符 28"/>
            <p:cNvSpPr/>
            <p:nvPr/>
          </p:nvSpPr>
          <p:spPr>
            <a:xfrm flipV="1">
              <a:off x="5023080" y="2744640"/>
              <a:ext cx="432000" cy="230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直接连接符 30"/>
            <p:cNvSpPr/>
            <p:nvPr/>
          </p:nvSpPr>
          <p:spPr>
            <a:xfrm>
              <a:off x="5455080" y="2745000"/>
              <a:ext cx="576000" cy="251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直接连接符 32"/>
            <p:cNvSpPr/>
            <p:nvPr/>
          </p:nvSpPr>
          <p:spPr>
            <a:xfrm flipV="1">
              <a:off x="6031080" y="3896280"/>
              <a:ext cx="504000" cy="136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直接连接符 34"/>
            <p:cNvSpPr/>
            <p:nvPr/>
          </p:nvSpPr>
          <p:spPr>
            <a:xfrm>
              <a:off x="6535080" y="3896640"/>
              <a:ext cx="576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直接连接符 36"/>
            <p:cNvSpPr/>
            <p:nvPr/>
          </p:nvSpPr>
          <p:spPr>
            <a:xfrm>
              <a:off x="7111080" y="3926880"/>
              <a:ext cx="504000" cy="158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直接连接符 38"/>
            <p:cNvSpPr/>
            <p:nvPr/>
          </p:nvSpPr>
          <p:spPr>
            <a:xfrm flipV="1">
              <a:off x="7615080" y="3176280"/>
              <a:ext cx="648000" cy="23338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直接连接符 40"/>
            <p:cNvSpPr/>
            <p:nvPr/>
          </p:nvSpPr>
          <p:spPr>
            <a:xfrm>
              <a:off x="8263080" y="3176640"/>
              <a:ext cx="360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直接连接符 42"/>
            <p:cNvSpPr/>
            <p:nvPr/>
          </p:nvSpPr>
          <p:spPr>
            <a:xfrm flipV="1">
              <a:off x="8623080" y="3608280"/>
              <a:ext cx="648000" cy="129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1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270" name="圆角矩形 2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2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圆角矩形 27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29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圆角矩形 31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圆角矩形 3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35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圆角矩形 37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圆角矩形 39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圆角矩形 4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圆角矩形 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圆角矩形 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圆角矩形 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圆角矩形 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圆角矩形 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圆角矩形 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圆角矩形 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圆角矩形 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圆角矩形 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圆角矩形 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圆角矩形 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圆角矩形 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圆角矩形 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圆角矩形 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圆角矩形 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圆角矩形 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圆角矩形 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圆角矩形 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圆角矩形 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圆角矩形 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圆角矩形 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圆角矩形 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圆角矩形 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圆角矩形 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圆角矩形 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圆角矩形 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圆角矩形 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圆角矩形 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圆角矩形 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 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圆角矩形 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圆角矩形 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圆角矩形 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圆角矩形 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圆角矩形 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圆角矩形 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圆角矩形 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72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321" name="圆角矩形 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圆角矩形 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圆角矩形 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圆角矩形 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圆角矩形 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圆角矩形 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圆角矩形 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圆角矩形 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圆角矩形 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圆角矩形 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圆角矩形 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圆角矩形 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圆角矩形 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圆角矩形 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圆角矩形 1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圆角矩形 1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圆角矩形 1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圆角矩形 1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圆角矩形 1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圆角矩形 1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圆角矩形 1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圆角矩形 1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1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圆角矩形 1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圆角矩形 1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圆角矩形 1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圆角矩形 1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圆角矩形 1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圆角矩形 1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圆角矩形 1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圆角矩形 1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1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1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1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1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圆角矩形 1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圆角矩形 1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圆角矩形 1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1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1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1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1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1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1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1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1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1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圆角矩形 1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圆角矩形 1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页脚占位符 1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5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5000" fill="hold"/>
                                        <p:tgtEl>
                                          <p:spTgt spid="1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矩形 1"/>
          <p:cNvSpPr/>
          <p:nvPr/>
        </p:nvSpPr>
        <p:spPr>
          <a:xfrm>
            <a:off x="2687040" y="2970720"/>
            <a:ext cx="37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海平面上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374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425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5000" fill="hold"/>
                                        <p:tgtEl>
                                          <p:spTgt spid="1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3" dur="5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5"/>
          <p:cNvGrpSpPr/>
          <p:nvPr/>
        </p:nvGrpSpPr>
        <p:grpSpPr>
          <a:xfrm>
            <a:off x="-177840" y="1773360"/>
            <a:ext cx="9576000" cy="2908080"/>
            <a:chOff x="-177840" y="1773360"/>
            <a:chExt cx="9576000" cy="2908080"/>
          </a:xfrm>
        </p:grpSpPr>
        <p:sp>
          <p:nvSpPr>
            <p:cNvPr id="1477" name="直接连接符 103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直接连接符 104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直接连接符 105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直接连接符 106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直接连接符 107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直接连接符 108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直接连接符 109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直接连接符 110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直接连接符 111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直接连接符 112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直接连接符 113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直接连接符 114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直接连接符 115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直接连接符 116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直接连接符 117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直接连接符 118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直接连接符 119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直接连接符 120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直接连接符 121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直接连接符 122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直接连接符 123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直接连接符 124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直接连接符 125"/>
            <p:cNvSpPr/>
            <p:nvPr/>
          </p:nvSpPr>
          <p:spPr>
            <a:xfrm flipV="1">
              <a:off x="864216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直接连接符 126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直接连接符 127"/>
            <p:cNvSpPr/>
            <p:nvPr/>
          </p:nvSpPr>
          <p:spPr>
            <a:xfrm>
              <a:off x="8606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Group 31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1503" name="矩形 129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矩形 130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131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矩形 132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矩形 133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矩形 134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矩形 135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矩形 136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矩形 137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矩形 138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矩形 139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矩形 140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矩形 141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矩形 142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矩形 143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矩形 144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矩形 145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矩形 146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矩形 147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矩形 148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矩形 149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矩形 150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矩形 151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矩形 152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矩形 153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矩形 154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矩形 155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矩形 156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矩形 157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矩形 158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矩形 159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矩形 160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矩形 161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矩形 162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矩形 163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矩形 164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矩形 165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矩形 166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矩形 167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矩形 168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矩形 169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矩形 170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矩形 171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矩形 172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矩形 173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矩形 174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矩形 175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矩形 176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矩形 177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矩形 178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矩形 179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矩形 180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矩形 181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矩形 182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矩形 183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矩形 184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185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矩形 186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1" name="Group 90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562" name="圆角矩形 208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圆角矩形 209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圆角矩形 210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圆角矩形 211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圆角矩形 212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圆角矩形 21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圆角矩形 214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圆角矩形 215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圆角矩形 216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圆角矩形 217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圆角矩形 218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圆角矩形 219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圆角矩形 220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圆角矩形 221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圆角矩形 222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圆角矩形 223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圆角矩形 224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圆角矩形 225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圆角矩形 226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圆角矩形 227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圆角矩形 228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圆角矩形 229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圆角矩形 230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圆角矩形 231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圆角矩形 232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圆角矩形 233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圆角矩形 234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圆角矩形 235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圆角矩形 236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圆角矩形 237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圆角矩形 238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圆角矩形 239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圆角矩形 240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圆角矩形 241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圆角矩形 242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圆角矩形 243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圆角矩形 244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圆角矩形 245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圆角矩形 246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圆角矩形 247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圆角矩形 248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圆角矩形 249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圆角矩形 250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圆角矩形 251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圆角矩形 252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圆角矩形 253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圆角矩形 254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圆角矩形 255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圆角矩形 256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圆角矩形 257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41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613" name="圆角矩形 259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圆角矩形 260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圆角矩形 261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圆角矩形 262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圆角矩形 263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圆角矩形 264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圆角矩形 265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圆角矩形 266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圆角矩形 267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圆角矩形 268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圆角矩形 269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圆角矩形 270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圆角矩形 271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圆角矩形 272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圆角矩形 273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圆角矩形 274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圆角矩形 275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圆角矩形 276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圆角矩形 277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圆角矩形 278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圆角矩形 279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圆角矩形 280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圆角矩形 281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圆角矩形 282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圆角矩形 283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圆角矩形 284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圆角矩形 285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圆角矩形 286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圆角矩形 287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圆角矩形 288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圆角矩形 289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圆角矩形 290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圆角矩形 291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圆角矩形 292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圆角矩形 293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圆角矩形 294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圆角矩形 295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圆角矩形 296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圆角矩形 297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圆角矩形 298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圆角矩形 299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圆角矩形 300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圆角矩形 301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圆角矩形 302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圆角矩形 303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圆角矩形 304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圆角矩形 305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圆角矩形 306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圆角矩形 307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圆角矩形 308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页脚占位符 18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4" dur="50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" dur="5000" fill="hold"/>
                                        <p:tgtEl>
                                          <p:spTgt spid="1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98845E-006 L 0.00399 1.01408 E">
                                      <p:cBhvr>
                                        <p:cTn id="88" dur="3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666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717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矩形 103"/>
          <p:cNvSpPr/>
          <p:nvPr/>
        </p:nvSpPr>
        <p:spPr>
          <a:xfrm>
            <a:off x="2457720" y="2970720"/>
            <a:ext cx="42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人类渐渐灭亡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页脚占位符 10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4" dur="50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" dur="5000" fill="hold"/>
                                        <p:tgtEl>
                                          <p:spTgt spid="1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6:11:00Z</dcterms:created>
  <dc:creator>Candy</dc:creator>
  <dc:description/>
  <cp:keywords/>
  <dc:language>en-US</dc:language>
  <cp:lastModifiedBy>王玉清</cp:lastModifiedBy>
  <dcterms:modified xsi:type="dcterms:W3CDTF">2016-02-19T07:20:07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