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黑体"/>
                <a:ea typeface="黑体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2627280" y="4869000"/>
            <a:ext cx="60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会议室的会议桌椅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7020000" y="644400"/>
            <a:ext cx="865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51577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a</cp:lastModifiedBy>
  <dcterms:modified xsi:type="dcterms:W3CDTF">2015-07-25T09:53:40Z</dcterms:modified>
  <cp:revision>62</cp:revision>
  <dc:subject/>
  <dc:title>PowerPoint Template</dc:title>
</cp:coreProperties>
</file>