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8999538" cy="6011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CCD4-0289-459C-ABCE-14E62FF2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493F-19BB-4585-B0EB-7C47553A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F930-9945-4489-AABE-CA87F425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888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7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03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888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7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9D8D-F35F-42F1-ACFD-1AED5AAC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384D-614D-4479-9C25-0307243B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0FF1-AE2B-403A-A796-779868E6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A2A6-A1AE-4B4D-A971-C496467F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4ACC-EECE-4B9B-96B2-6F6CACAB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4F31-4769-4C73-B32F-7EF031BD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0360" y="240840"/>
            <a:ext cx="809964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DEED-FA1D-4E61-B036-17A926E4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E74E-F89B-4A65-A2CD-CE84825F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F440-D0B3-4045-BEAB-169BA409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86AF-AAC1-4EE5-A4C1-8BE6A630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B1C0-CFCD-4EAE-8195-1DAE2B23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5B3F-8F41-409E-8C59-67D605F2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386F-9A4C-4AD2-97BF-DF583CA0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888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277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03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888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277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83F1-E141-4239-9D7D-4684F095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C9454-3BA9-4FCC-829E-99B9B3D9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F3036-87D0-464F-B1F7-258A5392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C38A0-8FEB-4225-B387-44F2B5B3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22F7E-3C54-4589-B03A-E9FE821A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08C1F-465F-49EB-A432-E22B1C88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E461-6302-4A93-B889-81236B25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0360" y="240840"/>
            <a:ext cx="809964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46342-FAA2-4EB7-97B7-30C3CFAD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FC4F9-37D0-4201-ADB9-685EFA00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DA870-FE9D-43FA-B539-57520FB9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099A5-056D-4441-88F2-D3C27CA3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F05CE-3806-4916-8B1D-4FF83116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841C4-3450-4721-9E42-6D927B3A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888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277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03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888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277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366D3-DD65-4F2B-8BCB-5D2BBED7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D7A5-2D45-4BF5-9C7F-5AF6DE1A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FDB6-4B26-4B95-AFAB-12346648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0360" y="240840"/>
            <a:ext cx="809964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EBF-E7A3-40D1-84AC-18C7134A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D83D-E266-40F3-83C1-D2C654F1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B41F-4697-4E6C-AA04-CC854C43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EC1B-F448-4A83-A4D7-FD57DB62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B7B6-D9C8-4522-810C-CD591A5C659C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6487-D6A4-4789-9A40-0F44F19E79C1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34440" indent="-334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5760" indent="-279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5640" indent="-2228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28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C136-1B9D-4779-A1E8-0C94BD47718D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23C8-6A91-446D-A708-B90F651EEF31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34440" indent="-334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5760" indent="-279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5640" indent="-2228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28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EC1A-A2D4-4C89-90B5-8B64FF6BB69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9E68-F31B-4D5B-8FEF-6D0EFD89EE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wg_blurred_backgrounds_12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24" name="矩形 3"/>
          <p:cNvSpPr/>
          <p:nvPr/>
        </p:nvSpPr>
        <p:spPr>
          <a:xfrm>
            <a:off x="2017440" y="1647720"/>
            <a:ext cx="524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ios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格梦幻蓝色商务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233280" y="56545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zh-CN" sz="3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0360" y="1402920"/>
            <a:ext cx="8099640" cy="31878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zh-CN" sz="25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128" name="Picture 4" descr="wg_blurred_backgrounds_12"/>
          <p:cNvPicPr/>
          <p:nvPr/>
        </p:nvPicPr>
        <p:blipFill>
          <a:blip r:embed="rId1"/>
          <a:srcRect l="0" t="0" r="0" b="78199"/>
          <a:stretch/>
        </p:blipFill>
        <p:spPr>
          <a:xfrm>
            <a:off x="0" y="4697280"/>
            <a:ext cx="899964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36360" y="240840"/>
            <a:ext cx="6713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zh-CN" sz="3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6360" y="1403280"/>
            <a:ext cx="6713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zh-CN" sz="25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131" name="Picture 4" descr="wg_blurred_backgrounds_12"/>
          <p:cNvPicPr/>
          <p:nvPr/>
        </p:nvPicPr>
        <p:blipFill>
          <a:blip r:embed="rId1"/>
          <a:srcRect l="52773" t="0" r="29228" b="0"/>
          <a:stretch/>
        </p:blipFill>
        <p:spPr>
          <a:xfrm>
            <a:off x="0" y="6480"/>
            <a:ext cx="162072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1262160" y="917640"/>
            <a:ext cx="2093760" cy="3529080"/>
          </a:xfrm>
          <a:custGeom>
            <a:avLst/>
            <a:gdLst>
              <a:gd name="textAreaLeft" fmla="*/ 61200 w 2093760"/>
              <a:gd name="textAreaRight" fmla="*/ 2032560 w 2093760"/>
              <a:gd name="textAreaTop" fmla="*/ 61200 h 3529080"/>
              <a:gd name="textAreaBottom" fmla="*/ 3467880 h 3529080"/>
            </a:gdLst>
            <a:ahLst/>
            <a:rect l="textAreaLeft" t="textAreaTop" r="textAreaRight" b="textAreaBottom"/>
            <a:pathLst>
              <a:path w="21600" h="36405">
                <a:moveTo>
                  <a:pt x="2160" y="0"/>
                </a:moveTo>
                <a:arcTo wR="2160" hR="2160" stAng="16200000" swAng="-5400000"/>
                <a:lnTo>
                  <a:pt x="0" y="34245"/>
                </a:lnTo>
                <a:arcTo wR="2160" hR="2160" stAng="10800000" swAng="-5400000"/>
                <a:lnTo>
                  <a:pt x="19440" y="36405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62160" y="2328840"/>
            <a:ext cx="209376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1000" rIns="441000" tIns="441000" bIns="441000" anchor="ctr">
            <a:normAutofit fontScale="87000"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4"/>
          <p:cNvSpPr/>
          <p:nvPr/>
        </p:nvSpPr>
        <p:spPr>
          <a:xfrm>
            <a:off x="1720800" y="1128600"/>
            <a:ext cx="1174680" cy="1175040"/>
          </a:xfrm>
          <a:prstGeom prst="ellipse">
            <a:avLst/>
          </a:prstGeom>
          <a:solidFill>
            <a:srgbClr val="c1cce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3419640" y="917640"/>
            <a:ext cx="2095200" cy="3529080"/>
          </a:xfrm>
          <a:custGeom>
            <a:avLst/>
            <a:gdLst>
              <a:gd name="textAreaLeft" fmla="*/ 61200 w 2095200"/>
              <a:gd name="textAreaRight" fmla="*/ 2034000 w 2095200"/>
              <a:gd name="textAreaTop" fmla="*/ 61200 h 3529080"/>
              <a:gd name="textAreaBottom" fmla="*/ 3467880 h 3529080"/>
            </a:gdLst>
            <a:ahLst/>
            <a:rect l="textAreaLeft" t="textAreaTop" r="textAreaRight" b="textAreaBottom"/>
            <a:pathLst>
              <a:path w="21600" h="36380">
                <a:moveTo>
                  <a:pt x="2160" y="0"/>
                </a:moveTo>
                <a:arcTo wR="2160" hR="2160" stAng="16200000" swAng="-5400000"/>
                <a:lnTo>
                  <a:pt x="0" y="34220"/>
                </a:lnTo>
                <a:arcTo wR="2160" hR="2160" stAng="10800000" swAng="-5400000"/>
                <a:lnTo>
                  <a:pt x="19440" y="36380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419640" y="2328840"/>
            <a:ext cx="209520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1000" rIns="441000" tIns="441000" bIns="441000" anchor="ctr">
            <a:normAutofit fontScale="87000"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3879720" y="1128600"/>
            <a:ext cx="1175040" cy="1175040"/>
          </a:xfrm>
          <a:prstGeom prst="ellipse">
            <a:avLst/>
          </a:prstGeom>
          <a:solidFill>
            <a:srgbClr val="c1cce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5576760" y="917640"/>
            <a:ext cx="2095560" cy="3529080"/>
          </a:xfrm>
          <a:custGeom>
            <a:avLst/>
            <a:gdLst>
              <a:gd name="textAreaLeft" fmla="*/ 61200 w 2095560"/>
              <a:gd name="textAreaRight" fmla="*/ 2034360 w 2095560"/>
              <a:gd name="textAreaTop" fmla="*/ 61200 h 3529080"/>
              <a:gd name="textAreaBottom" fmla="*/ 3467880 h 3529080"/>
            </a:gdLst>
            <a:ahLst/>
            <a:rect l="textAreaLeft" t="textAreaTop" r="textAreaRight" b="textAreaBottom"/>
            <a:pathLst>
              <a:path w="21600" h="36373">
                <a:moveTo>
                  <a:pt x="2160" y="0"/>
                </a:moveTo>
                <a:arcTo wR="2160" hR="2160" stAng="16200000" swAng="-5400000"/>
                <a:lnTo>
                  <a:pt x="0" y="34213"/>
                </a:lnTo>
                <a:arcTo wR="2160" hR="2160" stAng="10800000" swAng="-5400000"/>
                <a:lnTo>
                  <a:pt x="19440" y="36373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5576760" y="2328840"/>
            <a:ext cx="209556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1000" rIns="441000" tIns="441000" bIns="441000" anchor="ctr">
            <a:normAutofit fontScale="87000"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6037200" y="1128600"/>
            <a:ext cx="1174680" cy="1175040"/>
          </a:xfrm>
          <a:prstGeom prst="ellipse">
            <a:avLst/>
          </a:prstGeom>
          <a:solidFill>
            <a:srgbClr val="c1cce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1515960" y="3740040"/>
            <a:ext cx="5900760" cy="530280"/>
          </a:xfrm>
          <a:prstGeom prst="leftRightArrow">
            <a:avLst>
              <a:gd name="adj1" fmla="val 50000"/>
              <a:gd name="adj2" fmla="val 49868"/>
            </a:avLst>
          </a:prstGeom>
          <a:solidFill>
            <a:srgbClr val="b0bf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3770280" y="628560"/>
            <a:ext cx="3005280" cy="1359000"/>
          </a:xfrm>
          <a:prstGeom prst="rect">
            <a:avLst/>
          </a:pr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770280" y="628560"/>
            <a:ext cx="30052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ctr">
            <a:normAutofit/>
          </a:bodyPr>
          <a:p>
            <a:pPr algn="ctr">
              <a:lnSpc>
                <a:spcPct val="90000"/>
              </a:lnSpc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290680" y="628560"/>
            <a:ext cx="1344600" cy="1359000"/>
          </a:xfrm>
          <a:prstGeom prst="rect">
            <a:avLst/>
          </a:pr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2290680" y="2212920"/>
            <a:ext cx="3005280" cy="1359000"/>
          </a:xfrm>
          <a:prstGeom prst="rect">
            <a:avLst/>
          </a:pr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2290680" y="2212920"/>
            <a:ext cx="30052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ctr">
            <a:normAutofit/>
          </a:bodyPr>
          <a:p>
            <a:pPr algn="ctr">
              <a:lnSpc>
                <a:spcPct val="90000"/>
              </a:lnSpc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429160" y="2212920"/>
            <a:ext cx="1346400" cy="1359000"/>
          </a:xfrm>
          <a:prstGeom prst="rect">
            <a:avLst/>
          </a:pr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770280" y="3795840"/>
            <a:ext cx="3005280" cy="1358640"/>
          </a:xfrm>
          <a:prstGeom prst="rect">
            <a:avLst/>
          </a:pr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3770280" y="3795840"/>
            <a:ext cx="300528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ctr">
            <a:normAutofit/>
          </a:bodyPr>
          <a:p>
            <a:pPr algn="ctr">
              <a:lnSpc>
                <a:spcPct val="90000"/>
              </a:lnSpc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2290680" y="3795840"/>
            <a:ext cx="1344600" cy="1358640"/>
          </a:xfrm>
          <a:prstGeom prst="rect">
            <a:avLst/>
          </a:pr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wg_blurred_backgrounds_12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4280" y="2141640"/>
            <a:ext cx="7650360" cy="12888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ww.pptbz.com</dc:creator>
  <dc:description/>
  <cp:keywords/>
  <dc:language>en-US</dc:language>
  <cp:lastModifiedBy>a</cp:lastModifiedBy>
  <dcterms:modified xsi:type="dcterms:W3CDTF">2015-07-22T12:48:58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32</vt:lpwstr>
  </property>
</Properties>
</file>