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423-FE11-4824-8617-3A022063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8F1-0450-445B-90BA-CA3FE04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534BC-408E-4A11-9100-0E2FE41D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15133-E8A7-43C1-B302-69FFCB3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B3314-87D4-4070-BD34-A3781732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E8517-9119-4B46-92E0-7FF5E29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6E450-5E09-424E-9DD3-38A25C6E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879F3-4706-43F4-B1B7-CA656B6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837F-93BE-4B65-AEB4-4F01F10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1D635-72B6-4CF2-A38F-AFD9DF8F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064B2-FD7E-47CF-BC87-DD89C327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C1C41-CAC1-42EC-A169-7678D8D8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D18-9308-4CDE-AEF6-3F8781CE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5BCD-1BFB-4DD3-A943-EFF9C03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423CE-37D5-41C5-93FD-A9C58E6D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1656F-77BF-47AA-88F4-149FC34B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0FB63-2D71-454D-BF1D-A03170F1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0A7FF-0E5F-4732-95D8-0C83E62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91358-887C-40D7-9555-F5101F5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8E42-A1B8-48D5-AD03-9348B00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91472-CCA2-440B-83A3-FA762A6F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1706F-43F7-47D7-859A-65429D74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B05AE-14D8-4E1E-BB36-587DA6B6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957-068E-4BFB-8C2F-3D1FE7D6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8D8C9-435F-4BBA-B029-853B83F4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A2B1-736E-4494-857D-98E155C5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53DF-791C-4397-838E-228AECC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190FE-7EA5-45F2-B10C-1BB07E4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7067F-5A57-47F5-B398-E80603BD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7A25D-F2EE-4AF2-872C-D8597581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BAF07-EDA1-4B96-975F-B34CA8DC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89E9B-67EE-4699-8DEA-0A3B1F4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CEFE-88CB-4788-A221-4AA60BA3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82DB-0A6E-4869-9ECC-C5D58F8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A1B8-4189-4C07-8180-1E84975A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74F27-8B32-43AB-8EA2-1B398338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7C30F-B121-4882-8A01-8C8AE294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D8671-A1AF-46CE-9919-5E918025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E0DFD-102A-4CF1-AB13-D0245B06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4EEE7-F095-42EC-B121-23C90F59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7795F-EBA7-4009-A948-EDDF132D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7ED0C-849C-4DE1-AB7D-0BF4A9C2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D603D-FDEB-4EED-B6AB-EC2E1B7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F0762-983A-45A6-BE55-83026E89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776AC-334C-49C9-82A1-8FAEB89D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E22-FA75-4FE5-B1CD-295DBB56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E66D8-7CD7-418A-A0D8-FFDB257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A0ABF-CCD7-4039-BC7A-2A91DDC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2C528-73EF-424C-BB26-A90C11D5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74086-DD18-42AE-97B2-7D04B109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003D5-72F9-46EC-8535-61B0362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1B651-89A4-4328-B21A-342E3210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43033-9500-4B31-B449-1149F78F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9023D-DB0E-456A-B64A-402AEDB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F5367-A430-4877-A196-06AC8F62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2E9CE-3C25-41CE-95DA-2E7EAC0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DB0-F593-4BF1-ACE7-99C3E32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3D858-903D-49B6-9646-3D8DFD2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278BB-34D0-4E7E-B893-9A7930F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C1D96-01C2-4323-8A2D-3244D11F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43FC3-4099-4A01-AD50-8B1AC6A5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580DB-09DC-4FD6-9F33-3CA0FA3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FC803-29DA-44AB-A658-8D6566C7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27217-73AC-49E6-A5A0-FA4575CD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D7FA-D0C8-4EBD-9F01-A1E17D6F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779-6E71-4D08-804E-448CA430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D42B-2B71-49DA-B77A-86319A1E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5197-04DC-47C9-82C3-CBB32B9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B9F-57CF-4C26-9E7A-3D979F0B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7818-3C96-4FD7-8A11-4F1865F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3FA3-124D-4AD0-80F5-7CDAE56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C314-1619-4948-9C39-4C327BF0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41C1-4543-4DE9-A43A-A0B49304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F8D0-FAC0-4324-86B0-22EBBF39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F880D-883F-4854-9BAA-654E3473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019C-EAB0-4D64-9B55-D5790996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0523-9E53-44C5-8E81-FEABFD81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7DAE-D939-4027-9596-0DF31CF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38DD0-7D75-4C92-A60F-849095E6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65A-2010-45E8-B9DB-EA4C23E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196A-27F2-429B-9778-5842A3A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89CE-1AC8-47BF-84F3-470213DD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F455-BFB2-42B2-9F4F-A056115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BC56-E440-4A46-BED3-A89D12A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3D1A-2380-4773-9EE3-4643B2A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D27D-A01F-42F5-9977-CC0C1AFE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0BB1-4ED4-46B5-9AE8-8C986E50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AC0A-3D3A-46C1-A357-EBB0A198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FD0E-3D5A-4F06-9276-F8F3011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ACE5-C8C6-4329-A01E-4195576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8B3-BD2F-43C3-8E81-035C4F19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DF5B1-BB62-4AE0-994E-7FE25C12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AB54-818B-4F19-AB42-314E220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5FDD-C01B-4874-8C27-739C6AFE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4611-9011-4B81-BDD9-EE6E236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029A-032B-40E5-93A7-B0DA4A27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7E310-0954-4528-BF82-71B5560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EB978-61E4-4369-80DF-7AB0F1B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F3DF-9654-4197-AEC3-337EB724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81D16-1433-4C4F-B8E4-528ADF27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620C-D083-4B39-99A3-4360CCB9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1BC-7BE4-42DB-A4A5-F7CC7F9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EF64-6780-440C-A09C-6C4C8020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4F9D7-53BB-476C-BA47-C039C95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E81FC-079B-4E91-8BBB-AD6F4726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863DC-82DE-4655-8819-D8D7253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83920-53E9-4D94-931C-3479B1BB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B28B-BA4B-4E1A-B92A-6C0CFD7D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E270-8359-4F74-A42C-A30E0CC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DAC6-46D8-43BC-A8E2-25EBD05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D9CE-09B6-4E74-B18F-B1237D7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2927D-9D50-4616-A772-43C5AEEA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97D-7B79-4FC4-B4A7-2BC86E2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9D782-499A-4A41-A49A-EA6DF316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762F-4DED-42C0-8302-82F7BC54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8597A-A0F8-432E-BB4D-3167AAE3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6EB6-3A48-41C2-86A0-CE66937A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AFA9-0F7D-4D3C-9762-2864C555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8267-E0B7-4F59-B6E6-0A1D5CF6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25D2-D803-4BD9-98F8-EF1B479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06A0D-9670-4728-81F1-44A5E126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053D-2740-45FE-AF48-64EED2E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3DC3-A4B2-4019-823B-439D003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159-BB99-4DD1-B770-72F815A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E9720-FE7E-40D3-B2C8-1536D152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4E473-8CC2-48C8-969F-14F68756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4B4E7-0351-4033-9473-159EB029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BC68-01DF-40E0-912F-F666300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F0357-BB2E-4DE3-911E-A5C8061A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36119-91D0-4B9D-9172-210E3740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DC16-C9EF-4A85-8961-5AE1BA7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7838E-09C2-4D50-A8DF-9C1116D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65EF2-0FD8-4CDD-9239-2AAAF85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24E37-33A7-44E8-A860-9FFA66CD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045-D4D6-415A-BF44-7C217E3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A24E-D6ED-49EA-BDE1-1D1FAA6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046BD-6191-48B4-BC30-5AEE6877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7F71-CBC5-4733-90E2-B94ED7B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3CF03-7DCD-41F9-8111-DF1797EB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0B254-8281-4893-9080-18AAA04C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7030-5AB9-4BED-BCF3-3B5CDEFB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4B5D9-DB81-464A-B9C5-78AB608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4F2F-A8BD-4972-BF12-BC987A2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47F7C-3ECC-45DB-9CB1-C45D20D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E754-C27E-4429-84E6-4B0B7D20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8F6-C9FE-4434-9011-475345F5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03A17-A9FF-4F95-9DDC-4509777A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D992-F50E-4479-BFF2-C4E9B61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5FE26-D2A5-46F1-88C2-42FAB14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E8E6D-B7B4-4055-BD35-4B7D08D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F14E2-4C5A-4678-8E11-A85E10D7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F9C26-A7AF-4318-A069-8442DF1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E0C7-CBAF-491D-A34F-EDEAA2D2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60D23-28AE-4C60-AC7B-CC39B70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15A47-DDDE-46C6-88FF-F6626380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0A0A-A652-430A-A324-62D403A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D2C6-A97B-4E15-B0BD-FF51D02E15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1B0-FD4E-45E7-BC41-8D9702AE11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BDC-7345-4278-AB0A-56FE45FB2B3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74D-2B8F-4EAA-9499-82D9D7B4DE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306-1638-4BA5-A0AA-BBDD7A1851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0625-80C1-4C66-957C-0F9AF32963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E942-86A8-43DE-ABA0-0549AD1CD81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CB3-B1A9-4D50-B3D2-4ABD691937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F766-952F-49A6-AC59-CD0B877D29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F7A7-4A72-43C3-94D3-62DD2A8F328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0D3-593C-4E8B-A2D2-BABA7AA1BA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4AF-00C7-4FE6-943F-A294EB36E3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ADB-D6B0-4400-A175-3234E48D15F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E2E2-AED6-450E-B2AF-13E7784A17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2F9-4F87-4BB2-A0FA-F9E71FC91D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3B59-31BD-417B-854F-D56CB5B90D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43FB-2996-4EC6-B038-AEE6AEED01B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166-BC85-47B5-BB4F-1223409C6C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4704-9137-47A1-9C24-BC810B0ECC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B89-D80B-45BD-95C2-25725FD70B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ABBE-3E4F-4ED2-8D0E-1462BD5BB5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AA4-0CA3-4E3A-B275-B30850EF01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DBA-67BE-46AE-98EA-4D5D11B488E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91B-CA77-4425-A798-905259667F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84E-2ABB-44AF-83AF-33257C91D3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049E-C6B9-4421-9A18-8EFB26E129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46" descr=""/>
          <p:cNvPicPr/>
          <p:nvPr/>
        </p:nvPicPr>
        <p:blipFill>
          <a:blip r:embed="rId1"/>
          <a:stretch/>
        </p:blipFill>
        <p:spPr>
          <a:xfrm>
            <a:off x="-3240" y="0"/>
            <a:ext cx="3575160" cy="5745240"/>
          </a:xfrm>
          <a:prstGeom prst="rect">
            <a:avLst/>
          </a:prstGeom>
          <a:ln w="0">
            <a:noFill/>
          </a:ln>
        </p:spPr>
      </p:pic>
      <p:sp>
        <p:nvSpPr>
          <p:cNvPr id="534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4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536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24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556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2091b6"/>
              </a:gs>
              <a:gs pos="50000">
                <a:srgbClr val="24b6da"/>
              </a:gs>
              <a:gs pos="100000">
                <a:srgbClr val="2091b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渐变方格通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br>
              <a:rPr sz="36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304560" y="5440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6" descr=""/>
          <p:cNvPicPr/>
          <p:nvPr/>
        </p:nvPicPr>
        <p:blipFill>
          <a:blip r:embed="rId1"/>
          <a:stretch/>
        </p:blipFill>
        <p:spPr>
          <a:xfrm>
            <a:off x="-3240" y="0"/>
            <a:ext cx="2487600" cy="5745240"/>
          </a:xfrm>
          <a:prstGeom prst="rect">
            <a:avLst/>
          </a:prstGeom>
          <a:ln w="0">
            <a:noFill/>
          </a:ln>
        </p:spPr>
      </p:pic>
      <p:sp>
        <p:nvSpPr>
          <p:cNvPr id="569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572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Group 16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583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20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587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24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591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8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595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2-24T03:39:30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