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F536-C16E-4CC8-87D7-77ABE3CDA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032A-84BF-486B-9FC8-0A4A4CA39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8772-8123-4EC1-AA82-E6C888157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112A-4A34-4AC9-8647-4F20CC0B2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EEF8-A87D-4BE2-82EC-2BF458903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4F33-5C20-4832-9719-6FB871137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7C02-1633-415D-BDDA-F866C2662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C45F-7272-496D-B734-B0D7E2CE9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0721-0C82-4701-95BD-9E13653A6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EF4A-3BF4-4FB2-AF5D-AD0938A0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85CB-EE1B-4D7E-8936-D35B87E7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FC15-A4C1-4ED6-B953-30F34886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35BA4-80E1-4969-A20B-3EEAE71ED4E3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413C7-1B29-4BDE-86F6-04FCFA47B4E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E:\仝德志文件，勿删！\03-参考文档\！PPT图片及版面资源\06-PPT精选插图\04-图标\BAB60EF727855B50C4885422B3630889.png"/>
          <p:cNvPicPr/>
          <p:nvPr/>
        </p:nvPicPr>
        <p:blipFill>
          <a:blip r:embed="rId1"/>
          <a:stretch/>
        </p:blipFill>
        <p:spPr>
          <a:xfrm>
            <a:off x="250920" y="907920"/>
            <a:ext cx="2438280" cy="2438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http://www.iconpng.com/png/office2/calendar-selection-day.png"/>
          <p:cNvPicPr/>
          <p:nvPr/>
        </p:nvPicPr>
        <p:blipFill>
          <a:blip r:embed="rId2"/>
          <a:stretch/>
        </p:blipFill>
        <p:spPr>
          <a:xfrm>
            <a:off x="3348000" y="127008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http://www.icosky.com/icon/png/Object/NoteBooks/Red%20NoteBook.png"/>
          <p:cNvPicPr/>
          <p:nvPr/>
        </p:nvPicPr>
        <p:blipFill>
          <a:blip r:embed="rId3"/>
          <a:stretch/>
        </p:blipFill>
        <p:spPr>
          <a:xfrm>
            <a:off x="250920" y="3789360"/>
            <a:ext cx="2554200" cy="2552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ttp://upload.wikimedia.org/wikipedia/commons/0/02/Current_event_marker.png"/>
          <p:cNvPicPr/>
          <p:nvPr/>
        </p:nvPicPr>
        <p:blipFill>
          <a:blip r:embed="rId4"/>
          <a:stretch/>
        </p:blipFill>
        <p:spPr>
          <a:xfrm>
            <a:off x="2808360" y="3943440"/>
            <a:ext cx="3252600" cy="2325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F:\360云盘\02-个人资料\！PPT图片及版面资源\05-PPT精选插图\04-图标\1541240598.png"/>
          <p:cNvPicPr/>
          <p:nvPr/>
        </p:nvPicPr>
        <p:blipFill>
          <a:blip r:embed="rId5"/>
          <a:stretch/>
        </p:blipFill>
        <p:spPr>
          <a:xfrm>
            <a:off x="5796000" y="6922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http://www.pennoni.com/images/uploads/awards/list.png"/>
          <p:cNvPicPr/>
          <p:nvPr/>
        </p:nvPicPr>
        <p:blipFill>
          <a:blip r:embed="rId6"/>
          <a:stretch/>
        </p:blipFill>
        <p:spPr>
          <a:xfrm>
            <a:off x="6100920" y="392580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636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42840" y="11736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金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F419-1003-4BF5-A6E3-12FFC19CDE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2:39:52Z</dcterms:modified>
  <cp:revision>104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