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08E-319E-4D7A-B972-C938FD8A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72C-49A4-4C2F-BEA8-6C4B655D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040-ED20-4164-94B9-08CB69C5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677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3360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15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677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3360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17A-8C8F-4A81-9DF5-5E097734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0C1B-53F6-4B87-AA35-121F0C92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DE61-1D2B-4841-A708-04A25CAD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A69B-88BB-4EDB-B2A0-530AB079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DEA4-75C3-4307-8999-CFBDED00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729C-C967-46CA-A9AE-6923BDA5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1560" y="833040"/>
            <a:ext cx="822924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BA6C-4C45-44D2-A4AF-FA7470FD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22C4-66FA-455B-A8FA-63E89A5A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1BF-CA6F-4A61-B48F-8171DC39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4303-E77F-4E23-8711-DCD78D06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C576-AF97-4E47-AB0D-7DBC46B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9240-22B9-4C5F-85BA-007C34F3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F315-A733-48B7-99E3-FC509CD0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677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3360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15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9677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33360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B1DB-7EC8-4B2A-969C-005D2439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E50E-7AC5-4813-AD2B-44502FC2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4EA8-3359-4CCA-B483-19CCC3BC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4D95-48C7-4DD0-AF52-4DD26A55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95D1-CE37-4CA0-8228-F8226785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1185-CB2C-47BA-980B-D837BC99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819-EF9B-4DD0-89EF-994F9F27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1560" y="833040"/>
            <a:ext cx="822924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59CD-4E44-4BE1-B233-12C2500C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A836-F114-45C7-BCA8-373F7A2D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7C14-5C13-4AAC-A208-E4F6A55F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9F8D2-3084-40AE-A587-6299F7F8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20F94-FEAF-4607-B018-C49A4218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661C-14F5-4761-AA27-39CCC18C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677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33360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15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9677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33360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39CA-92EF-4CB2-A41F-56E090DD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90A2B-B56B-4A30-ABC2-93EB9840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A217D-688C-46F9-A348-716C131C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9E3D-6F9D-44F8-9BDF-626A7932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7E1-6297-4AEF-9E8D-EF5F42E7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4834C-2741-4174-A2B5-4E0362EA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72994-5277-4122-9160-DE0258D2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1560" y="833040"/>
            <a:ext cx="822924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6A15D-6E07-4418-B62E-AF00BFDB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33D3-B2B1-46CC-AFDE-7FBCE3D7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F5796-8767-4AB1-9C77-D6C9BC80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A98D4-3F3A-4EA7-97F6-52679465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88D52-8E44-44EF-81EF-3307743D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C96B-DE30-46BB-878A-627D5128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9677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33360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15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9677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33360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545EF-8F1C-40A8-A8F3-83F255E1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6A8-9DD9-4740-9F8A-EA032091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1560" y="833040"/>
            <a:ext cx="822924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CC6-E992-4BA8-A179-432CF8E4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184-6A24-478D-9932-2E5B12AD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97E-5A5A-4FBB-B1FF-97C6D159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453-E49C-488A-A05E-842E4238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59840" y="680400"/>
            <a:ext cx="7772040" cy="763200"/>
          </a:xfrm>
          <a:prstGeom prst="rect">
            <a:avLst/>
          </a:prstGeom>
          <a:noFill/>
          <a:ln w="0">
            <a:noFill/>
          </a:ln>
          <a:effectLst>
            <a:outerShdw dist="37854" dir="1930719" blurRad="25560" rotWithShape="0">
              <a:srgbClr val="ffffff"/>
            </a:outerShdw>
          </a:effectLst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A40604-8BE5-49AD-AEDB-A5E55195EEB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833040"/>
            <a:ext cx="8229240" cy="4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596600"/>
            <a:ext cx="8229240" cy="44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55E31E-290D-419A-ACC8-3CBD2EB0490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6040" y="527760"/>
            <a:ext cx="701568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76040" y="1290960"/>
            <a:ext cx="7015680" cy="458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36F8B9-B4D9-44D7-B06A-3701933295A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601560" y="2207520"/>
            <a:ext cx="403992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36800" y="157752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36800" y="2207520"/>
            <a:ext cx="404136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F220F5-4D73-49B2-A171-71BB974CC04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2120"/>
            <a:ext cx="8993520" cy="763200"/>
          </a:xfrm>
          <a:prstGeom prst="rect">
            <a:avLst/>
          </a:prstGeom>
          <a:noFill/>
          <a:ln w="0">
            <a:noFill/>
          </a:ln>
          <a:effectLst>
            <a:outerShdw dist="37854" dir="1930719" blurRad="2556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经典橙色笔记本商务</a:t>
            </a:r>
            <a:r>
              <a:rPr b="0" lang="en-US" sz="40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33960" y="1596600"/>
            <a:ext cx="6400440" cy="12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alibri"/>
              </a:rPr>
              <a:t>Click to ed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alibri"/>
              </a:rPr>
              <a:t>Master subtitle sty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8920" y="833040"/>
            <a:ext cx="8229240" cy="4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8920" y="1596600"/>
            <a:ext cx="8229240" cy="44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76040" y="527760"/>
            <a:ext cx="701568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76040" y="1290960"/>
            <a:ext cx="7015680" cy="458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01560" y="2207520"/>
            <a:ext cx="403992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36800" y="157752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36800" y="2207520"/>
            <a:ext cx="404136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  <Words>60</Words>
  <Paragraphs>2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a</cp:lastModifiedBy>
  <dcterms:modified xsi:type="dcterms:W3CDTF">2015-07-25T08:01:0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