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6CF-7731-4839-BD35-9DD72E64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4BA-3B2E-4438-9316-539FEF05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B04-5CBD-4558-8EFD-E5740318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67D-DF57-41FF-9C30-3925F57E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418E-BF1D-40F4-A13C-CB183E6F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F89F-08B9-47C1-A021-3A30B675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E23-CB4D-4CBB-937A-0B3E9686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8CB-BECF-44C8-9721-6C34F35D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6FA-D6AE-4F1D-A652-71978FE9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246-A088-46E4-8796-2C7E3E80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B881-B7E5-4633-869B-69223C06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B4A-5AFF-46E8-9A4C-15B17AC9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我的文档\桌面\图片1111.jpg"/>
          <p:cNvPicPr/>
          <p:nvPr/>
        </p:nvPicPr>
        <p:blipFill>
          <a:blip r:embed="rId2"/>
          <a:srcRect l="0" t="0" r="0" b="-129"/>
          <a:stretch/>
        </p:blipFill>
        <p:spPr>
          <a:xfrm>
            <a:off x="0" y="5554800"/>
            <a:ext cx="9156600" cy="142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C8A4-9E17-48AC-8D74-26B4304C283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我的文档\桌面\图片1111.jpg"/>
          <p:cNvPicPr/>
          <p:nvPr/>
        </p:nvPicPr>
        <p:blipFill>
          <a:blip r:embed="rId2"/>
          <a:srcRect l="0" t="0" r="0" b="-129"/>
          <a:stretch/>
        </p:blipFill>
        <p:spPr>
          <a:xfrm>
            <a:off x="0" y="5554800"/>
            <a:ext cx="9156600" cy="1428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我的文档\桌面\图片\0.jpg"/>
          <p:cNvPicPr/>
          <p:nvPr/>
        </p:nvPicPr>
        <p:blipFill>
          <a:blip r:embed="rId3"/>
          <a:stretch/>
        </p:blipFill>
        <p:spPr>
          <a:xfrm>
            <a:off x="0" y="-7920"/>
            <a:ext cx="9144000" cy="6875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d:\我的文档\桌面\图片1111.jpg"/>
          <p:cNvPicPr/>
          <p:nvPr/>
        </p:nvPicPr>
        <p:blipFill>
          <a:blip r:embed="rId4"/>
          <a:srcRect l="0" t="0" r="0" b="-129"/>
          <a:stretch/>
        </p:blipFill>
        <p:spPr>
          <a:xfrm>
            <a:off x="0" y="5554800"/>
            <a:ext cx="9156600" cy="142848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0" y="4440240"/>
            <a:ext cx="3246480" cy="2505240"/>
            <a:chOff x="0" y="4440240"/>
            <a:chExt cx="3246480" cy="2505240"/>
          </a:xfrm>
        </p:grpSpPr>
        <p:sp>
          <p:nvSpPr>
            <p:cNvPr id="46" name="椭圆 6"/>
            <p:cNvSpPr/>
            <p:nvPr/>
          </p:nvSpPr>
          <p:spPr>
            <a:xfrm>
              <a:off x="686160" y="6045120"/>
              <a:ext cx="2277720" cy="90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" name="Picture 4" descr="d:\我的文档\桌面\图片\8.jpg"/>
            <p:cNvPicPr/>
            <p:nvPr/>
          </p:nvPicPr>
          <p:blipFill>
            <a:blip r:embed="rId5"/>
            <a:srcRect l="0" t="0" r="10" b="-13"/>
            <a:stretch/>
          </p:blipFill>
          <p:spPr>
            <a:xfrm>
              <a:off x="0" y="4440240"/>
              <a:ext cx="3246480" cy="250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130320" y="65689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33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3120840" y="217332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军队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828720" y="322884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7760" y="880920"/>
            <a:ext cx="8039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感谢您的关注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d:\我的文档\桌面\图片\99.jpg"/>
          <p:cNvPicPr/>
          <p:nvPr/>
        </p:nvPicPr>
        <p:blipFill>
          <a:blip r:embed="rId1"/>
          <a:srcRect l="0" t="0" r="19" b="-7"/>
          <a:stretch/>
        </p:blipFill>
        <p:spPr>
          <a:xfrm>
            <a:off x="0" y="2065320"/>
            <a:ext cx="545472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4924-9F5D-45A0-802B-53B8A1ABCB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22:07:3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59:09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3c07000000000001024140</vt:lpwstr>
  </property>
</Properties>
</file>