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047-0F62-48E2-8DC6-64514325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91B-41F5-480F-B010-DD204E6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029-F70F-4995-81F5-F215D2D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418-85FF-4D2A-892B-531566D2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17B1-FA0E-4400-9F85-B87E0AE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C6FB-532E-4918-9E5E-A00202B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E5C0-DF87-47BB-8853-E47B184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2A3-DB41-4E5D-8631-4D4B657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AA9A-6C4C-451E-A001-9F76138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6CA-21A5-4450-91B2-27848B1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FE9-803E-490D-BFFA-3E8BA4FC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6FD-861B-43CE-A521-F28BE754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527-24DD-46C7-B37F-AF7DC8D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767E-7D64-4CEC-B0D9-2F1B2EC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CE0-1DDE-4911-96FF-968A7C2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083-F0BB-49CC-860B-F17E6318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08A-1AF5-4E3A-8E5A-5CB1E51E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169-45BB-407C-8C72-0D0C781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C78-768F-42EE-BF48-ACFB3907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FF3-07FA-485A-8657-52ADC19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3C9-3411-4814-BC09-F918181C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EA5-A7EA-4CDA-BDB0-2F17874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0B6-DBBE-4C2B-989F-0FB0F43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97F-1EB0-45D5-8556-C90DB2C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A85-D92C-4640-8F94-F15F949DD3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AA24-A00A-43F8-8F2D-2DF98C800E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1" descr=""/>
          <p:cNvPicPr/>
          <p:nvPr/>
        </p:nvPicPr>
        <p:blipFill>
          <a:blip r:embed="rId1"/>
          <a:stretch/>
        </p:blipFill>
        <p:spPr>
          <a:xfrm>
            <a:off x="5425920" y="3444840"/>
            <a:ext cx="320040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2424600" y="2276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商务蓝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1" name="Freeform 28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>
                <a:gd name="textAreaLeft" fmla="*/ 0 w 1352520"/>
                <a:gd name="textAreaRight" fmla="*/ 1352880 w 135252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599d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c1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ebb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139920" y="283536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618000" y="3549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2:44:55Z</dcterms:created>
  <dc:creator>ppt宝藏</dc:creator>
  <dc:description/>
  <dc:language>en-US</dc:language>
  <cp:lastModifiedBy>a</cp:lastModifiedBy>
  <cp:lastPrinted>1899-12-30T00:00:00Z</cp:lastPrinted>
  <dcterms:modified xsi:type="dcterms:W3CDTF">2015-07-25T12:43:06Z</dcterms:modified>
  <cp:revision>35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