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AD0D-E88D-4DFD-B93F-3EF998201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EC40-F24B-44DE-8AAF-FBC353D8CD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11E71-107F-4784-AD57-C37D6850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5480F-8653-46A7-AD84-CD4B93F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22E70-A092-4DE9-944D-3BFB510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5FC36-579F-41EF-9EE2-913DF15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CB940-E8F0-4263-81F8-8F162E2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E3384-2FF7-40F6-B9F0-A8070EF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D3340B-DE06-43FC-A553-5117FDDC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11BE07-EF6A-4B59-A7AD-84CDCA75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288FF-33F8-496D-8279-1CDCEF20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BEA12-AA86-41AD-A758-9D2AFC43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7116-7EC2-4709-BADF-97CE330EF9B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1EA363-1601-4978-8B57-34B5DA8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FDFB5-648B-4B8F-9EC1-CFC3614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39A31B-6E00-405D-80E4-93132DF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A73B27-0141-47C0-8E46-5E66EFFB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7D0E3-3CB2-4A6F-9EA5-3B6C7F49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35A55-AC79-44F0-AAFB-93B2185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B0453-6543-49B2-985B-FB377B9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26C08-43BC-4F42-A944-BB90EBB2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9A1E4-F042-4F7B-8340-BFE3496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1A58B2-4D91-4FE7-A84E-BA9D4E3B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B1AF-7FE5-44BE-A7DB-9B33D3774A7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C4A1A-3C42-48B6-B827-48B92615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2B821E-9FDB-4271-BE73-4392E128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F49D3D-0C7B-4F0D-A00A-A5560A25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4476E3-F1FB-42F6-97C6-BA24F8A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5800EC-5305-4C62-AA0A-315D6D5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B8E746-A4FA-471F-A1BA-9C2565D0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14BC0-80CA-48EA-A341-7214566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CC8BD8-7617-4AA6-8212-63DF1F7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B8138-6857-49D6-AB27-CBA32E3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54491-A289-4C4A-824A-A3B25D9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94021-5BDD-483F-9D7A-CE5D99DD571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AFE5F4-3220-443C-9ED1-AF495CC9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1D723-469C-4F1D-9138-FC2FE3E0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E890F8-124B-403E-8A9B-ED25C84A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8D61B5-390B-4ADA-9065-FDFF0E53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77D75-FFB4-4177-B475-B7EF15F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E7BF98-2FA7-49D8-ADAA-0F29372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F7E4D-E9AD-4F69-8934-033E1D40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11771F-94DE-4796-B2F3-963CADBF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0C728F-1485-4B3A-B842-F341650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099E0F-00E1-4830-82AC-F94B3238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3C639-AF5F-4760-8F80-9B14B8653AB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9B99C0-ACEF-4533-96DC-ACFAE40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F68B78-58C5-4915-A025-A23FB72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DB16EB-0202-4DB1-AE51-91DD959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60F0C5-30AC-497D-9A00-CB03DA9E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4D3BFF-04B6-4C80-BDF6-B88127FC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A6786C-CB58-49B3-8E30-C1FBB4BD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8F3454-0CD9-4E04-9878-C02E3CC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9601B5-83DB-46A8-8092-8051235A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CD66A0-E0D2-463F-ADC1-A245F15A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1EED70-CF01-491F-BA40-002A0246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03DE-E9CE-4708-B558-FE1AB12FA9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B17F6A-D9E1-4D01-871A-A18F700D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EE91B3-9BF1-4A73-B7C1-CED9675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38554-5705-4D31-8289-CB59076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F45121-3153-4A05-94DE-1A6BF23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5150FE-40CD-4BB7-BA2B-C2BDDB5E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E6032-B1DF-4506-8581-86F68AC1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D09A1D-A530-4821-9B21-FE426D92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D34422-5E0A-458E-A6AB-E9262B06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7ACAD-902B-4424-9AAC-869BB727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E158C0-8C8C-408B-A27D-E86826CA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819A9-E533-4B27-90C9-F99755EEF8B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E656D6-67C2-4D2E-A211-776536B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E6953-7989-4DE3-A71D-74F7460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C5BD4B-0F2B-40F0-A06E-CF18777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1FD400-E90C-4FB6-B437-17CF61E7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58B1FB-BEFB-43AF-945A-6C4D631A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CBB50-3AAF-4393-A170-584A33C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8BAA49-49C4-472D-857F-F50E536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3783C-415C-4821-8D3B-1642B0D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7A602-343F-4413-B5BA-75FA81C7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392146-B1CA-4F15-8217-8DD4275C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5F3CE-F790-4199-A1DB-507AD26DCF1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ACC667-C905-4375-BB37-5E7E5245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608456-6215-4041-9BA9-E575083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DD0731-9963-4CDC-A744-3402FAD5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E78EE1-AFEC-40F1-8565-9D6AE70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C56E32-ADCC-4D50-8DCF-1EED818F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D09D6F-1835-46F1-94F5-9E5F01C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F36E06-3D2D-42D1-85FA-682CF36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5EEB41-88DD-4201-B10A-3ADF6E5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395D50-210F-4EFB-B589-1473871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532154-950B-4794-9946-60D562FE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0A3F-32EC-4540-9136-AD9AF0E092B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C2C4F8-13F6-4D24-B715-E9AC1705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24C235-4541-4BCF-AE32-7E26333E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36AA1B-0F6F-4285-B612-F601D93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E86ECB-01FC-45B5-B546-0624FC5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8660AF-BCC4-4FC2-BCAB-985E3336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ADB1B3-7282-49F1-B1F9-A08731D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932245-E05C-4604-AB7C-ADD41FB0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F792D1-6B12-4F06-A6C7-A313110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81DA8A-59B5-46E8-88B3-B9C13D9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B4F1F5-F829-40DF-AEC2-B4F4A96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1E106-B14B-456B-B017-2C01E423A1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6FED2B-6523-405C-B34B-059F8D7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0DE182-F718-44D8-BE96-A8E9F1B9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16F43B-3EFC-4F0D-A293-AC39F32E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C096E5-D2CB-425D-9D45-999B31AE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4AA207-68FD-4F13-AAD5-BCEDF28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F340E4-807E-4A34-9A37-C389A5F7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9C1A7F-6DDF-40D6-BEC6-3DC1D4C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C80995-0BCD-46D9-BCB3-67028AD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C46DCC-BE16-4C01-BE5B-C1136EC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E6F5E6-9ED0-4117-9360-2D1FD4A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D657-9F5F-46D2-BD51-E53D50737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BA0A-2734-4755-89DD-B1FA108EC6B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BC48EE-8263-4654-A3E2-DFF663B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C607D8-EA64-4498-881E-98C7945C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B8E717-8B8F-4727-91AA-33BD29C5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E06ED8-A62C-44C3-A3A2-E3956570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D04CF6-AA57-4DFB-AA6E-FB256889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947D-9F50-4418-91F9-B2BAF5274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428A5-9DD5-48CC-A648-FFD1A763E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44011-962A-4F2B-A2DB-B90910CFDB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B69E6-1CBA-4631-8A74-4E90DDE1CF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D912-F889-4800-A08A-D204393770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CA4F-2854-4B94-AF3E-BE85AD078C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4E71-FFF5-4EC2-913F-57D4D01E97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4ED2-B4CE-43DC-B792-52A0E43292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5645-79A1-4B96-8B11-4144BF973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12E8-FD1D-4C45-983A-2A6E25797A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1D4-E6B4-4D6C-BC0C-5167A514C6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DBF5-02F6-4E34-8CC1-717B172134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FB99-97CB-4C9E-874C-50FF7043E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32BB-49D5-4F65-8471-EF2BF29E74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AB7-49C0-4A75-AA4D-0EA555DD37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56E6-3471-453C-8209-360942CB86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C71E-ECD0-4DE9-A310-A6384086A9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7947-8523-41CA-98FE-D050C5B002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F6517-74A2-4296-8D63-F583FCB8E9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DDF26-7ED8-48C2-BDF6-B9B5A1BB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6A66-6697-40B5-AE45-2C60F71639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53A83-817F-4DBA-90FD-762C56B614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5F6A5-EE03-421E-997E-99A1A36008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37B1A-E63D-407E-AAF0-CB9C3B02F7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CC019-811F-4071-80DA-1C2BB469D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A3606-B24B-4EF9-A94F-48DADE3CB8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9FCC8-D443-4AB7-99A7-635634E0C6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8115-93E5-47F9-970F-647FA88F80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C56AC-52C5-459B-8396-88176CD14C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B1828-0630-4DAB-8C19-99F443680A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03228-FF27-42B6-BB44-E05A6AE4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4901-7F6D-4068-9EDF-48CA30105D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1C05B-6097-46B2-8B7D-F7B036A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10D16-A61A-4BB9-86C9-54447F6A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F4E45-F838-4390-967B-C861056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A33DE-B62A-496E-B5EF-853442AF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772B2-2ABF-4A5B-A528-EC13C65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5105A-DDDB-4EED-AAFA-BB4E43D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F0311-1347-4FFB-A446-55107C65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FF7FE-BBEF-447B-BACF-F4F3E53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76501-DAA5-4212-B4D3-FFCCC13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B70EB-CC4A-402A-BD1D-A7BEB623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7051-8BB3-4859-B6DD-7E1532B8C0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BC49E-DDC9-4B75-8B56-CF8399AE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EDA5E-9B97-4349-856C-6477732E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C1E6B-6E47-4414-A73B-3E4F60C0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CC839-396D-4665-AF15-D3319004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95B6A-587F-459D-9478-441FF276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DB21B-676B-4FF3-9174-020900A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35D67-6E5A-40CC-AE2F-5D15F13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2B4C8-2AAC-467B-B208-F39C4D1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464CD-7607-43CE-88B9-1E50A59E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5FFA1-EAB1-43B3-85BF-831D607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0D71-1AE6-488B-B8CC-85B4C0ADE0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6473C-B2EC-493F-A44F-F56C24B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E56CC-5F74-4C63-A1BE-81054C13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F1B34-B9E0-44C2-9A44-13E71788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B91D6-3AFF-4DA6-8927-7B668F12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817E8-913D-4168-810D-AE9050EB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57FD6-4955-4827-A40A-D21EC20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12CC9-F361-4E46-8D7A-425EC2D9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95D5C-C3D1-482F-AFA9-C62E27E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A9554-7EDD-4FF1-86C0-97C2A57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030CC-204E-4048-A874-26F67C05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A6E3-0127-46F6-BF09-6D0E892EC9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F3358-B1AD-4E62-9411-902BAE9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20BA2-5751-4EAD-B808-5257624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2E228-56F4-45B3-AFC9-0948028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6154D-75F7-47E3-AEE6-32B7D8B4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97BB8-01D5-47BB-AEB0-C9AB3FBB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A58E5-2EBA-45B0-BAA6-0CF88346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63EAF-853F-4254-9050-E387D34F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8D6C5-11C2-407A-888C-399A6B86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3FB21-7557-4A4B-8201-FA9AAF38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88BBC-9132-4823-972E-A553A019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2B53-5648-4CFB-BE50-CC9A87B664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A0143-5EEE-4E39-BF59-B43ACA14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3DCDE-A3D0-4335-9EAE-18BC8F4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7EC99-8454-4D17-B1B9-BF2B005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75A78-9B4D-4790-8C63-6DEAC698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DAA20-D395-4A52-ACEC-022D72E7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86621-0FEB-48D6-9FF8-96C0905E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C44E6-7953-4747-B1DD-4D873456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44289-EC42-4DBB-99AC-C974D303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245A16-B26C-45D4-8A19-73B48E55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8074D8-405A-4405-B6C1-672B4060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443-BF48-4D21-87E9-D5356BBE2537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50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50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4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6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68F7-DA7A-40C8-BABF-95730259F2BA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55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56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7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9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41C-7FA9-4299-A0FE-3A36E463EFB1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1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1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0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FD1A-EC9D-41E1-9A8A-A1904C8B132D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6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7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35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6B6-AC1E-43F7-B42F-355A5D6B4A3E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72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72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38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099-81DB-47DA-8C90-061A530D7CE1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77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78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1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1C1D-F6BE-4092-A288-4C6F21B6AF66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83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83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8AF-1093-4279-8C52-4351533B84BF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88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89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47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EE7-1BD9-43EE-B5CE-71033D917938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51B-71FB-4BE6-8BF1-507B35F806AC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15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19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AE1-7FFA-488C-9848-4EDD669FAECE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70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74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8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07E-3C93-47C5-AA04-995A0EA5BA03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22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23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9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1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2EA6-11EF-45EA-9817-7CB7EAA5096B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28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28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2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2B7-0249-42B8-AB8C-EF457BD7D7C0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33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34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5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7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1996-ADA9-4BF9-9E90-D7B9AA2CAFA4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39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39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8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0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569F-C8B2-4350-8A59-6F62E30320C4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44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45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1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3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CFA-9446-4CB4-8719-CB531D74AEA8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conpng.com/icon/3507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iconpng.com/icon/16890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iconpng.com/icon/16890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iconpng.com/icon/16890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iconpng.com/icon/16890" TargetMode="External"/><Relationship Id="rId11" Type="http://schemas.openxmlformats.org/officeDocument/2006/relationships/image" Target="../media/image5.png"/><Relationship Id="rId12" Type="http://schemas.openxmlformats.org/officeDocument/2006/relationships/hyperlink" Target="http://www.iconpng.com/icon/16890" TargetMode="Externa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hyperlink" Target="http://www.iconpng.com/icon/16890" TargetMode="External"/><Relationship Id="rId17" Type="http://schemas.openxmlformats.org/officeDocument/2006/relationships/image" Target="../media/image5.png"/><Relationship Id="rId18" Type="http://schemas.openxmlformats.org/officeDocument/2006/relationships/hyperlink" Target="http://www.eeppt.com" TargetMode="External"/><Relationship Id="rId19" Type="http://schemas.openxmlformats.org/officeDocument/2006/relationships/hyperlink" Target="http://www.eeppt.com" TargetMode="External"/><Relationship Id="rId20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04920" y="4844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商务年终总结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17" descr="团队精神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0" y="457200"/>
            <a:ext cx="9144000" cy="4030560"/>
          </a:xfrm>
          <a:prstGeom prst="rect">
            <a:avLst/>
          </a:prstGeom>
          <a:ln w="0">
            <a:noFill/>
          </a:ln>
        </p:spPr>
      </p:pic>
      <p:sp>
        <p:nvSpPr>
          <p:cNvPr id="938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"/>
          <p:cNvSpPr/>
          <p:nvPr/>
        </p:nvSpPr>
        <p:spPr>
          <a:xfrm>
            <a:off x="1582920" y="274320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商业精英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2" descr="团队合作精神大图 点击还原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4" descr="划艇团队大图 点击还原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5720" y="4572000"/>
            <a:ext cx="350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0" descr="商务团队造型"/>
          <p:cNvPicPr/>
          <p:nvPr/>
        </p:nvPicPr>
        <p:blipFill>
          <a:blip r:embed="rId1"/>
          <a:srcRect l="0" t="1824" r="0" b="4521"/>
          <a:stretch/>
        </p:blipFill>
        <p:spPr>
          <a:xfrm>
            <a:off x="200160" y="1542960"/>
            <a:ext cx="3305160" cy="4662720"/>
          </a:xfrm>
          <a:prstGeom prst="rect">
            <a:avLst/>
          </a:prstGeom>
          <a:ln w="0">
            <a:noFill/>
          </a:ln>
        </p:spPr>
      </p:pic>
      <p:sp>
        <p:nvSpPr>
          <p:cNvPr id="942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商务团队造型"/>
          <p:cNvPicPr/>
          <p:nvPr/>
        </p:nvPicPr>
        <p:blipFill>
          <a:blip r:embed="rId1"/>
          <a:srcRect l="0" t="1824" r="0" b="4521"/>
          <a:stretch/>
        </p:blipFill>
        <p:spPr>
          <a:xfrm>
            <a:off x="200160" y="1542960"/>
            <a:ext cx="3305160" cy="4662720"/>
          </a:xfrm>
          <a:prstGeom prst="rect">
            <a:avLst/>
          </a:prstGeom>
          <a:ln w="0">
            <a:noFill/>
          </a:ln>
        </p:spPr>
      </p:pic>
      <p:sp>
        <p:nvSpPr>
          <p:cNvPr id="949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同侧圆角矩形 2"/>
          <p:cNvSpPr/>
          <p:nvPr/>
        </p:nvSpPr>
        <p:spPr>
          <a:xfrm>
            <a:off x="2502000" y="2095560"/>
            <a:ext cx="1403280" cy="517320"/>
          </a:xfrm>
          <a:custGeom>
            <a:avLst/>
            <a:gdLst/>
            <a:ahLst/>
            <a:rect l="l" t="t" r="r" b="b"/>
            <a:pathLst>
              <a:path w="1403350" h="517525">
                <a:moveTo>
                  <a:pt x="86255" y="0"/>
                </a:moveTo>
                <a:lnTo>
                  <a:pt x="1317094" y="0"/>
                </a:lnTo>
                <a:cubicBezTo>
                  <a:pt x="1364731" y="0"/>
                  <a:pt x="1403349" y="38618"/>
                  <a:pt x="1403349" y="86255"/>
                </a:cubicBezTo>
                <a:lnTo>
                  <a:pt x="1403350" y="517525"/>
                </a:lnTo>
                <a:lnTo>
                  <a:pt x="1403350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ffe39d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同侧圆角矩形 69"/>
          <p:cNvSpPr/>
          <p:nvPr/>
        </p:nvSpPr>
        <p:spPr>
          <a:xfrm>
            <a:off x="3908520" y="2095560"/>
            <a:ext cx="1439640" cy="517320"/>
          </a:xfrm>
          <a:custGeom>
            <a:avLst/>
            <a:gdLst/>
            <a:ahLst/>
            <a:rect l="l" t="t" r="r" b="b"/>
            <a:pathLst>
              <a:path w="1439863" h="517525">
                <a:moveTo>
                  <a:pt x="86255" y="0"/>
                </a:moveTo>
                <a:lnTo>
                  <a:pt x="1353607" y="0"/>
                </a:lnTo>
                <a:cubicBezTo>
                  <a:pt x="1401244" y="0"/>
                  <a:pt x="1439862" y="38618"/>
                  <a:pt x="1439862" y="86255"/>
                </a:cubicBezTo>
                <a:lnTo>
                  <a:pt x="1439863" y="517525"/>
                </a:lnTo>
                <a:lnTo>
                  <a:pt x="1439863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fed46c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同侧圆角矩形 70"/>
          <p:cNvSpPr/>
          <p:nvPr/>
        </p:nvSpPr>
        <p:spPr>
          <a:xfrm>
            <a:off x="5351400" y="2095560"/>
            <a:ext cx="1656000" cy="517320"/>
          </a:xfrm>
          <a:custGeom>
            <a:avLst/>
            <a:gdLst/>
            <a:ahLst/>
            <a:rect l="l" t="t" r="r" b="b"/>
            <a:pathLst>
              <a:path w="1655762" h="517525">
                <a:moveTo>
                  <a:pt x="86255" y="0"/>
                </a:moveTo>
                <a:lnTo>
                  <a:pt x="1569506" y="0"/>
                </a:lnTo>
                <a:cubicBezTo>
                  <a:pt x="1617143" y="0"/>
                  <a:pt x="1655761" y="38618"/>
                  <a:pt x="1655761" y="86255"/>
                </a:cubicBezTo>
                <a:lnTo>
                  <a:pt x="1655762" y="517525"/>
                </a:lnTo>
                <a:lnTo>
                  <a:pt x="1655762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c7d0e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同侧圆角矩形 71"/>
          <p:cNvSpPr/>
          <p:nvPr/>
        </p:nvSpPr>
        <p:spPr>
          <a:xfrm>
            <a:off x="7010280" y="2095560"/>
            <a:ext cx="1447920" cy="517320"/>
          </a:xfrm>
          <a:custGeom>
            <a:avLst/>
            <a:gdLst/>
            <a:ahLst/>
            <a:rect l="l" t="t" r="r" b="b"/>
            <a:pathLst>
              <a:path w="1447800" h="517525">
                <a:moveTo>
                  <a:pt x="86255" y="0"/>
                </a:moveTo>
                <a:lnTo>
                  <a:pt x="1361544" y="0"/>
                </a:lnTo>
                <a:cubicBezTo>
                  <a:pt x="1409181" y="0"/>
                  <a:pt x="1447799" y="38618"/>
                  <a:pt x="1447799" y="86255"/>
                </a:cubicBezTo>
                <a:lnTo>
                  <a:pt x="1447800" y="517525"/>
                </a:lnTo>
                <a:lnTo>
                  <a:pt x="1447800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abb9de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98"/>
          <p:cNvSpPr/>
          <p:nvPr/>
        </p:nvSpPr>
        <p:spPr>
          <a:xfrm>
            <a:off x="294120" y="1370520"/>
            <a:ext cx="985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190520" y="2209680"/>
          <a:ext cx="7267680" cy="300816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958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869760" y="140148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直接连接符 23"/>
          <p:cNvSpPr/>
          <p:nvPr/>
        </p:nvSpPr>
        <p:spPr>
          <a:xfrm>
            <a:off x="4738680" y="2514600"/>
            <a:ext cx="0" cy="10746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4"/>
          <p:cNvSpPr/>
          <p:nvPr/>
        </p:nvSpPr>
        <p:spPr>
          <a:xfrm>
            <a:off x="4738680" y="4044960"/>
            <a:ext cx="0" cy="10746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63" descr="http://files.jb51.net/scimg/png/201008/container_forklift_01.png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4724280" y="2362320"/>
            <a:ext cx="1292400" cy="268200"/>
          </a:xfrm>
          <a:prstGeom prst="pi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5"/>
          <p:cNvSpPr/>
          <p:nvPr/>
        </p:nvSpPr>
        <p:spPr>
          <a:xfrm>
            <a:off x="4687920" y="3884760"/>
            <a:ext cx="1293840" cy="268200"/>
          </a:xfrm>
          <a:prstGeom prst="pi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"/>
          <p:cNvSpPr/>
          <p:nvPr/>
        </p:nvSpPr>
        <p:spPr>
          <a:xfrm>
            <a:off x="2001960" y="2451240"/>
            <a:ext cx="863640" cy="43308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42"/>
          <p:cNvSpPr/>
          <p:nvPr/>
        </p:nvSpPr>
        <p:spPr>
          <a:xfrm>
            <a:off x="2001960" y="2989440"/>
            <a:ext cx="863640" cy="43164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3"/>
          <p:cNvSpPr/>
          <p:nvPr/>
        </p:nvSpPr>
        <p:spPr>
          <a:xfrm>
            <a:off x="2001960" y="3525840"/>
            <a:ext cx="863640" cy="43164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44"/>
          <p:cNvSpPr/>
          <p:nvPr/>
        </p:nvSpPr>
        <p:spPr>
          <a:xfrm>
            <a:off x="2001960" y="4064040"/>
            <a:ext cx="863640" cy="43164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5"/>
          <p:cNvSpPr/>
          <p:nvPr/>
        </p:nvSpPr>
        <p:spPr>
          <a:xfrm>
            <a:off x="2001960" y="4600440"/>
            <a:ext cx="863640" cy="43200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6"/>
          <p:cNvSpPr/>
          <p:nvPr/>
        </p:nvSpPr>
        <p:spPr>
          <a:xfrm>
            <a:off x="3782160" y="2286000"/>
            <a:ext cx="250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47"/>
          <p:cNvSpPr/>
          <p:nvPr/>
        </p:nvSpPr>
        <p:spPr>
          <a:xfrm>
            <a:off x="3536640" y="396864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0"/>
          <p:cNvSpPr/>
          <p:nvPr/>
        </p:nvSpPr>
        <p:spPr>
          <a:xfrm>
            <a:off x="3584160" y="299232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2"/>
          <p:cNvSpPr/>
          <p:nvPr/>
        </p:nvSpPr>
        <p:spPr>
          <a:xfrm>
            <a:off x="3596040" y="464652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6"/>
          <p:cNvSpPr/>
          <p:nvPr/>
        </p:nvSpPr>
        <p:spPr>
          <a:xfrm>
            <a:off x="7554960" y="3348000"/>
            <a:ext cx="716040" cy="447840"/>
          </a:xfrm>
          <a:prstGeom prst="pie">
            <a:avLst/>
          </a:prstGeom>
          <a:gradFill rotWithShape="0">
            <a:gsLst>
              <a:gs pos="0">
                <a:srgbClr val="5bab18"/>
              </a:gs>
              <a:gs pos="100000">
                <a:srgbClr val="79e520"/>
              </a:gs>
            </a:gsLst>
            <a:lin ang="16200000"/>
          </a:gradFill>
          <a:ln w="9360">
            <a:solidFill>
              <a:srgbClr val="7cd03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4" name="AutoShape 59"/>
          <p:cNvCxnSpPr/>
          <p:nvPr/>
        </p:nvCxnSpPr>
        <p:spPr>
          <a:xfrm flipH="1">
            <a:off x="3164760" y="3794760"/>
            <a:ext cx="4747320" cy="188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5" name="Rectangle 58"/>
          <p:cNvSpPr/>
          <p:nvPr/>
        </p:nvSpPr>
        <p:spPr>
          <a:xfrm>
            <a:off x="8097840" y="4332240"/>
            <a:ext cx="455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9"/>
          <p:cNvSpPr/>
          <p:nvPr/>
        </p:nvSpPr>
        <p:spPr>
          <a:xfrm>
            <a:off x="1913040" y="5495760"/>
            <a:ext cx="1163520" cy="371520"/>
          </a:xfrm>
          <a:prstGeom prst="pie">
            <a:avLst/>
          </a:prstGeom>
          <a:gradFill rotWithShape="0">
            <a:gsLst>
              <a:gs pos="0">
                <a:srgbClr val="5bab18"/>
              </a:gs>
              <a:gs pos="100000">
                <a:srgbClr val="79e520"/>
              </a:gs>
            </a:gsLst>
            <a:lin ang="16200000"/>
          </a:gradFill>
          <a:ln w="9360">
            <a:solidFill>
              <a:srgbClr val="7cd03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0"/>
          <p:cNvSpPr/>
          <p:nvPr/>
        </p:nvSpPr>
        <p:spPr>
          <a:xfrm>
            <a:off x="2239200" y="5972040"/>
            <a:ext cx="455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1"/>
          <p:cNvSpPr/>
          <p:nvPr/>
        </p:nvSpPr>
        <p:spPr>
          <a:xfrm>
            <a:off x="390600" y="3616200"/>
            <a:ext cx="863640" cy="43200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9" name="肘形连接符 9"/>
          <p:cNvCxnSpPr>
            <a:stCxn id="967" idx="1"/>
            <a:endCxn id="968" idx="1"/>
          </p:cNvCxnSpPr>
          <p:nvPr/>
        </p:nvCxnSpPr>
        <p:spPr>
          <a:xfrm flipH="1">
            <a:off x="4957200" y="2908800"/>
            <a:ext cx="13320" cy="31356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cxnSp>
        <p:nvCxnSpPr>
          <p:cNvPr id="990" name="肘形连接符 15"/>
          <p:cNvCxnSpPr>
            <a:stCxn id="968" idx="1"/>
            <a:endCxn id="969" idx="1"/>
          </p:cNvCxnSpPr>
          <p:nvPr/>
        </p:nvCxnSpPr>
        <p:spPr>
          <a:xfrm flipH="1">
            <a:off x="4957200" y="3222720"/>
            <a:ext cx="13320" cy="35892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pic>
        <p:nvPicPr>
          <p:cNvPr id="991" name="Picture 65" descr="大货车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992" name="肘形连接符 19"/>
          <p:cNvCxnSpPr>
            <a:stCxn id="971" idx="1"/>
            <a:endCxn id="972" idx="1"/>
          </p:cNvCxnSpPr>
          <p:nvPr/>
        </p:nvCxnSpPr>
        <p:spPr>
          <a:xfrm flipH="1">
            <a:off x="4957200" y="4385160"/>
            <a:ext cx="13320" cy="35964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cxnSp>
        <p:nvCxnSpPr>
          <p:cNvPr id="993" name="肘形连接符 21"/>
          <p:cNvCxnSpPr>
            <a:stCxn id="972" idx="1"/>
            <a:endCxn id="973" idx="1"/>
          </p:cNvCxnSpPr>
          <p:nvPr/>
        </p:nvCxnSpPr>
        <p:spPr>
          <a:xfrm flipH="1">
            <a:off x="4957200" y="4745160"/>
            <a:ext cx="13320" cy="35892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pic>
        <p:nvPicPr>
          <p:cNvPr id="994" name="Picture 69" descr="向右的绿箭头图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71" descr="向右的绿箭头图标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3" descr="向右的绿箭头图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75" descr="向右的绿箭头图标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77" descr="向右的绿箭头图标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79" descr="左箭头和右箭头图标"/>
          <p:cNvPicPr/>
          <p:nvPr/>
        </p:nvPicPr>
        <p:blipFill>
          <a:blip r:embed="rId14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79" descr="左箭头和右箭头图标"/>
          <p:cNvPicPr/>
          <p:nvPr/>
        </p:nvPicPr>
        <p:blipFill>
          <a:blip r:embed="rId15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69" descr="向右的绿箭头图标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8"/>
          <p:cNvSpPr/>
          <p:nvPr/>
        </p:nvSpPr>
        <p:spPr>
          <a:xfrm>
            <a:off x="461880" y="6537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8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9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组合 3" descr=""/>
          <p:cNvPicPr/>
          <p:nvPr/>
        </p:nvPicPr>
        <p:blipFill>
          <a:blip r:embed="rId1"/>
          <a:stretch/>
        </p:blipFill>
        <p:spPr>
          <a:xfrm>
            <a:off x="-23760" y="1441440"/>
            <a:ext cx="3436920" cy="500544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任意多边形 1"/>
          <p:cNvSpPr/>
          <p:nvPr/>
        </p:nvSpPr>
        <p:spPr>
          <a:xfrm>
            <a:off x="2922480" y="1952640"/>
            <a:ext cx="5992920" cy="51588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13"/>
          <p:cNvSpPr/>
          <p:nvPr/>
        </p:nvSpPr>
        <p:spPr>
          <a:xfrm>
            <a:off x="2922480" y="271152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14"/>
          <p:cNvSpPr/>
          <p:nvPr/>
        </p:nvSpPr>
        <p:spPr>
          <a:xfrm>
            <a:off x="2922480" y="367200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任意多边形 15"/>
          <p:cNvSpPr/>
          <p:nvPr/>
        </p:nvSpPr>
        <p:spPr>
          <a:xfrm>
            <a:off x="2922480" y="458640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任意多边形 16"/>
          <p:cNvSpPr/>
          <p:nvPr/>
        </p:nvSpPr>
        <p:spPr>
          <a:xfrm>
            <a:off x="2922480" y="5365800"/>
            <a:ext cx="5992920" cy="51588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圆角矩形 12" descr=""/>
          <p:cNvPicPr/>
          <p:nvPr/>
        </p:nvPicPr>
        <p:blipFill>
          <a:blip r:embed="rId1"/>
          <a:stretch/>
        </p:blipFill>
        <p:spPr>
          <a:xfrm>
            <a:off x="376200" y="3108240"/>
            <a:ext cx="1995480" cy="1262160"/>
          </a:xfrm>
          <a:prstGeom prst="rect">
            <a:avLst/>
          </a:prstGeom>
          <a:ln w="0">
            <a:noFill/>
          </a:ln>
        </p:spPr>
      </p:pic>
      <p:pic>
        <p:nvPicPr>
          <p:cNvPr id="1022" name="圆角矩形 13" descr=""/>
          <p:cNvPicPr/>
          <p:nvPr/>
        </p:nvPicPr>
        <p:blipFill>
          <a:blip r:embed="rId2"/>
          <a:stretch/>
        </p:blipFill>
        <p:spPr>
          <a:xfrm>
            <a:off x="3728880" y="3119400"/>
            <a:ext cx="1762200" cy="123516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16"/>
          <p:cNvSpPr/>
          <p:nvPr/>
        </p:nvSpPr>
        <p:spPr>
          <a:xfrm>
            <a:off x="4291920" y="1828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圆角矩形 17" descr=""/>
          <p:cNvPicPr/>
          <p:nvPr/>
        </p:nvPicPr>
        <p:blipFill>
          <a:blip r:embed="rId3"/>
          <a:stretch/>
        </p:blipFill>
        <p:spPr>
          <a:xfrm>
            <a:off x="6696000" y="3108240"/>
            <a:ext cx="1994040" cy="1262160"/>
          </a:xfrm>
          <a:prstGeom prst="rect">
            <a:avLst/>
          </a:prstGeom>
          <a:ln w="0">
            <a:noFill/>
          </a:ln>
        </p:spPr>
      </p:pic>
      <p:cxnSp>
        <p:nvCxnSpPr>
          <p:cNvPr id="1025" name="肘形连接符 19"/>
          <p:cNvCxnSpPr>
            <a:stCxn id="1024" idx="0"/>
            <a:endCxn id="1021" idx="0"/>
          </p:cNvCxnSpPr>
          <p:nvPr/>
        </p:nvCxnSpPr>
        <p:spPr>
          <a:xfrm flipH="1" flipV="1">
            <a:off x="1563480" y="3121920"/>
            <a:ext cx="5944320" cy="3960"/>
          </a:xfrm>
          <a:prstGeom prst="straightConnector1">
            <a:avLst/>
          </a:prstGeom>
          <a:ln w="28440">
            <a:solidFill>
              <a:srgbClr val="7f7f7f"/>
            </a:solidFill>
            <a:round/>
            <a:headEnd len="med" type="arrow" w="med"/>
          </a:ln>
        </p:spPr>
      </p:cxnSp>
      <p:cxnSp>
        <p:nvCxnSpPr>
          <p:cNvPr id="1026" name="直接箭头连接符 23"/>
          <p:cNvCxnSpPr>
            <a:stCxn id="1024" idx="0"/>
            <a:endCxn id="1021" idx="0"/>
          </p:cNvCxnSpPr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tailEnd len="med" type="triangle" w="med"/>
          </a:ln>
        </p:spPr>
      </p:cxnSp>
      <p:cxnSp>
        <p:nvCxnSpPr>
          <p:cNvPr id="1027" name="直接箭头连接符 24"/>
          <p:cNvCxnSpPr>
            <a:stCxn id="1024" idx="0"/>
            <a:endCxn id="1021" idx="0"/>
          </p:cNvCxnSpPr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tailEnd len="med" type="triangle" w="med"/>
          </a:ln>
        </p:spPr>
      </p:cxnSp>
      <p:cxnSp>
        <p:nvCxnSpPr>
          <p:cNvPr id="1028" name="直接箭头连接符 27"/>
          <p:cNvCxnSpPr>
            <a:stCxn id="1024" idx="0"/>
            <a:endCxn id="1021" idx="0"/>
          </p:cNvCxnSpPr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headEnd len="med" type="arrow" w="med"/>
          </a:ln>
        </p:spPr>
      </p:cxnSp>
      <p:cxnSp>
        <p:nvCxnSpPr>
          <p:cNvPr id="1029" name="直接箭头连接符 28"/>
          <p:cNvCxnSpPr>
            <a:stCxn id="1024" idx="0"/>
            <a:endCxn id="1021" idx="0"/>
          </p:cNvCxnSpPr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headEnd len="med" type="arrow" w="med"/>
          </a:ln>
        </p:spPr>
      </p:cxnSp>
      <p:sp>
        <p:nvSpPr>
          <p:cNvPr id="1030" name="TextBox 29"/>
          <p:cNvSpPr/>
          <p:nvPr/>
        </p:nvSpPr>
        <p:spPr>
          <a:xfrm>
            <a:off x="56970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0"/>
          <p:cNvSpPr/>
          <p:nvPr/>
        </p:nvSpPr>
        <p:spPr>
          <a:xfrm>
            <a:off x="26568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肘形连接符 33"/>
          <p:cNvCxnSpPr>
            <a:stCxn id="1021" idx="0"/>
            <a:endCxn id="1022" idx="0"/>
          </p:cNvCxnSpPr>
          <p:nvPr/>
        </p:nvCxnSpPr>
        <p:spPr>
          <a:xfrm flipV="1">
            <a:off x="1563840" y="3121920"/>
            <a:ext cx="3048480" cy="3960"/>
          </a:xfrm>
          <a:prstGeom prst="straightConnector1">
            <a:avLst/>
          </a:prstGeom>
          <a:ln w="28440">
            <a:solidFill>
              <a:srgbClr val="7f7f7f"/>
            </a:solidFill>
            <a:round/>
            <a:tailEnd len="med" type="triangle" w="med"/>
          </a:ln>
        </p:spPr>
      </p:cxnSp>
      <p:pic>
        <p:nvPicPr>
          <p:cNvPr id="1033" name="椭圆 16" descr=""/>
          <p:cNvPicPr/>
          <p:nvPr/>
        </p:nvPicPr>
        <p:blipFill>
          <a:blip r:embed="rId4"/>
          <a:stretch/>
        </p:blipFill>
        <p:spPr>
          <a:xfrm>
            <a:off x="6553080" y="4829040"/>
            <a:ext cx="2057400" cy="505080"/>
          </a:xfrm>
          <a:prstGeom prst="rect">
            <a:avLst/>
          </a:prstGeom>
          <a:ln w="0">
            <a:noFill/>
          </a:ln>
        </p:spPr>
      </p:pic>
      <p:pic>
        <p:nvPicPr>
          <p:cNvPr id="1034" name="椭圆 18" descr=""/>
          <p:cNvPicPr/>
          <p:nvPr/>
        </p:nvPicPr>
        <p:blipFill>
          <a:blip r:embed="rId5"/>
          <a:stretch/>
        </p:blipFill>
        <p:spPr>
          <a:xfrm>
            <a:off x="533520" y="4829040"/>
            <a:ext cx="2057400" cy="505080"/>
          </a:xfrm>
          <a:prstGeom prst="rect">
            <a:avLst/>
          </a:prstGeom>
          <a:ln w="0">
            <a:noFill/>
          </a:ln>
        </p:spPr>
      </p:pic>
      <p:pic>
        <p:nvPicPr>
          <p:cNvPr id="1035" name="椭圆 20" descr=""/>
          <p:cNvPicPr/>
          <p:nvPr/>
        </p:nvPicPr>
        <p:blipFill>
          <a:blip r:embed="rId6"/>
          <a:stretch/>
        </p:blipFill>
        <p:spPr>
          <a:xfrm>
            <a:off x="3583080" y="4524480"/>
            <a:ext cx="2057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www.pptbz.com</dc:creator>
  <dc:description/>
  <dc:language>en-US</dc:language>
  <cp:lastModifiedBy>xinxing</cp:lastModifiedBy>
  <cp:lastPrinted>2113-01-01T00:00:00Z</cp:lastPrinted>
  <dcterms:modified xsi:type="dcterms:W3CDTF">2017-04-02T13:00:56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