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096-2F73-4889-9BB6-FF5F429E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8F2-A988-4396-BF51-25177E99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EB4-264D-40B6-9DF9-E7DEEC63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486-929D-45EA-9395-928C472F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72E0-9B44-4F7E-BC36-26F44459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241F-9334-4BC0-A7C6-7BD4628A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C5B2-44B4-4953-AB3D-2878BB21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ACD3-AC32-4677-902A-CB02C2F1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DDF6-CC81-48BF-B50A-1D4344EC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9E9C-F02C-4EEA-9136-CCA43B9E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CCE8-F764-4D24-82F1-B3D9ECED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A0E9-6383-4CF0-A46D-8F58E2FE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BD23-7142-4C6C-B1DB-CE2C72FB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CAE9-0CB6-4571-9C22-43A5CAD8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47EC-31C6-49BB-93A1-27E50192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81DE-D4DC-4E5C-94B1-9D6AB249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0E83-7111-46D1-AF66-02876400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8D9-87EB-4BE8-A297-3870942E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125-3DCD-4441-A2BB-804710BC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428-C0DB-49B3-BEC9-2080C81C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DC0-E8CA-48E4-A854-E44A9A43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D07-2835-48CE-8F7E-99262AE3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57B-9621-4E93-B79A-47F511E5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FDE-D15C-476A-9B9C-CA256AE2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13AB-73EC-4D76-9A97-B347D5FE4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18F7-1E39-4A1C-B2F9-2C5A1BC86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简洁绿色草丛通用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4" name="Oval 45"/>
          <p:cNvSpPr/>
          <p:nvPr/>
        </p:nvSpPr>
        <p:spPr>
          <a:xfrm>
            <a:off x="324000" y="333360"/>
            <a:ext cx="1368360" cy="7920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6"/>
          <p:cNvSpPr/>
          <p:nvPr/>
        </p:nvSpPr>
        <p:spPr>
          <a:xfrm>
            <a:off x="468360" y="476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07:27:20Z</dcterms:created>
  <dc:creator>keke</dc:creator>
  <dc:description/>
  <dc:language>en-US</dc:language>
  <cp:lastModifiedBy>王玉清</cp:lastModifiedBy>
  <dcterms:modified xsi:type="dcterms:W3CDTF">2016-02-22T03:44:21Z</dcterms:modified>
  <cp:revision>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