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0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3934800"/>
            <a:ext cx="77720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393480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393480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393480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7086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77720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0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3934800"/>
            <a:ext cx="77720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393480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2400" y="393480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70040" y="3934800"/>
            <a:ext cx="2502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7086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77720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0862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2189880" y="137160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精美情人节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未标题-1"/>
          <p:cNvPicPr/>
          <p:nvPr/>
        </p:nvPicPr>
        <p:blipFill>
          <a:blip r:embed="rId2"/>
          <a:stretch/>
        </p:blipFill>
        <p:spPr>
          <a:xfrm>
            <a:off x="304920" y="0"/>
            <a:ext cx="7695720" cy="590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字"/>
          <p:cNvPicPr/>
          <p:nvPr/>
        </p:nvPicPr>
        <p:blipFill>
          <a:blip r:embed="rId3"/>
          <a:stretch/>
        </p:blipFill>
        <p:spPr>
          <a:xfrm>
            <a:off x="1981080" y="762120"/>
            <a:ext cx="6019560" cy="65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02005324170626"/>
          <p:cNvPicPr/>
          <p:nvPr/>
        </p:nvPicPr>
        <p:blipFill>
          <a:blip r:embed="rId4"/>
          <a:stretch/>
        </p:blipFill>
        <p:spPr>
          <a:xfrm>
            <a:off x="838080" y="-282600"/>
            <a:ext cx="342720" cy="28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82005324170628"/>
          <p:cNvPicPr/>
          <p:nvPr/>
        </p:nvPicPr>
        <p:blipFill>
          <a:blip r:embed="rId5"/>
          <a:stretch/>
        </p:blipFill>
        <p:spPr>
          <a:xfrm>
            <a:off x="5715000" y="-378000"/>
            <a:ext cx="380520" cy="37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02005324170626"/>
          <p:cNvPicPr/>
          <p:nvPr/>
        </p:nvPicPr>
        <p:blipFill>
          <a:blip r:embed="rId6"/>
          <a:stretch/>
        </p:blipFill>
        <p:spPr>
          <a:xfrm>
            <a:off x="2666880" y="-282600"/>
            <a:ext cx="342720" cy="282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2005324170626"/>
          <p:cNvPicPr/>
          <p:nvPr/>
        </p:nvPicPr>
        <p:blipFill>
          <a:blip r:embed="rId7"/>
          <a:stretch/>
        </p:blipFill>
        <p:spPr>
          <a:xfrm>
            <a:off x="7467480" y="-663480"/>
            <a:ext cx="342720" cy="28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02005324170626"/>
          <p:cNvPicPr/>
          <p:nvPr/>
        </p:nvPicPr>
        <p:blipFill>
          <a:blip r:embed="rId8"/>
          <a:stretch/>
        </p:blipFill>
        <p:spPr>
          <a:xfrm>
            <a:off x="4572000" y="-358920"/>
            <a:ext cx="342720" cy="285480"/>
          </a:xfrm>
          <a:prstGeom prst="rect">
            <a:avLst/>
          </a:prstGeom>
          <a:ln w="0">
            <a:noFill/>
          </a:ln>
        </p:spPr>
      </p:pic>
      <p:sp>
        <p:nvSpPr>
          <p:cNvPr id="86" name="矩形 9"/>
          <p:cNvSpPr/>
          <p:nvPr/>
        </p:nvSpPr>
        <p:spPr>
          <a:xfrm>
            <a:off x="7608960" y="35280"/>
            <a:ext cx="727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path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Motion origin="layout" path="M 0.00434 -0.04162 C -0.03785 0.04647 -0.07986 0.1348 -0.04497 0.2333 C -0.01007 0.33133 0.2151 0.44856 0.21389 0.54798 C 0.21267 0.64786 -0.01181 0.7526 -0.05278 0.83121 C -0.09375 0.91006 -0.0375 0.99075 -0.03229 1.01965 E">
                                      <p:cBhvr>
                                        <p:cTn id="15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path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Motion origin="layout" path="M 3.88889E-006 7.86127E-006 C -0.02101 0.05388 -0.04201 0.10775 -0.01424 0.1711 C 0.01354 0.23469 0.12934 0.30382 0.16667 0.38035 C 0.20399 0.45735 0.17535 0.56856 0.20955 0.63215 C 0.24375 0.69527 0.34427 0.74012 0.37153 0.76093 E">
                                      <p:cBhvr>
                                        <p:cTn id="1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" nodeType="afterEffect" fill="hold" presetClass="path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Motion origin="layout" path="M 0.01788 0.08277 C 0.03038 0.11098 0.0908 0.18312 0.09253 0.25179 C 0.09427 0.32046 0.04861 0.40324 0.02882 0.4948 C 0.00902 0.58613 -0.00052 0.72948 -0.02674 0.80162 C -0.05295 0.87353 -0.08021 0.89619 -0.1283 0.92624 C -0.17639 0.9563 -0.27535 0.96994 -0.31372 0.98127 E">
                                      <p:cBhvr>
                                        <p:cTn id="21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" nodeType="afterEffect" fill="hold" presetClass="path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Motion origin="layout" path="M 0.00434 -0.04162 C -0.03785 0.04647 -0.04966 0.13642 -0.04497 0.23329 C -0.04028 0.33017 0.03402 0.43954 0.03281 0.53919 C 0.03159 0.63884 -0.01927 0.74081 -0.05278 0.83121 C -0.08629 0.92139 -0.14462 1.02867 -0.16875 1.08046 E">
                                      <p:cBhvr>
                                        <p:cTn id="24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" nodeType="afterEffect" fill="hold" presetClass="path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Motion origin="layout" path="M 0.00434 -0.04162 C -0.01701 0.00347 -0.10538 0.14636 -0.12344 0.22844 C -0.14149 0.31052 -0.12014 0.38428 -0.10451 0.45041 C -0.08889 0.51653 -0.0224 0.57179 -0.02986 0.62567 C -0.03733 0.67931 -0.12587 0.69596 -0.14896 0.77179 C -0.17205 0.8474 -0.16458 1.01619 -0.16875 1.08046 E">
                                      <p:cBhvr>
                                        <p:cTn id="27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  <Pages>0</Pages>
  <Words>96</Words>
  <Characters>0</Characters>
  <CharactersWithSpaces>0</CharactersWithSpace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lenovo</dc:creator>
  <dc:description/>
  <dc:language>en-US</dc:language>
  <cp:lastModifiedBy>王玉清</cp:lastModifiedBy>
  <cp:lastPrinted>1601-01-01T00:00:00Z</cp:lastPrinted>
  <dcterms:modified xsi:type="dcterms:W3CDTF">2016-02-20T03:19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  <property fmtid="{D5CDD505-2E9C-101B-9397-08002B2CF9AE}" pid="5" name="Version">
    <vt:r8>1</vt:r8>
  </property>
</Properties>
</file>