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3A36-DB8B-41DB-9899-AFE8E163A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9A06-19A1-4F8E-B0E6-889F67C53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C9E9-8089-4DB7-ABF5-9E7A48DB1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029C-420D-46E4-A456-5C5ABAAB6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116D7-7124-4DF1-A891-AD98A2094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5D48A-DA4B-4E7A-93C1-6A70318D8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006CF-992E-4543-878F-BE3D86278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92EE6-E944-442B-82E1-81378D125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7E6F5-D933-40C2-8F61-A71E88DF6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28CF2-651A-4E4E-AB2C-E6E3F0FDD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6C29E-2F0A-468B-82DC-C57984EC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D6BD-ABB6-4B5E-B320-0EDA50154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6055F-7752-4353-87C6-F3469A72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38D64-A591-4FA6-9BFC-1EFA94CE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4BF8C-A79C-4536-8749-7E81CE7FD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D5CE6-B7DA-41E4-AA03-87944325A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60139-0B54-4C99-A412-A395E37F5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EE8F-D069-482A-8CDD-EAD9622F7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42CA-95F2-4311-BD5B-EA1670010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902C-690F-4D50-BDE6-39B80F4CB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0CA8-F7C4-4B8D-A577-FED99D4CA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2C97-5EC4-4424-A2CA-FDD59783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489D-AFDC-463D-9AF9-454E93DB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9F37-3668-469A-AC36-B7EA00FD8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3294B-8B75-4987-970B-F9927C37B70C}" type="slidenum">
              <a:rPr b="1" lang="en-US" sz="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7BC17-99F2-4EB1-AE90-52AD3D0CBF76}" type="slidenum">
              <a:rPr b="0" lang="en-US" sz="8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14240" y="3581280"/>
            <a:ext cx="662940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ero"/>
                <a:ea typeface="宋体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48120" y="4343400"/>
            <a:ext cx="5333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ero"/>
                <a:ea typeface="宋体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0" y="64008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5480" y="762120"/>
            <a:ext cx="293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机器人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733560" y="75960"/>
            <a:ext cx="3429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ero"/>
                <a:ea typeface="宋体"/>
              </a:rPr>
              <a:t>Your Topic Goes Here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123720" y="685440"/>
            <a:ext cx="48769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ero"/>
                <a:ea typeface="宋体"/>
              </a:rPr>
              <a:t>Your business subtopic goes here</a:t>
            </a:r>
            <a:r>
              <a:rPr b="1" lang="en-US" sz="1600" spc="-1" strike="noStrike">
                <a:solidFill>
                  <a:srgbClr val="ffffff"/>
                </a:solidFill>
                <a:latin typeface="Arial Black"/>
                <a:ea typeface="宋体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00200" y="3581280"/>
            <a:ext cx="5943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ero"/>
                <a:ea typeface="宋体"/>
              </a:rPr>
              <a:t>Transitional Page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9" name=""/>
          <p:cNvSpPr/>
          <p:nvPr/>
        </p:nvSpPr>
        <p:spPr>
          <a:xfrm>
            <a:off x="0" y="6400800"/>
            <a:ext cx="5645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9880" y="761760"/>
            <a:ext cx="4191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ero"/>
                <a:ea typeface="宋体"/>
              </a:rPr>
              <a:t>Your Topic Goes Here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00040" y="1371240"/>
            <a:ext cx="5715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ero"/>
                <a:ea typeface="宋体"/>
              </a:rPr>
              <a:t>Your subtopic goes he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Impact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：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 </a:t>
            </a:r>
            <a:r>
              <a:rPr b="1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1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：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7231-A64F-4D25-BEF9-74315A96BECF}" type="slidenum">
              <a:t>5</a:t>
            </a:fld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2T17:03:57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2:21:36Z</dcterms:modified>
  <cp:revision>2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