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996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79692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79692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ABD124E-9B13-4199-94DD-B7071C5862F2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586FA0B-23FD-4463-B3D9-6EFD9B3B8093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440" y="0"/>
            <a:ext cx="6696360" cy="50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7E2194A-7153-4013-88B6-9F4EDA4C181D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DD23A0A-6DB2-47A6-A699-DDF68DDAD62A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BFCB769-913F-4BC9-B13C-06866232A16F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E089FC1-FDB7-4ECC-938D-ABF634C32BFB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3AB48A5-F450-43AD-9917-489070424B85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D89D6A4-4778-4CC9-87F4-3CD0B2BACFF1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23654F-F7D6-4278-B7DA-85FA322845F6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72AB3AD-C331-45BB-8682-DB5211340520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0892378-7CD1-470E-B62E-1EE6629A6A5A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BE96796-C887-4C01-BAC4-496225DD016B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1003320"/>
            <a:ext cx="9144000" cy="5346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Hintergrund"/>
          <p:cNvPicPr/>
          <p:nvPr/>
        </p:nvPicPr>
        <p:blipFill>
          <a:blip r:embed="rId2"/>
          <a:srcRect l="0" t="0" r="0" b="92574"/>
          <a:stretch/>
        </p:blipFill>
        <p:spPr>
          <a:xfrm>
            <a:off x="0" y="6362640"/>
            <a:ext cx="9144000" cy="5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Page </a:t>
            </a:r>
            <a:fld id="{B4D87240-BD34-4930-8D1E-80CA351820D1}" type="slidenum">
              <a:rPr b="1" lang="de-DE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schatten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2"/>
          <p:cNvSpPr/>
          <p:nvPr/>
        </p:nvSpPr>
        <p:spPr>
          <a:xfrm>
            <a:off x="1876320" y="6464160"/>
            <a:ext cx="5376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Here comes your fo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PP small"/>
          <p:cNvPicPr/>
          <p:nvPr/>
        </p:nvPicPr>
        <p:blipFill>
          <a:blip r:embed="rId4"/>
          <a:srcRect l="0" t="0" r="0" b="34534"/>
          <a:stretch/>
        </p:blipFill>
        <p:spPr>
          <a:xfrm>
            <a:off x="6603840" y="380880"/>
            <a:ext cx="2267280" cy="284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9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152280" y="6459480"/>
            <a:ext cx="241956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intergr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Himmel2"/>
          <p:cNvPicPr/>
          <p:nvPr/>
        </p:nvPicPr>
        <p:blipFill>
          <a:blip r:embed="rId3"/>
          <a:stretch/>
        </p:blipFill>
        <p:spPr>
          <a:xfrm>
            <a:off x="0" y="3765600"/>
            <a:ext cx="9144000" cy="2114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schatten"/>
          <p:cNvPicPr/>
          <p:nvPr/>
        </p:nvPicPr>
        <p:blipFill>
          <a:blip r:embed="rId4"/>
          <a:stretch/>
        </p:blipFill>
        <p:spPr>
          <a:xfrm>
            <a:off x="0" y="3765600"/>
            <a:ext cx="9144000" cy="120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6432480" y="6191280"/>
            <a:ext cx="2419560" cy="303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6840" y="127116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金属灰商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26840" y="2571480"/>
            <a:ext cx="6764040" cy="7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Template for Microsoft Power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7531DA31-67CA-45D2-9583-3C7D588160E8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4546440" y="1790640"/>
          <a:ext cx="4280040" cy="40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46440" y="1790640"/>
                    <a:ext cx="428004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8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403200" y="2036880"/>
            <a:ext cx="386388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1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02E70435-BFC8-4A43-BBD1-9677E4A8B35E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7" descr="Hintergr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9"/>
          <p:cNvSpPr/>
          <p:nvPr/>
        </p:nvSpPr>
        <p:spPr>
          <a:xfrm>
            <a:off x="576360" y="4727520"/>
            <a:ext cx="394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Software and Tools for Microsoft Power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The website with innovative solu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Save time and money by automating your present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1" descr="Unbenannt-1"/>
          <p:cNvPicPr/>
          <p:nvPr/>
        </p:nvPicPr>
        <p:blipFill>
          <a:blip r:embed="rId2"/>
          <a:srcRect l="0" t="0" r="0" b="32236"/>
          <a:stretch/>
        </p:blipFill>
        <p:spPr>
          <a:xfrm>
            <a:off x="638280" y="4076640"/>
            <a:ext cx="2171520" cy="281160"/>
          </a:xfrm>
          <a:prstGeom prst="rect">
            <a:avLst/>
          </a:prstGeom>
          <a:ln w="0">
            <a:noFill/>
          </a:ln>
        </p:spPr>
      </p:pic>
      <p:sp>
        <p:nvSpPr>
          <p:cNvPr id="161" name="Line 22"/>
          <p:cNvSpPr/>
          <p:nvPr/>
        </p:nvSpPr>
        <p:spPr>
          <a:xfrm>
            <a:off x="676440" y="3695760"/>
            <a:ext cx="311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561960" y="4324320"/>
            <a:ext cx="369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5f5f5f"/>
                </a:solidFill>
                <a:latin typeface="Arial"/>
              </a:rPr>
              <a:t>www.presentationpoint.</a:t>
            </a: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4586400" y="1784520"/>
            <a:ext cx="394308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ith the use of this free template you accep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ollowing use and license condi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t for commercial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e template can be used freely by private persons. The commercial employment of the free templates is not permitted. Any further trade with contents as well as making the diagram/template/animations available in changed or unchanged form for downloading on other web sites or multiplying &amp; the selling on data media of any kind are forbidd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n no event shall PresentationPoint be liable for any indirect, special or consequential damages arising out of or in connection with the use of the templ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n case of questions for commercial usage please get in contact with us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E-Mail: info@presentationpoin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4568760" y="145260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4533840" y="5100480"/>
            <a:ext cx="20671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3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08DB904E-42A6-4149-A472-A395A936896C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39772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62000"/>
          </a:bodyPr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3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D3B8A655-0569-48A7-A576-5C065353C301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intergrund"/>
          <p:cNvPicPr/>
          <p:nvPr/>
        </p:nvPicPr>
        <p:blipFill>
          <a:blip r:embed="rId1"/>
          <a:srcRect l="0" t="0" r="0" b="7219"/>
          <a:stretch/>
        </p:blipFill>
        <p:spPr>
          <a:xfrm>
            <a:off x="0" y="0"/>
            <a:ext cx="9144000" cy="6364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schatten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223920" y="1919160"/>
            <a:ext cx="86770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„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The best thing about the future is that it comes only one day at a time.“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505400" y="386244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MS PGothic"/>
              </a:rPr>
              <a:t>Abraham Lincoln (1809-18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755360" y="112860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93CBA5AD-FF5B-44E2-A353-4F3DD51729CD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.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It is also possible to have 2 lines of tex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2840" y="1782720"/>
            <a:ext cx="4124520" cy="32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1080" y="1782720"/>
            <a:ext cx="4124520" cy="32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3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92DC9315-B5B1-49DC-A682-F15F51799063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12920" y="187164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0480" y="2344320"/>
            <a:ext cx="8397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412920" y="379260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420840" y="4265640"/>
            <a:ext cx="8397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6BEA65CA-02EB-4235-808B-A3703890F584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"/>
          <p:cNvSpPr/>
          <p:nvPr/>
        </p:nvSpPr>
        <p:spPr>
          <a:xfrm>
            <a:off x="4903920" y="2733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372" y="167"/>
                </a:moveTo>
                <a:cubicBezTo>
                  <a:pt x="84" y="0"/>
                  <a:pt x="84" y="0"/>
                  <a:pt x="84" y="0"/>
                </a:cubicBezTo>
                <a:cubicBezTo>
                  <a:pt x="31" y="96"/>
                  <a:pt x="0" y="205"/>
                  <a:pt x="0" y="322"/>
                </a:cubicBezTo>
                <a:cubicBezTo>
                  <a:pt x="0" y="439"/>
                  <a:pt x="31" y="548"/>
                  <a:pt x="84" y="643"/>
                </a:cubicBezTo>
                <a:cubicBezTo>
                  <a:pt x="372" y="477"/>
                  <a:pt x="372" y="477"/>
                  <a:pt x="372" y="477"/>
                </a:cubicBezTo>
                <a:cubicBezTo>
                  <a:pt x="318" y="377"/>
                  <a:pt x="322" y="261"/>
                  <a:pt x="372" y="167"/>
                </a:cubicBezTo>
                <a:close/>
              </a:path>
            </a:pathLst>
          </a:custGeom>
          <a:solidFill>
            <a:srgbClr val="494949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5"/>
          <p:cNvSpPr/>
          <p:nvPr/>
        </p:nvSpPr>
        <p:spPr>
          <a:xfrm>
            <a:off x="5165640" y="4116240"/>
            <a:ext cx="155736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88" y="0"/>
                </a:moveTo>
                <a:cubicBezTo>
                  <a:pt x="0" y="167"/>
                  <a:pt x="0" y="167"/>
                  <a:pt x="0" y="167"/>
                </a:cubicBezTo>
                <a:cubicBezTo>
                  <a:pt x="114" y="357"/>
                  <a:pt x="320" y="485"/>
                  <a:pt x="557" y="488"/>
                </a:cubicBezTo>
                <a:cubicBezTo>
                  <a:pt x="557" y="156"/>
                  <a:pt x="557" y="156"/>
                  <a:pt x="557" y="156"/>
                </a:cubicBezTo>
                <a:cubicBezTo>
                  <a:pt x="450" y="152"/>
                  <a:pt x="348" y="97"/>
                  <a:pt x="288" y="0"/>
                </a:cubicBezTo>
                <a:close/>
              </a:path>
            </a:pathLst>
          </a:custGeom>
          <a:solidFill>
            <a:srgbClr val="6e6e6e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"/>
          <p:cNvSpPr/>
          <p:nvPr/>
        </p:nvSpPr>
        <p:spPr>
          <a:xfrm>
            <a:off x="5165640" y="1789200"/>
            <a:ext cx="1557360" cy="1360440"/>
          </a:xfrm>
          <a:custGeom>
            <a:avLst/>
            <a:gdLst/>
            <a:ahLst/>
            <a:rect l="l" t="t" r="r" b="b"/>
            <a:pathLst>
              <a:path w="557" h="487">
                <a:moveTo>
                  <a:pt x="0" y="321"/>
                </a:moveTo>
                <a:cubicBezTo>
                  <a:pt x="288" y="487"/>
                  <a:pt x="288" y="487"/>
                  <a:pt x="288" y="487"/>
                </a:cubicBezTo>
                <a:cubicBezTo>
                  <a:pt x="315" y="443"/>
                  <a:pt x="354" y="404"/>
                  <a:pt x="403" y="376"/>
                </a:cubicBezTo>
                <a:cubicBezTo>
                  <a:pt x="451" y="348"/>
                  <a:pt x="504" y="334"/>
                  <a:pt x="557" y="332"/>
                </a:cubicBezTo>
                <a:cubicBezTo>
                  <a:pt x="557" y="0"/>
                  <a:pt x="557" y="0"/>
                  <a:pt x="557" y="0"/>
                </a:cubicBezTo>
                <a:cubicBezTo>
                  <a:pt x="320" y="3"/>
                  <a:pt x="114" y="131"/>
                  <a:pt x="0" y="321"/>
                </a:cubicBezTo>
                <a:close/>
              </a:path>
            </a:pathLst>
          </a:custGeom>
          <a:solidFill>
            <a:srgbClr val="3e7ea6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"/>
          <p:cNvSpPr/>
          <p:nvPr/>
        </p:nvSpPr>
        <p:spPr>
          <a:xfrm>
            <a:off x="6780240" y="178920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68" y="488"/>
                </a:moveTo>
                <a:cubicBezTo>
                  <a:pt x="557" y="321"/>
                  <a:pt x="557" y="321"/>
                  <a:pt x="557" y="321"/>
                </a:cubicBezTo>
                <a:cubicBezTo>
                  <a:pt x="443" y="131"/>
                  <a:pt x="236" y="3"/>
                  <a:pt x="0" y="0"/>
                </a:cubicBezTo>
                <a:cubicBezTo>
                  <a:pt x="0" y="332"/>
                  <a:pt x="0" y="332"/>
                  <a:pt x="0" y="332"/>
                </a:cubicBezTo>
                <a:cubicBezTo>
                  <a:pt x="106" y="336"/>
                  <a:pt x="209" y="391"/>
                  <a:pt x="268" y="488"/>
                </a:cubicBezTo>
                <a:close/>
              </a:path>
            </a:pathLst>
          </a:custGeom>
          <a:solidFill>
            <a:srgbClr val="e6e6e6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8"/>
          <p:cNvSpPr/>
          <p:nvPr/>
        </p:nvSpPr>
        <p:spPr>
          <a:xfrm>
            <a:off x="7558200" y="2733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289" y="0"/>
                </a:moveTo>
                <a:cubicBezTo>
                  <a:pt x="0" y="167"/>
                  <a:pt x="0" y="167"/>
                  <a:pt x="0" y="167"/>
                </a:cubicBezTo>
                <a:cubicBezTo>
                  <a:pt x="54" y="267"/>
                  <a:pt x="51" y="383"/>
                  <a:pt x="0" y="477"/>
                </a:cubicBezTo>
                <a:cubicBezTo>
                  <a:pt x="289" y="643"/>
                  <a:pt x="289" y="643"/>
                  <a:pt x="289" y="643"/>
                </a:cubicBezTo>
                <a:cubicBezTo>
                  <a:pt x="342" y="548"/>
                  <a:pt x="372" y="439"/>
                  <a:pt x="372" y="322"/>
                </a:cubicBezTo>
                <a:cubicBezTo>
                  <a:pt x="372" y="205"/>
                  <a:pt x="342" y="96"/>
                  <a:pt x="289" y="0"/>
                </a:cubicBezTo>
                <a:close/>
              </a:path>
            </a:pathLst>
          </a:custGeom>
          <a:solidFill>
            <a:srgbClr val="c1c1c1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6780240" y="411624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154" y="112"/>
                </a:moveTo>
                <a:cubicBezTo>
                  <a:pt x="105" y="140"/>
                  <a:pt x="52" y="154"/>
                  <a:pt x="0" y="156"/>
                </a:cubicBezTo>
                <a:cubicBezTo>
                  <a:pt x="0" y="488"/>
                  <a:pt x="0" y="488"/>
                  <a:pt x="0" y="488"/>
                </a:cubicBezTo>
                <a:cubicBezTo>
                  <a:pt x="236" y="485"/>
                  <a:pt x="443" y="357"/>
                  <a:pt x="557" y="167"/>
                </a:cubicBezTo>
                <a:cubicBezTo>
                  <a:pt x="268" y="0"/>
                  <a:pt x="268" y="0"/>
                  <a:pt x="268" y="0"/>
                </a:cubicBezTo>
                <a:cubicBezTo>
                  <a:pt x="241" y="45"/>
                  <a:pt x="202" y="84"/>
                  <a:pt x="154" y="112"/>
                </a:cubicBezTo>
                <a:close/>
              </a:path>
            </a:pathLst>
          </a:custGeom>
          <a:solidFill>
            <a:srgbClr val="9b9b9b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5991120" y="2867040"/>
            <a:ext cx="1533600" cy="1533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6055560" y="34275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Color p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403200" y="2036880"/>
            <a:ext cx="412452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CB1777B8-3475-4470-B06B-35156F01B62B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Schach"/>
          <p:cNvPicPr/>
          <p:nvPr/>
        </p:nvPicPr>
        <p:blipFill>
          <a:blip r:embed="rId1">
            <a:grayscl/>
          </a:blip>
          <a:srcRect l="0" t="0" r="26025" b="0"/>
          <a:stretch/>
        </p:blipFill>
        <p:spPr>
          <a:xfrm>
            <a:off x="390600" y="1860480"/>
            <a:ext cx="3997080" cy="3603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34" name="Rectangle 8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4591080" y="1843200"/>
            <a:ext cx="412416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15960" y="591984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50BABE56-2142-46A9-8264-73D45A988E5B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Schach"/>
          <p:cNvPicPr/>
          <p:nvPr/>
        </p:nvPicPr>
        <p:blipFill>
          <a:blip r:embed="rId1">
            <a:grayscl/>
          </a:blip>
          <a:srcRect l="0" t="0" r="5497" b="0"/>
          <a:stretch/>
        </p:blipFill>
        <p:spPr>
          <a:xfrm>
            <a:off x="387360" y="1881360"/>
            <a:ext cx="2338200" cy="1650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0" name="Picture 7" descr="Schach"/>
          <p:cNvPicPr/>
          <p:nvPr/>
        </p:nvPicPr>
        <p:blipFill>
          <a:blip r:embed="rId2">
            <a:grayscl/>
          </a:blip>
          <a:srcRect l="0" t="0" r="5497" b="0"/>
          <a:stretch/>
        </p:blipFill>
        <p:spPr>
          <a:xfrm>
            <a:off x="387360" y="3862440"/>
            <a:ext cx="2338200" cy="1650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41" name="Rectangle 10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935440" y="1855800"/>
            <a:ext cx="587052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2935440" y="3843360"/>
            <a:ext cx="587052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403200" y="3683160"/>
            <a:ext cx="840276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2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73130297-8F1F-4501-98B4-AF5A4EC43CA8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0" y="1741320"/>
          <a:ext cx="47498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1320"/>
                    <a:ext cx="47498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9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979880" y="2036880"/>
            <a:ext cx="386424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dc:language>en-US</dc:language>
  <cp:lastModifiedBy>a</cp:lastModifiedBy>
  <cp:lastPrinted>2005-03-15T07:48:11Z</cp:lastPrinted>
  <dcterms:modified xsi:type="dcterms:W3CDTF">2015-07-25T07:49:09Z</dcterms:modified>
  <cp:revision>510</cp:revision>
  <dc:subject/>
  <dc:title>Metal Silv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PPL_Language">
    <vt:r8>1031</vt:r8>
  </property>
</Properties>
</file>