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34DC7-52E4-45C0-8B86-E9E19188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D49A-257E-4382-AE56-4F376AE4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D58E-8B04-41CD-A2A0-A75F09A5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E283-159F-4480-BBC1-C8EC401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1CAC-0271-4EA3-953D-7C51E2A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8BA06-09AE-478A-9F2F-4B745F0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7491-BD74-4C53-84DB-A1222BE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BC4A-7003-431D-9D0C-84A11A05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3DE9A-8ADA-41EE-9215-BC2A5F90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446FF-35CA-495F-860C-59102506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760B7-16C0-49A1-A8BE-637FCECC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7744B-C9C1-48E0-A00C-0044C34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EDF4A-1630-4402-BF4A-AF91078B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BBB6E-EC50-4CD0-A067-D1DC2C0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DA0DE-9404-4131-9692-7E56BEC2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BF088-89A9-45D2-B15D-CDBD995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46AE5-0ACC-4CCF-AA02-E6670A3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D65D0-958C-4459-AD6B-AD89B6F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9C62E-3227-45A7-81DB-5EEF20C6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7E1E1-FB6E-4F16-9EDB-E681F6C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B5DD1-F3A1-4D0B-BE17-F417EC71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E70C1-64D0-47C9-888A-8595C9BD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300EE-1BA7-4E80-8879-61E547D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433EB-C00C-44EE-8B75-080B19B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249DD-8346-4988-BE50-0C3FFDB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14E41-B4D3-4BC3-809B-BAE1C3D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2E81C-7EBF-4663-9118-7D752F0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543C5-FF0E-489F-A862-665C00D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17BFF-4648-453B-8A8F-FF5CF3C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98BBD-B41A-4C45-A117-89F6C49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FCD-E6AA-4B08-B79E-11F378D5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511FD-30A4-47BC-A65C-5245A211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464FE-08B0-4F63-813D-2ACE393A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294CF-A379-4C22-9EEF-A98D1EC9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015AD-85FC-41C9-BA17-F03E1059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46F8-7754-416C-8130-436A63A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3100-1F51-4E22-B208-3FDD390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F5DC5-E696-4143-9503-52E0A8E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A778E-95DF-40B4-A99D-0AFFC967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B0FCD-8F98-4F2C-B348-BB832F8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8648-5BFF-4678-8074-14AA1E9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3AE-1236-4643-A69B-019C40C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7232D-C0C6-4C0A-8F49-31D728FA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525E2-12C4-4C87-B653-2235503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D002C-824E-462E-A2E2-B6594C4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6108-3EAB-4245-82A1-4C349A77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F1AA-091A-4307-B8EB-B52871F2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9DE-23F9-4DE0-AF3C-2246D8DB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92D-8009-4EA0-BCDC-9B63A3A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BBB-5B34-4F6F-B902-17C7D01F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1BF-4EE0-4A54-9B08-B375617E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BD9-EA94-4D3B-B16B-6D529B1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78B-F886-47D1-945B-F2C4B43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11C-3DC5-400C-9516-7528E88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5AD-CE33-4629-B8A3-DC9124AB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C6C-ABCA-44DF-B510-054444FA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929-5417-487B-B802-B12E406F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B729-1D0A-4780-9007-9188D2E2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B14-FD25-4CE8-9064-F30F804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6C78-B821-4DFC-8432-30140C4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5F5B-2E9C-41E1-B054-3D81AA0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15F-B3E8-4802-A4D1-C6FC405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7B6-081F-4910-AE6B-594B33C8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9DA-7307-48C4-AE82-7CFC584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9D1-3CEE-4871-ABF1-B4DD643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E49A-E0C5-4088-A3CB-D6D2ACA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3E3F-E101-40B4-8342-62E39C2A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A7D-A00E-462A-9C3C-35820FB6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BFCB-5968-411E-BBAC-BBED4DF9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B259-E7AB-449E-8B49-8006D911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6BA9-EAE4-4494-B4E9-A7B6147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3BC4-2B38-4E23-BC8D-1E72A67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0E88-C8C2-4885-A2DB-43DC2CD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49CB-27B5-4FD5-9485-DFBD46A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A463-50C2-45BA-AC64-55B37386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27D6-FC30-419F-97DB-FDCAD09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DA7B-28B5-427C-868A-668D99CB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FE25-768A-43E4-B491-1474B18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6E6A-8050-4E1E-874C-D72E2799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7805-D20A-47F2-8FE6-02DA6BE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3401-9302-47B3-AA89-B1E5472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330C-DFD3-4EFD-A96E-C64A681D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231D-9FFD-49DD-8A47-538C67A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06A1-5D3B-41E0-A170-E4B8C2C2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A7CCC-3EE2-402F-9B34-7A879B5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94E6-7070-4D2D-881D-F8C3555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50ED-FEC1-4898-8740-6458610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14C4-A072-45E7-912C-2B99D96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FABD-0DEC-4F87-A8B1-B7CCCCE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3200-E844-4D8F-87D1-885CAAE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D8F9-B5AB-45C6-A480-6A67C2F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F0D4-8F15-497B-8E21-E0059AE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0156-F3F0-42D1-80CD-3532E012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FB7E-72B2-4CBA-8910-AB56FEE8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A6A6-990C-4235-8034-B0F20CE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95D1-5DF4-4A45-BA27-AFD773E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E4EBA-C4CE-4AFC-A912-EAD833E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D01D-0865-4391-898F-9400D39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C915-4E1C-4873-A218-F31C49A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6089-7AE2-48B9-B44D-B0A6C6E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97B6-A4C7-4E40-9B18-52390C2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DEF9-E82B-4882-B21C-8897F123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602A-20C9-4FF3-AE46-5591EC76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7A22-86CB-40C0-90C2-F8CD4C7E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F58C-EA52-4431-BF4F-50EB3AA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5F1A-1463-46FB-B853-252E5EDC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42D8-F185-4A52-81DF-E26AF71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823A8-C718-4D9A-BA61-052E17D4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B46F-D589-4B41-A6CF-AF607834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9B71-68E4-4375-990A-80EE3FD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A7E0-DD2D-4FD1-A0AA-B6240B8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3328-1350-4081-82B7-E62170B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E45A-7A48-4DD1-8DB0-E3B14B0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4AFE-5AE1-4BC6-AC95-7F1BDD9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A106-5146-4B28-8EEF-8E8CFBD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AA44D-80B9-4B14-8654-42F97964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996A-C590-4F36-8A36-8B83F76B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DBA90-F207-4F2E-A7EA-1599C155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D27ED-54A5-4DA3-B2F0-59FDA42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7EA8-0914-4998-9528-08261117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A106-E973-4DBD-87B6-67C99D4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18E0-E7EE-40BE-8619-3F7B2AE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C16D-C557-4360-94B6-727E005A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E80E-1A1D-4BFD-A883-13B40FB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301C-0298-4B6C-9C67-D7E9C81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CB43-6684-4640-A826-9D2705C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07AAC-0397-4DB3-985F-94234245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EB86-45B3-4071-B04D-FC438C00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279F-90C2-4FD2-B412-0309D415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7B3B6-C466-4718-BB38-1A91233D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92696-BE95-4F12-819E-F83E9734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997F-2C4B-49EE-89C8-26B6496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1" name="图片 29" descr=""/>
            <p:cNvPicPr/>
            <p:nvPr/>
          </p:nvPicPr>
          <p:blipFill>
            <a:blip r:embed="rId2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9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"/>
          <p:cNvPicPr/>
          <p:nvPr/>
        </p:nvPicPr>
        <p:blipFill>
          <a:blip r:embed="rId5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sp>
        <p:nvSpPr>
          <p:cNvPr id="5" name="矩形 13"/>
          <p:cNvSpPr/>
          <p:nvPr/>
        </p:nvSpPr>
        <p:spPr>
          <a:xfrm>
            <a:off x="0" y="0"/>
            <a:ext cx="324000" cy="6838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Box 1"/>
          <p:cNvSpPr/>
          <p:nvPr/>
        </p:nvSpPr>
        <p:spPr>
          <a:xfrm>
            <a:off x="5905080" y="6330960"/>
            <a:ext cx="26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秋记与你分享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直接百度</a:t>
            </a:r>
            <a:r>
              <a:rPr b="1" lang="zh-CN" sz="1800" spc="-1" strike="noStrike">
                <a:solidFill>
                  <a:srgbClr val="ff0000"/>
                </a:solidFill>
                <a:latin typeface="方正静蕾简体"/>
                <a:ea typeface="方正静蕾简体"/>
              </a:rPr>
              <a:t>秋记博客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浏览更多</a:t>
            </a:r>
            <a:r>
              <a:rPr b="1" lang="en-US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B52-FF7B-49D4-B25A-F7CBB76484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BD5-5813-48F5-8D3D-7831A249B2C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85C7-2D05-4C42-BD1E-0FC6A5F596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CDD-6331-465B-ABB8-85632F8A66D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6F59-915B-4BBE-B52C-BC524456E2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45E-0DD2-44BA-85B8-305D5C95DF0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4EC-0C4C-4643-8591-A63172BE62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AA3-A388-4C6C-B8C6-74062D98C3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B45-7B85-4E69-8B16-B48029B386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D04-1F43-4FCB-BD46-D18EC827307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83E-5B7B-4570-8DD9-BA8076D9D3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47B1-E302-4817-BBEC-B6AEA6ECC86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F553-A6C7-4819-9DF1-B4CA63118C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66A-0409-424B-BEE6-450247F172D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C56-703F-4449-A0FB-F443F9818C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3E7-FC46-43A0-A18B-96E16224129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048-9988-420F-B80F-7EC93F0CEF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3E4F-BDF5-45A0-86C0-063AEC3E476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1822-1844-4ED7-9221-F7DABCB52D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30A-1A7F-4E65-A29E-1E5C13EDEB9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BE23-726B-4919-89E9-0A61E01513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CEA-E21F-420C-A47C-DF6BB1794F4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495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680" y="-36360"/>
            <a:ext cx="9139320" cy="6856560"/>
            <a:chOff x="4680" y="-36360"/>
            <a:chExt cx="9139320" cy="6856560"/>
          </a:xfrm>
        </p:grpSpPr>
        <p:pic>
          <p:nvPicPr>
            <p:cNvPr id="497" name="图片 29" descr=""/>
            <p:cNvPicPr/>
            <p:nvPr/>
          </p:nvPicPr>
          <p:blipFill>
            <a:blip r:embed="rId2"/>
            <a:stretch/>
          </p:blipFill>
          <p:spPr>
            <a:xfrm>
              <a:off x="4680" y="-36360"/>
              <a:ext cx="9134640" cy="51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8" descr="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6840"/>
              <a:ext cx="9124920" cy="68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oup 7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500" name="图片 9" descr="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图片 10" descr="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2" name="图片 9" descr="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2" descr="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3" descr="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14" descr="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508" name="矩形 15"/>
          <p:cNvSpPr/>
          <p:nvPr/>
        </p:nvSpPr>
        <p:spPr>
          <a:xfrm>
            <a:off x="898560" y="1771560"/>
            <a:ext cx="82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教学汇报动态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矩形 16"/>
          <p:cNvSpPr/>
          <p:nvPr/>
        </p:nvSpPr>
        <p:spPr>
          <a:xfrm>
            <a:off x="539640" y="2535120"/>
            <a:ext cx="1843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0" name="图片 18" descr=""/>
          <p:cNvPicPr/>
          <p:nvPr/>
        </p:nvPicPr>
        <p:blipFill>
          <a:blip r:embed="rId12"/>
          <a:stretch/>
        </p:blipFill>
        <p:spPr>
          <a:xfrm>
            <a:off x="6648480" y="117360"/>
            <a:ext cx="2282760" cy="642960"/>
          </a:xfrm>
          <a:prstGeom prst="rect">
            <a:avLst/>
          </a:prstGeom>
          <a:ln w="0">
            <a:noFill/>
          </a:ln>
        </p:spPr>
      </p:pic>
      <p:sp>
        <p:nvSpPr>
          <p:cNvPr id="5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0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10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矩形 5"/>
          <p:cNvSpPr/>
          <p:nvPr/>
        </p:nvSpPr>
        <p:spPr>
          <a:xfrm>
            <a:off x="2336040" y="1365120"/>
            <a:ext cx="498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三农”特色课程教学资源建设获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矩形 17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矩形 19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17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矩形 5"/>
          <p:cNvSpPr/>
          <p:nvPr/>
        </p:nvSpPr>
        <p:spPr>
          <a:xfrm>
            <a:off x="1453320" y="1365120"/>
            <a:ext cx="489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621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3" name="Group 10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624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oup 13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627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oup 16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630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oup 1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633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37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641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oup 10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644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oup 13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647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9" name="Group 16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650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2" name="Group 1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653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5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-35060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Box 23"/>
          <p:cNvSpPr/>
          <p:nvPr/>
        </p:nvSpPr>
        <p:spPr>
          <a:xfrm>
            <a:off x="5003640" y="3597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8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59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2" name="Group 7"/>
          <p:cNvGrpSpPr/>
          <p:nvPr/>
        </p:nvGrpSpPr>
        <p:grpSpPr>
          <a:xfrm>
            <a:off x="861840" y="2817720"/>
            <a:ext cx="3341880" cy="577800"/>
            <a:chOff x="861840" y="2817720"/>
            <a:chExt cx="3341880" cy="577800"/>
          </a:xfrm>
        </p:grpSpPr>
        <p:sp>
          <p:nvSpPr>
            <p:cNvPr id="663" name="Oval 22"/>
            <p:cNvSpPr/>
            <p:nvPr/>
          </p:nvSpPr>
          <p:spPr>
            <a:xfrm>
              <a:off x="861840" y="281772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矩形 42"/>
            <p:cNvSpPr/>
            <p:nvPr/>
          </p:nvSpPr>
          <p:spPr>
            <a:xfrm>
              <a:off x="1045800" y="290484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5" name="Group 10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666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8" name="Group 13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669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1" name="Group 16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672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4" name="Group 1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675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7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10157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25"/>
          <p:cNvSpPr/>
          <p:nvPr/>
        </p:nvSpPr>
        <p:spPr>
          <a:xfrm>
            <a:off x="4932360" y="3807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0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81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685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7" name="Group 10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688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0" name="Group 13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691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3" name="Group 16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694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6" name="Group 1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697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9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58347"/>
              <a:gd name="adj2" fmla="val 44069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TextBox 25"/>
          <p:cNvSpPr/>
          <p:nvPr/>
        </p:nvSpPr>
        <p:spPr>
          <a:xfrm>
            <a:off x="5003640" y="37497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20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704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矩形 5"/>
          <p:cNvSpPr/>
          <p:nvPr/>
        </p:nvSpPr>
        <p:spPr>
          <a:xfrm>
            <a:off x="2117880" y="1365120"/>
            <a:ext cx="50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启动共享专业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茶文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（专科）建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矩形 9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矩形 10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0" name="Group 3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11" name="图片 29" descr="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3" name="图片 16" descr="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17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24" descr="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716" name="直接连接符 7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TextBox 8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4946040" y="2055960"/>
            <a:ext cx="23234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2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思路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1" name="Group 3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22" name="图片 29" descr="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图片 8" descr="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图片 16" descr="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17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sp>
        <p:nvSpPr>
          <p:cNvPr id="726" name="下箭头 3"/>
          <p:cNvSpPr/>
          <p:nvPr/>
        </p:nvSpPr>
        <p:spPr>
          <a:xfrm>
            <a:off x="3000240" y="2637000"/>
            <a:ext cx="3084480" cy="30956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图片 24" descr="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728" name="矩形 5"/>
          <p:cNvSpPr/>
          <p:nvPr/>
        </p:nvSpPr>
        <p:spPr>
          <a:xfrm rot="5400000">
            <a:off x="4407840" y="-4411440"/>
            <a:ext cx="324000" cy="914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矩形 1"/>
          <p:cNvSpPr/>
          <p:nvPr/>
        </p:nvSpPr>
        <p:spPr>
          <a:xfrm>
            <a:off x="370476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一、工作思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矩形 6"/>
          <p:cNvSpPr/>
          <p:nvPr/>
        </p:nvSpPr>
        <p:spPr>
          <a:xfrm>
            <a:off x="2990880" y="2133720"/>
            <a:ext cx="3162240" cy="50328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矩形 7"/>
          <p:cNvSpPr/>
          <p:nvPr/>
        </p:nvSpPr>
        <p:spPr>
          <a:xfrm>
            <a:off x="863640" y="2997360"/>
            <a:ext cx="7416720" cy="86328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矩形 8"/>
          <p:cNvSpPr/>
          <p:nvPr/>
        </p:nvSpPr>
        <p:spPr>
          <a:xfrm>
            <a:off x="1187280" y="4221000"/>
            <a:ext cx="6769440" cy="86364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36" name="图片 29" descr="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图片 8" descr="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8" name="图片 16" descr="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7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24" descr="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741" name="矩形 5"/>
          <p:cNvSpPr/>
          <p:nvPr/>
        </p:nvSpPr>
        <p:spPr>
          <a:xfrm rot="5400000">
            <a:off x="4407840" y="-4411440"/>
            <a:ext cx="324000" cy="9147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矩形 1"/>
          <p:cNvSpPr/>
          <p:nvPr/>
        </p:nvSpPr>
        <p:spPr>
          <a:xfrm>
            <a:off x="434340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二、工作任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4" name="Group 12"/>
          <p:cNvGrpSpPr/>
          <p:nvPr/>
        </p:nvGrpSpPr>
        <p:grpSpPr>
          <a:xfrm>
            <a:off x="395280" y="2433600"/>
            <a:ext cx="8497800" cy="974880"/>
            <a:chOff x="395280" y="2433600"/>
            <a:chExt cx="8497800" cy="974880"/>
          </a:xfrm>
        </p:grpSpPr>
        <p:sp>
          <p:nvSpPr>
            <p:cNvPr id="745" name="矩形 10"/>
            <p:cNvSpPr/>
            <p:nvPr/>
          </p:nvSpPr>
          <p:spPr>
            <a:xfrm>
              <a:off x="404640" y="2458800"/>
              <a:ext cx="8488440" cy="94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矩形 1"/>
            <p:cNvSpPr/>
            <p:nvPr/>
          </p:nvSpPr>
          <p:spPr>
            <a:xfrm>
              <a:off x="1633320" y="2739600"/>
              <a:ext cx="70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7" name="Group 15"/>
            <p:cNvGrpSpPr/>
            <p:nvPr/>
          </p:nvGrpSpPr>
          <p:grpSpPr>
            <a:xfrm>
              <a:off x="395280" y="2433600"/>
              <a:ext cx="1080000" cy="974880"/>
              <a:chOff x="395280" y="2433600"/>
              <a:chExt cx="1080000" cy="974880"/>
            </a:xfrm>
          </p:grpSpPr>
          <p:sp>
            <p:nvSpPr>
              <p:cNvPr id="748" name="矩形 13"/>
              <p:cNvSpPr/>
              <p:nvPr/>
            </p:nvSpPr>
            <p:spPr>
              <a:xfrm>
                <a:off x="395280" y="2433600"/>
                <a:ext cx="1080000" cy="97488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矩形 14"/>
              <p:cNvSpPr/>
              <p:nvPr/>
            </p:nvSpPr>
            <p:spPr>
              <a:xfrm>
                <a:off x="395280" y="2504880"/>
                <a:ext cx="100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50" name="Group 18"/>
          <p:cNvGrpSpPr/>
          <p:nvPr/>
        </p:nvGrpSpPr>
        <p:grpSpPr>
          <a:xfrm>
            <a:off x="395280" y="3762360"/>
            <a:ext cx="8569440" cy="1106640"/>
            <a:chOff x="395280" y="3762360"/>
            <a:chExt cx="8569440" cy="1106640"/>
          </a:xfrm>
        </p:grpSpPr>
        <p:sp>
          <p:nvSpPr>
            <p:cNvPr id="751" name="矩形 16"/>
            <p:cNvSpPr/>
            <p:nvPr/>
          </p:nvSpPr>
          <p:spPr>
            <a:xfrm>
              <a:off x="404640" y="3787560"/>
              <a:ext cx="8488800" cy="10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矩形 1"/>
            <p:cNvSpPr/>
            <p:nvPr/>
          </p:nvSpPr>
          <p:spPr>
            <a:xfrm>
              <a:off x="1618920" y="4107960"/>
              <a:ext cx="73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3" name="Group 21"/>
            <p:cNvGrpSpPr/>
            <p:nvPr/>
          </p:nvGrpSpPr>
          <p:grpSpPr>
            <a:xfrm>
              <a:off x="395280" y="3762360"/>
              <a:ext cx="1079280" cy="1106640"/>
              <a:chOff x="395280" y="3762360"/>
              <a:chExt cx="1079280" cy="1106640"/>
            </a:xfrm>
          </p:grpSpPr>
          <p:sp>
            <p:nvSpPr>
              <p:cNvPr id="754" name="矩形 19"/>
              <p:cNvSpPr/>
              <p:nvPr/>
            </p:nvSpPr>
            <p:spPr>
              <a:xfrm>
                <a:off x="395280" y="3762360"/>
                <a:ext cx="1079280" cy="110664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5" name="矩形 20"/>
              <p:cNvSpPr/>
              <p:nvPr/>
            </p:nvSpPr>
            <p:spPr>
              <a:xfrm>
                <a:off x="395280" y="3881160"/>
                <a:ext cx="1008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758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9" name="Group 4"/>
          <p:cNvGrpSpPr/>
          <p:nvPr/>
        </p:nvGrpSpPr>
        <p:grpSpPr>
          <a:xfrm>
            <a:off x="4680" y="-36360"/>
            <a:ext cx="9139320" cy="6856560"/>
            <a:chOff x="4680" y="-36360"/>
            <a:chExt cx="9139320" cy="6856560"/>
          </a:xfrm>
        </p:grpSpPr>
        <p:pic>
          <p:nvPicPr>
            <p:cNvPr id="760" name="图片 29" descr=""/>
            <p:cNvPicPr/>
            <p:nvPr/>
          </p:nvPicPr>
          <p:blipFill>
            <a:blip r:embed="rId2"/>
            <a:stretch/>
          </p:blipFill>
          <p:spPr>
            <a:xfrm>
              <a:off x="4680" y="-36360"/>
              <a:ext cx="9134640" cy="51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图片 8" descr="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6840"/>
              <a:ext cx="9124920" cy="68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Group 7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763" name="图片 9" descr="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图片 10" descr="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5" name="图片 9" descr="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10" descr="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1" descr="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2" descr="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3" descr="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14" descr="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771" name="矩形 17"/>
          <p:cNvSpPr/>
          <p:nvPr/>
        </p:nvSpPr>
        <p:spPr>
          <a:xfrm>
            <a:off x="395280" y="981000"/>
            <a:ext cx="594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新春快乐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2" name="图片 18" descr=""/>
          <p:cNvPicPr/>
          <p:nvPr/>
        </p:nvPicPr>
        <p:blipFill>
          <a:blip r:embed="rId12"/>
          <a:stretch/>
        </p:blipFill>
        <p:spPr>
          <a:xfrm>
            <a:off x="6648480" y="117360"/>
            <a:ext cx="2282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8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565" dur="8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4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6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514" name="图片 29" descr="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图片 8" descr="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图片 16" descr="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7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24" descr="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19" name="直接连接符 3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524" name="图片 29" descr="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图片 8" descr="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6" name="图片 16" descr="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7" descr="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24" descr="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29" name="直接连接符 8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2008440" y="2055960"/>
            <a:ext cx="23234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1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回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矩形 10"/>
          <p:cNvSpPr/>
          <p:nvPr/>
        </p:nvSpPr>
        <p:spPr>
          <a:xfrm>
            <a:off x="1269360" y="1758960"/>
            <a:ext cx="250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落实教学环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直接连接符 12"/>
          <p:cNvSpPr/>
          <p:nvPr/>
        </p:nvSpPr>
        <p:spPr>
          <a:xfrm>
            <a:off x="830160" y="2743200"/>
            <a:ext cx="763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矩形 13"/>
          <p:cNvSpPr/>
          <p:nvPr/>
        </p:nvSpPr>
        <p:spPr>
          <a:xfrm>
            <a:off x="826920" y="296712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矩形 14"/>
          <p:cNvSpPr/>
          <p:nvPr/>
        </p:nvSpPr>
        <p:spPr>
          <a:xfrm>
            <a:off x="830160" y="3573360"/>
            <a:ext cx="7669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3240" y="3670200"/>
          <a:ext cx="7558200" cy="2017800"/>
        </p:xfrm>
        <a:graphic>
          <a:graphicData uri="http://schemas.openxmlformats.org/drawingml/2006/table">
            <a:tbl>
              <a:tblPr/>
              <a:tblGrid>
                <a:gridCol w="3780000"/>
                <a:gridCol w="377820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2011</a:t>
                      </a:r>
                      <a:r>
                        <a:rPr b="1" i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年完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i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43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矩形 2"/>
          <p:cNvSpPr/>
          <p:nvPr/>
        </p:nvSpPr>
        <p:spPr>
          <a:xfrm>
            <a:off x="1269360" y="1365120"/>
            <a:ext cx="250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开展教学检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3492360" y="279396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矩形 7"/>
          <p:cNvSpPr/>
          <p:nvPr/>
        </p:nvSpPr>
        <p:spPr>
          <a:xfrm>
            <a:off x="835200" y="2793960"/>
            <a:ext cx="244152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矩形 11"/>
          <p:cNvSpPr/>
          <p:nvPr/>
        </p:nvSpPr>
        <p:spPr>
          <a:xfrm>
            <a:off x="830160" y="3860640"/>
            <a:ext cx="2441520" cy="6494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3492360" y="38736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1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矩形 2"/>
          <p:cNvSpPr/>
          <p:nvPr/>
        </p:nvSpPr>
        <p:spPr>
          <a:xfrm>
            <a:off x="1362240" y="1365120"/>
            <a:ext cx="277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提供多渠道服务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835200" y="2637000"/>
            <a:ext cx="316044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1482840" y="3429000"/>
            <a:ext cx="68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826920" y="3803760"/>
            <a:ext cx="1697040" cy="1771560"/>
            <a:chOff x="826920" y="3803760"/>
            <a:chExt cx="1697040" cy="1771560"/>
          </a:xfrm>
        </p:grpSpPr>
        <p:sp>
          <p:nvSpPr>
            <p:cNvPr id="558" name="矩形标注 15"/>
            <p:cNvSpPr/>
            <p:nvPr/>
          </p:nvSpPr>
          <p:spPr>
            <a:xfrm>
              <a:off x="82692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矩形 16"/>
            <p:cNvSpPr/>
            <p:nvPr/>
          </p:nvSpPr>
          <p:spPr>
            <a:xfrm>
              <a:off x="94896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0" name="Group 12"/>
          <p:cNvGrpSpPr/>
          <p:nvPr/>
        </p:nvGrpSpPr>
        <p:grpSpPr>
          <a:xfrm>
            <a:off x="2946240" y="3803760"/>
            <a:ext cx="1697040" cy="1771560"/>
            <a:chOff x="2946240" y="3803760"/>
            <a:chExt cx="1697040" cy="1771560"/>
          </a:xfrm>
        </p:grpSpPr>
        <p:sp>
          <p:nvSpPr>
            <p:cNvPr id="561" name="矩形标注 19"/>
            <p:cNvSpPr/>
            <p:nvPr/>
          </p:nvSpPr>
          <p:spPr>
            <a:xfrm>
              <a:off x="294624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矩形 20"/>
            <p:cNvSpPr/>
            <p:nvPr/>
          </p:nvSpPr>
          <p:spPr>
            <a:xfrm>
              <a:off x="306828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3" name="TextBox 22"/>
          <p:cNvSpPr/>
          <p:nvPr/>
        </p:nvSpPr>
        <p:spPr>
          <a:xfrm>
            <a:off x="2411280" y="44226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16"/>
          <p:cNvGrpSpPr/>
          <p:nvPr/>
        </p:nvGrpSpPr>
        <p:grpSpPr>
          <a:xfrm>
            <a:off x="7093080" y="3876840"/>
            <a:ext cx="1655640" cy="1769760"/>
            <a:chOff x="7093080" y="3876840"/>
            <a:chExt cx="1655640" cy="1769760"/>
          </a:xfrm>
        </p:grpSpPr>
        <p:sp>
          <p:nvSpPr>
            <p:cNvPr id="565" name="矩形标注 26"/>
            <p:cNvSpPr/>
            <p:nvPr/>
          </p:nvSpPr>
          <p:spPr>
            <a:xfrm>
              <a:off x="7093080" y="3876840"/>
              <a:ext cx="1655640" cy="17697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007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oup 18"/>
            <p:cNvGrpSpPr/>
            <p:nvPr/>
          </p:nvGrpSpPr>
          <p:grpSpPr>
            <a:xfrm>
              <a:off x="7195680" y="3983400"/>
              <a:ext cx="1481040" cy="1563480"/>
              <a:chOff x="7195680" y="3983400"/>
              <a:chExt cx="1481040" cy="1563480"/>
            </a:xfrm>
          </p:grpSpPr>
          <p:pic>
            <p:nvPicPr>
              <p:cNvPr id="567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5680" y="3983760"/>
                <a:ext cx="148104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1"/>
              <p:cNvSpPr/>
              <p:nvPr/>
            </p:nvSpPr>
            <p:spPr>
              <a:xfrm>
                <a:off x="7237080" y="3983400"/>
                <a:ext cx="1403640" cy="15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XXXXX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oup 21"/>
          <p:cNvGrpSpPr/>
          <p:nvPr/>
        </p:nvGrpSpPr>
        <p:grpSpPr>
          <a:xfrm>
            <a:off x="5035680" y="3803760"/>
            <a:ext cx="1407960" cy="1771560"/>
            <a:chOff x="5035680" y="3803760"/>
            <a:chExt cx="1407960" cy="1771560"/>
          </a:xfrm>
        </p:grpSpPr>
        <p:sp>
          <p:nvSpPr>
            <p:cNvPr id="570" name="矩形标注 32"/>
            <p:cNvSpPr/>
            <p:nvPr/>
          </p:nvSpPr>
          <p:spPr>
            <a:xfrm>
              <a:off x="5035680" y="3803760"/>
              <a:ext cx="140796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矩形 33"/>
            <p:cNvSpPr/>
            <p:nvPr/>
          </p:nvSpPr>
          <p:spPr>
            <a:xfrm>
              <a:off x="5157720" y="3983040"/>
              <a:ext cx="114156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2" name="TextBox 34"/>
          <p:cNvSpPr/>
          <p:nvPr/>
        </p:nvSpPr>
        <p:spPr>
          <a:xfrm>
            <a:off x="4537080" y="44244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右箭头 13"/>
          <p:cNvSpPr/>
          <p:nvPr/>
        </p:nvSpPr>
        <p:spPr>
          <a:xfrm>
            <a:off x="6659640" y="4638600"/>
            <a:ext cx="288720" cy="3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5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76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1737000" y="1365120"/>
            <a:ext cx="387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课程资源建设，硕果累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直接连接符 6"/>
          <p:cNvSpPr/>
          <p:nvPr/>
        </p:nvSpPr>
        <p:spPr>
          <a:xfrm>
            <a:off x="830160" y="2349360"/>
            <a:ext cx="739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26920" y="2708280"/>
          <a:ext cx="5761080" cy="3529080"/>
        </p:xfrm>
        <a:graphic>
          <a:graphicData uri="http://schemas.openxmlformats.org/drawingml/2006/table">
            <a:tbl>
              <a:tblPr/>
              <a:tblGrid>
                <a:gridCol w="2953080"/>
                <a:gridCol w="2808000"/>
              </a:tblGrid>
              <a:tr h="43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络课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1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</a:tbl>
          </a:graphicData>
        </a:graphic>
      </p:graphicFrame>
      <p:sp>
        <p:nvSpPr>
          <p:cNvPr id="580" name="圆角矩形 12"/>
          <p:cNvSpPr/>
          <p:nvPr/>
        </p:nvSpPr>
        <p:spPr>
          <a:xfrm>
            <a:off x="830160" y="3573360"/>
            <a:ext cx="575784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oup 38"/>
          <p:cNvGrpSpPr/>
          <p:nvPr/>
        </p:nvGrpSpPr>
        <p:grpSpPr>
          <a:xfrm>
            <a:off x="6950160" y="2708280"/>
            <a:ext cx="1942920" cy="1400040"/>
            <a:chOff x="6950160" y="2708280"/>
            <a:chExt cx="1942920" cy="1400040"/>
          </a:xfrm>
        </p:grpSpPr>
        <p:sp>
          <p:nvSpPr>
            <p:cNvPr id="582" name="圆角矩形标注 14"/>
            <p:cNvSpPr/>
            <p:nvPr/>
          </p:nvSpPr>
          <p:spPr>
            <a:xfrm>
              <a:off x="6950160" y="2708280"/>
              <a:ext cx="1942920" cy="1400040"/>
            </a:xfrm>
            <a:prstGeom prst="wedgeRoundRectCallout">
              <a:avLst>
                <a:gd name="adj1" fmla="val -60189"/>
                <a:gd name="adj2" fmla="val 20939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矩形 8"/>
            <p:cNvSpPr/>
            <p:nvPr/>
          </p:nvSpPr>
          <p:spPr>
            <a:xfrm>
              <a:off x="7334280" y="2916720"/>
              <a:ext cx="1095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中央电大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2011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精品课程称号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7"/>
          <p:cNvSpPr/>
          <p:nvPr/>
        </p:nvSpPr>
        <p:spPr>
          <a:xfrm>
            <a:off x="835200" y="2781360"/>
            <a:ext cx="78404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587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矩形 5"/>
          <p:cNvSpPr/>
          <p:nvPr/>
        </p:nvSpPr>
        <p:spPr>
          <a:xfrm>
            <a:off x="1456200" y="1365120"/>
            <a:ext cx="30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教学比赛成绩喜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矩形 3"/>
          <p:cNvSpPr/>
          <p:nvPr/>
        </p:nvSpPr>
        <p:spPr>
          <a:xfrm>
            <a:off x="1145160" y="302904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矩形 8"/>
          <p:cNvSpPr/>
          <p:nvPr/>
        </p:nvSpPr>
        <p:spPr>
          <a:xfrm>
            <a:off x="5508720" y="281448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矩形 10"/>
          <p:cNvSpPr/>
          <p:nvPr/>
        </p:nvSpPr>
        <p:spPr>
          <a:xfrm>
            <a:off x="826920" y="3827520"/>
            <a:ext cx="78422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矩形 11"/>
          <p:cNvSpPr/>
          <p:nvPr/>
        </p:nvSpPr>
        <p:spPr>
          <a:xfrm>
            <a:off x="1145160" y="407664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矩形 12"/>
          <p:cNvSpPr/>
          <p:nvPr/>
        </p:nvSpPr>
        <p:spPr>
          <a:xfrm>
            <a:off x="5508720" y="386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矩形 13"/>
          <p:cNvSpPr/>
          <p:nvPr/>
        </p:nvSpPr>
        <p:spPr>
          <a:xfrm>
            <a:off x="826920" y="4941720"/>
            <a:ext cx="7842240" cy="8971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矩形 14"/>
          <p:cNvSpPr/>
          <p:nvPr/>
        </p:nvSpPr>
        <p:spPr>
          <a:xfrm>
            <a:off x="1216440" y="519120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矩形 15"/>
          <p:cNvSpPr/>
          <p:nvPr/>
        </p:nvSpPr>
        <p:spPr>
          <a:xfrm>
            <a:off x="5508720" y="49737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图片 24" descr="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5560"/>
            <a:ext cx="6577200" cy="3103560"/>
          </a:xfrm>
          <a:prstGeom prst="rect">
            <a:avLst/>
          </a:prstGeom>
          <a:ln w="0">
            <a:noFill/>
          </a:ln>
        </p:spPr>
      </p:pic>
      <p:sp>
        <p:nvSpPr>
          <p:cNvPr id="601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矩形 5"/>
          <p:cNvSpPr/>
          <p:nvPr/>
        </p:nvSpPr>
        <p:spPr>
          <a:xfrm>
            <a:off x="1643040" y="13651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创新远程开放教育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矩形 3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矩形 16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1:30:00Z</dcterms:created>
  <dc:creator>秋记—吴宇璐</dc:creator>
  <dc:description/>
  <cp:keywords/>
  <dc:language>en-US</dc:language>
  <cp:lastModifiedBy>王玉清</cp:lastModifiedBy>
  <dcterms:modified xsi:type="dcterms:W3CDTF">2016-02-19T04:49:20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