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B79-2298-4138-9A51-0D70A916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B69-4A72-40CE-9FB3-A53C79FC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80C-9F25-4B49-9987-BA78C45A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9CD-A980-45C2-B2C2-AE88A5D4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33B-219B-4488-9797-CC453E6B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5FC-F287-4A36-9999-2EF9E492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228-299E-44EA-AE8F-6A093C53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AEF-F40E-4B7C-8B93-F4582575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783-2A3C-425F-8CB3-9F11840A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841-6310-4546-9103-A56FA48A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BC4-6A52-4EEC-A559-641A95BF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086-C7D9-49E6-8B15-AB2FBBE2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256D85-AC20-4E9B-BE3E-214E37736FF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6072120" y="1357200"/>
            <a:ext cx="1137960" cy="349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072120" y="4286160"/>
            <a:ext cx="1045800" cy="81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802560" y="1214280"/>
            <a:ext cx="769680" cy="407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2037960" y="31752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约清爽主题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6715080" y="28584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471168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71152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5688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6877440" y="2858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4354560" y="5143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442584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4258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6948720" y="2142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357800" y="492912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32828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140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6805800" y="2142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071880" y="435780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64040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8546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6877440" y="2858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33544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549756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592632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  <Words>82</Words>
  <Paragraphs>2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2T10:32:38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