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04EF-8C91-4933-93E8-B02804447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0CF9-DDF9-4434-A775-926EF9B72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2C0D-57F6-40AD-BA09-BFBD076B9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A4A0-F241-42FD-B63B-C200F208F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EB1E-04D3-4CC7-9E8F-A12713FE0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A0C3-CB6F-4943-8CA7-F74A23DDC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EF4B-5455-4AD0-91F8-EFD430F67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B193-0E88-4B45-9092-16B14A2FB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8BAD-8B6E-429D-BC57-2AD14889A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8ACD-B6E2-4E1B-B85E-5179A1060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9C0D-2123-4DBD-8A8F-251C3C25D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7C0A-E6EF-4EA5-9FF5-6A550370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28F3E-FAAC-4893-871F-8BB3C69EA36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E070C-C48B-4CB3-B2B3-AA2EA7C8E62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32000" y="5838480"/>
            <a:ext cx="6400800" cy="6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7365d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112680" y="64166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38040" y="10800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科比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3b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2336760" y="5732640"/>
            <a:ext cx="52308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8BB0-FD64-4FDD-B3F0-90A8C3DD838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6T02:42:00Z</dcterms:created>
  <dc:creator>Moyea Software</dc:creator>
  <dc:description>Made by Moyea Software. To find more free PowerPoint templates, please visit http://www.dvd-ppt-slideshow.com</dc:description>
  <cp:keywords>basketball free PowerPoint templates</cp:keywords>
  <dc:language>en-US</dc:language>
  <cp:lastModifiedBy>User</cp:lastModifiedBy>
  <dcterms:modified xsi:type="dcterms:W3CDTF">2015-07-20T10:00:31Z</dcterms:modified>
  <cp:revision>0</cp:revision>
  <dc:subject>basketball</dc:subject>
  <dc:title>Free Basketball 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