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6c6c6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E7A195-87E8-4F52-8158-F1AE7CBC1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02228A-C85A-49D9-AB83-49E2AB85D7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6800"/>
            <a:ext cx="2971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</a:pPr>
            <a:fld id="{638C047D-3364-429D-B041-E2541F85ECA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49120" y="4883040"/>
            <a:ext cx="6430680" cy="3766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89640" rIns="89640" tIns="45000" bIns="450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317520" y="0"/>
            <a:ext cx="6222600" cy="46684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7A262-9317-4C72-9EEB-5F7B587BE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1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3080"/>
            <a:ext cx="8381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6982-EEEE-41F5-9B2D-44F40F1E2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D479-87E9-465B-BB29-AEB173368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4800" y="15238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8720" y="15238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30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4800" y="36730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8720" y="36730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9479B-B6C9-48F3-BE66-8629029AA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DF1BB-DFDA-4A15-90D5-1EB0609B52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1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0B08E-F304-41A1-AFA8-A7A0200D22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1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0BD37-C39C-4474-AD1E-F454C4FB52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523D5-E8B0-4FAF-AC79-18B2B2128E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44343-FC41-42D4-A7C8-BA9816251E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76320"/>
            <a:ext cx="8381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DE421-2C51-483E-8923-98902B9F68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6B23C-AEE1-4792-9C11-5473BBD372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1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C51B3-FD56-45E7-870F-2B2D72C72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56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D7AA0-92E3-4CFC-914A-D46077D91B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673080"/>
            <a:ext cx="8381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531B3-6377-47D5-A081-433E5FA1DA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1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673080"/>
            <a:ext cx="8381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278A5-C50C-492C-BDBD-1C0C0D1124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56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4A446-74C7-4939-BD24-4EDA828577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4800" y="15238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8720" y="15238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6730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4800" y="36730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8720" y="36730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B4A02-9F2E-4E48-B3C3-8C5D4AD52C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1F55-7531-4E0B-A825-F37923BDAC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1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9560-5772-4FC3-8243-60DB26A2B9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1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04A0-85F3-442E-BBC9-69FD39E7BA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170A-9CC1-4585-80FE-16A1F33A7A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FE11-ACFC-4E22-AEE1-A8A7D92770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1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ED386-AD22-4F0E-93E5-0AD102CE51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76320"/>
            <a:ext cx="8381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325D-369D-46C3-8A68-2ACA72BBB8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F06D-3B1B-4B81-8FF3-1ED5BBF384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56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7B07-253F-4CE8-99C2-A2855D10DA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673080"/>
            <a:ext cx="8381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E9A3-778E-4BA7-9FAC-0D2B997FC5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1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673080"/>
            <a:ext cx="8381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0BA2-6E93-4DDD-8A72-BCF560C22D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56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44CC-1B71-4407-B1C1-EE9D11CD62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14800" y="15238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48720" y="15238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6730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14800" y="36730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48720" y="36730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4F87-C4FD-4503-A7DE-A64285134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FFE79-889B-4879-9BD9-F79B00D3D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D3D26-5C93-4BC4-BAE7-AB3C9DA90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76320"/>
            <a:ext cx="8381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96666-CEC9-4B95-9ADF-ED5E2BE296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237C-254A-4FB9-8959-6F3B84BCE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1C6E-20C7-4DE3-BB54-7789B95FC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3080"/>
            <a:ext cx="8381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CD33F-31F7-400D-9CA5-BEAA577C6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333333"/>
          <p:cNvPicPr/>
          <p:nvPr/>
        </p:nvPicPr>
        <p:blipFill>
          <a:blip r:embed="rId2"/>
          <a:stretch/>
        </p:blipFill>
        <p:spPr>
          <a:xfrm>
            <a:off x="0" y="0"/>
            <a:ext cx="9145080" cy="6859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Unbranded_Keppie Careers"/>
          <p:cNvPicPr/>
          <p:nvPr/>
        </p:nvPicPr>
        <p:blipFill>
          <a:blip r:embed="rId3"/>
          <a:stretch/>
        </p:blipFill>
        <p:spPr>
          <a:xfrm>
            <a:off x="0" y="0"/>
            <a:ext cx="9145080" cy="685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666880" y="4191120"/>
            <a:ext cx="43430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Click to edit Master title style</a:t>
            </a:r>
            <a:endParaRPr b="0" lang="en-US" sz="36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251460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7010280" y="655308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Rockwel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BB0716-9593-4719-8F67-05551F484EC2}" type="slidenum">
              <a:rPr b="0" lang="en-US" sz="9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6c6c6b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6c6c6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c6c6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6c6c6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c6c6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c6c6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c6c6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333333"/>
          <p:cNvPicPr/>
          <p:nvPr/>
        </p:nvPicPr>
        <p:blipFill>
          <a:blip r:embed="rId2"/>
          <a:stretch/>
        </p:blipFill>
        <p:spPr>
          <a:xfrm>
            <a:off x="0" y="0"/>
            <a:ext cx="9145080" cy="6859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ftr" idx="3"/>
          </p:nvPr>
        </p:nvSpPr>
        <p:spPr>
          <a:xfrm>
            <a:off x="3505320" y="6400800"/>
            <a:ext cx="289512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6934320" y="6400800"/>
            <a:ext cx="190476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Rockwel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8C41C2-29DF-4E46-976C-AEEE8AE9C5B0}" type="slidenum">
              <a:rPr b="0" lang="en-US" sz="9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6c6c6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6c6c6b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6c6c6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c6c6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6c6c6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c6c6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c6c6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c6c6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333333"/>
          <p:cNvPicPr/>
          <p:nvPr/>
        </p:nvPicPr>
        <p:blipFill>
          <a:blip r:embed="rId2"/>
          <a:stretch/>
        </p:blipFill>
        <p:spPr>
          <a:xfrm>
            <a:off x="0" y="0"/>
            <a:ext cx="9145080" cy="6859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4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单击此处编辑母版标题样式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152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c6c6b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6c6c6b"/>
                </a:solidFill>
                <a:latin typeface="Rockwell"/>
                <a:ea typeface="ＭＳ Ｐゴシック"/>
              </a:rPr>
              <a:t>单击此处编辑母版文本样式</a:t>
            </a: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6c6c6b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6c6c6b"/>
                </a:solidFill>
                <a:latin typeface="Rockwell"/>
                <a:ea typeface="ＭＳ Ｐゴシック"/>
              </a:rPr>
              <a:t>第二级</a:t>
            </a:r>
            <a:endParaRPr b="0" lang="en-US" sz="2800" spc="-1" strike="noStrike">
              <a:solidFill>
                <a:srgbClr val="6c6c6b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c6c6b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6c6c6b"/>
                </a:solidFill>
                <a:latin typeface="Arial"/>
                <a:ea typeface="ＭＳ Ｐゴシック"/>
              </a:rPr>
              <a:t>第三级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6c6c6b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6c6c6b"/>
                </a:solidFill>
                <a:latin typeface="Arial"/>
                <a:ea typeface="ＭＳ Ｐゴシック"/>
              </a:rPr>
              <a:t>第四级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6c6c6b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6c6c6b"/>
                </a:solidFill>
                <a:latin typeface="Arial"/>
                <a:ea typeface="ＭＳ Ｐゴシック"/>
              </a:rPr>
              <a:t>第五级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505320" y="6400800"/>
            <a:ext cx="289512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934320" y="6400800"/>
            <a:ext cx="190476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Rockwel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858DD9-38A9-4521-9DC5-677B9454DB87}" type="slidenum">
              <a:rPr b="0" lang="en-US" sz="9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640" y="4267080"/>
            <a:ext cx="993672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技实践指导主题班会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339640" y="4941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旅游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12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05F1B-FA73-4A2B-81CA-C3CA55C3F2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&amp;A</a:t>
            </a:r>
            <a:br>
              <a:rPr sz="2400"/>
            </a:b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pic>
        <p:nvPicPr>
          <p:cNvPr id="160" name="Picture 2" descr="C:\Users\louis.stuart\Desktop\article-new_ehow_images_a04_an_s2_answer-tough-interview-questions-800x800.jpg"/>
          <p:cNvPicPr/>
          <p:nvPr/>
        </p:nvPicPr>
        <p:blipFill>
          <a:blip r:embed="rId1"/>
          <a:stretch/>
        </p:blipFill>
        <p:spPr>
          <a:xfrm>
            <a:off x="755640" y="1227240"/>
            <a:ext cx="7596720" cy="50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7F47-85FB-4787-8B1B-F3A129D9B5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ummary</a:t>
            </a:r>
            <a:br>
              <a:rPr sz="2400"/>
            </a:b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pic>
        <p:nvPicPr>
          <p:cNvPr id="162" name="Picture 2" descr="E:\学习\PPT\图片\创意图片\创意商务PPT图片（锐普论坛） (2251).jpg"/>
          <p:cNvPicPr/>
          <p:nvPr/>
        </p:nvPicPr>
        <p:blipFill>
          <a:blip r:embed="rId1"/>
          <a:stretch/>
        </p:blipFill>
        <p:spPr>
          <a:xfrm>
            <a:off x="755640" y="1227600"/>
            <a:ext cx="7567200" cy="50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D1A5-77E6-40B6-9FA2-9772675129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0" y="1406520"/>
            <a:ext cx="5333760" cy="53316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</a:pPr>
            <a:endParaRPr b="0" lang="en-US" sz="1700" spc="-1" strike="noStrike">
              <a:solidFill>
                <a:srgbClr val="f3f3f3"/>
              </a:solidFill>
              <a:latin typeface="Arial"/>
              <a:ea typeface="ＭＳ Ｐゴシック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484200" y="1306440"/>
            <a:ext cx="819900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Aft>
                <a:spcPts val="1199"/>
              </a:spcAf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6c6c6b"/>
                </a:solidFill>
                <a:latin typeface="微软雅黑"/>
                <a:ea typeface="微软雅黑"/>
              </a:rPr>
              <a:t>Introduc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6c6c6b"/>
                </a:solidFill>
                <a:latin typeface="微软雅黑"/>
                <a:ea typeface="微软雅黑"/>
              </a:rPr>
              <a:t>Face-to-face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100"/>
              </a:spcAft>
            </a:pPr>
            <a:r>
              <a:rPr b="1" lang="en-US" sz="2200" spc="-1" strike="noStrike">
                <a:solidFill>
                  <a:srgbClr val="6c6c6b"/>
                </a:solidFill>
                <a:latin typeface="微软雅黑"/>
                <a:ea typeface="微软雅黑"/>
              </a:rPr>
              <a:t>Teacher’s  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100"/>
              </a:spcAft>
            </a:pPr>
            <a:r>
              <a:rPr b="1" lang="en-US" sz="2200" spc="-1" strike="noStrike">
                <a:solidFill>
                  <a:srgbClr val="6c6c6b"/>
                </a:solidFill>
                <a:latin typeface="微软雅黑"/>
                <a:ea typeface="微软雅黑"/>
              </a:rPr>
              <a:t>Q&amp;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6c6c6b"/>
                </a:solidFill>
                <a:latin typeface="微软雅黑"/>
                <a:ea typeface="微软雅黑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4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目录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5A083-A327-46CD-BD6F-9B794AA9B9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troduction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pic>
        <p:nvPicPr>
          <p:cNvPr id="137" name="Picture 2" descr="C:\Users\louis.stuart\Desktop\创意商务PPT图片（锐普论坛） (2248).jpg"/>
          <p:cNvPicPr/>
          <p:nvPr/>
        </p:nvPicPr>
        <p:blipFill>
          <a:blip r:embed="rId1"/>
          <a:stretch/>
        </p:blipFill>
        <p:spPr>
          <a:xfrm>
            <a:off x="1384200" y="1270080"/>
            <a:ext cx="7171920" cy="485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0F64-1324-4843-9A50-795A2B512D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ce-to-face communication</a:t>
            </a:r>
            <a:br>
              <a:rPr sz="2400"/>
            </a:b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pic>
        <p:nvPicPr>
          <p:cNvPr id="139" name="Picture 3" descr="C:\Users\louis.stuart\Desktop\创意商务PPT图片（锐普论坛） (2230).jpg"/>
          <p:cNvPicPr/>
          <p:nvPr/>
        </p:nvPicPr>
        <p:blipFill>
          <a:blip r:embed="rId1"/>
          <a:stretch/>
        </p:blipFill>
        <p:spPr>
          <a:xfrm>
            <a:off x="1386000" y="1270800"/>
            <a:ext cx="7229160" cy="4816440"/>
          </a:xfrm>
          <a:prstGeom prst="rect">
            <a:avLst/>
          </a:prstGeom>
          <a:ln w="0">
            <a:noFill/>
          </a:ln>
        </p:spPr>
      </p:pic>
      <p:sp>
        <p:nvSpPr>
          <p:cNvPr id="14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6c6c6b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6c6c6b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6c6c6b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FB72-3478-4AF2-822C-390536F492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ce-to-face communication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397520" y="2997000"/>
            <a:ext cx="230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6c6c6b"/>
                </a:solidFill>
                <a:latin typeface="微软雅黑"/>
                <a:ea typeface="微软雅黑"/>
              </a:rPr>
              <a:t>全国大学生“挑战杯”科技创新大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C:\Users\louis.stuart\Desktop\h_large_Mkt7_57ce0004861d2f75.jpg"/>
          <p:cNvPicPr/>
          <p:nvPr/>
        </p:nvPicPr>
        <p:blipFill>
          <a:blip r:embed="rId1"/>
          <a:stretch/>
        </p:blipFill>
        <p:spPr>
          <a:xfrm>
            <a:off x="5310000" y="1340640"/>
            <a:ext cx="3515400" cy="4680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1314000" y="3681000"/>
            <a:ext cx="2472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accent4"/>
                </a:solidFill>
                <a:latin typeface="Arial"/>
                <a:ea typeface="ＭＳ Ｐゴシック"/>
              </a:rPr>
              <a:t>市场营销</a:t>
            </a:r>
            <a:r>
              <a:rPr b="0" lang="en-US" sz="1800" spc="-1" strike="noStrike">
                <a:solidFill>
                  <a:schemeClr val="accent4"/>
                </a:solidFill>
                <a:latin typeface="Arial"/>
                <a:ea typeface="ＭＳ Ｐゴシック"/>
              </a:rPr>
              <a:t>1011——</a:t>
            </a:r>
            <a:r>
              <a:rPr b="0" lang="zh-CN" sz="1800" spc="-1" strike="noStrike">
                <a:solidFill>
                  <a:schemeClr val="accent4"/>
                </a:solidFill>
                <a:latin typeface="Arial"/>
                <a:ea typeface="ＭＳ Ｐゴシック"/>
              </a:rPr>
              <a:t>裴梦杨同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02E3-3482-469F-8651-18AC9C1774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ce-to-face communication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447560" y="2703600"/>
            <a:ext cx="148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c6c6b"/>
                </a:solidFill>
                <a:latin typeface="微软雅黑"/>
                <a:ea typeface="微软雅黑"/>
              </a:rPr>
              <a:t>ERP</a:t>
            </a:r>
            <a:r>
              <a:rPr b="1" lang="zh-CN" sz="1800" spc="-1" strike="noStrike">
                <a:solidFill>
                  <a:srgbClr val="6c6c6b"/>
                </a:solidFill>
                <a:latin typeface="微软雅黑"/>
                <a:ea typeface="微软雅黑"/>
              </a:rPr>
              <a:t>沙盘模拟大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1028160" y="3243600"/>
            <a:ext cx="256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c6c6b"/>
                </a:solidFill>
                <a:latin typeface="微软雅黑"/>
                <a:ea typeface="微软雅黑"/>
              </a:rPr>
              <a:t>工商管理</a:t>
            </a:r>
            <a:r>
              <a:rPr b="0" lang="en-US" sz="1800" spc="-1" strike="noStrike">
                <a:solidFill>
                  <a:srgbClr val="6c6c6b"/>
                </a:solidFill>
                <a:latin typeface="微软雅黑"/>
                <a:ea typeface="微软雅黑"/>
              </a:rPr>
              <a:t>1011</a:t>
            </a:r>
            <a:r>
              <a:rPr b="0" lang="en-US" sz="18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 ——</a:t>
            </a:r>
            <a:r>
              <a:rPr b="0" lang="zh-CN" sz="18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高陈宇同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C:\Users\louis.stuart\Desktop\h_large_SBG9_317300002c902f75.jpg"/>
          <p:cNvPicPr/>
          <p:nvPr/>
        </p:nvPicPr>
        <p:blipFill>
          <a:blip r:embed="rId1"/>
          <a:srcRect l="12104" t="0" r="11693" b="0"/>
          <a:stretch/>
        </p:blipFill>
        <p:spPr>
          <a:xfrm>
            <a:off x="5292000" y="1339200"/>
            <a:ext cx="3870720" cy="380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A02D-EC22-4F5A-99F5-B8365D1A1E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ce-to-face communication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1462320" y="270504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6c6c6b"/>
                </a:solidFill>
                <a:latin typeface="微软雅黑"/>
                <a:ea typeface="微软雅黑"/>
              </a:rPr>
              <a:t>暑期社会实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980640" y="3244320"/>
            <a:ext cx="2428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c6c6b"/>
                </a:solidFill>
                <a:latin typeface="微软雅黑"/>
                <a:ea typeface="微软雅黑"/>
              </a:rPr>
              <a:t>旅游管理</a:t>
            </a:r>
            <a:r>
              <a:rPr b="0" lang="en-US" sz="1800" spc="-1" strike="noStrike">
                <a:solidFill>
                  <a:srgbClr val="6c6c6b"/>
                </a:solidFill>
                <a:latin typeface="微软雅黑"/>
                <a:ea typeface="微软雅黑"/>
              </a:rPr>
              <a:t>1012</a:t>
            </a:r>
            <a:r>
              <a:rPr b="0" lang="en-US" sz="18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 ——</a:t>
            </a:r>
            <a:r>
              <a:rPr b="0" lang="zh-CN" sz="1800" spc="-1" strike="noStrike">
                <a:solidFill>
                  <a:srgbClr val="6c6c6b"/>
                </a:solidFill>
                <a:latin typeface="微软雅黑"/>
                <a:ea typeface="微软雅黑"/>
              </a:rPr>
              <a:t>万莉同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C:\Users\louis.stuart\Desktop\h_large_GAzF_6165000290932f76.jpg"/>
          <p:cNvPicPr/>
          <p:nvPr/>
        </p:nvPicPr>
        <p:blipFill>
          <a:blip r:embed="rId1"/>
          <a:stretch/>
        </p:blipFill>
        <p:spPr>
          <a:xfrm>
            <a:off x="5306400" y="1339200"/>
            <a:ext cx="3516840" cy="46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144A-3FD6-45A5-B594-62BE043ECB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ce-to-face communication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pic>
        <p:nvPicPr>
          <p:cNvPr id="154" name="Picture 2" descr="C:\Users\louis.stuart\Desktop\h_large_qtKa_68d900038edb2f75.jpg"/>
          <p:cNvPicPr/>
          <p:nvPr/>
        </p:nvPicPr>
        <p:blipFill>
          <a:blip r:embed="rId1"/>
          <a:stretch/>
        </p:blipFill>
        <p:spPr>
          <a:xfrm>
            <a:off x="5306400" y="1339200"/>
            <a:ext cx="3509640" cy="4679640"/>
          </a:xfrm>
          <a:prstGeom prst="rect">
            <a:avLst/>
          </a:prstGeom>
          <a:ln w="0">
            <a:noFill/>
          </a:ln>
        </p:spPr>
      </p:pic>
      <p:sp>
        <p:nvSpPr>
          <p:cNvPr id="155" name="矩形 5"/>
          <p:cNvSpPr/>
          <p:nvPr/>
        </p:nvSpPr>
        <p:spPr>
          <a:xfrm>
            <a:off x="1172880" y="3244320"/>
            <a:ext cx="250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旅游管理</a:t>
            </a:r>
            <a:r>
              <a:rPr b="0" lang="en-US" sz="18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1012——</a:t>
            </a:r>
            <a:r>
              <a:rPr b="0" lang="zh-CN" sz="18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黄正余同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1462320" y="270504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6c6c6b"/>
                </a:solidFill>
                <a:latin typeface="微软雅黑"/>
                <a:ea typeface="微软雅黑"/>
              </a:rPr>
              <a:t>暑期社会实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1215-8D0E-4EB8-9537-8330420627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acher’s  words</a:t>
            </a:r>
            <a:br>
              <a:rPr sz="2400"/>
            </a:b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pic>
        <p:nvPicPr>
          <p:cNvPr id="158" name="Picture 3" descr="C:\Users\louis.stuart\Desktop\solutions.png"/>
          <p:cNvPicPr/>
          <p:nvPr/>
        </p:nvPicPr>
        <p:blipFill>
          <a:blip r:embed="rId1"/>
          <a:stretch/>
        </p:blipFill>
        <p:spPr>
          <a:xfrm>
            <a:off x="2771640" y="1202760"/>
            <a:ext cx="3954240" cy="489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0DB3-76C2-42DA-AAFE-FE911EC552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plate">
  <a:themeElements>
    <a:clrScheme name="">
      <a:dk1>
        <a:srgbClr val="6c6c6b"/>
      </a:dk1>
      <a:lt1>
        <a:srgbClr val="ffffff"/>
      </a:lt1>
      <a:dk2>
        <a:srgbClr val="ffffff"/>
      </a:dk2>
      <a:lt2>
        <a:srgbClr val="ffffff"/>
      </a:lt2>
      <a:accent1>
        <a:srgbClr val="659ee5"/>
      </a:accent1>
      <a:accent2>
        <a:srgbClr val="517dbd"/>
      </a:accent2>
      <a:accent3>
        <a:srgbClr val="ffffff"/>
      </a:accent3>
      <a:accent4>
        <a:srgbClr val="5b5b5a"/>
      </a:accent4>
      <a:accent5>
        <a:srgbClr val="b8ccf0"/>
      </a:accent5>
      <a:accent6>
        <a:srgbClr val="4971ab"/>
      </a:accent6>
      <a:hlink>
        <a:srgbClr val="355686"/>
      </a:hlink>
      <a:folHlink>
        <a:srgbClr val="324c7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plate">
  <a:themeElements>
    <a:clrScheme name="">
      <a:dk1>
        <a:srgbClr val="6c6c6b"/>
      </a:dk1>
      <a:lt1>
        <a:srgbClr val="ffffff"/>
      </a:lt1>
      <a:dk2>
        <a:srgbClr val="ffffff"/>
      </a:dk2>
      <a:lt2>
        <a:srgbClr val="ffffff"/>
      </a:lt2>
      <a:accent1>
        <a:srgbClr val="659ee5"/>
      </a:accent1>
      <a:accent2>
        <a:srgbClr val="517dbd"/>
      </a:accent2>
      <a:accent3>
        <a:srgbClr val="ffffff"/>
      </a:accent3>
      <a:accent4>
        <a:srgbClr val="5b5b5a"/>
      </a:accent4>
      <a:accent5>
        <a:srgbClr val="b8ccf0"/>
      </a:accent5>
      <a:accent6>
        <a:srgbClr val="4971ab"/>
      </a:accent6>
      <a:hlink>
        <a:srgbClr val="355686"/>
      </a:hlink>
      <a:folHlink>
        <a:srgbClr val="324c7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emplate">
  <a:themeElements>
    <a:clrScheme name="">
      <a:dk1>
        <a:srgbClr val="6c6c6b"/>
      </a:dk1>
      <a:lt1>
        <a:srgbClr val="ffffff"/>
      </a:lt1>
      <a:dk2>
        <a:srgbClr val="ffffff"/>
      </a:dk2>
      <a:lt2>
        <a:srgbClr val="ffffff"/>
      </a:lt2>
      <a:accent1>
        <a:srgbClr val="659ee5"/>
      </a:accent1>
      <a:accent2>
        <a:srgbClr val="517dbd"/>
      </a:accent2>
      <a:accent3>
        <a:srgbClr val="ffffff"/>
      </a:accent3>
      <a:accent4>
        <a:srgbClr val="5b5b5a"/>
      </a:accent4>
      <a:accent5>
        <a:srgbClr val="b8ccf0"/>
      </a:accent5>
      <a:accent6>
        <a:srgbClr val="4971ab"/>
      </a:accent6>
      <a:hlink>
        <a:srgbClr val="355686"/>
      </a:hlink>
      <a:folHlink>
        <a:srgbClr val="324c7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ffffff"/>
      </a:dk2>
      <a:lt2>
        <a:srgbClr val="ffffff"/>
      </a:lt2>
      <a:accent1>
        <a:srgbClr val="659ee5"/>
      </a:accent1>
      <a:accent2>
        <a:srgbClr val="517dbd"/>
      </a:accent2>
      <a:accent3>
        <a:srgbClr val="ffffff"/>
      </a:accent3>
      <a:accent4>
        <a:srgbClr val="5b5b5a"/>
      </a:accent4>
      <a:accent5>
        <a:srgbClr val="b8ccf0"/>
      </a:accent5>
      <a:accent6>
        <a:srgbClr val="4971ab"/>
      </a:accent6>
      <a:hlink>
        <a:srgbClr val="355686"/>
      </a:hlink>
      <a:folHlink>
        <a:srgbClr val="324c7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ubicle Ninjas - Shaolin:Users:Shaolin:Desktop:template.pot</Template>
  <TotalTime>295</TotalTime>
  <Application>LibreOffice/7.4.7.2$Linux_X86_64 LibreOffice_project/40$Build-2</Application>
  <AppVersion>15.0000</AppVersion>
  <Words>93</Words>
  <Paragraphs>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7:46:30Z</dcterms:created>
  <dc:creator>Administrator</dc:creator>
  <dc:description/>
  <dc:language>en-US</dc:language>
  <cp:lastModifiedBy>王玉清</cp:lastModifiedBy>
  <dcterms:modified xsi:type="dcterms:W3CDTF">2016-02-24T03:32:34Z</dcterms:modified>
  <cp:revision>40</cp:revision>
  <dc:subject/>
  <dc:title>Slide Libr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1</vt:r8>
  </property>
</Properties>
</file>