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3598-B517-497D-AF3E-64BB763697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DCD5-879E-4B57-8BA0-6AE9D8E3F4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6FA4-0208-468C-A9E1-A7F2D96434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B476-B975-4A68-B33F-5CE1BA552A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B72E-0EB8-4CB2-9D1D-C9634BC941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E045-FED6-415E-9068-CF19C3ECFC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EFBA-332C-4501-BD21-F3F640F73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8B2D-BB17-468A-ABDD-9A8ABDEA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46CA-7B2D-40D7-9611-12639075A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3749-0FCC-41AF-9A18-62F6694E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DC95-64C8-4A45-A02D-42F124123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F5D8-9AD1-43A7-B297-D3CFD24A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C3B3-C4F0-434B-8225-8F191E05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11FE-4753-45DA-A950-1D2CE818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27BA-F9D2-44EF-B8E8-273EB234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9E74-E425-43C9-95DF-191BF9AD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72C6-084C-4B1C-87CB-8C272FC8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0658-6D06-4BA8-A47F-76FB0689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3E72-BD1D-48B1-AA0B-45791098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8134-EF73-49FF-B81A-640E3EB8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F136-726C-4DD6-AE20-FB32F442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9721-E6A6-421E-BDE1-C62FA25D1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0A2F-9FA4-4090-8E1D-F09D30FA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4495D-6054-492F-8D0B-176F5ED9A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63C56-D04C-4B48-AF57-27324374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809FA-04CE-4B6F-BB2B-E2C746ED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FA1D9-5C59-4C2E-8F2A-CB4BD2BF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50C1A-3425-4E7E-AF55-E38121E9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A44D-EA37-408D-BE2A-19CF78E1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D1CF5-5B1D-4A49-BD23-88DCEDB1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A96B0-3367-4CD6-8797-D2A66604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12E52-5A60-41E8-A202-58818C95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38A58-6BDA-419F-8741-CE79661A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B5DE4-2D32-451C-96FB-F82A16D9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97895-ECF6-4AD7-BFBF-B70158E25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658D0-3992-435F-8327-8ECEFECA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61C3-2BC4-4237-914A-44619E9C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3460-725D-4724-A47E-083F109B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98D7-4BFD-46B6-BF38-94D98DF1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4644-BB64-4458-8F7E-FF5B3C9E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6E0A-7D57-4164-9EC1-33149C53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9901-7B74-4AC2-86DA-A604E0B7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Calibri"/>
              </a:rPr>
              <a:t>www.wondershar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344D-2F5A-4CAB-BA0B-CE45B38D58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45DB-E03B-4789-A394-5CBA537635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214200" y="785880"/>
            <a:ext cx="8715600" cy="400032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Calibri"/>
              </a:rPr>
              <a:t>www.wondershar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C3E1-7E82-429D-8AD5-D7E40C3B9D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Oval 28"/>
          <p:cNvGrpSpPr/>
          <p:nvPr/>
        </p:nvGrpSpPr>
        <p:grpSpPr>
          <a:xfrm>
            <a:off x="225360" y="3108240"/>
            <a:ext cx="274680" cy="274680"/>
            <a:chOff x="225360" y="3108240"/>
            <a:chExt cx="274680" cy="274680"/>
          </a:xfrm>
        </p:grpSpPr>
        <p:pic>
          <p:nvPicPr>
            <p:cNvPr id="132" name="Oval 28" descr=""/>
            <p:cNvPicPr/>
            <p:nvPr/>
          </p:nvPicPr>
          <p:blipFill>
            <a:blip r:embed="rId1"/>
            <a:stretch/>
          </p:blipFill>
          <p:spPr>
            <a:xfrm>
              <a:off x="225360" y="3108240"/>
              <a:ext cx="27468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307800" y="316548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285480" y="1131480"/>
            <a:ext cx="81738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a452a"/>
                </a:solidFill>
                <a:latin typeface="汉仪大宋简"/>
                <a:ea typeface="汉仪大宋简"/>
              </a:rPr>
              <a:t>宽屏鲜花通用</a:t>
            </a:r>
            <a:r>
              <a:rPr b="0" lang="en-US" sz="4000" spc="-1" strike="noStrike">
                <a:solidFill>
                  <a:srgbClr val="4a452a"/>
                </a:solidFill>
                <a:latin typeface="汉仪大宋简"/>
                <a:ea typeface="汉仪大宋简"/>
              </a:rPr>
              <a:t>PPT</a:t>
            </a:r>
            <a:r>
              <a:rPr b="0" lang="zh-CN" sz="4000" spc="-1" strike="noStrike">
                <a:solidFill>
                  <a:srgbClr val="4a452a"/>
                </a:solidFill>
                <a:latin typeface="汉仪大宋简"/>
                <a:ea typeface="汉仪大宋简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12"/>
          <p:cNvSpPr/>
          <p:nvPr/>
        </p:nvSpPr>
        <p:spPr>
          <a:xfrm>
            <a:off x="314280" y="46386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标题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858960"/>
          </a:xfrm>
          <a:prstGeom prst="rect">
            <a:avLst/>
          </a:prstGeom>
          <a:ln w="0">
            <a:noFill/>
          </a:ln>
        </p:spPr>
      </p:pic>
      <p:pic>
        <p:nvPicPr>
          <p:cNvPr id="137" name="内容占位符 3" descr=""/>
          <p:cNvPicPr/>
          <p:nvPr/>
        </p:nvPicPr>
        <p:blipFill>
          <a:blip r:embed="rId2"/>
          <a:stretch/>
        </p:blipFill>
        <p:spPr>
          <a:xfrm>
            <a:off x="500040" y="1357200"/>
            <a:ext cx="77580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标题 1" descr=""/>
          <p:cNvPicPr/>
          <p:nvPr/>
        </p:nvPicPr>
        <p:blipFill>
          <a:blip r:embed="rId1"/>
          <a:stretch/>
        </p:blipFill>
        <p:spPr>
          <a:xfrm>
            <a:off x="457200" y="12600"/>
            <a:ext cx="8229600" cy="858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3"/>
          <p:cNvSpPr/>
          <p:nvPr/>
        </p:nvSpPr>
        <p:spPr>
          <a:xfrm>
            <a:off x="214200" y="1000080"/>
            <a:ext cx="8572680" cy="37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48a5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Competi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You may want to allocate one slide per compet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48a5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Strengt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87e4e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标题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858960"/>
          </a:xfrm>
          <a:prstGeom prst="rect">
            <a:avLst/>
          </a:prstGeom>
          <a:ln w="0">
            <a:noFill/>
          </a:ln>
        </p:spPr>
      </p:pic>
      <p:grpSp>
        <p:nvGrpSpPr>
          <p:cNvPr id="141" name="组合 40"/>
          <p:cNvGrpSpPr/>
          <p:nvPr/>
        </p:nvGrpSpPr>
        <p:grpSpPr>
          <a:xfrm>
            <a:off x="1071720" y="928800"/>
            <a:ext cx="6762600" cy="3844800"/>
            <a:chOff x="1071720" y="928800"/>
            <a:chExt cx="6762600" cy="3844800"/>
          </a:xfrm>
        </p:grpSpPr>
        <p:sp>
          <p:nvSpPr>
            <p:cNvPr id="142" name="AutoShape 10"/>
            <p:cNvSpPr/>
            <p:nvPr/>
          </p:nvSpPr>
          <p:spPr>
            <a:xfrm>
              <a:off x="1071720" y="1465920"/>
              <a:ext cx="1685880" cy="2642760"/>
            </a:xfrm>
            <a:custGeom>
              <a:avLst/>
              <a:gdLst>
                <a:gd name="textAreaLeft" fmla="*/ 82080 w 1685880"/>
                <a:gd name="textAreaRight" fmla="*/ 1603800 w 1685880"/>
                <a:gd name="textAreaTop" fmla="*/ 82080 h 2642760"/>
                <a:gd name="textAreaBottom" fmla="*/ 2560680 h 2642760"/>
              </a:gdLst>
              <a:ahLst/>
              <a:rect l="textAreaLeft" t="textAreaTop" r="textAreaRight" b="textAreaBottom"/>
              <a:pathLst>
                <a:path w="21600" h="33857">
                  <a:moveTo>
                    <a:pt x="3600" y="0"/>
                  </a:moveTo>
                  <a:arcTo wR="3600" hR="3600" stAng="16200000" swAng="-5400000"/>
                  <a:lnTo>
                    <a:pt x="0" y="30257"/>
                  </a:lnTo>
                  <a:arcTo wR="3600" hR="3600" stAng="10800000" swAng="-5400000"/>
                  <a:lnTo>
                    <a:pt x="18000" y="338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dbdbd"/>
                </a:gs>
                <a:gs pos="100000">
                  <a:srgbClr val="f8f8f8"/>
                </a:gs>
              </a:gsLst>
              <a:lin ang="16200000"/>
            </a:gradFill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1"/>
            <p:cNvSpPr/>
            <p:nvPr/>
          </p:nvSpPr>
          <p:spPr>
            <a:xfrm>
              <a:off x="1146240" y="1687320"/>
              <a:ext cx="15447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12"/>
            <p:cNvSpPr/>
            <p:nvPr/>
          </p:nvSpPr>
          <p:spPr>
            <a:xfrm>
              <a:off x="6148440" y="1465920"/>
              <a:ext cx="1685880" cy="2642760"/>
            </a:xfrm>
            <a:custGeom>
              <a:avLst/>
              <a:gdLst>
                <a:gd name="textAreaLeft" fmla="*/ 82080 w 1685880"/>
                <a:gd name="textAreaRight" fmla="*/ 1603800 w 1685880"/>
                <a:gd name="textAreaTop" fmla="*/ 82080 h 2642760"/>
                <a:gd name="textAreaBottom" fmla="*/ 2560680 h 2642760"/>
              </a:gdLst>
              <a:ahLst/>
              <a:rect l="textAreaLeft" t="textAreaTop" r="textAreaRight" b="textAreaBottom"/>
              <a:pathLst>
                <a:path w="21600" h="33857">
                  <a:moveTo>
                    <a:pt x="3600" y="0"/>
                  </a:moveTo>
                  <a:arcTo wR="3600" hR="3600" stAng="16200000" swAng="-5400000"/>
                  <a:lnTo>
                    <a:pt x="0" y="30257"/>
                  </a:lnTo>
                  <a:arcTo wR="3600" hR="3600" stAng="10800000" swAng="-5400000"/>
                  <a:lnTo>
                    <a:pt x="18000" y="338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dbdbd"/>
                </a:gs>
                <a:gs pos="100000">
                  <a:srgbClr val="f8f8f8"/>
                </a:gs>
              </a:gsLst>
              <a:lin ang="16200000"/>
            </a:gradFill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3"/>
            <p:cNvSpPr/>
            <p:nvPr/>
          </p:nvSpPr>
          <p:spPr>
            <a:xfrm>
              <a:off x="6224040" y="1687320"/>
              <a:ext cx="15447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AutoShape 15"/>
            <p:cNvGrpSpPr/>
            <p:nvPr/>
          </p:nvGrpSpPr>
          <p:grpSpPr>
            <a:xfrm>
              <a:off x="3145680" y="928800"/>
              <a:ext cx="2450520" cy="469800"/>
              <a:chOff x="3145680" y="928800"/>
              <a:chExt cx="2450520" cy="469800"/>
            </a:xfrm>
          </p:grpSpPr>
          <p:pic>
            <p:nvPicPr>
              <p:cNvPr id="147" name="AutoShap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3145680" y="928800"/>
                <a:ext cx="2448360" cy="46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3148200" y="1062000"/>
                <a:ext cx="2448000" cy="27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Text Box 17"/>
            <p:cNvSpPr/>
            <p:nvPr/>
          </p:nvSpPr>
          <p:spPr>
            <a:xfrm>
              <a:off x="3954600" y="1035720"/>
              <a:ext cx="87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AutoShape 18"/>
            <p:cNvGrpSpPr/>
            <p:nvPr/>
          </p:nvGrpSpPr>
          <p:grpSpPr>
            <a:xfrm>
              <a:off x="3182040" y="4165200"/>
              <a:ext cx="2535840" cy="608400"/>
              <a:chOff x="3182040" y="4165200"/>
              <a:chExt cx="2535840" cy="608400"/>
            </a:xfrm>
          </p:grpSpPr>
          <p:pic>
            <p:nvPicPr>
              <p:cNvPr id="151" name="AutoShape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3182040" y="4165200"/>
                <a:ext cx="2535840" cy="60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3222720" y="4352040"/>
                <a:ext cx="2450160" cy="2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Text Box 19"/>
            <p:cNvSpPr/>
            <p:nvPr/>
          </p:nvSpPr>
          <p:spPr>
            <a:xfrm>
              <a:off x="4052880" y="4366440"/>
              <a:ext cx="78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组合 39"/>
            <p:cNvGrpSpPr/>
            <p:nvPr/>
          </p:nvGrpSpPr>
          <p:grpSpPr>
            <a:xfrm>
              <a:off x="3078360" y="1553760"/>
              <a:ext cx="2865240" cy="2491560"/>
              <a:chOff x="3078360" y="1553760"/>
              <a:chExt cx="2865240" cy="2491560"/>
            </a:xfrm>
          </p:grpSpPr>
          <p:sp>
            <p:nvSpPr>
              <p:cNvPr id="155" name="AutoShape 9"/>
              <p:cNvSpPr/>
              <p:nvPr/>
            </p:nvSpPr>
            <p:spPr>
              <a:xfrm>
                <a:off x="3078360" y="1899000"/>
                <a:ext cx="475920" cy="1381680"/>
              </a:xfrm>
              <a:prstGeom prst="leftArrow">
                <a:avLst>
                  <a:gd name="adj1" fmla="val 65583"/>
                  <a:gd name="adj2" fmla="val 65181"/>
                </a:avLst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>
                      <a:alpha val="12156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utoShape 14"/>
              <p:cNvSpPr/>
              <p:nvPr/>
            </p:nvSpPr>
            <p:spPr>
              <a:xfrm>
                <a:off x="5470560" y="1899000"/>
                <a:ext cx="473040" cy="1381680"/>
              </a:xfrm>
              <a:prstGeom prst="rightArrow">
                <a:avLst>
                  <a:gd name="adj1" fmla="val 67750"/>
                  <a:gd name="adj2" fmla="val 66167"/>
                </a:avLst>
              </a:prstGeom>
              <a:gradFill rotWithShape="0">
                <a:gsLst>
                  <a:gs pos="0">
                    <a:srgbClr val="454545">
                      <a:alpha val="12156"/>
                    </a:srgbClr>
                  </a:gs>
                  <a:gs pos="100000">
                    <a:srgbClr val="96969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utoShape 16"/>
              <p:cNvSpPr/>
              <p:nvPr/>
            </p:nvSpPr>
            <p:spPr>
              <a:xfrm>
                <a:off x="3697200" y="1553760"/>
                <a:ext cx="1566720" cy="357840"/>
              </a:xfrm>
              <a:prstGeom prst="upArrow">
                <a:avLst>
                  <a:gd name="adj1" fmla="val 68380"/>
                  <a:gd name="adj2" fmla="val 70833"/>
                </a:avLst>
              </a:prstGeom>
              <a:gradFill rotWithShape="0">
                <a:gsLst>
                  <a:gs pos="0">
                    <a:srgbClr val="969696"/>
                  </a:gs>
                  <a:gs pos="100000">
                    <a:srgbClr val="bcbcbc">
                      <a:alpha val="1215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utoShape 20"/>
              <p:cNvSpPr/>
              <p:nvPr/>
            </p:nvSpPr>
            <p:spPr>
              <a:xfrm>
                <a:off x="3676680" y="3692160"/>
                <a:ext cx="1568520" cy="353160"/>
              </a:xfrm>
              <a:prstGeom prst="downArrow">
                <a:avLst>
                  <a:gd name="adj1" fmla="val 67093"/>
                  <a:gd name="adj2" fmla="val 64051"/>
                </a:avLst>
              </a:prstGeom>
              <a:gradFill rotWithShape="0">
                <a:gsLst>
                  <a:gs pos="0">
                    <a:srgbClr val="bcbcbc">
                      <a:alpha val="12156"/>
                    </a:srgbClr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utoShape 13"/>
              <p:cNvSpPr/>
              <p:nvPr/>
            </p:nvSpPr>
            <p:spPr>
              <a:xfrm>
                <a:off x="3648240" y="3054600"/>
                <a:ext cx="1633320" cy="4096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1962a6"/>
                  </a:gs>
                  <a:gs pos="100000">
                    <a:srgbClr val="2183de"/>
                  </a:gs>
                </a:gsLst>
                <a:lin ang="16200000"/>
              </a:gradFill>
              <a:ln w="9360">
                <a:solidFill>
                  <a:srgbClr val="3683ca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utoShape 14"/>
              <p:cNvSpPr/>
              <p:nvPr/>
            </p:nvSpPr>
            <p:spPr>
              <a:xfrm>
                <a:off x="3648240" y="2571120"/>
                <a:ext cx="1633320" cy="4096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1962a6"/>
                  </a:gs>
                  <a:gs pos="100000">
                    <a:srgbClr val="2183de"/>
                  </a:gs>
                </a:gsLst>
                <a:lin ang="16200000"/>
              </a:gradFill>
              <a:ln w="9360">
                <a:solidFill>
                  <a:srgbClr val="3683ca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utoShape 15"/>
              <p:cNvSpPr/>
              <p:nvPr/>
            </p:nvSpPr>
            <p:spPr>
              <a:xfrm>
                <a:off x="3648240" y="2089080"/>
                <a:ext cx="1633320" cy="4082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1962a6"/>
                  </a:gs>
                  <a:gs pos="100000">
                    <a:srgbClr val="2183de"/>
                  </a:gs>
                </a:gsLst>
                <a:lin ang="16200000"/>
              </a:gradFill>
              <a:ln w="9360">
                <a:solidFill>
                  <a:srgbClr val="3683ca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21"/>
              <p:cNvSpPr/>
              <p:nvPr/>
            </p:nvSpPr>
            <p:spPr>
              <a:xfrm>
                <a:off x="4154400" y="2176920"/>
                <a:ext cx="67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22"/>
              <p:cNvSpPr/>
              <p:nvPr/>
            </p:nvSpPr>
            <p:spPr>
              <a:xfrm>
                <a:off x="4127400" y="2660400"/>
                <a:ext cx="744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 Box 23"/>
              <p:cNvSpPr/>
              <p:nvPr/>
            </p:nvSpPr>
            <p:spPr>
              <a:xfrm>
                <a:off x="4092480" y="3145680"/>
                <a:ext cx="81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Text Box 5"/>
          <p:cNvSpPr/>
          <p:nvPr/>
        </p:nvSpPr>
        <p:spPr>
          <a:xfrm>
            <a:off x="480960" y="47624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标题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858960"/>
          </a:xfrm>
          <a:prstGeom prst="rect">
            <a:avLst/>
          </a:prstGeom>
          <a:ln w="0">
            <a:noFill/>
          </a:ln>
        </p:spPr>
      </p:pic>
      <p:grpSp>
        <p:nvGrpSpPr>
          <p:cNvPr id="167" name="组合 47"/>
          <p:cNvGrpSpPr/>
          <p:nvPr/>
        </p:nvGrpSpPr>
        <p:grpSpPr>
          <a:xfrm>
            <a:off x="1214280" y="1214280"/>
            <a:ext cx="7172640" cy="3435480"/>
            <a:chOff x="1214280" y="1214280"/>
            <a:chExt cx="7172640" cy="3435480"/>
          </a:xfrm>
        </p:grpSpPr>
        <p:grpSp>
          <p:nvGrpSpPr>
            <p:cNvPr id="168" name="Freeform 3"/>
            <p:cNvGrpSpPr/>
            <p:nvPr/>
          </p:nvGrpSpPr>
          <p:grpSpPr>
            <a:xfrm>
              <a:off x="1250280" y="1462320"/>
              <a:ext cx="4718520" cy="3187440"/>
              <a:chOff x="1250280" y="1462320"/>
              <a:chExt cx="4718520" cy="3187440"/>
            </a:xfrm>
          </p:grpSpPr>
          <p:pic>
            <p:nvPicPr>
              <p:cNvPr id="169" name="Freeform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250280" y="1462320"/>
                <a:ext cx="4718520" cy="318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1305720" y="1481040"/>
                <a:ext cx="4611240" cy="307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Text Box 32"/>
            <p:cNvSpPr/>
            <p:nvPr/>
          </p:nvSpPr>
          <p:spPr>
            <a:xfrm>
              <a:off x="5466960" y="2613240"/>
              <a:ext cx="291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a452a"/>
                  </a:solidFill>
                  <a:latin typeface="Calibri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Oval 35"/>
            <p:cNvGrpSpPr/>
            <p:nvPr/>
          </p:nvGrpSpPr>
          <p:grpSpPr>
            <a:xfrm>
              <a:off x="2508120" y="2875680"/>
              <a:ext cx="1709280" cy="1401480"/>
              <a:chOff x="2508120" y="2875680"/>
              <a:chExt cx="1709280" cy="1401480"/>
            </a:xfrm>
          </p:grpSpPr>
          <p:pic>
            <p:nvPicPr>
              <p:cNvPr id="173" name="Oval 35" descr=""/>
              <p:cNvPicPr/>
              <p:nvPr/>
            </p:nvPicPr>
            <p:blipFill>
              <a:blip r:embed="rId3"/>
              <a:stretch/>
            </p:blipFill>
            <p:spPr>
              <a:xfrm>
                <a:off x="2508120" y="2875680"/>
                <a:ext cx="1709280" cy="140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"/>
              <p:cNvSpPr/>
              <p:nvPr/>
            </p:nvSpPr>
            <p:spPr>
              <a:xfrm>
                <a:off x="3073320" y="3080160"/>
                <a:ext cx="935280" cy="91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71a2c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Oval 35"/>
            <p:cNvGrpSpPr/>
            <p:nvPr/>
          </p:nvGrpSpPr>
          <p:grpSpPr>
            <a:xfrm>
              <a:off x="1214280" y="2497320"/>
              <a:ext cx="1324080" cy="1087920"/>
              <a:chOff x="1214280" y="2497320"/>
              <a:chExt cx="1324080" cy="1087920"/>
            </a:xfrm>
          </p:grpSpPr>
          <p:pic>
            <p:nvPicPr>
              <p:cNvPr id="176" name="Oval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1214280" y="2497320"/>
                <a:ext cx="1324080" cy="108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" name=""/>
              <p:cNvSpPr/>
              <p:nvPr/>
            </p:nvSpPr>
            <p:spPr>
              <a:xfrm>
                <a:off x="1670040" y="2658240"/>
                <a:ext cx="705240" cy="69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71a2c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Oval 35"/>
            <p:cNvGrpSpPr/>
            <p:nvPr/>
          </p:nvGrpSpPr>
          <p:grpSpPr>
            <a:xfrm>
              <a:off x="1599120" y="1486080"/>
              <a:ext cx="1047240" cy="863280"/>
              <a:chOff x="1599120" y="1486080"/>
              <a:chExt cx="1047240" cy="863280"/>
            </a:xfrm>
          </p:grpSpPr>
          <p:pic>
            <p:nvPicPr>
              <p:cNvPr id="179" name="Oval 35" descr=""/>
              <p:cNvPicPr/>
              <p:nvPr/>
            </p:nvPicPr>
            <p:blipFill>
              <a:blip r:embed="rId5"/>
              <a:stretch/>
            </p:blipFill>
            <p:spPr>
              <a:xfrm>
                <a:off x="1599120" y="1486080"/>
                <a:ext cx="1047240" cy="86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"/>
              <p:cNvSpPr/>
              <p:nvPr/>
            </p:nvSpPr>
            <p:spPr>
              <a:xfrm>
                <a:off x="1969560" y="1611000"/>
                <a:ext cx="548640" cy="53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71a2c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Oval 35"/>
            <p:cNvGrpSpPr/>
            <p:nvPr/>
          </p:nvGrpSpPr>
          <p:grpSpPr>
            <a:xfrm>
              <a:off x="2809080" y="1214280"/>
              <a:ext cx="782280" cy="644400"/>
              <a:chOff x="2809080" y="1214280"/>
              <a:chExt cx="782280" cy="644400"/>
            </a:xfrm>
          </p:grpSpPr>
          <p:pic>
            <p:nvPicPr>
              <p:cNvPr id="182" name="Oval 35" descr=""/>
              <p:cNvPicPr/>
              <p:nvPr/>
            </p:nvPicPr>
            <p:blipFill>
              <a:blip r:embed="rId6"/>
              <a:stretch/>
            </p:blipFill>
            <p:spPr>
              <a:xfrm>
                <a:off x="2809080" y="1214280"/>
                <a:ext cx="782280" cy="64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>
                <a:off x="3101040" y="1307160"/>
                <a:ext cx="391680" cy="3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71a2c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标题 1" descr=""/>
          <p:cNvPicPr/>
          <p:nvPr/>
        </p:nvPicPr>
        <p:blipFill>
          <a:blip r:embed="rId1"/>
          <a:stretch/>
        </p:blipFill>
        <p:spPr>
          <a:xfrm>
            <a:off x="49320" y="1785960"/>
            <a:ext cx="5735520" cy="11034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17600" y="2785680"/>
            <a:ext cx="36432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452a"/>
                </a:solidFill>
                <a:latin typeface="Verdana"/>
              </a:rPr>
              <a:t>Add your company slog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6" name="Oval 28"/>
          <p:cNvGrpSpPr/>
          <p:nvPr/>
        </p:nvGrpSpPr>
        <p:grpSpPr>
          <a:xfrm>
            <a:off x="225360" y="2882880"/>
            <a:ext cx="274680" cy="274680"/>
            <a:chOff x="225360" y="2882880"/>
            <a:chExt cx="274680" cy="274680"/>
          </a:xfrm>
        </p:grpSpPr>
        <p:pic>
          <p:nvPicPr>
            <p:cNvPr id="187" name="Oval 28" descr=""/>
            <p:cNvPicPr/>
            <p:nvPr/>
          </p:nvPicPr>
          <p:blipFill>
            <a:blip r:embed="rId2"/>
            <a:stretch/>
          </p:blipFill>
          <p:spPr>
            <a:xfrm>
              <a:off x="225360" y="2882880"/>
              <a:ext cx="27468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307800" y="294012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07:25:48Z</dcterms:created>
  <dc:creator>微软用户</dc:creator>
  <dc:description/>
  <dc:language>en-US</dc:language>
  <cp:lastModifiedBy>王玉清</cp:lastModifiedBy>
  <dcterms:modified xsi:type="dcterms:W3CDTF">2016-02-22T03:43:06Z</dcterms:modified>
  <cp:revision>5</cp:revision>
  <dc:subject/>
  <dc:title>幻灯片 1</dc:title>
</cp:coreProperties>
</file>