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EF55-9FFF-4974-A61A-FF579B35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6796-AA6F-45A2-B753-E19CD7B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9B9B-EEA5-44C2-9B79-E4CBDDC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26D1-06AE-45A4-94ED-63F144C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FBCF-D92A-43F7-950F-52CDF5F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8CC1-60B5-44F6-8C73-150ACD61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F115-5AE8-4690-8428-9516B90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7EF0-67DD-4ECE-9806-CF02D66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6EDF-9F82-494F-8705-AB61A40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D8AF-0B19-4474-B49D-F1B93D98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5195-B52B-4CAC-8543-FC0A79DC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CE8C-2808-4AAA-AA2E-242BDA96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76500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c000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a000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47D9AE0-22B2-49DA-8701-0F44DBD5D58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bc000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3a0004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4C2-7278-4772-BD76-2C35CDAA89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0F4-4E22-4BDF-9C3A-D64B8A7B7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9520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恋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28880" y="1827360"/>
            <a:ext cx="5343480" cy="656640"/>
            <a:chOff x="2828880" y="1827360"/>
            <a:chExt cx="5343480" cy="656640"/>
          </a:xfrm>
        </p:grpSpPr>
        <p:sp>
          <p:nvSpPr>
            <p:cNvPr id="129" name=""/>
            <p:cNvSpPr/>
            <p:nvPr/>
          </p:nvSpPr>
          <p:spPr>
            <a:xfrm>
              <a:off x="2828880" y="221112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85120" y="1827360"/>
              <a:ext cx="5187240" cy="5281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4760" y="185076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828880" y="2765520"/>
            <a:ext cx="5343480" cy="655560"/>
            <a:chOff x="2828880" y="2765520"/>
            <a:chExt cx="5343480" cy="655560"/>
          </a:xfrm>
        </p:grpSpPr>
        <p:sp>
          <p:nvSpPr>
            <p:cNvPr id="133" name=""/>
            <p:cNvSpPr/>
            <p:nvPr/>
          </p:nvSpPr>
          <p:spPr>
            <a:xfrm>
              <a:off x="2828880" y="31482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5120" y="276552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4760" y="278784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828880" y="3703680"/>
            <a:ext cx="5343480" cy="654120"/>
            <a:chOff x="2828880" y="3703680"/>
            <a:chExt cx="5343480" cy="654120"/>
          </a:xfrm>
        </p:grpSpPr>
        <p:sp>
          <p:nvSpPr>
            <p:cNvPr id="137" name=""/>
            <p:cNvSpPr/>
            <p:nvPr/>
          </p:nvSpPr>
          <p:spPr>
            <a:xfrm>
              <a:off x="2828880" y="40845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5120" y="37036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54760" y="372420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627280" y="1563840"/>
            <a:ext cx="895320" cy="925200"/>
            <a:chOff x="2627280" y="1563840"/>
            <a:chExt cx="895320" cy="925200"/>
          </a:xfrm>
        </p:grpSpPr>
        <p:sp>
          <p:nvSpPr>
            <p:cNvPr id="141" name="未知"/>
            <p:cNvSpPr/>
            <p:nvPr/>
          </p:nvSpPr>
          <p:spPr>
            <a:xfrm>
              <a:off x="2627280" y="1563840"/>
              <a:ext cx="895320" cy="92520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2691000" y="1597320"/>
              <a:ext cx="798120" cy="77508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27280" y="2502000"/>
            <a:ext cx="895320" cy="925560"/>
            <a:chOff x="2627280" y="2502000"/>
            <a:chExt cx="895320" cy="925560"/>
          </a:xfrm>
        </p:grpSpPr>
        <p:sp>
          <p:nvSpPr>
            <p:cNvPr id="144" name="未知"/>
            <p:cNvSpPr/>
            <p:nvPr/>
          </p:nvSpPr>
          <p:spPr>
            <a:xfrm>
              <a:off x="2627280" y="2502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2691000" y="2535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627280" y="3440160"/>
            <a:ext cx="895320" cy="925560"/>
            <a:chOff x="2627280" y="3440160"/>
            <a:chExt cx="895320" cy="925560"/>
          </a:xfrm>
        </p:grpSpPr>
        <p:sp>
          <p:nvSpPr>
            <p:cNvPr id="147" name="未知"/>
            <p:cNvSpPr/>
            <p:nvPr/>
          </p:nvSpPr>
          <p:spPr>
            <a:xfrm>
              <a:off x="2627280" y="3440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2691000" y="3473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2952720" y="1797120"/>
            <a:ext cx="214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52720" y="2735280"/>
            <a:ext cx="2858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52720" y="3673440"/>
            <a:ext cx="28584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154" name=""/>
            <p:cNvSpPr/>
            <p:nvPr/>
          </p:nvSpPr>
          <p:spPr>
            <a:xfrm>
              <a:off x="1063800" y="236376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03120" y="126828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8520" y="1317600"/>
              <a:ext cx="1671120" cy="1157040"/>
            </a:xfrm>
            <a:prstGeom prst="roundRect">
              <a:avLst>
                <a:gd name="adj" fmla="val 5444"/>
              </a:avLst>
            </a:prstGeom>
            <a:solidFill>
              <a:srgbClr val="3a0004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158" name="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8520" y="4415040"/>
              <a:ext cx="1671120" cy="1157040"/>
            </a:xfrm>
            <a:prstGeom prst="roundRect">
              <a:avLst>
                <a:gd name="adj" fmla="val 5444"/>
              </a:avLst>
            </a:prstGeom>
            <a:solidFill>
              <a:srgbClr val="3a0004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162" name="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03120" y="280656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8520" y="2855880"/>
              <a:ext cx="1671120" cy="1157040"/>
            </a:xfrm>
            <a:prstGeom prst="roundRect">
              <a:avLst>
                <a:gd name="adj" fmla="val 5444"/>
              </a:avLst>
            </a:prstGeom>
            <a:solidFill>
              <a:srgbClr val="3a0004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451640" y="3500280"/>
            <a:ext cx="1201320" cy="2448000"/>
            <a:chOff x="7451640" y="3500280"/>
            <a:chExt cx="1201320" cy="2448000"/>
          </a:xfrm>
        </p:grpSpPr>
        <p:sp>
          <p:nvSpPr>
            <p:cNvPr id="166" name="未知"/>
            <p:cNvSpPr/>
            <p:nvPr/>
          </p:nvSpPr>
          <p:spPr>
            <a:xfrm>
              <a:off x="7451640" y="3622320"/>
              <a:ext cx="117684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8517240" y="3917880"/>
              <a:ext cx="8676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9480" y="3452760"/>
            <a:ext cx="2741400" cy="711360"/>
          </a:xfrm>
          <a:prstGeom prst="parallelogram">
            <a:avLst>
              <a:gd name="adj" fmla="val 17183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 rot="993000">
            <a:off x="5154480" y="159048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25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 rot="995400">
            <a:off x="5241960" y="167652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2755800"/>
            <a:ext cx="2665440" cy="1101960"/>
          </a:xfrm>
          <a:prstGeom prst="parallelogram">
            <a:avLst>
              <a:gd name="adj" fmla="val 10785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3348000" y="13874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3435480" y="147312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5280" y="4060800"/>
            <a:ext cx="2741760" cy="711360"/>
          </a:xfrm>
          <a:prstGeom prst="parallelogram">
            <a:avLst>
              <a:gd name="adj" fmla="val 171853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4334040" y="1884240"/>
            <a:ext cx="2781000" cy="28767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4532400" y="19890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8880" y="4486320"/>
            <a:ext cx="6034320" cy="22068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8880" y="1576440"/>
            <a:ext cx="6034320" cy="3048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63920" y="333216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63920" y="379872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63920" y="403560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63920" y="356724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63920" y="310356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63920" y="286848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3920" y="263700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63920" y="240336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63920" y="217332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63920" y="1938240"/>
            <a:ext cx="4761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624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0508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3212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6384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9268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1972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4820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524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02280" y="4346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11160" y="19461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11160" y="4089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11160" y="3849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11160" y="3613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11160" y="33717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11160" y="3137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11160" y="2897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11160" y="26589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9360" y="2421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11160" y="2182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259160" y="2681280"/>
            <a:ext cx="474840" cy="27936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65360" y="1982520"/>
            <a:ext cx="4547880" cy="1348920"/>
            <a:chOff x="3465360" y="1982520"/>
            <a:chExt cx="4547880" cy="1348920"/>
          </a:xfrm>
        </p:grpSpPr>
        <p:sp>
          <p:nvSpPr>
            <p:cNvPr id="215" name=""/>
            <p:cNvSpPr/>
            <p:nvPr/>
          </p:nvSpPr>
          <p:spPr>
            <a:xfrm flipV="1">
              <a:off x="3465360" y="3192120"/>
              <a:ext cx="316800" cy="13932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782160" y="2959200"/>
              <a:ext cx="476640" cy="23292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734720" y="2588040"/>
              <a:ext cx="581760" cy="9216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316840" y="2400840"/>
              <a:ext cx="527760" cy="1868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844960" y="2307600"/>
              <a:ext cx="476640" cy="932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321960" y="2121840"/>
              <a:ext cx="581400" cy="1854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903360" y="2028240"/>
              <a:ext cx="528120" cy="932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431840" y="1982520"/>
              <a:ext cx="581400" cy="4572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10800000">
            <a:off x="3571920" y="3750840"/>
            <a:ext cx="318960" cy="513000"/>
          </a:xfrm>
          <a:custGeom>
            <a:avLst/>
            <a:gdLst>
              <a:gd name="textAreaLeft" fmla="*/ 0 w 318960"/>
              <a:gd name="textAreaRight" fmla="*/ 319320 w 3189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21600" h="34726">
                <a:moveTo>
                  <a:pt x="0" y="0"/>
                </a:moveTo>
                <a:arcTo wR="0" hR="0" stAng="16200000" swAng="-5400000"/>
                <a:lnTo>
                  <a:pt x="0" y="34726"/>
                </a:lnTo>
                <a:arcTo wR="0" hR="0" stAng="10800000" swAng="-5400000"/>
                <a:lnTo>
                  <a:pt x="21600" y="3472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4100040" y="3517560"/>
            <a:ext cx="320760" cy="746280"/>
          </a:xfrm>
          <a:custGeom>
            <a:avLst/>
            <a:gdLst>
              <a:gd name="textAreaLeft" fmla="*/ 0 w 320760"/>
              <a:gd name="textAreaRight" fmla="*/ 321120 w 32076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21600" h="50222">
                <a:moveTo>
                  <a:pt x="0" y="0"/>
                </a:moveTo>
                <a:arcTo wR="0" hR="0" stAng="16200000" swAng="-5400000"/>
                <a:lnTo>
                  <a:pt x="0" y="50222"/>
                </a:lnTo>
                <a:arcTo wR="0" hR="0" stAng="10800000" swAng="-5400000"/>
                <a:lnTo>
                  <a:pt x="21600" y="5022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4628880" y="3239640"/>
            <a:ext cx="320760" cy="1024200"/>
          </a:xfrm>
          <a:custGeom>
            <a:avLst/>
            <a:gdLst>
              <a:gd name="textAreaLeft" fmla="*/ 0 w 320760"/>
              <a:gd name="textAreaRight" fmla="*/ 321120 w 320760"/>
              <a:gd name="textAreaTop" fmla="*/ 0 h 1024200"/>
              <a:gd name="textAreaBottom" fmla="*/ 1024560 h 1024200"/>
            </a:gdLst>
            <a:ahLst/>
            <a:rect l="textAreaLeft" t="textAreaTop" r="textAreaRight" b="textAreaBottom"/>
            <a:pathLst>
              <a:path w="21600" h="68917">
                <a:moveTo>
                  <a:pt x="0" y="0"/>
                </a:moveTo>
                <a:arcTo wR="0" hR="0" stAng="16200000" swAng="-5400000"/>
                <a:lnTo>
                  <a:pt x="0" y="68917"/>
                </a:lnTo>
                <a:arcTo wR="0" hR="0" stAng="10800000" swAng="-5400000"/>
                <a:lnTo>
                  <a:pt x="21600" y="6891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5159520" y="2960280"/>
            <a:ext cx="318960" cy="1303560"/>
          </a:xfrm>
          <a:custGeom>
            <a:avLst/>
            <a:gdLst>
              <a:gd name="textAreaLeft" fmla="*/ 0 w 318960"/>
              <a:gd name="textAreaRight" fmla="*/ 319320 w 31896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21600" h="88202">
                <a:moveTo>
                  <a:pt x="0" y="0"/>
                </a:moveTo>
                <a:arcTo wR="0" hR="0" stAng="16200000" swAng="-5400000"/>
                <a:lnTo>
                  <a:pt x="0" y="88202"/>
                </a:lnTo>
                <a:arcTo wR="0" hR="0" stAng="10800000" swAng="-5400000"/>
                <a:lnTo>
                  <a:pt x="21600" y="8820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6214680" y="2608200"/>
            <a:ext cx="320760" cy="1656000"/>
          </a:xfrm>
          <a:custGeom>
            <a:avLst/>
            <a:gdLst>
              <a:gd name="textAreaLeft" fmla="*/ 0 w 320760"/>
              <a:gd name="textAreaRight" fmla="*/ 321120 w 32076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1600" h="111414">
                <a:moveTo>
                  <a:pt x="0" y="0"/>
                </a:moveTo>
                <a:arcTo wR="0" hR="0" stAng="16200000" swAng="-5400000"/>
                <a:lnTo>
                  <a:pt x="0" y="111414"/>
                </a:lnTo>
                <a:arcTo wR="0" hR="0" stAng="10800000" swAng="-5400000"/>
                <a:lnTo>
                  <a:pt x="21600" y="1114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743520" y="2495160"/>
            <a:ext cx="323640" cy="1768680"/>
          </a:xfrm>
          <a:custGeom>
            <a:avLst/>
            <a:gdLst>
              <a:gd name="textAreaLeft" fmla="*/ 0 w 323640"/>
              <a:gd name="textAreaRight" fmla="*/ 324000 w 32364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21600" h="117936">
                <a:moveTo>
                  <a:pt x="0" y="0"/>
                </a:moveTo>
                <a:arcTo wR="0" hR="0" stAng="16200000" swAng="-5400000"/>
                <a:lnTo>
                  <a:pt x="0" y="117936"/>
                </a:lnTo>
                <a:arcTo wR="0" hR="0" stAng="10800000" swAng="-5400000"/>
                <a:lnTo>
                  <a:pt x="21600" y="11793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5686560" y="2849400"/>
            <a:ext cx="318960" cy="1414800"/>
          </a:xfrm>
          <a:custGeom>
            <a:avLst/>
            <a:gdLst>
              <a:gd name="textAreaLeft" fmla="*/ 0 w 318960"/>
              <a:gd name="textAreaRight" fmla="*/ 319320 w 318960"/>
              <a:gd name="textAreaTop" fmla="*/ 0 h 1414800"/>
              <a:gd name="textAreaBottom" fmla="*/ 1414800 h 1414800"/>
            </a:gdLst>
            <a:ahLst/>
            <a:rect l="textAreaLeft" t="textAreaTop" r="textAreaRight" b="textAreaBottom"/>
            <a:pathLst>
              <a:path w="21600" h="95727">
                <a:moveTo>
                  <a:pt x="0" y="0"/>
                </a:moveTo>
                <a:arcTo wR="0" hR="0" stAng="16200000" swAng="-5400000"/>
                <a:lnTo>
                  <a:pt x="0" y="95727"/>
                </a:lnTo>
                <a:arcTo wR="0" hR="0" stAng="10800000" swAng="-5400000"/>
                <a:lnTo>
                  <a:pt x="21600" y="9572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7272000" y="2355480"/>
            <a:ext cx="322200" cy="1908360"/>
          </a:xfrm>
          <a:custGeom>
            <a:avLst/>
            <a:gdLst>
              <a:gd name="textAreaLeft" fmla="*/ 0 w 322200"/>
              <a:gd name="textAreaRight" fmla="*/ 322560 w 322200"/>
              <a:gd name="textAreaTop" fmla="*/ 0 h 1908360"/>
              <a:gd name="textAreaBottom" fmla="*/ 1908720 h 1908360"/>
            </a:gdLst>
            <a:ahLst/>
            <a:rect l="textAreaLeft" t="textAreaTop" r="textAreaRight" b="textAreaBottom"/>
            <a:pathLst>
              <a:path w="21600" h="127816">
                <a:moveTo>
                  <a:pt x="0" y="0"/>
                </a:moveTo>
                <a:arcTo wR="0" hR="0" stAng="16200000" swAng="-5400000"/>
                <a:lnTo>
                  <a:pt x="0" y="127816"/>
                </a:lnTo>
                <a:arcTo wR="0" hR="0" stAng="10800000" swAng="-5400000"/>
                <a:lnTo>
                  <a:pt x="21600" y="12781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ff05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7802280" y="2263320"/>
            <a:ext cx="320760" cy="2000520"/>
          </a:xfrm>
          <a:custGeom>
            <a:avLst/>
            <a:gdLst>
              <a:gd name="textAreaLeft" fmla="*/ 0 w 320760"/>
              <a:gd name="textAreaRight" fmla="*/ 321120 w 320760"/>
              <a:gd name="textAreaTop" fmla="*/ 0 h 2000520"/>
              <a:gd name="textAreaBottom" fmla="*/ 2000880 h 2000520"/>
            </a:gdLst>
            <a:ahLst/>
            <a:rect l="textAreaLeft" t="textAreaTop" r="textAreaRight" b="textAreaBottom"/>
            <a:pathLst>
              <a:path w="21600" h="134588">
                <a:moveTo>
                  <a:pt x="0" y="0"/>
                </a:moveTo>
                <a:arcTo wR="0" hR="0" stAng="16200000" swAng="-5400000"/>
                <a:lnTo>
                  <a:pt x="0" y="134588"/>
                </a:lnTo>
                <a:arcTo wR="0" hR="0" stAng="10800000" swAng="-5400000"/>
                <a:lnTo>
                  <a:pt x="21600" y="13458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3463920" y="1797120"/>
            <a:ext cx="4971960" cy="246852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1200" y="1590840"/>
            <a:ext cx="5981760" cy="13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3564000" y="2708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765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1077-535D-47E0-9488-E89BC86411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873B-65A4-4C30-A560-517ADFE3A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2:02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