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35C-E20E-4DA1-A7F0-80B3C3EA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56D-C852-4CD3-9A1A-F3BD423B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EC3-EA3C-4EDA-B24C-6264273F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005-F2BF-4798-9145-453ACF09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DF8-422D-43F0-B9FD-BC429F7E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9A7E-345F-413A-851E-E54B250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A62C-7CC3-42BD-B57C-B6A6B81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D214-BCD2-48BD-B8EA-F767ED0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EAAE-CBC5-432E-891D-AB71118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32FA-E43E-4047-9367-64A73162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BEA1-A71D-4D83-8E6E-04DBAD6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1AF-5ACC-46C1-803B-44E86FE4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92B9-17A8-4E76-AD40-623F94E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E03D-6EF7-41BC-BE5E-C4E1392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3BEA-E2D4-4EB6-B3C7-BD1BACF2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C992-67E8-4406-BD14-9895092E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44D5-D74D-49AB-9E43-24866503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4909-5C30-4F63-AB10-0BA3C366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8D7E-7AF1-4DF5-94FE-2324B867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F68E-EA1B-4336-8645-14E1FB9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1A80-69BE-4160-942F-115EE5FD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E50A-3FE1-4582-97C8-99E789E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1EB-A854-4B0B-B377-459843D3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8CD8-C282-4EFB-932B-7B79B5F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A522-E9E8-4227-B4D8-36E017E1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5412-BA21-44E4-ADCC-8E585A8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9015-7B84-4662-BDB3-9B43E00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AB3B-AB52-4D2D-A760-6CF06239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AE4E-E59E-4C20-92DA-1F38C094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3A40-CDD4-4EDF-AB3D-4ADE73DC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05A7-0DAB-4A6B-8BC5-EF637949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D0D6-A503-4FA6-B4F9-CBA62DC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D997E-FED1-4597-B73E-724E6A7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CED-E7BD-4B03-BCCE-19F2A6F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AC1E-D321-4C27-8992-38240F30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8735-BAA2-49F6-BA86-B300932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DF1E-92C9-461E-BA5D-A00E5BBA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9726-6F5B-4FD4-A11C-5A398D9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D079-ADB4-43BC-A677-49AF12A3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E03E-4337-449F-A1FC-1047160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91DDD-8D76-4D44-94FA-4169008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D731-3512-4239-81A8-63E50728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3462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4246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909B-5F7F-4477-B964-8AE6D869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ED4-E9FF-4A6A-B3C3-9F355FC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962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DAC-875C-4185-A1FE-4341D93B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B39-5D30-4F8B-A499-061CA4AE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4246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87B-9B5E-4753-ABDD-E2C9B31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3462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4246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2CA-96E0-498F-A144-1030CAA4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449532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4FEF95-89B6-491F-808B-33227EB1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0151b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0151b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0151b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0151b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0151b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D58D7E-E852-4294-A245-7AA388AF9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D374B6-5ACB-4531-B38B-40811664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chemeClr val="accent2">
                    <a:lumMod val="75000"/>
                  </a:schemeClr>
                </a:solidFill>
                <a:latin typeface="Calibri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346248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3220F7-6B9F-4DBD-9B4A-43EDC0A3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449532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My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449532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A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2648880" y="155664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礼结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Your Main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0151b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Your Sub Points Here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7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tab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7640" cy="40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ext here</a:t>
            </a:r>
            <a:endParaRPr b="0" lang="en-US" sz="3200" spc="-1" strike="noStrike">
              <a:solidFill>
                <a:schemeClr val="accent2">
                  <a:lumMod val="50000"/>
                </a:scheme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496260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alibri"/>
              </a:rPr>
              <a:t>Transitional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9640" y="6320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010336805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8BA7A19F-B8B1-416A-B012-C7430CDD8A53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S010336805</Template>
  <TotalTime>4</TotalTime>
  <Application>LibreOffice/7.4.7.2$Linux_X86_64 LibreOffice_project/40$Build-2</Application>
  <AppVersion>15.0000</AppVersion>
  <Words>48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7:09:49Z</dcterms:created>
  <dc:creator>YANGS</dc:creator>
  <dc:description/>
  <dc:language>en-US</dc:language>
  <cp:lastModifiedBy>王玉清</cp:lastModifiedBy>
  <dcterms:modified xsi:type="dcterms:W3CDTF">2016-02-24T02:45:00Z</dcterms:modified>
  <cp:revision>2</cp:revision>
  <dc:subject/>
  <dc:title>My Pres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  <property fmtid="{D5CDD505-2E9C-101B-9397-08002B2CF9AE}" pid="4" name="_TemplateID">
    <vt:lpwstr>TC103368059990</vt:lpwstr>
  </property>
</Properties>
</file>