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g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50E0436A-F1E1-4B15-A147-338FB0D0E40B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bg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da5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963d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8233-FCB7-4ED9-81B2-F3DA7E5601B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bg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方正正大黑简体"/>
                <a:ea typeface="方正正大黑简体"/>
              </a:rPr>
              <a:t>浪漫爱心经典情人节通用</a:t>
            </a:r>
            <a:r>
              <a:rPr b="0" lang="en-US" sz="4000" spc="-1" strike="noStrike">
                <a:solidFill>
                  <a:srgbClr val="c00000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4000" spc="-1" strike="noStrike">
                <a:solidFill>
                  <a:srgbClr val="c00000"/>
                </a:solidFill>
                <a:latin typeface="方正正大黑简体"/>
                <a:ea typeface="方正正大黑简体"/>
              </a:rPr>
              <a:t>模板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矩形 4"/>
          <p:cNvSpPr/>
          <p:nvPr/>
        </p:nvSpPr>
        <p:spPr>
          <a:xfrm>
            <a:off x="5580000" y="6627960"/>
            <a:ext cx="690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68360" y="3484800"/>
            <a:ext cx="8207280" cy="4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126" name="Group 4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127" name="Rectangle 5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6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7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8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9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ff0517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10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bc000d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11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3a0004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12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ff757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Group 13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136" name="Rectangle 14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15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16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17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18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19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20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21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7286760" y="44604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1479600" y="2708280"/>
            <a:ext cx="6184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56000"/>
          </a:bodyPr>
          <a:p>
            <a:pPr marL="191880" indent="-1918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00000"/>
                </a:solidFill>
                <a:latin typeface="方正正大黑简体"/>
                <a:ea typeface="方正正大黑简体"/>
              </a:rPr>
              <a:t>谢谢观看！</a:t>
            </a:r>
            <a:endParaRPr b="1" i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cp:keywords/>
  <dc:language>en-US</dc:language>
  <cp:lastModifiedBy>王玉清</cp:lastModifiedBy>
  <cp:lastPrinted>1899-12-30T00:00:00Z</cp:lastPrinted>
  <dcterms:modified xsi:type="dcterms:W3CDTF">2016-02-20T03:20:28Z</dcterms:modified>
  <cp:revision>284</cp:revision>
  <dc:subject/>
  <dc:title>www.soppt.c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