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AB1-DE60-48AE-8A80-D9A67D8C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7EF-47CC-41BF-9090-D3BC48D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348-9AFD-4D8A-876B-365E120F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E19-B4D6-4541-B090-EC77F38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86E-4E25-4C4D-BA63-974C063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8AB-BA65-4CE9-9AA9-38E3668A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7DF-F3F4-466D-AF79-FF371AE3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386-81F7-44B6-B635-3B31539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110-99E9-42B6-B3A3-02554C7E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CB2-16FE-42E6-9932-30E7CF8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D2F-3EB2-44FB-A190-3B6AB0E6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E58-AAAF-41C1-9A71-9B170D6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ea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DA24-40F6-4824-A80C-4DCDFBB803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34E-F733-4778-BD0E-D3CA783172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84320" y="32018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0" y="3165480"/>
            <a:ext cx="9144000" cy="1978200"/>
            <a:chOff x="0" y="3165480"/>
            <a:chExt cx="9144000" cy="1978200"/>
          </a:xfrm>
        </p:grpSpPr>
        <p:sp>
          <p:nvSpPr>
            <p:cNvPr id="43" name="Rectangle 3"/>
            <p:cNvSpPr/>
            <p:nvPr/>
          </p:nvSpPr>
          <p:spPr>
            <a:xfrm>
              <a:off x="0" y="3165840"/>
              <a:ext cx="9144000" cy="19778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284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3165480"/>
              <a:ext cx="9144000" cy="21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1"/>
          <p:cNvSpPr/>
          <p:nvPr/>
        </p:nvSpPr>
        <p:spPr>
          <a:xfrm>
            <a:off x="2149200" y="3031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草丛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530280" y="4654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2065680" y="1463040"/>
            <a:ext cx="4497120" cy="459720"/>
            <a:chOff x="2065680" y="1463040"/>
            <a:chExt cx="4497120" cy="459720"/>
          </a:xfrm>
        </p:grpSpPr>
        <p:sp>
          <p:nvSpPr>
            <p:cNvPr id="49" name="Text Box 11"/>
            <p:cNvSpPr/>
            <p:nvPr/>
          </p:nvSpPr>
          <p:spPr>
            <a:xfrm>
              <a:off x="2981160" y="147456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4"/>
            <p:cNvSpPr/>
            <p:nvPr/>
          </p:nvSpPr>
          <p:spPr>
            <a:xfrm>
              <a:off x="2065680" y="1463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2065680" y="2393280"/>
            <a:ext cx="4497120" cy="459720"/>
            <a:chOff x="2065680" y="2393280"/>
            <a:chExt cx="4497120" cy="459720"/>
          </a:xfrm>
        </p:grpSpPr>
        <p:sp>
          <p:nvSpPr>
            <p:cNvPr id="52" name="Text Box 12"/>
            <p:cNvSpPr/>
            <p:nvPr/>
          </p:nvSpPr>
          <p:spPr>
            <a:xfrm>
              <a:off x="2981160" y="239868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5"/>
            <p:cNvSpPr/>
            <p:nvPr/>
          </p:nvSpPr>
          <p:spPr>
            <a:xfrm>
              <a:off x="2065680" y="2393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2065680" y="3332880"/>
            <a:ext cx="4497120" cy="459720"/>
            <a:chOff x="2065680" y="3332880"/>
            <a:chExt cx="4497120" cy="459720"/>
          </a:xfrm>
        </p:grpSpPr>
        <p:sp>
          <p:nvSpPr>
            <p:cNvPr id="55" name="Text Box 6"/>
            <p:cNvSpPr/>
            <p:nvPr/>
          </p:nvSpPr>
          <p:spPr>
            <a:xfrm>
              <a:off x="2981160" y="336384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6"/>
            <p:cNvSpPr/>
            <p:nvPr/>
          </p:nvSpPr>
          <p:spPr>
            <a:xfrm>
              <a:off x="2065680" y="333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4356000" y="1058400"/>
            <a:ext cx="4114800" cy="3751560"/>
            <a:chOff x="4356000" y="1058400"/>
            <a:chExt cx="4114800" cy="3751560"/>
          </a:xfrm>
        </p:grpSpPr>
        <p:sp>
          <p:nvSpPr>
            <p:cNvPr id="59" name="AutoShape 4"/>
            <p:cNvSpPr/>
            <p:nvPr/>
          </p:nvSpPr>
          <p:spPr>
            <a:xfrm flipV="1">
              <a:off x="5898960" y="1058040"/>
              <a:ext cx="1028520" cy="937800"/>
            </a:xfrm>
            <a:custGeom>
              <a:avLst/>
              <a:gdLst>
                <a:gd name="textAreaLeft" fmla="*/ 342720 w 1028520"/>
                <a:gd name="textAreaRight" fmla="*/ 685800 w 1028520"/>
                <a:gd name="textAreaTop" fmla="*/ 312480 h 937800"/>
                <a:gd name="textAreaBottom" fmla="*/ 62532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99" y="21600"/>
                  </a:lnTo>
                  <a:lnTo>
                    <a:pt x="108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5898960" y="1058760"/>
              <a:ext cx="10285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6"/>
            <p:cNvSpPr/>
            <p:nvPr/>
          </p:nvSpPr>
          <p:spPr>
            <a:xfrm flipV="1">
              <a:off x="5384520" y="1995840"/>
              <a:ext cx="2057400" cy="937800"/>
            </a:xfrm>
            <a:custGeom>
              <a:avLst/>
              <a:gdLst>
                <a:gd name="textAreaLeft" fmla="*/ 428400 w 2057400"/>
                <a:gd name="textAreaRight" fmla="*/ 1629000 w 2057400"/>
                <a:gd name="textAreaTop" fmla="*/ 195120 h 937800"/>
                <a:gd name="textAreaBottom" fmla="*/ 7426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4c3f"/>
                </a:gs>
                <a:gs pos="100000">
                  <a:srgbClr val="7066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5744520" y="1996560"/>
              <a:ext cx="13374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8"/>
            <p:cNvSpPr/>
            <p:nvPr/>
          </p:nvSpPr>
          <p:spPr>
            <a:xfrm flipV="1">
              <a:off x="4870080" y="2933280"/>
              <a:ext cx="3086280" cy="937800"/>
            </a:xfrm>
            <a:custGeom>
              <a:avLst/>
              <a:gdLst>
                <a:gd name="textAreaLeft" fmla="*/ 514440 w 3086280"/>
                <a:gd name="textAreaRight" fmla="*/ 2572200 w 3086280"/>
                <a:gd name="textAreaTop" fmla="*/ 156240 h 937800"/>
                <a:gd name="textAreaBottom" fmla="*/ 78156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9" y="21600"/>
                  </a:lnTo>
                  <a:lnTo>
                    <a:pt x="180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e7243"/>
                </a:gs>
                <a:gs pos="100000">
                  <a:srgbClr val="93975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5410440" y="2934360"/>
              <a:ext cx="20059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flipV="1">
              <a:off x="4356000" y="3871440"/>
              <a:ext cx="4114800" cy="937800"/>
            </a:xfrm>
            <a:custGeom>
              <a:avLst/>
              <a:gdLst>
                <a:gd name="textAreaLeft" fmla="*/ 600120 w 4114800"/>
                <a:gd name="textAreaRight" fmla="*/ 3514680 w 4114800"/>
                <a:gd name="textAreaTop" fmla="*/ 136800 h 937800"/>
                <a:gd name="textAreaBottom" fmla="*/ 80100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99" y="21600"/>
                  </a:lnTo>
                  <a:lnTo>
                    <a:pt x="189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d9200"/>
                </a:gs>
                <a:gs pos="100000">
                  <a:srgbClr val="8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5076000" y="3872160"/>
              <a:ext cx="2674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682560" y="1130400"/>
            <a:ext cx="5257800" cy="576000"/>
            <a:chOff x="682560" y="1130400"/>
            <a:chExt cx="5257800" cy="576000"/>
          </a:xfrm>
        </p:grpSpPr>
        <p:sp>
          <p:nvSpPr>
            <p:cNvPr id="68" name="矩形 6"/>
            <p:cNvSpPr/>
            <p:nvPr/>
          </p:nvSpPr>
          <p:spPr>
            <a:xfrm>
              <a:off x="682560" y="1130400"/>
              <a:ext cx="3385080" cy="5760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7"/>
            <p:cNvSpPr/>
            <p:nvPr/>
          </p:nvSpPr>
          <p:spPr>
            <a:xfrm>
              <a:off x="4067640" y="1418400"/>
              <a:ext cx="1872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682560" y="2139840"/>
            <a:ext cx="4826160" cy="574920"/>
            <a:chOff x="682560" y="2139840"/>
            <a:chExt cx="4826160" cy="574920"/>
          </a:xfrm>
        </p:grpSpPr>
        <p:sp>
          <p:nvSpPr>
            <p:cNvPr id="71" name="矩形 9"/>
            <p:cNvSpPr/>
            <p:nvPr/>
          </p:nvSpPr>
          <p:spPr>
            <a:xfrm>
              <a:off x="682560" y="213984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0"/>
            <p:cNvSpPr/>
            <p:nvPr/>
          </p:nvSpPr>
          <p:spPr>
            <a:xfrm>
              <a:off x="4068000" y="2427120"/>
              <a:ext cx="1440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682560" y="3105000"/>
            <a:ext cx="4249800" cy="574920"/>
            <a:chOff x="682560" y="3105000"/>
            <a:chExt cx="4249800" cy="574920"/>
          </a:xfrm>
        </p:grpSpPr>
        <p:sp>
          <p:nvSpPr>
            <p:cNvPr id="74" name="矩形 12"/>
            <p:cNvSpPr/>
            <p:nvPr/>
          </p:nvSpPr>
          <p:spPr>
            <a:xfrm>
              <a:off x="682560" y="310500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3"/>
            <p:cNvSpPr/>
            <p:nvPr/>
          </p:nvSpPr>
          <p:spPr>
            <a:xfrm>
              <a:off x="4068000" y="3392280"/>
              <a:ext cx="86436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682560" y="4011480"/>
            <a:ext cx="3816360" cy="576360"/>
            <a:chOff x="682560" y="4011480"/>
            <a:chExt cx="3816360" cy="576360"/>
          </a:xfrm>
        </p:grpSpPr>
        <p:sp>
          <p:nvSpPr>
            <p:cNvPr id="77" name="矩形 15"/>
            <p:cNvSpPr/>
            <p:nvPr/>
          </p:nvSpPr>
          <p:spPr>
            <a:xfrm>
              <a:off x="682560" y="4011480"/>
              <a:ext cx="3384360" cy="57636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6"/>
            <p:cNvSpPr/>
            <p:nvPr/>
          </p:nvSpPr>
          <p:spPr>
            <a:xfrm>
              <a:off x="4066920" y="4299480"/>
              <a:ext cx="43200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2"/>
          <p:cNvGrpSpPr/>
          <p:nvPr/>
        </p:nvGrpSpPr>
        <p:grpSpPr>
          <a:xfrm>
            <a:off x="0" y="3165480"/>
            <a:ext cx="9144000" cy="1978200"/>
            <a:chOff x="0" y="3165480"/>
            <a:chExt cx="9144000" cy="1978200"/>
          </a:xfrm>
        </p:grpSpPr>
        <p:sp>
          <p:nvSpPr>
            <p:cNvPr id="80" name="Rectangle 3"/>
            <p:cNvSpPr/>
            <p:nvPr/>
          </p:nvSpPr>
          <p:spPr>
            <a:xfrm>
              <a:off x="0" y="3165840"/>
              <a:ext cx="9144000" cy="19778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284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0" y="3165480"/>
              <a:ext cx="9144000" cy="21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WordArt 7"/>
          <p:cNvSpPr txBox="1"/>
          <p:nvPr/>
        </p:nvSpPr>
        <p:spPr>
          <a:xfrm>
            <a:off x="4371840" y="26676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434128"/>
                  </a:solidFill>
                  <a:miter/>
                </a:ln>
                <a:solidFill>
                  <a:srgbClr val="dbff7d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谢谢观赏</a:t>
            </a:r>
            <a:endParaRPr b="1" lang="en-US" sz="5400" spc="1" strike="noStrike">
              <a:ln w="12600">
                <a:solidFill>
                  <a:srgbClr val="434128"/>
                </a:solidFill>
                <a:miter/>
              </a:ln>
              <a:solidFill>
                <a:srgbClr val="dbff7d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4371840" y="1003320"/>
            <a:ext cx="3527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434128"/>
                  </a:solidFill>
                  <a:miter/>
                </a:ln>
                <a:solidFill>
                  <a:srgbClr val="dbff7d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Thanks for your attention</a:t>
            </a:r>
            <a:endParaRPr b="1" lang="en-US" sz="2000" spc="1" strike="noStrike">
              <a:ln w="12600">
                <a:solidFill>
                  <a:srgbClr val="434128"/>
                </a:solidFill>
                <a:miter/>
              </a:ln>
              <a:solidFill>
                <a:srgbClr val="dbff7d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87280" y="45878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1:30:00Z</dcterms:created>
  <dc:creator>果因PPT工作室</dc:creator>
  <dc:description/>
  <cp:keywords>XS-普屏 4：3;SC-淡绿色;BG-浅色;DH-静态</cp:keywords>
  <dc:language>en-US</dc:language>
  <cp:lastModifiedBy>王玉清</cp:lastModifiedBy>
  <cp:lastPrinted>1899-12-30T00:00:00Z</cp:lastPrinted>
  <dcterms:modified xsi:type="dcterms:W3CDTF">2016-02-21T03:48:11Z</dcterms:modified>
  <cp:revision>6</cp:revision>
  <dc:subject>TP-植物动物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